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4B7-DC6A-47EF-AEC7-76E7B728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499-FB76-4B3E-88AA-4B0BBF63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51E-4C2F-459F-B5AD-82965E8A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86A-CA6D-402F-8263-7032E150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DD2-3FF0-4359-988E-4C3067DC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D35-C87E-44F2-B8BB-FD54A54A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5B8-2243-4FAE-A641-3D9316D5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4E4-2BED-4969-BFD1-451EA361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7FF-09E8-401E-A143-04238A5A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F2F-6651-48DF-8FCB-6CC083B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4F8-994D-4C4E-9E00-C4D96339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CD7-C374-489D-A376-FAF47DAB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9339-C71D-4625-8ED4-44DC38853B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dme.ru/zhizn-dobro/shkola-buduschego-otkrylas-v-finlyandii-952960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dme.ru/zhizn-dobro/shkola-buduschego-otkrylas-v-finlyandii-952960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Школа будущег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71920" y="4214520"/>
            <a:ext cx="511488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ученик 5 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 1056 г. Москв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лы Миха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4" descr="Картинки по запросу школа будущего"/>
          <p:cNvPicPr/>
          <p:nvPr/>
        </p:nvPicPr>
        <p:blipFill>
          <a:blip r:embed="rId1"/>
          <a:stretch/>
        </p:blipFill>
        <p:spPr>
          <a:xfrm>
            <a:off x="5643720" y="2000160"/>
            <a:ext cx="2666880" cy="1714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http://lamcdn.net/lookatme.ru/post_image-image/BNuy55ey_QMJRqYy67JqCw-article.jpg"/>
          <p:cNvPicPr/>
          <p:nvPr/>
        </p:nvPicPr>
        <p:blipFill>
          <a:blip r:embed="rId2"/>
          <a:stretch/>
        </p:blipFill>
        <p:spPr>
          <a:xfrm>
            <a:off x="285840" y="1785960"/>
            <a:ext cx="40719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 хотелось, чтобы спортивным занятиям уделялось большое внимание. Школа будущего должна иметь хороший физкультурно-оздоровительный комплекс, а также организовывать всевозможные соревно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Sports pitches at Queen's College boarding school in Taunton, Somerset"/>
          <p:cNvPicPr/>
          <p:nvPr/>
        </p:nvPicPr>
        <p:blipFill>
          <a:blip r:embed="rId1"/>
          <a:stretch/>
        </p:blipFill>
        <p:spPr>
          <a:xfrm>
            <a:off x="1643040" y="1500120"/>
            <a:ext cx="5810400" cy="2314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://www.newlink.es/archivos/cursos-verano-extranjero_florida---boca-raton-multinacional-residencia_009121.jpg"/>
          <p:cNvPicPr/>
          <p:nvPr/>
        </p:nvPicPr>
        <p:blipFill>
          <a:blip r:embed="rId2"/>
          <a:stretch/>
        </p:blipFill>
        <p:spPr>
          <a:xfrm>
            <a:off x="4143240" y="3929040"/>
            <a:ext cx="4756320" cy="25844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http://bassein.postroyforum.ru/photos/-236.jpg"/>
          <p:cNvPicPr/>
          <p:nvPr/>
        </p:nvPicPr>
        <p:blipFill>
          <a:blip r:embed="rId3"/>
          <a:stretch/>
        </p:blipFill>
        <p:spPr>
          <a:xfrm>
            <a:off x="285840" y="3929040"/>
            <a:ext cx="35002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4866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будущего представляется мне как образовательный центр, в который войдут начальная и средняя школы,  дошкольное отделение, большой физкультурно-оздоровительный комплекс, молодежный клуб, театральный зал, столовая, библиотека и многое друг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14320" y="2571840"/>
            <a:ext cx="671508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Школа будущего открылась в Финляндии"/>
          <p:cNvPicPr/>
          <p:nvPr/>
        </p:nvPicPr>
        <p:blipFill>
          <a:blip r:embed="rId1"/>
          <a:stretch/>
        </p:blipFill>
        <p:spPr>
          <a:xfrm>
            <a:off x="1143000" y="2428920"/>
            <a:ext cx="6977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ых проектах школьного здания важен  дизайн внутреннего пространств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должна делиться на разные функциональные зоны, легко трансформироваться. Учебный процесс не должен ограничиваться только классами – это должна быть вся школ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5" descr="http://www.etoday.ru/uploads/2012/02/05/Classroom-of-the-Future01.jpg"/>
          <p:cNvPicPr/>
          <p:nvPr/>
        </p:nvPicPr>
        <p:blipFill>
          <a:blip r:embed="rId1"/>
          <a:stretch/>
        </p:blipFill>
        <p:spPr>
          <a:xfrm>
            <a:off x="457200" y="2643120"/>
            <a:ext cx="82296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ловой можно установить сцену. Во время концертов, встреч, праздников и фестивалей столовая будет большим зрительным за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http://files2.adme.ru/files/news/part_95/952960/17282810-R3L8T8D-650-sau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801800"/>
            <a:ext cx="6191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 вечерам школа может стать досуговым и спортивным центром для всех жителей микрорайона. Здесь можно открыть  мастерские, спортивные залы и клубы по интерес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http://workingmama.ru/pictures/large/76786"/>
          <p:cNvPicPr/>
          <p:nvPr/>
        </p:nvPicPr>
        <p:blipFill>
          <a:blip r:embed="rId1"/>
          <a:stretch/>
        </p:blipFill>
        <p:spPr>
          <a:xfrm>
            <a:off x="820800" y="1600200"/>
            <a:ext cx="750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ть ощущение простора должны помочь большие окна от потолка и практически до пола. Школьные коридоры надо расположить вдоль окон. Так школьники не будут чувствовать себя запертыми в четырех сте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http://files5.adme.ru/files/news/part_95/952960/17284160-R3L8T8D-650-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0640" y="1600200"/>
            <a:ext cx="556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я, как быстро развиваются информационные технологии сегодня, я совсем не удивлюсь, если скоро учебники и тетради будут заменены планшетами из фотогальванического стекла, а доски в классах будут дополнены интерактивными обучающими столами – увеличенными версиями смартфонов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ttp://zillion.net/uploads/cache/post_700/uploads/images/event/550cbba410338.jpeg"/>
          <p:cNvPicPr/>
          <p:nvPr/>
        </p:nvPicPr>
        <p:blipFill>
          <a:blip r:embed="rId1"/>
          <a:stretch/>
        </p:blipFill>
        <p:spPr>
          <a:xfrm>
            <a:off x="428760" y="164304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http://devicebox.ru/wp-content/uploads/2012/02/future-techs.jpg"/>
          <p:cNvPicPr/>
          <p:nvPr/>
        </p:nvPicPr>
        <p:blipFill>
          <a:blip r:embed="rId2"/>
          <a:stretch/>
        </p:blipFill>
        <p:spPr>
          <a:xfrm>
            <a:off x="4857840" y="3357720"/>
            <a:ext cx="3857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е образование  -  еще одна важная особенность школ будущего - постепенно входит в современные школы. Например, в классе моего младшего брата (СОШ № 2097) заболевший ученик с помощью скайпа может «присутствовать»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http://veselajashkola.ru/wp-content/uploads/images/af9c53e3bdffc0ed4bf5ce7db9422f1b-501x332.jpg"/>
          <p:cNvPicPr/>
          <p:nvPr/>
        </p:nvPicPr>
        <p:blipFill>
          <a:blip r:embed="rId1"/>
          <a:stretch/>
        </p:blipFill>
        <p:spPr>
          <a:xfrm>
            <a:off x="500040" y="15001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Картинки по запросу школа будущего"/>
          <p:cNvPicPr/>
          <p:nvPr/>
        </p:nvPicPr>
        <p:blipFill>
          <a:blip r:embed="rId2"/>
          <a:stretch/>
        </p:blipFill>
        <p:spPr>
          <a:xfrm>
            <a:off x="4500720" y="3929040"/>
            <a:ext cx="41814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удущем в школах всех учеников будут хвалить и подбадривать, а оценок не будет до выпускных классов. Диктанты будут проверять в сравнении с предыдущим результат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http://st.depositphotos.com/2953923/4578/i/950/depositphotos_45784193-Teacher-woman-praises-girl-schoolgirl-per-job-well-executed.jpg"/>
          <p:cNvPicPr/>
          <p:nvPr/>
        </p:nvPicPr>
        <p:blipFill>
          <a:blip r:embed="rId1"/>
          <a:stretch/>
        </p:blipFill>
        <p:spPr>
          <a:xfrm>
            <a:off x="642960" y="1643040"/>
            <a:ext cx="7215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9:32:36Z</dcterms:created>
  <dc:creator>TOSHIBA</dc:creator>
  <dc:description/>
  <dc:language>en-US</dc:language>
  <cp:lastModifiedBy>TOSHIBA</cp:lastModifiedBy>
  <dcterms:modified xsi:type="dcterms:W3CDTF">2016-02-12T15:00:51Z</dcterms:modified>
  <cp:revision>17</cp:revision>
  <dc:subject/>
  <dc:title>Школа будущего представляется мне как образовательный центр, в который войдут и общеобразовательная школа, и дошкольное учреждение, и большой физкультурно-оздоровительный комплекс, и многое другое. начальная и средняя школы, дошкольное отделение, дом молодежи, театральный зал, столовая, библиотека, спортивный зал и многое другое.</dc:title>
</cp:coreProperties>
</file>