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9F35-CA2E-40C1-BBF3-EDCB29F08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8661-50D0-4E86-B5E5-2B121562C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C19C-3215-485A-AB12-33BCCBFBD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B718-1C86-4873-82EE-D4D935B3B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A5B8-CAF1-43C9-A75A-2AACD8942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2E64-BD1D-4154-B7A2-1F5FE1377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611F-60DE-4673-80B1-E67D41CEF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976B-BC11-4016-9185-D3B9FFFBB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5760-5DFB-4802-B1E6-5DB06466E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1F7D-01BC-414D-8720-D34E3B9C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21E0-D2D1-4F51-9E7E-077FB7123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0789-130E-4E3B-8238-38B744C7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84729-7B2D-4464-9B5D-FFCD9916D0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Числа 8 и 9. Письмо цифры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чител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лко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катерина Андре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. Кл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кие знаки пропущены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95280" y="1600200"/>
            <a:ext cx="6934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6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5              4      4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5 + 1    2     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    1 + 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1 + 3    4     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+ 1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- 1     5     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 - 1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2209680" y="1523880"/>
            <a:ext cx="5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Constantia"/>
              </a:rPr>
              <a:t>&gt;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7"/>
          <p:cNvSpPr/>
          <p:nvPr/>
        </p:nvSpPr>
        <p:spPr>
          <a:xfrm>
            <a:off x="2819520" y="2362320"/>
            <a:ext cx="657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Constantia"/>
              </a:rPr>
              <a:t>&gt;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2819520" y="3200400"/>
            <a:ext cx="600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Constantia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8"/>
          <p:cNvSpPr/>
          <p:nvPr/>
        </p:nvSpPr>
        <p:spPr>
          <a:xfrm>
            <a:off x="2743200" y="3962520"/>
            <a:ext cx="623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Constantia"/>
              </a:rPr>
              <a:t>&lt;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9"/>
          <p:cNvSpPr/>
          <p:nvPr/>
        </p:nvSpPr>
        <p:spPr>
          <a:xfrm>
            <a:off x="6248520" y="152388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Constantia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0"/>
          <p:cNvSpPr/>
          <p:nvPr/>
        </p:nvSpPr>
        <p:spPr>
          <a:xfrm>
            <a:off x="5791320" y="2286000"/>
            <a:ext cx="54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Constantia"/>
              </a:rPr>
              <a:t>&lt;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7"/>
          <p:cNvSpPr/>
          <p:nvPr/>
        </p:nvSpPr>
        <p:spPr>
          <a:xfrm>
            <a:off x="5791320" y="31240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0000"/>
                </a:solidFill>
                <a:latin typeface="Constantia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0"/>
          <p:cNvSpPr/>
          <p:nvPr/>
        </p:nvSpPr>
        <p:spPr>
          <a:xfrm>
            <a:off x="5791320" y="3962520"/>
            <a:ext cx="6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0000"/>
                </a:solidFill>
                <a:latin typeface="Constantia"/>
              </a:rPr>
              <a:t>&gt;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2187000" y="957240"/>
            <a:ext cx="4889520" cy="4890960"/>
            <a:chOff x="2187000" y="957240"/>
            <a:chExt cx="4889520" cy="4890960"/>
          </a:xfrm>
        </p:grpSpPr>
        <p:sp>
          <p:nvSpPr>
            <p:cNvPr id="57" name=""/>
            <p:cNvSpPr/>
            <p:nvPr/>
          </p:nvSpPr>
          <p:spPr>
            <a:xfrm>
              <a:off x="2187000" y="957240"/>
              <a:ext cx="815040" cy="81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261120" y="3674520"/>
              <a:ext cx="815400" cy="814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544560" y="957240"/>
              <a:ext cx="815040" cy="8150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903200" y="5033160"/>
              <a:ext cx="815400" cy="8150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187000" y="2315880"/>
              <a:ext cx="813960" cy="8150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903200" y="957240"/>
              <a:ext cx="815400" cy="81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544560" y="2315880"/>
              <a:ext cx="815040" cy="81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262200" y="957240"/>
              <a:ext cx="813960" cy="815040"/>
            </a:xfrm>
            <a:prstGeom prst="pentag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261120" y="2315880"/>
              <a:ext cx="815400" cy="815040"/>
            </a:xfrm>
            <a:prstGeom prst="pentag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187000" y="5033160"/>
              <a:ext cx="813960" cy="815040"/>
            </a:xfrm>
            <a:prstGeom prst="pentag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631760" y="3674520"/>
              <a:ext cx="815040" cy="814680"/>
            </a:xfrm>
            <a:prstGeom prst="pentag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544560" y="5033160"/>
              <a:ext cx="815040" cy="81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187000" y="3674520"/>
              <a:ext cx="813960" cy="814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4952880" y="2286000"/>
            <a:ext cx="8002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52680" y="3657600"/>
            <a:ext cx="838440" cy="8380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248520" y="4952880"/>
            <a:ext cx="838080" cy="838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048120" y="762120"/>
            <a:ext cx="3047760" cy="2514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3276720"/>
            <a:ext cx="3047760" cy="2666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352680" y="762120"/>
            <a:ext cx="3048120" cy="2514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400800" y="3276720"/>
            <a:ext cx="0" cy="2666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276720" y="5943600"/>
            <a:ext cx="3124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5" descr="9.jpg"/>
          <p:cNvPicPr/>
          <p:nvPr/>
        </p:nvPicPr>
        <p:blipFill>
          <a:blip r:embed="rId1"/>
          <a:stretch/>
        </p:blipFill>
        <p:spPr>
          <a:xfrm>
            <a:off x="1219320" y="219240"/>
            <a:ext cx="6476760" cy="647676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4" descr="р.gif"/>
          <p:cNvPicPr/>
          <p:nvPr/>
        </p:nvPicPr>
        <p:blipFill>
          <a:blip r:embed="rId2"/>
          <a:stretch/>
        </p:blipFill>
        <p:spPr>
          <a:xfrm rot="1860000">
            <a:off x="6955920" y="5164200"/>
            <a:ext cx="1589400" cy="15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903 -0.00139 L -0.02465 -0.5784 E">
                                      <p:cBhvr>
                                        <p:cTn id="76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465 -0.5784 C -0.02205 -0.58927 -0.02344 -0.60037 -0.02604 -0.61124 C -0.02795 -0.6302 -0.02986 -0.64338 -0.03785 -0.65934 C -0.04497 -0.67368 -0.03316 -0.6568 -0.04236 -0.66882 C -0.04549 -0.68201 -0.04392 -0.68201 -0.05399 -0.6864 C -0.06198 -0.69704 -0.06667 -0.69588 -0.07569 -0.70166 C -0.08576 -0.70837 -0.075 -0.70305 -0.08455 -0.70745 C -0.0934 -0.71901 -0.09879 -0.71531 -0.11354 -0.7167 C -0.12431 -0.716 -0.13507 -0.71623 -0.14566 -0.71485 C -0.14879 -0.71438 -0.15139 -0.7123 -0.15434 -0.71115 C -0.15573 -0.71045 -0.15885 -0.7093 -0.15885 -0.70906 C -0.16476 -0.70398 -0.17101 -0.70189 -0.17778 -0.69958 C -0.18663 -0.69172 -0.18576 -0.69496 -0.19531 -0.68247 C -0.2 -0.67599 -0.1967 -0.67761 -0.19965 -0.67091 C -0.20486 -0.65842 -0.21528 -0.63598 -0.22292 -0.6265 C -0.22847 -0.60476 -0.21962 -0.6383 -0.22726 -0.61517 C -0.23299 -0.59806 -0.23611 -0.57863 -0.24045 -0.56105 C -0.24288 -0.55111 -0.24219 -0.54047 -0.24462 -0.53053 C -0.2467 -0.50462 -0.24931 -0.4741 -0.24045 -0.44981 C -0.23733 -0.44149 -0.23611 -0.43224 -0.23299 -0.42437 C -0.23142 -0.42044 -0.22726 -0.41327 -0.22726 -0.41304 C -0.22569 -0.4068 -0.21997 -0.3957 -0.21997 -0.39547 C -0.21788 -0.3876 -0.21302 -0.37905 -0.20677 -0.37673 C -0.20486 -0.37604 -0.20295 -0.37511 -0.20104 -0.37442 C -0.19809 -0.37326 -0.19219 -0.37072 -0.19219 -0.37049 C -0.18142 -0.36101 -0.16649 -0.36216 -0.15434 -0.36101 C -0.14583 -0.35731 -0.13802 -0.36054 -0.12951 -0.36286 C -0.11788 -0.36656 -0.10625 -0.37026 -0.09479 -0.37442 C -0.08785 -0.3772 -0.08351 -0.38159 -0.07708 -0.38413 C -0.07049 -0.38992 -0.06441 -0.39801 -0.05677 -0.40287 C -0.0559 -0.40333 -0.05521 -0.40587 -0.05399 -0.40726 C -0.05122 -0.41027 -0.04514 -0.41512 -0.04514 -0.41489 C -0.0434 -0.41836 -0.0408 -0.42091 -0.03924 -0.42437 C -0.03507 -0.43316 -0.03542 -0.44588 -0.03212 -0.45536 C -0.0276 -0.46739 -0.02379 -0.48034 -0.02188 -0.49375 C -0.01927 -0.50994 -0.01997 -0.52798 -0.01597 -0.54371 C -0.01667 -0.55527 -0.01667 -0.56683 -0.01754 -0.5784 C -0.01771 -0.58048 -0.01875 -0.58649 -0.01892 -0.58441 C -0.02361 -0.51873 -0.01701 -0.55573 -0.02188 -0.53053 C -0.02292 -0.50971 -0.02344 -0.48913 -0.02778 -0.46878 C -0.03021 -0.44149 -0.03212 -0.40541 -0.04514 -0.38228 C -0.04774 -0.37188 -0.05069 -0.36216 -0.05538 -0.35337 C -0.05729 -0.34297 -0.06111 -0.3321 -0.06701 -0.32447 C -0.06962 -0.31452 -0.0717 -0.30504 -0.07569 -0.29579 C -0.07743 -0.29186 -0.0816 -0.28399 -0.0816 -0.28376 C -0.08351 -0.27613 -0.08663 -0.26804 -0.09028 -0.2611 C -0.0908 -0.25856 -0.09097 -0.25578 -0.09184 -0.25347 C -0.0934 -0.2493 -0.09757 -0.2419 -0.09757 -0.24167 C -0.09913 -0.23473 -0.10156 -0.23196 -0.10504 -0.22641 C -0.10938 -0.21924 -0.11146 -0.21045 -0.11649 -0.20305 C -0.12309 -0.17969 -0.14254 -0.16998 -0.15747 -0.15726 C -0.1625 -0.14685 -0.17031 -0.14084 -0.17917 -0.13807 C -0.18733 -0.13066 -0.19861 -0.13205 -0.20833 -0.12997 C -0.22014 -0.13205 -0.23056 -0.13529 -0.24184 -0.13807 C -0.25347 -0.14801 -0.24809 -0.14223 -0.25781 -0.15541 C -0.26024 -0.15865 -0.26372 -0.16651 -0.26372 -0.16628 C -0.2684 -0.18617 -0.26059 -0.15703 -0.26944 -0.17831 C -0.2717 -0.18386 -0.2724 -0.18987 -0.27396 -0.19565 C -0.27639 -0.21623 -0.27535 -0.20305 -0.27535 -0.23404 E">
                                      <p:cBhvr>
                                        <p:cTn id="80" dur="5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6-10-09T17:18:3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