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266-40AA-41B5-803D-E95C1493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4ED-F870-49E2-AE26-10A2650F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202-B871-4D76-A7B7-A4E9BCAE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6B6-BF46-4914-B823-CCE370F7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5D6-AC41-41F8-9823-C67254CA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45C-E9A0-4529-B7CD-39930E04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9FD-4EF1-4F80-8048-0697E23B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392-C7FA-4BEB-92CC-82A718A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368-35FE-4FA6-B182-F6CA60A1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F0A-FC6E-44C2-8CC6-DBFA2951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642-4516-487E-B29A-C79B0640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577-0EDF-4215-A678-927BFE33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6982-DA70-4398-8CC3-BD4CE904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Числа 8 и 9. Письмо цифры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лк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атерина Андр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 К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ие знаки пропуще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60020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6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              4      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 + 1    2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1 +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 + 3    4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+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- 1     5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- 1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209680" y="152388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2819520" y="2362320"/>
            <a:ext cx="65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819520" y="3200400"/>
            <a:ext cx="60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743200" y="3962520"/>
            <a:ext cx="6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6248520" y="15238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5791320" y="2286000"/>
            <a:ext cx="54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nstantia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5791320" y="3124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nstanti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5791320" y="396252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nstantia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87000" y="957240"/>
            <a:ext cx="4889520" cy="4890960"/>
            <a:chOff x="2187000" y="957240"/>
            <a:chExt cx="4889520" cy="4890960"/>
          </a:xfrm>
        </p:grpSpPr>
        <p:sp>
          <p:nvSpPr>
            <p:cNvPr id="57" name=""/>
            <p:cNvSpPr/>
            <p:nvPr/>
          </p:nvSpPr>
          <p:spPr>
            <a:xfrm>
              <a:off x="2187000" y="957240"/>
              <a:ext cx="815040" cy="81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61120" y="3674520"/>
              <a:ext cx="815400" cy="81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44560" y="957240"/>
              <a:ext cx="815040" cy="81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03200" y="5033160"/>
              <a:ext cx="815400" cy="81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7000" y="2315880"/>
              <a:ext cx="813960" cy="81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03200" y="957240"/>
              <a:ext cx="815400" cy="81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44560" y="2315880"/>
              <a:ext cx="815040" cy="81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62200" y="957240"/>
              <a:ext cx="813960" cy="815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61120" y="2315880"/>
              <a:ext cx="815400" cy="815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87000" y="5033160"/>
              <a:ext cx="813960" cy="8150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31760" y="3674520"/>
              <a:ext cx="815040" cy="81468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44560" y="5033160"/>
              <a:ext cx="815040" cy="81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87000" y="3674520"/>
              <a:ext cx="813960" cy="81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952880" y="2286000"/>
            <a:ext cx="8002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3657600"/>
            <a:ext cx="838440" cy="838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49528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8120" y="762120"/>
            <a:ext cx="304776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76720"/>
            <a:ext cx="304776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52680" y="762120"/>
            <a:ext cx="304812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32767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276720" y="59436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" descr="9.jpg"/>
          <p:cNvPicPr/>
          <p:nvPr/>
        </p:nvPicPr>
        <p:blipFill>
          <a:blip r:embed="rId1"/>
          <a:stretch/>
        </p:blipFill>
        <p:spPr>
          <a:xfrm>
            <a:off x="1219320" y="219240"/>
            <a:ext cx="6476760" cy="6476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р.gif"/>
          <p:cNvPicPr/>
          <p:nvPr/>
        </p:nvPicPr>
        <p:blipFill>
          <a:blip r:embed="rId2"/>
          <a:stretch/>
        </p:blipFill>
        <p:spPr>
          <a:xfrm rot="1860000">
            <a:off x="6955920" y="5164200"/>
            <a:ext cx="1589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-0.00139 L -0.02465 -0.5784 E">
                                      <p:cBhvr>
                                        <p:cTn id="7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5784 C -0.02205 -0.58927 -0.02344 -0.60037 -0.02604 -0.61124 C -0.02795 -0.6302 -0.02986 -0.64338 -0.03785 -0.65934 C -0.04497 -0.67368 -0.03316 -0.6568 -0.04236 -0.66882 C -0.04549 -0.68201 -0.04392 -0.68201 -0.05399 -0.6864 C -0.06198 -0.69704 -0.06667 -0.69588 -0.07569 -0.70166 C -0.08576 -0.70837 -0.075 -0.70305 -0.08455 -0.70745 C -0.0934 -0.71901 -0.09879 -0.71531 -0.11354 -0.7167 C -0.12431 -0.716 -0.13507 -0.71623 -0.14566 -0.71485 C -0.14879 -0.71438 -0.15139 -0.7123 -0.15434 -0.71115 C -0.15573 -0.71045 -0.15885 -0.7093 -0.15885 -0.70906 C -0.16476 -0.70398 -0.17101 -0.70189 -0.17778 -0.69958 C -0.18663 -0.69172 -0.18576 -0.69496 -0.19531 -0.68247 C -0.2 -0.67599 -0.1967 -0.67761 -0.19965 -0.67091 C -0.20486 -0.65842 -0.21528 -0.63598 -0.22292 -0.6265 C -0.22847 -0.60476 -0.21962 -0.6383 -0.22726 -0.61517 C -0.23299 -0.59806 -0.23611 -0.57863 -0.24045 -0.56105 C -0.24288 -0.55111 -0.24219 -0.54047 -0.24462 -0.53053 C -0.2467 -0.50462 -0.24931 -0.4741 -0.24045 -0.44981 C -0.23733 -0.44149 -0.23611 -0.43224 -0.23299 -0.42437 C -0.23142 -0.42044 -0.22726 -0.41327 -0.22726 -0.41304 C -0.22569 -0.4068 -0.21997 -0.3957 -0.21997 -0.39547 C -0.21788 -0.3876 -0.21302 -0.37905 -0.20677 -0.37673 C -0.20486 -0.37604 -0.20295 -0.37511 -0.20104 -0.37442 C -0.19809 -0.37326 -0.19219 -0.37072 -0.19219 -0.37049 C -0.18142 -0.36101 -0.16649 -0.36216 -0.15434 -0.36101 C -0.14583 -0.35731 -0.13802 -0.36054 -0.12951 -0.36286 C -0.11788 -0.36656 -0.10625 -0.37026 -0.09479 -0.37442 C -0.08785 -0.3772 -0.08351 -0.38159 -0.07708 -0.38413 C -0.07049 -0.38992 -0.06441 -0.39801 -0.05677 -0.40287 C -0.0559 -0.40333 -0.05521 -0.40587 -0.05399 -0.40726 C -0.05122 -0.41027 -0.04514 -0.41512 -0.04514 -0.41489 C -0.0434 -0.41836 -0.0408 -0.42091 -0.03924 -0.42437 C -0.03507 -0.43316 -0.03542 -0.44588 -0.03212 -0.45536 C -0.0276 -0.46739 -0.02379 -0.48034 -0.02188 -0.49375 C -0.01927 -0.50994 -0.01997 -0.52798 -0.01597 -0.54371 C -0.01667 -0.55527 -0.01667 -0.56683 -0.01754 -0.5784 C -0.01771 -0.58048 -0.01875 -0.58649 -0.01892 -0.58441 C -0.02361 -0.51873 -0.01701 -0.55573 -0.02188 -0.53053 C -0.02292 -0.50971 -0.02344 -0.48913 -0.02778 -0.46878 C -0.03021 -0.44149 -0.03212 -0.40541 -0.04514 -0.38228 C -0.04774 -0.37188 -0.05069 -0.36216 -0.05538 -0.35337 C -0.05729 -0.34297 -0.06111 -0.3321 -0.06701 -0.32447 C -0.06962 -0.31452 -0.0717 -0.30504 -0.07569 -0.29579 C -0.07743 -0.29186 -0.0816 -0.28399 -0.0816 -0.28376 C -0.08351 -0.27613 -0.08663 -0.26804 -0.09028 -0.2611 C -0.0908 -0.25856 -0.09097 -0.25578 -0.09184 -0.25347 C -0.0934 -0.2493 -0.09757 -0.2419 -0.09757 -0.24167 C -0.09913 -0.23473 -0.10156 -0.23196 -0.10504 -0.22641 C -0.10938 -0.21924 -0.11146 -0.21045 -0.11649 -0.20305 C -0.12309 -0.17969 -0.14254 -0.16998 -0.15747 -0.15726 C -0.1625 -0.14685 -0.17031 -0.14084 -0.17917 -0.13807 C -0.18733 -0.13066 -0.19861 -0.13205 -0.20833 -0.12997 C -0.22014 -0.13205 -0.23056 -0.13529 -0.24184 -0.13807 C -0.25347 -0.14801 -0.24809 -0.14223 -0.25781 -0.15541 C -0.26024 -0.15865 -0.26372 -0.16651 -0.26372 -0.16628 C -0.2684 -0.18617 -0.26059 -0.15703 -0.26944 -0.17831 C -0.2717 -0.18386 -0.2724 -0.18987 -0.27396 -0.19565 C -0.27639 -0.21623 -0.27535 -0.20305 -0.27535 -0.23404 E">
                                      <p:cBhvr>
                                        <p:cTn id="80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0-09T17:18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