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E8A-E480-4CC8-BEB4-6E05B6AD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187-E79D-4D9B-A75D-402828BE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A7B-AF8F-477E-9D37-E1B34C7C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4BF5-8859-491C-9C5C-5372EC16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2C31-097A-4B20-B601-2AF8D33D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F290-1B9B-4705-9605-3CEB5728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E88E-BFF0-41FB-B54F-4CD19B67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8E09-DECB-478F-92F1-FC255994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6D94-CE0A-4833-9743-3522A2A3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768C-92C8-49DF-A502-FEB8B245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BD48-EB5D-4489-A1AC-520E7207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7B1-E626-480F-80FD-C653FA43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2BBB-97CD-44DA-908E-BECCF909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FA9A-6EA0-4C3D-885A-DBA21711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9750-F5F6-411F-921E-B1E5EDA1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8759-96D8-4C5E-9D2B-8BB39566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AC2F-BE4C-4599-88B6-61903FBD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C4F-FD83-425B-ABB6-41D5716C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A53-5AA1-400C-B531-C7B20077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C7B-307F-4203-88CF-E3DB2A2A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8C2-08AB-44E1-B403-C218DA02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57C-EB61-446D-BF1B-013505D3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60EB-65D5-4F41-9182-29E92284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D488-EE8E-4740-BC8A-B2F3A5B1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6E63-BA2D-4C30-8F39-4D07EF811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5A06-E3F8-4437-BB56-5350C7789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8209080" cy="647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Исследовательская деятельность с деть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84000" y="2204640"/>
            <a:ext cx="7993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«КРАХМАЛ – НЕВИДИМКА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Обнаружение крахмала с помощью йо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066920" y="4076280"/>
            <a:ext cx="4319640" cy="22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Если в стакане с водой размешать ложку картофельного крахмала, а потом добавить каплю раствора йода, мы увидим, что коричневое пятно йода станет темно-сини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Рисунок 4" descr="D:\Мои рисунки\презентация\Изображение 004.jpg"/>
          <p:cNvPicPr/>
          <p:nvPr/>
        </p:nvPicPr>
        <p:blipFill>
          <a:blip r:embed="rId1"/>
          <a:srcRect l="0" t="0" r="0" b="13425"/>
          <a:stretch/>
        </p:blipFill>
        <p:spPr>
          <a:xfrm>
            <a:off x="900000" y="3933720"/>
            <a:ext cx="3168720" cy="20606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" descr="D:\Мои рисунки\презентация\Изображение 001.jpg"/>
          <p:cNvPicPr/>
          <p:nvPr/>
        </p:nvPicPr>
        <p:blipFill>
          <a:blip r:embed="rId2"/>
          <a:srcRect l="0" t="0" r="0" b="14038"/>
          <a:stretch/>
        </p:blipFill>
        <p:spPr>
          <a:xfrm>
            <a:off x="900000" y="1341360"/>
            <a:ext cx="3168720" cy="21052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3" descr="D:\Мои рисунки\презентация\Изображение 003.jpg"/>
          <p:cNvPicPr/>
          <p:nvPr/>
        </p:nvPicPr>
        <p:blipFill>
          <a:blip r:embed="rId3"/>
          <a:srcRect l="0" t="0" r="0" b="13695"/>
          <a:stretch/>
        </p:blipFill>
        <p:spPr>
          <a:xfrm>
            <a:off x="4572000" y="1341360"/>
            <a:ext cx="3241800" cy="21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Опыты с картофелем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450864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Йодные пятна на срезе клубня стали сини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Рисунок 5" descr="D:\Мои рисунки\презентация\Изображение 011.jpg"/>
          <p:cNvPicPr/>
          <p:nvPr/>
        </p:nvPicPr>
        <p:blipFill>
          <a:blip r:embed="rId1"/>
          <a:srcRect l="0" t="0" r="0" b="13701"/>
          <a:stretch/>
        </p:blipFill>
        <p:spPr>
          <a:xfrm>
            <a:off x="755640" y="1476360"/>
            <a:ext cx="3743280" cy="23670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D:\Мои рисунки\презентация\Изображение 005.jpg"/>
          <p:cNvPicPr/>
          <p:nvPr/>
        </p:nvPicPr>
        <p:blipFill>
          <a:blip r:embed="rId2"/>
          <a:srcRect l="0" t="0" r="0" b="13533"/>
          <a:stretch/>
        </p:blipFill>
        <p:spPr>
          <a:xfrm>
            <a:off x="4932360" y="1449360"/>
            <a:ext cx="3672000" cy="23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Опыты с овощами и фруктам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3280" y="3715920"/>
            <a:ext cx="565452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а срезах моркови и яблока заметно, что цвет немного изменился, значит, в них тоже содержится крахмал, но его очень мало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огурце и кабачке крахмал не обнаруже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Рисунок 7" descr="D:\Мои рисунки\презентация\Изображение 018.jpg"/>
          <p:cNvPicPr/>
          <p:nvPr/>
        </p:nvPicPr>
        <p:blipFill>
          <a:blip r:embed="rId1"/>
          <a:srcRect l="0" t="0" r="0" b="13347"/>
          <a:stretch/>
        </p:blipFill>
        <p:spPr>
          <a:xfrm>
            <a:off x="108000" y="1197000"/>
            <a:ext cx="2809800" cy="18255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8" descr="D:\Мои рисунки\презентация\Изображение 007.jpg"/>
          <p:cNvPicPr/>
          <p:nvPr/>
        </p:nvPicPr>
        <p:blipFill>
          <a:blip r:embed="rId2"/>
          <a:srcRect l="0" t="0" r="0" b="15365"/>
          <a:stretch/>
        </p:blipFill>
        <p:spPr>
          <a:xfrm>
            <a:off x="6084720" y="1197000"/>
            <a:ext cx="2880000" cy="18334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9" descr="D:\Мои рисунки\презентация\Изображение 014.jpg"/>
          <p:cNvPicPr/>
          <p:nvPr/>
        </p:nvPicPr>
        <p:blipFill>
          <a:blip r:embed="rId3"/>
          <a:srcRect l="0" t="0" r="0" b="15107"/>
          <a:stretch/>
        </p:blipFill>
        <p:spPr>
          <a:xfrm>
            <a:off x="3059280" y="1197000"/>
            <a:ext cx="2881080" cy="18334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0" descr="D:\Мои рисунки\презентация\Изображение.jpg"/>
          <p:cNvPicPr/>
          <p:nvPr/>
        </p:nvPicPr>
        <p:blipFill>
          <a:blip r:embed="rId4"/>
          <a:srcRect l="0" t="0" r="0" b="13435"/>
          <a:stretch/>
        </p:blipFill>
        <p:spPr>
          <a:xfrm>
            <a:off x="179280" y="3716280"/>
            <a:ext cx="2951280" cy="192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Опыты с мукой и круп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4652640"/>
            <a:ext cx="8353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пшеничной муке, хлебе и крупах содержится много крахмала. Цвет йодного пятна изменил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Рисунок 23" descr="D:\Мои рисунки\презентация\Изображение 074.jpg"/>
          <p:cNvPicPr/>
          <p:nvPr/>
        </p:nvPicPr>
        <p:blipFill>
          <a:blip r:embed="rId1"/>
          <a:srcRect l="0" t="0" r="0" b="13328"/>
          <a:stretch/>
        </p:blipFill>
        <p:spPr>
          <a:xfrm>
            <a:off x="179280" y="2133720"/>
            <a:ext cx="2808360" cy="18288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4" descr="D:\Мои рисунки\презентация\Изображение 039.jpg"/>
          <p:cNvPicPr/>
          <p:nvPr/>
        </p:nvPicPr>
        <p:blipFill>
          <a:blip r:embed="rId2"/>
          <a:srcRect l="0" t="0" r="0" b="14050"/>
          <a:stretch/>
        </p:blipFill>
        <p:spPr>
          <a:xfrm>
            <a:off x="3132000" y="2133720"/>
            <a:ext cx="2808360" cy="18208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5" descr="D:\Мои рисунки\презентация\Изображение 076.jpg"/>
          <p:cNvPicPr/>
          <p:nvPr/>
        </p:nvPicPr>
        <p:blipFill>
          <a:blip r:embed="rId3"/>
          <a:srcRect l="0" t="0" r="0" b="12814"/>
          <a:stretch/>
        </p:blipFill>
        <p:spPr>
          <a:xfrm>
            <a:off x="6084720" y="2133720"/>
            <a:ext cx="2698920" cy="18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пыты с молочными продуктам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92000" y="4005000"/>
            <a:ext cx="5256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В молочных продуктах крахмал не обнаруже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Рисунок 11" descr="D:\Мои рисунки\презентация\Изображение 022.jpg"/>
          <p:cNvPicPr/>
          <p:nvPr/>
        </p:nvPicPr>
        <p:blipFill>
          <a:blip r:embed="rId1"/>
          <a:srcRect l="0" t="0" r="0" b="14720"/>
          <a:stretch/>
        </p:blipFill>
        <p:spPr>
          <a:xfrm>
            <a:off x="684360" y="1554120"/>
            <a:ext cx="2519280" cy="16128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2" descr="D:\Мои рисунки\презентация\Изображение 024.jpg"/>
          <p:cNvPicPr/>
          <p:nvPr/>
        </p:nvPicPr>
        <p:blipFill>
          <a:blip r:embed="rId2"/>
          <a:srcRect l="0" t="0" r="0" b="15710"/>
          <a:stretch/>
        </p:blipFill>
        <p:spPr>
          <a:xfrm>
            <a:off x="3419640" y="1557360"/>
            <a:ext cx="2519280" cy="15922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4" descr="D:\Мои рисунки\презентация\Изображение 020.jpg"/>
          <p:cNvPicPr/>
          <p:nvPr/>
        </p:nvPicPr>
        <p:blipFill>
          <a:blip r:embed="rId3"/>
          <a:srcRect l="0" t="0" r="0" b="14289"/>
          <a:stretch/>
        </p:blipFill>
        <p:spPr>
          <a:xfrm>
            <a:off x="6156360" y="1557360"/>
            <a:ext cx="2592360" cy="16606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22" descr="D:\Мои рисунки\презентация\Изображение 042.jpg"/>
          <p:cNvPicPr/>
          <p:nvPr/>
        </p:nvPicPr>
        <p:blipFill>
          <a:blip r:embed="rId4"/>
          <a:srcRect l="0" t="0" r="0" b="13147"/>
          <a:stretch/>
        </p:blipFill>
        <p:spPr>
          <a:xfrm>
            <a:off x="684360" y="3789360"/>
            <a:ext cx="2447640" cy="15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Полезные и легкие йогурты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7640" y="4292640"/>
            <a:ext cx="417672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Крахмал обнаружен в йогуртах «Нежный» и «Fruttis 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Рисунок 16" descr="D:\Мои рисунки\презентация\Изображение 065.jpg"/>
          <p:cNvPicPr/>
          <p:nvPr/>
        </p:nvPicPr>
        <p:blipFill>
          <a:blip r:embed="rId1"/>
          <a:srcRect l="0" t="0" r="0" b="12711"/>
          <a:stretch/>
        </p:blipFill>
        <p:spPr>
          <a:xfrm>
            <a:off x="1258920" y="1413000"/>
            <a:ext cx="2954160" cy="19476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7" descr="D:\Мои рисунки\презентация\Изображение 067.jpg"/>
          <p:cNvPicPr/>
          <p:nvPr/>
        </p:nvPicPr>
        <p:blipFill>
          <a:blip r:embed="rId2"/>
          <a:srcRect l="0" t="0" r="0" b="14972"/>
          <a:stretch/>
        </p:blipFill>
        <p:spPr>
          <a:xfrm>
            <a:off x="4932360" y="1387440"/>
            <a:ext cx="2878200" cy="18972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5" descr="D:\Мои рисунки\презентация\Изображение 028.jpg"/>
          <p:cNvPicPr/>
          <p:nvPr/>
        </p:nvPicPr>
        <p:blipFill>
          <a:blip r:embed="rId3"/>
          <a:srcRect l="0" t="0" r="0" b="14293"/>
          <a:stretch/>
        </p:blipFill>
        <p:spPr>
          <a:xfrm>
            <a:off x="1258920" y="4076640"/>
            <a:ext cx="3097080" cy="19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356840" y="4642920"/>
            <a:ext cx="691380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080" indent="378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роизводители йогуртов «Даниссимо» и «Фругурт» указали, что в качестве загустителя применили пектин. Действительно, пятно йода осталось коричневы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080" indent="378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В списке составляющих «Растишки», находим крахмал! Но пятно не стало синим. Значит, крахмала в этом йогурте мало, и реакция не произошл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Рисунок 19" descr="D:\Мои рисунки\презентация\Изображение 056.jpg"/>
          <p:cNvPicPr/>
          <p:nvPr/>
        </p:nvPicPr>
        <p:blipFill>
          <a:blip r:embed="rId1"/>
          <a:srcRect l="0" t="0" r="0" b="13045"/>
          <a:stretch/>
        </p:blipFill>
        <p:spPr>
          <a:xfrm>
            <a:off x="1547640" y="404640"/>
            <a:ext cx="2808360" cy="16192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0" descr="D:\Мои рисунки\презентация\Изображение 052.jpg"/>
          <p:cNvPicPr/>
          <p:nvPr/>
        </p:nvPicPr>
        <p:blipFill>
          <a:blip r:embed="rId2"/>
          <a:srcRect l="0" t="0" r="0" b="13529"/>
          <a:stretch/>
        </p:blipFill>
        <p:spPr>
          <a:xfrm>
            <a:off x="4643280" y="404640"/>
            <a:ext cx="2808360" cy="16304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8" descr="D:\Мои рисунки\презентация\Изображение 035.jpg"/>
          <p:cNvPicPr/>
          <p:nvPr/>
        </p:nvPicPr>
        <p:blipFill>
          <a:blip r:embed="rId3"/>
          <a:srcRect l="0" t="0" r="0" b="13424"/>
          <a:stretch/>
        </p:blipFill>
        <p:spPr>
          <a:xfrm>
            <a:off x="1547640" y="2421000"/>
            <a:ext cx="2808360" cy="16761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1" descr="D:\Мои рисунки\презентация\Изображение 050.jpg"/>
          <p:cNvPicPr/>
          <p:nvPr/>
        </p:nvPicPr>
        <p:blipFill>
          <a:blip r:embed="rId4"/>
          <a:srcRect l="0" t="0" r="0" b="13771"/>
          <a:stretch/>
        </p:blipFill>
        <p:spPr>
          <a:xfrm>
            <a:off x="4716360" y="2421000"/>
            <a:ext cx="2735280" cy="167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06:04:51Z</dcterms:created>
  <dc:creator>Нет</dc:creator>
  <dc:description/>
  <dc:language>en-US</dc:language>
  <cp:lastModifiedBy>Алексей</cp:lastModifiedBy>
  <dcterms:modified xsi:type="dcterms:W3CDTF">2016-10-13T13:42:14Z</dcterms:modified>
  <cp:revision>15</cp:revision>
  <dc:subject/>
  <dc:title>Муниципальное бюджетное общеобразовательное учреждение «Лицей № 24 имени Героя Советского Союза А.В. Корявина»</dc:title>
</cp:coreProperties>
</file>