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A73C-036F-49A8-A6EF-47384F33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6D83-B033-4B96-B3D6-D86770AD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40D-4428-445E-8F50-5835CDC0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F0FD-02BE-489B-8349-A7B3B34D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F2A3-D9D6-43AB-BFE6-1809C881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B531-275D-48A2-BFA5-E70256CC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136B-FD50-4AAB-AFC4-FC012848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BD4D-348A-4BB1-8B89-4EBC713A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C2E3-F2D2-4234-BC35-9362CA68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2923-8175-404B-9BC3-757E7F86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F592-6E62-40C6-ADE0-8123D3C5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2B72-C94F-4A1F-B29B-FACCF867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CDAD-7896-443B-AD91-55558378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A88A-5A66-42DC-9546-9518B1D1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6B3E-4038-4458-85AF-E513F5C7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D077-9538-476F-B353-0025F59B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0AA1-F03C-4E1F-99E7-BC0D2036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27A2-5688-4E93-AC70-DF1BE410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F71B-B7D2-4A5E-AF10-E41EC34B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E401-53C0-4F5A-9DAD-16C8718E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91EB-A7C1-4253-8249-8088C754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E0C3-884E-4A60-8F1D-6CBC3737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EC88-1E41-4432-957F-5FE830AD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C17B-9B68-4CD0-9F99-4206D25B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881D-EF14-4B16-9264-8C3D20361A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268E-2FE8-493C-A498-8D0416F8EA4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28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Презентация на тему: </a:t>
            </a: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Arial Black"/>
              </a:rPr>
              <a:t>«Оригами»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 подготовил ученик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3 «Б»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Девянин Александр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5" descr="2013-11-17 18"/>
          <p:cNvPicPr/>
          <p:nvPr/>
        </p:nvPicPr>
        <p:blipFill>
          <a:blip r:embed="rId1"/>
          <a:stretch/>
        </p:blipFill>
        <p:spPr>
          <a:xfrm>
            <a:off x="2627280" y="3213000"/>
            <a:ext cx="4464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825825255225"/>
          <p:cNvPicPr/>
          <p:nvPr/>
        </p:nvPicPr>
        <p:blipFill>
          <a:blip r:embed="rId1"/>
          <a:stretch/>
        </p:blipFill>
        <p:spPr>
          <a:xfrm>
            <a:off x="0" y="0"/>
            <a:ext cx="4859280" cy="3700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i"/>
          <p:cNvPicPr/>
          <p:nvPr/>
        </p:nvPicPr>
        <p:blipFill>
          <a:blip r:embed="rId2"/>
          <a:stretch/>
        </p:blipFill>
        <p:spPr>
          <a:xfrm>
            <a:off x="4932360" y="3699000"/>
            <a:ext cx="421164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354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Создавать оригами стоит только в хорошем расположении духа. Японцы верят, что все изделия, сделанные в плохом настроении, надо сжигать. Никогда не стоит такие фигурки дарить друзьям, чтобы на них не напала никакая хворь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Я хочу  продемонстрировать, как  сделать  оригами-Сердце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Picture 5" descr="2013-11-17 18"/>
          <p:cNvPicPr/>
          <p:nvPr/>
        </p:nvPicPr>
        <p:blipFill>
          <a:blip r:embed="rId1"/>
          <a:stretch/>
        </p:blipFill>
        <p:spPr>
          <a:xfrm>
            <a:off x="2556000" y="4024440"/>
            <a:ext cx="37447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436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Легенды об оригами.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Наш мир на девяносто процентов зависит от того, как мы его воспринимаем. Чувства и эмоции являются неотъемлемой частью человеческого бытия. Именно эти проявления формируют наше отношение к определенным вещам, событиям и явлениям.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Picture 7" descr="18"/>
          <p:cNvPicPr/>
          <p:nvPr/>
        </p:nvPicPr>
        <p:blipFill>
          <a:blip r:embed="rId1"/>
          <a:stretch/>
        </p:blipFill>
        <p:spPr>
          <a:xfrm>
            <a:off x="2771640" y="4184640"/>
            <a:ext cx="356400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62800" cy="26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Самая главная и известная легенда об этом японском искусстве напрямую связана с самой значимой и важной фигуркой оригами — бумажным журавликом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Picture 5" descr="14"/>
          <p:cNvPicPr/>
          <p:nvPr/>
        </p:nvPicPr>
        <p:blipFill>
          <a:blip r:embed="rId1"/>
          <a:stretch/>
        </p:blipFill>
        <p:spPr>
          <a:xfrm>
            <a:off x="3059280" y="3068640"/>
            <a:ext cx="48243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244440"/>
            <a:ext cx="8497800" cy="32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В странах Востока журавль считается символом любви, веры и надежды. Люди издревле веруют, что если сделать тысячу таких фигурок, а потом раздарить их все близким и знакомым, то исполнится самое-самое заветное желание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Picture 6" descr="12"/>
          <p:cNvPicPr/>
          <p:nvPr/>
        </p:nvPicPr>
        <p:blipFill>
          <a:blip r:embed="rId1"/>
          <a:stretch/>
        </p:blipFill>
        <p:spPr>
          <a:xfrm>
            <a:off x="1763640" y="3595680"/>
            <a:ext cx="52196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samoe-malenkoe-origami-300x225"/>
          <p:cNvPicPr/>
          <p:nvPr/>
        </p:nvPicPr>
        <p:blipFill>
          <a:blip r:embed="rId1"/>
          <a:stretch/>
        </p:blipFill>
        <p:spPr>
          <a:xfrm>
            <a:off x="4284720" y="3213000"/>
            <a:ext cx="4859280" cy="3645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Samoe-bolshoe-origami-300x195"/>
          <p:cNvPicPr/>
          <p:nvPr/>
        </p:nvPicPr>
        <p:blipFill>
          <a:blip r:embed="rId2"/>
          <a:stretch/>
        </p:blipFill>
        <p:spPr>
          <a:xfrm>
            <a:off x="0" y="0"/>
            <a:ext cx="57960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640720" cy="41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Сама легенда звучит примерно так: Когда-то давно на земле жил очень бедный мастер, который всю свою жизнь посвятил оригами и был удивительно добр ко всем и ко всему, что его окружало. Он целыми днями складывал из листов бумаги различные фигурки, а потом раздавал детям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5" descr="17"/>
          <p:cNvPicPr/>
          <p:nvPr/>
        </p:nvPicPr>
        <p:blipFill>
          <a:blip r:embed="rId1"/>
          <a:stretch/>
        </p:blipFill>
        <p:spPr>
          <a:xfrm>
            <a:off x="684360" y="4186080"/>
            <a:ext cx="3456000" cy="2671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Origami_Animals_RUS_004"/>
          <p:cNvPicPr/>
          <p:nvPr/>
        </p:nvPicPr>
        <p:blipFill>
          <a:blip r:embed="rId2"/>
          <a:stretch/>
        </p:blipFill>
        <p:spPr>
          <a:xfrm>
            <a:off x="5364000" y="4186080"/>
            <a:ext cx="267192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44080"/>
            <a:ext cx="8591400" cy="700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Но однажды он встретил на дороге странствующего монаха и подарил ему фигурку журавлика. Монах был растроган. Потом он сказал: «Складывай свои фигурки дальше. Главное — твоя вера в их важность. Даже если вокруг война, оставайся верен своему искусству, и оно отблагодарит тебя, сделав тебя богатым и известным».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Вскоре и правда как по пророчеству монаха началась война. Молодые ушли сражаться, но конца этому ужасу и видно не было. Только бедный мастер упрямо продолжал изводить бумагу на свои фигурки. Разозлившись, люди решили сжечь его мастерскую. Но когда они оказались в ней, они были поражены разнообразием и великолепием фигурок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5" descr="19"/>
          <p:cNvPicPr/>
          <p:nvPr/>
        </p:nvPicPr>
        <p:blipFill>
          <a:blip r:embed="rId1"/>
          <a:stretch/>
        </p:blipFill>
        <p:spPr>
          <a:xfrm>
            <a:off x="5568840" y="4094280"/>
            <a:ext cx="3575160" cy="2763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i15"/>
          <p:cNvPicPr/>
          <p:nvPr/>
        </p:nvPicPr>
        <p:blipFill>
          <a:blip r:embed="rId2"/>
          <a:stretch/>
        </p:blipFill>
        <p:spPr>
          <a:xfrm>
            <a:off x="95400" y="4127400"/>
            <a:ext cx="26715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244080"/>
            <a:ext cx="8748720" cy="354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Тогда мастер подарил каждому фигурку по душе и по вкусу. На глазах у гостей мастер свернул из листа журавлика, который тут же захлопал крыльями и улетел — он был вестником мира. Люди поверили в себя, вдохновились и вскоре победа была за ними.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Picture 5" descr="222"/>
          <p:cNvPicPr/>
          <p:nvPr/>
        </p:nvPicPr>
        <p:blipFill>
          <a:blip r:embed="rId1"/>
          <a:stretch/>
        </p:blipFill>
        <p:spPr>
          <a:xfrm>
            <a:off x="3348000" y="4149720"/>
            <a:ext cx="31114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15:27:26Z</dcterms:created>
  <dc:creator>Аннушка</dc:creator>
  <dc:description/>
  <dc:language>en-US</dc:language>
  <cp:lastModifiedBy>Irishka</cp:lastModifiedBy>
  <dcterms:modified xsi:type="dcterms:W3CDTF">2016-10-14T16:49:33Z</dcterms:modified>
  <cp:revision>6</cp:revision>
  <dc:subject/>
  <dc:title>Презентация на тему: «Оригами»  подготовил ученик 3 «Б» ГБОУ СОШ №916 Девянин Александр</dc:title>
</cp:coreProperties>
</file>