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7.gif" ContentType="image/gif"/>
  <Override PartName="/ppt/media/image10.jpeg" ContentType="image/jpeg"/>
  <Override PartName="/ppt/media/image6.gif" ContentType="image/gif"/>
  <Override PartName="/ppt/media/image5.gif" ContentType="image/gif"/>
  <Override PartName="/ppt/media/image8.png" ContentType="image/png"/>
  <Override PartName="/ppt/media/image1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22.gif" ContentType="image/gif"/>
  <Override PartName="/ppt/media/image2.png" ContentType="image/png"/>
  <Override PartName="/ppt/media/image9.jpeg" ContentType="image/jpe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25050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E44C-A569-40D5-88B2-5509E3AA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6F82-F066-4415-AFC6-44D496A0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A2C2-5B4F-444C-9A24-D5AC32DE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E77B-BE0F-458E-B9E5-FDEA3679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DF9B-4BE1-4A9D-8356-402AB5CA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2DCB-7335-4B08-9175-D96DA194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3C78-DB91-437E-AB4C-F73A12F4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6729-70FC-4B37-8D8F-955C626C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0201-F7E8-4379-92E5-C2575463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2728-810A-4F01-A49D-2C917022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BBC4-7631-4BC7-BB3D-83342C1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EF65-72FE-465F-9CE8-1BD8FE3E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91C1-41FA-4620-8AC9-83E5DDCA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405A-566D-45D4-B049-5E6D465E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B11E-F6EB-44D8-A657-BBAA116C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D0C2-FBA7-43FF-A91A-60AFF894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C012-4FED-442C-9216-40D9F5FB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7699-A41B-4DCE-A84E-6C9560C1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10BA-EC12-4A7B-8F6F-1001FE79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AB8E-5259-49A9-9FE5-E68C7A44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ACBE-154B-4BE8-832F-29A8DD8C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972F-6B74-422B-8C4B-8D7EB990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4FA3-8322-47B8-A65B-DE8811D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F6D0-8360-4F36-9CB8-1138D5CA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90D4-2D63-4D1D-9D22-BE68227F91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7949-8593-41FD-B372-1E4FEA29E6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9.jpe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2340000" y="981000"/>
            <a:ext cx="6105600" cy="20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Математика 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1 класс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489960" y="1258200"/>
            <a:ext cx="2518200" cy="3237480"/>
            <a:chOff x="489960" y="1258200"/>
            <a:chExt cx="2518200" cy="3237480"/>
          </a:xfrm>
        </p:grpSpPr>
        <p:sp>
          <p:nvSpPr>
            <p:cNvPr id="108" name="WordArt 6"/>
            <p:cNvSpPr txBox="1"/>
            <p:nvPr/>
          </p:nvSpPr>
          <p:spPr>
            <a:xfrm rot="20337000">
              <a:off x="755280" y="1413000"/>
              <a:ext cx="1081080" cy="118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2526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+</a:t>
              </a:r>
              <a:endPara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52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9" name="WordArt 7"/>
            <p:cNvSpPr txBox="1"/>
            <p:nvPr/>
          </p:nvSpPr>
          <p:spPr>
            <a:xfrm>
              <a:off x="539640" y="2781360"/>
              <a:ext cx="52416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</a:rPr>
                <a:t>&lt;</a:t>
              </a:r>
              <a:endParaRPr b="1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0" name="WordArt 8"/>
            <p:cNvSpPr txBox="1"/>
            <p:nvPr/>
          </p:nvSpPr>
          <p:spPr>
            <a:xfrm>
              <a:off x="2484360" y="2421000"/>
              <a:ext cx="52380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</a:rPr>
                <a:t>&gt;</a:t>
              </a:r>
              <a:endParaRPr b="1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1" name="WordArt 9"/>
            <p:cNvSpPr txBox="1"/>
            <p:nvPr/>
          </p:nvSpPr>
          <p:spPr>
            <a:xfrm rot="1043400">
              <a:off x="1258560" y="2781000"/>
              <a:ext cx="1150920" cy="103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2" name="WordArt 10"/>
            <p:cNvSpPr txBox="1"/>
            <p:nvPr/>
          </p:nvSpPr>
          <p:spPr>
            <a:xfrm rot="15243000">
              <a:off x="923760" y="3419280"/>
              <a:ext cx="520560" cy="12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06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-</a:t>
              </a:r>
              <a:endParaRPr b="1" lang="en-US" sz="7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13" name="WordArt 13"/>
          <p:cNvSpPr txBox="1"/>
          <p:nvPr/>
        </p:nvSpPr>
        <p:spPr>
          <a:xfrm>
            <a:off x="3348000" y="3860640"/>
            <a:ext cx="461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Состав чисел 3, 4,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14" name="Picture 14" descr="walking_4_hc"/>
          <p:cNvPicPr/>
          <p:nvPr/>
        </p:nvPicPr>
        <p:blipFill>
          <a:blip r:embed="rId9"/>
          <a:stretch/>
        </p:blipFill>
        <p:spPr>
          <a:xfrm>
            <a:off x="1042920" y="4581360"/>
            <a:ext cx="1260720" cy="176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walking_3_hc"/>
          <p:cNvPicPr/>
          <p:nvPr/>
        </p:nvPicPr>
        <p:blipFill>
          <a:blip r:embed="rId10"/>
          <a:stretch/>
        </p:blipFill>
        <p:spPr>
          <a:xfrm>
            <a:off x="7380360" y="2276640"/>
            <a:ext cx="1133280" cy="115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alking_5_hc"/>
          <p:cNvPicPr/>
          <p:nvPr/>
        </p:nvPicPr>
        <p:blipFill>
          <a:blip r:embed="rId11"/>
          <a:stretch/>
        </p:blipFill>
        <p:spPr>
          <a:xfrm>
            <a:off x="3203640" y="4941720"/>
            <a:ext cx="148428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109486505"/>
          <p:cNvPicPr/>
          <p:nvPr/>
        </p:nvPicPr>
        <p:blipFill>
          <a:blip r:embed="rId1"/>
          <a:stretch/>
        </p:blipFill>
        <p:spPr>
          <a:xfrm>
            <a:off x="971640" y="735120"/>
            <a:ext cx="734544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71"/>
          <p:cNvGrpSpPr/>
          <p:nvPr/>
        </p:nvGrpSpPr>
        <p:grpSpPr>
          <a:xfrm>
            <a:off x="1258920" y="1341360"/>
            <a:ext cx="1152360" cy="1224000"/>
            <a:chOff x="1258920" y="1341360"/>
            <a:chExt cx="1152360" cy="1224000"/>
          </a:xfrm>
        </p:grpSpPr>
        <p:grpSp>
          <p:nvGrpSpPr>
            <p:cNvPr id="318" name="Group 50"/>
            <p:cNvGrpSpPr/>
            <p:nvPr/>
          </p:nvGrpSpPr>
          <p:grpSpPr>
            <a:xfrm>
              <a:off x="1258920" y="1341360"/>
              <a:ext cx="1152000" cy="1224000"/>
              <a:chOff x="1258920" y="1341360"/>
              <a:chExt cx="1152000" cy="1224000"/>
            </a:xfrm>
          </p:grpSpPr>
          <p:sp>
            <p:nvSpPr>
              <p:cNvPr id="319" name="Rectangle 14"/>
              <p:cNvSpPr/>
              <p:nvPr/>
            </p:nvSpPr>
            <p:spPr>
              <a:xfrm>
                <a:off x="1618920" y="1341360"/>
                <a:ext cx="504720" cy="432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6"/>
              <p:cNvSpPr/>
              <p:nvPr/>
            </p:nvSpPr>
            <p:spPr>
              <a:xfrm>
                <a:off x="1906560" y="2133720"/>
                <a:ext cx="50436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 flipH="1">
                <a:off x="1618560" y="1773360"/>
                <a:ext cx="21564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1"/>
              <p:cNvSpPr/>
              <p:nvPr/>
            </p:nvSpPr>
            <p:spPr>
              <a:xfrm>
                <a:off x="1906560" y="1773360"/>
                <a:ext cx="14400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37"/>
              <p:cNvSpPr/>
              <p:nvPr/>
            </p:nvSpPr>
            <p:spPr>
              <a:xfrm>
                <a:off x="125892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9"/>
              <p:cNvSpPr/>
              <p:nvPr/>
            </p:nvSpPr>
            <p:spPr>
              <a:xfrm>
                <a:off x="1618920" y="1413000"/>
                <a:ext cx="43164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Text Box 57"/>
            <p:cNvSpPr/>
            <p:nvPr/>
          </p:nvSpPr>
          <p:spPr>
            <a:xfrm>
              <a:off x="1619280" y="1341360"/>
              <a:ext cx="504720" cy="398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8"/>
            <p:cNvSpPr/>
            <p:nvPr/>
          </p:nvSpPr>
          <p:spPr>
            <a:xfrm>
              <a:off x="1979640" y="21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72"/>
          <p:cNvGrpSpPr/>
          <p:nvPr/>
        </p:nvGrpSpPr>
        <p:grpSpPr>
          <a:xfrm>
            <a:off x="2916360" y="1341360"/>
            <a:ext cx="1296720" cy="1224000"/>
            <a:chOff x="2916360" y="1341360"/>
            <a:chExt cx="1296720" cy="1224000"/>
          </a:xfrm>
        </p:grpSpPr>
        <p:grpSp>
          <p:nvGrpSpPr>
            <p:cNvPr id="328" name="Group 51"/>
            <p:cNvGrpSpPr/>
            <p:nvPr/>
          </p:nvGrpSpPr>
          <p:grpSpPr>
            <a:xfrm>
              <a:off x="2916360" y="1341360"/>
              <a:ext cx="1296720" cy="1224000"/>
              <a:chOff x="2916360" y="1341360"/>
              <a:chExt cx="1296720" cy="1224000"/>
            </a:xfrm>
          </p:grpSpPr>
          <p:sp>
            <p:nvSpPr>
              <p:cNvPr id="329" name="Rectangle 16"/>
              <p:cNvSpPr/>
              <p:nvPr/>
            </p:nvSpPr>
            <p:spPr>
              <a:xfrm>
                <a:off x="291636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17"/>
              <p:cNvSpPr/>
              <p:nvPr/>
            </p:nvSpPr>
            <p:spPr>
              <a:xfrm>
                <a:off x="370836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21"/>
              <p:cNvSpPr/>
              <p:nvPr/>
            </p:nvSpPr>
            <p:spPr>
              <a:xfrm>
                <a:off x="3348000" y="1341360"/>
                <a:ext cx="504720" cy="43200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2"/>
              <p:cNvSpPr/>
              <p:nvPr/>
            </p:nvSpPr>
            <p:spPr>
              <a:xfrm flipH="1">
                <a:off x="3276720" y="1773360"/>
                <a:ext cx="28728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33"/>
              <p:cNvSpPr/>
              <p:nvPr/>
            </p:nvSpPr>
            <p:spPr>
              <a:xfrm>
                <a:off x="3635280" y="1773360"/>
                <a:ext cx="21600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59"/>
            <p:cNvSpPr/>
            <p:nvPr/>
          </p:nvSpPr>
          <p:spPr>
            <a:xfrm>
              <a:off x="3419640" y="1341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0"/>
            <p:cNvSpPr/>
            <p:nvPr/>
          </p:nvSpPr>
          <p:spPr>
            <a:xfrm>
              <a:off x="2987640" y="2133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73"/>
          <p:cNvGrpSpPr/>
          <p:nvPr/>
        </p:nvGrpSpPr>
        <p:grpSpPr>
          <a:xfrm>
            <a:off x="4788000" y="1341360"/>
            <a:ext cx="1225440" cy="1224000"/>
            <a:chOff x="4788000" y="1341360"/>
            <a:chExt cx="1225440" cy="1224000"/>
          </a:xfrm>
        </p:grpSpPr>
        <p:grpSp>
          <p:nvGrpSpPr>
            <p:cNvPr id="337" name="Group 52"/>
            <p:cNvGrpSpPr/>
            <p:nvPr/>
          </p:nvGrpSpPr>
          <p:grpSpPr>
            <a:xfrm>
              <a:off x="4788000" y="1341360"/>
              <a:ext cx="1225440" cy="1224000"/>
              <a:chOff x="4788000" y="1341360"/>
              <a:chExt cx="1225440" cy="1224000"/>
            </a:xfrm>
          </p:grpSpPr>
          <p:sp>
            <p:nvSpPr>
              <p:cNvPr id="338" name="Rectangle 18"/>
              <p:cNvSpPr/>
              <p:nvPr/>
            </p:nvSpPr>
            <p:spPr>
              <a:xfrm>
                <a:off x="478800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9"/>
              <p:cNvSpPr/>
              <p:nvPr/>
            </p:nvSpPr>
            <p:spPr>
              <a:xfrm>
                <a:off x="550872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22"/>
              <p:cNvSpPr/>
              <p:nvPr/>
            </p:nvSpPr>
            <p:spPr>
              <a:xfrm>
                <a:off x="5219640" y="1341360"/>
                <a:ext cx="504720" cy="43200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4"/>
              <p:cNvSpPr/>
              <p:nvPr/>
            </p:nvSpPr>
            <p:spPr>
              <a:xfrm flipH="1">
                <a:off x="5076360" y="1773360"/>
                <a:ext cx="36036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35"/>
              <p:cNvSpPr/>
              <p:nvPr/>
            </p:nvSpPr>
            <p:spPr>
              <a:xfrm>
                <a:off x="5508720" y="1773360"/>
                <a:ext cx="28728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61"/>
            <p:cNvSpPr/>
            <p:nvPr/>
          </p:nvSpPr>
          <p:spPr>
            <a:xfrm>
              <a:off x="5292720" y="1341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62"/>
            <p:cNvSpPr/>
            <p:nvPr/>
          </p:nvSpPr>
          <p:spPr>
            <a:xfrm>
              <a:off x="4788000" y="21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74"/>
          <p:cNvGrpSpPr/>
          <p:nvPr/>
        </p:nvGrpSpPr>
        <p:grpSpPr>
          <a:xfrm>
            <a:off x="6877080" y="1413000"/>
            <a:ext cx="1224000" cy="1152360"/>
            <a:chOff x="6877080" y="1413000"/>
            <a:chExt cx="1224000" cy="1152360"/>
          </a:xfrm>
        </p:grpSpPr>
        <p:grpSp>
          <p:nvGrpSpPr>
            <p:cNvPr id="346" name="Group 53"/>
            <p:cNvGrpSpPr/>
            <p:nvPr/>
          </p:nvGrpSpPr>
          <p:grpSpPr>
            <a:xfrm>
              <a:off x="6877080" y="1413000"/>
              <a:ext cx="1224000" cy="1152360"/>
              <a:chOff x="6877080" y="1413000"/>
              <a:chExt cx="1224000" cy="1152360"/>
            </a:xfrm>
          </p:grpSpPr>
          <p:sp>
            <p:nvSpPr>
              <p:cNvPr id="347" name="Rectangle 15"/>
              <p:cNvSpPr/>
              <p:nvPr/>
            </p:nvSpPr>
            <p:spPr>
              <a:xfrm>
                <a:off x="687708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20"/>
              <p:cNvSpPr/>
              <p:nvPr/>
            </p:nvSpPr>
            <p:spPr>
              <a:xfrm>
                <a:off x="7596360" y="213372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3"/>
              <p:cNvSpPr/>
              <p:nvPr/>
            </p:nvSpPr>
            <p:spPr>
              <a:xfrm>
                <a:off x="7236000" y="141300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41"/>
              <p:cNvSpPr/>
              <p:nvPr/>
            </p:nvSpPr>
            <p:spPr>
              <a:xfrm flipH="1">
                <a:off x="7235640" y="1844640"/>
                <a:ext cx="21564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42"/>
              <p:cNvSpPr/>
              <p:nvPr/>
            </p:nvSpPr>
            <p:spPr>
              <a:xfrm>
                <a:off x="7524720" y="1844640"/>
                <a:ext cx="21600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63"/>
            <p:cNvSpPr/>
            <p:nvPr/>
          </p:nvSpPr>
          <p:spPr>
            <a:xfrm>
              <a:off x="7308720" y="1413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4"/>
            <p:cNvSpPr/>
            <p:nvPr/>
          </p:nvSpPr>
          <p:spPr>
            <a:xfrm>
              <a:off x="6877080" y="2133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75"/>
          <p:cNvGrpSpPr/>
          <p:nvPr/>
        </p:nvGrpSpPr>
        <p:grpSpPr>
          <a:xfrm>
            <a:off x="1692360" y="3284640"/>
            <a:ext cx="1297080" cy="1224000"/>
            <a:chOff x="1692360" y="3284640"/>
            <a:chExt cx="1297080" cy="1224000"/>
          </a:xfrm>
        </p:grpSpPr>
        <p:grpSp>
          <p:nvGrpSpPr>
            <p:cNvPr id="355" name="Group 54"/>
            <p:cNvGrpSpPr/>
            <p:nvPr/>
          </p:nvGrpSpPr>
          <p:grpSpPr>
            <a:xfrm>
              <a:off x="1692360" y="3284640"/>
              <a:ext cx="1297080" cy="1224000"/>
              <a:chOff x="1692360" y="3284640"/>
              <a:chExt cx="1297080" cy="1224000"/>
            </a:xfrm>
          </p:grpSpPr>
          <p:sp>
            <p:nvSpPr>
              <p:cNvPr id="356" name="Rectangle 24"/>
              <p:cNvSpPr/>
              <p:nvPr/>
            </p:nvSpPr>
            <p:spPr>
              <a:xfrm>
                <a:off x="2195640" y="328464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7"/>
              <p:cNvSpPr/>
              <p:nvPr/>
            </p:nvSpPr>
            <p:spPr>
              <a:xfrm>
                <a:off x="1692360" y="4076640"/>
                <a:ext cx="504720" cy="43200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8"/>
              <p:cNvSpPr/>
              <p:nvPr/>
            </p:nvSpPr>
            <p:spPr>
              <a:xfrm>
                <a:off x="2484360" y="4076640"/>
                <a:ext cx="505080" cy="43200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43"/>
              <p:cNvSpPr/>
              <p:nvPr/>
            </p:nvSpPr>
            <p:spPr>
              <a:xfrm flipV="1">
                <a:off x="2050920" y="3715920"/>
                <a:ext cx="36036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44"/>
              <p:cNvSpPr/>
              <p:nvPr/>
            </p:nvSpPr>
            <p:spPr>
              <a:xfrm flipH="1" flipV="1">
                <a:off x="2410920" y="3715920"/>
                <a:ext cx="28908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65"/>
            <p:cNvSpPr/>
            <p:nvPr/>
          </p:nvSpPr>
          <p:spPr>
            <a:xfrm>
              <a:off x="2268360" y="328464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66"/>
            <p:cNvSpPr/>
            <p:nvPr/>
          </p:nvSpPr>
          <p:spPr>
            <a:xfrm>
              <a:off x="1763640" y="4076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76"/>
          <p:cNvGrpSpPr/>
          <p:nvPr/>
        </p:nvGrpSpPr>
        <p:grpSpPr>
          <a:xfrm>
            <a:off x="3851280" y="3284640"/>
            <a:ext cx="1297080" cy="1224000"/>
            <a:chOff x="3851280" y="3284640"/>
            <a:chExt cx="1297080" cy="1224000"/>
          </a:xfrm>
        </p:grpSpPr>
        <p:grpSp>
          <p:nvGrpSpPr>
            <p:cNvPr id="364" name="Group 55"/>
            <p:cNvGrpSpPr/>
            <p:nvPr/>
          </p:nvGrpSpPr>
          <p:grpSpPr>
            <a:xfrm>
              <a:off x="3851280" y="3284640"/>
              <a:ext cx="1297080" cy="1224000"/>
              <a:chOff x="3851280" y="3284640"/>
              <a:chExt cx="1297080" cy="1224000"/>
            </a:xfrm>
          </p:grpSpPr>
          <p:sp>
            <p:nvSpPr>
              <p:cNvPr id="365" name="Rectangle 29"/>
              <p:cNvSpPr/>
              <p:nvPr/>
            </p:nvSpPr>
            <p:spPr>
              <a:xfrm>
                <a:off x="4211640" y="328464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39"/>
              <p:cNvSpPr/>
              <p:nvPr/>
            </p:nvSpPr>
            <p:spPr>
              <a:xfrm>
                <a:off x="3851280" y="4076640"/>
                <a:ext cx="504720" cy="43200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40"/>
              <p:cNvSpPr/>
              <p:nvPr/>
            </p:nvSpPr>
            <p:spPr>
              <a:xfrm>
                <a:off x="4643280" y="4076640"/>
                <a:ext cx="505080" cy="43200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45"/>
              <p:cNvSpPr/>
              <p:nvPr/>
            </p:nvSpPr>
            <p:spPr>
              <a:xfrm flipV="1">
                <a:off x="4140360" y="3715920"/>
                <a:ext cx="28728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46"/>
              <p:cNvSpPr/>
              <p:nvPr/>
            </p:nvSpPr>
            <p:spPr>
              <a:xfrm flipH="1" flipV="1">
                <a:off x="4500720" y="3715920"/>
                <a:ext cx="28728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 Box 67"/>
            <p:cNvSpPr/>
            <p:nvPr/>
          </p:nvSpPr>
          <p:spPr>
            <a:xfrm>
              <a:off x="4284720" y="3284640"/>
              <a:ext cx="35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68"/>
            <p:cNvSpPr/>
            <p:nvPr/>
          </p:nvSpPr>
          <p:spPr>
            <a:xfrm>
              <a:off x="392436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77"/>
          <p:cNvGrpSpPr/>
          <p:nvPr/>
        </p:nvGrpSpPr>
        <p:grpSpPr>
          <a:xfrm>
            <a:off x="5796000" y="3284640"/>
            <a:ext cx="1225440" cy="1152360"/>
            <a:chOff x="5796000" y="3284640"/>
            <a:chExt cx="1225440" cy="1152360"/>
          </a:xfrm>
        </p:grpSpPr>
        <p:grpSp>
          <p:nvGrpSpPr>
            <p:cNvPr id="373" name="Group 56"/>
            <p:cNvGrpSpPr/>
            <p:nvPr/>
          </p:nvGrpSpPr>
          <p:grpSpPr>
            <a:xfrm>
              <a:off x="5796000" y="3284640"/>
              <a:ext cx="1225440" cy="1152360"/>
              <a:chOff x="5796000" y="3284640"/>
              <a:chExt cx="1225440" cy="1152360"/>
            </a:xfrm>
          </p:grpSpPr>
          <p:sp>
            <p:nvSpPr>
              <p:cNvPr id="374" name="Rectangle 25"/>
              <p:cNvSpPr/>
              <p:nvPr/>
            </p:nvSpPr>
            <p:spPr>
              <a:xfrm>
                <a:off x="6516720" y="400536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36"/>
              <p:cNvSpPr/>
              <p:nvPr/>
            </p:nvSpPr>
            <p:spPr>
              <a:xfrm>
                <a:off x="5796000" y="400536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38"/>
              <p:cNvSpPr/>
              <p:nvPr/>
            </p:nvSpPr>
            <p:spPr>
              <a:xfrm>
                <a:off x="6156360" y="3284640"/>
                <a:ext cx="504720" cy="43164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47"/>
              <p:cNvSpPr/>
              <p:nvPr/>
            </p:nvSpPr>
            <p:spPr>
              <a:xfrm flipV="1">
                <a:off x="6084720" y="3715920"/>
                <a:ext cx="28764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8"/>
              <p:cNvSpPr/>
              <p:nvPr/>
            </p:nvSpPr>
            <p:spPr>
              <a:xfrm flipH="1" flipV="1">
                <a:off x="6443280" y="3715920"/>
                <a:ext cx="28908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69"/>
            <p:cNvSpPr/>
            <p:nvPr/>
          </p:nvSpPr>
          <p:spPr>
            <a:xfrm>
              <a:off x="6227640" y="3284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0"/>
            <p:cNvSpPr/>
            <p:nvPr/>
          </p:nvSpPr>
          <p:spPr>
            <a:xfrm>
              <a:off x="6516720" y="400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19280" y="549360"/>
            <a:ext cx="75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Организационный моме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8-21"/>
          <p:cNvPicPr/>
          <p:nvPr/>
        </p:nvPicPr>
        <p:blipFill>
          <a:blip r:embed="rId1"/>
          <a:stretch/>
        </p:blipFill>
        <p:spPr>
          <a:xfrm>
            <a:off x="324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3276720" y="1268280"/>
            <a:ext cx="54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Monotype Corsiva"/>
              </a:rPr>
              <a:t>Долгожданный дан звонок – Начинается урок.                            Он пойдет ребятам впрок.                    Постарайтесь всё понять –         И внимательно с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3708360" y="4437000"/>
            <a:ext cx="50328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72360" y="5013360"/>
            <a:ext cx="4316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292720" y="5516640"/>
            <a:ext cx="5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292720" y="4437000"/>
            <a:ext cx="503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4427640" y="5013360"/>
            <a:ext cx="576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Georgia"/>
              <a:ea typeface="Georgia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7451640" y="4653000"/>
            <a:ext cx="50328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1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6804000" y="4076640"/>
            <a:ext cx="5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Georgia"/>
              <a:ea typeface="Georgia"/>
            </a:endParaRPr>
          </a:p>
        </p:txBody>
      </p:sp>
      <p:sp>
        <p:nvSpPr>
          <p:cNvPr id="127" name="WordArt 12"/>
          <p:cNvSpPr txBox="1"/>
          <p:nvPr/>
        </p:nvSpPr>
        <p:spPr>
          <a:xfrm>
            <a:off x="4572000" y="4005360"/>
            <a:ext cx="4316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8388360" y="5589720"/>
            <a:ext cx="503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5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9" name="WordArt 14"/>
          <p:cNvSpPr txBox="1"/>
          <p:nvPr/>
        </p:nvSpPr>
        <p:spPr>
          <a:xfrm>
            <a:off x="7308720" y="5734080"/>
            <a:ext cx="5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Минутка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чист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258920" y="2421000"/>
            <a:ext cx="1873080" cy="1512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95640" y="2421000"/>
            <a:ext cx="144000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7"/>
          <p:cNvGrpSpPr/>
          <p:nvPr/>
        </p:nvGrpSpPr>
        <p:grpSpPr>
          <a:xfrm>
            <a:off x="1619280" y="4653000"/>
            <a:ext cx="6479640" cy="1303200"/>
            <a:chOff x="1619280" y="4653000"/>
            <a:chExt cx="6479640" cy="1303200"/>
          </a:xfrm>
        </p:grpSpPr>
        <p:sp>
          <p:nvSpPr>
            <p:cNvPr id="134" name="Text Box 55"/>
            <p:cNvSpPr/>
            <p:nvPr/>
          </p:nvSpPr>
          <p:spPr>
            <a:xfrm>
              <a:off x="2771640" y="5589720"/>
              <a:ext cx="72036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7"/>
            <p:cNvSpPr/>
            <p:nvPr/>
          </p:nvSpPr>
          <p:spPr>
            <a:xfrm>
              <a:off x="1619280" y="4653000"/>
              <a:ext cx="129528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6"/>
            <p:cNvSpPr/>
            <p:nvPr/>
          </p:nvSpPr>
          <p:spPr>
            <a:xfrm>
              <a:off x="2914560" y="4653000"/>
              <a:ext cx="129492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8"/>
            <p:cNvSpPr/>
            <p:nvPr/>
          </p:nvSpPr>
          <p:spPr>
            <a:xfrm>
              <a:off x="6803640" y="4653000"/>
              <a:ext cx="129528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9"/>
            <p:cNvSpPr/>
            <p:nvPr/>
          </p:nvSpPr>
          <p:spPr>
            <a:xfrm>
              <a:off x="5506920" y="4653000"/>
              <a:ext cx="129492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0"/>
            <p:cNvSpPr/>
            <p:nvPr/>
          </p:nvSpPr>
          <p:spPr>
            <a:xfrm>
              <a:off x="4211280" y="4653000"/>
              <a:ext cx="1295280" cy="122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" name="AutoShape 118"/>
          <p:cNvCxnSpPr>
            <a:stCxn id="135" idx="0"/>
            <a:endCxn id="135" idx="0"/>
          </p:cNvCxnSpPr>
          <p:nvPr/>
        </p:nvCxnSpPr>
        <p:spPr>
          <a:xfrm>
            <a:off x="2266560" y="4624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" name="Line 121"/>
          <p:cNvSpPr/>
          <p:nvPr/>
        </p:nvSpPr>
        <p:spPr>
          <a:xfrm flipH="1">
            <a:off x="4787640" y="4653000"/>
            <a:ext cx="14436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2"/>
          <p:cNvSpPr/>
          <p:nvPr/>
        </p:nvSpPr>
        <p:spPr>
          <a:xfrm flipH="1">
            <a:off x="5148360" y="4653000"/>
            <a:ext cx="287280" cy="122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3"/>
          <p:cNvSpPr/>
          <p:nvPr/>
        </p:nvSpPr>
        <p:spPr>
          <a:xfrm>
            <a:off x="4788000" y="522936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40"/>
          <p:cNvSpPr/>
          <p:nvPr/>
        </p:nvSpPr>
        <p:spPr>
          <a:xfrm flipH="1" flipV="1" rot="6695400">
            <a:off x="2234520" y="5261760"/>
            <a:ext cx="701640" cy="492120"/>
          </a:xfrm>
          <a:custGeom>
            <a:avLst/>
            <a:gdLst>
              <a:gd name="textAreaLeft" fmla="*/ -360 w 701640"/>
              <a:gd name="textAreaRight" fmla="*/ 701640 w 701640"/>
              <a:gd name="textAreaTop" fmla="*/ -360 h 492120"/>
              <a:gd name="textAreaBottom" fmla="*/ 492120 h 492120"/>
            </a:gdLst>
            <a:ahLst/>
            <a:rect l="textAreaLeft" t="textAreaTop" r="textAreaRight" b="textAreaBottom"/>
            <a:pathLst>
              <a:path fill="none" w="42974" h="40136">
                <a:moveTo>
                  <a:pt x="42974" y="21651"/>
                </a:moveTo>
                <a:cubicBezTo>
                  <a:pt x="41427" y="32265"/>
                  <a:pt x="32326" y="40135"/>
                  <a:pt x="21600" y="40136"/>
                </a:cubicBezTo>
                <a:cubicBezTo>
                  <a:pt x="9670" y="40136"/>
                  <a:pt x="0" y="30465"/>
                  <a:pt x="0" y="18536"/>
                </a:cubicBezTo>
                <a:cubicBezTo>
                  <a:pt x="-1" y="10939"/>
                  <a:pt x="3990" y="3900"/>
                  <a:pt x="10510" y="0"/>
                </a:cubicBezTo>
              </a:path>
              <a:path stroke="0" w="42974" h="40136">
                <a:moveTo>
                  <a:pt x="42974" y="21651"/>
                </a:moveTo>
                <a:cubicBezTo>
                  <a:pt x="41427" y="32265"/>
                  <a:pt x="32326" y="40135"/>
                  <a:pt x="21600" y="40136"/>
                </a:cubicBezTo>
                <a:cubicBezTo>
                  <a:pt x="9670" y="40136"/>
                  <a:pt x="0" y="30465"/>
                  <a:pt x="0" y="18536"/>
                </a:cubicBezTo>
                <a:cubicBezTo>
                  <a:pt x="-1" y="10939"/>
                  <a:pt x="3990" y="3900"/>
                  <a:pt x="10510" y="0"/>
                </a:cubicBezTo>
                <a:lnTo>
                  <a:pt x="21600" y="18536"/>
                </a:lnTo>
                <a:lnTo>
                  <a:pt x="42974" y="2165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144"/>
          <p:cNvSpPr/>
          <p:nvPr/>
        </p:nvSpPr>
        <p:spPr>
          <a:xfrm flipH="1" flipV="1" rot="6513600">
            <a:off x="2372760" y="4690080"/>
            <a:ext cx="503280" cy="427320"/>
          </a:xfrm>
          <a:custGeom>
            <a:avLst/>
            <a:gdLst>
              <a:gd name="textAreaLeft" fmla="*/ 360 w 503280"/>
              <a:gd name="textAreaRight" fmla="*/ 504000 w 503280"/>
              <a:gd name="textAreaTop" fmla="*/ -360 h 427320"/>
              <a:gd name="textAreaBottom" fmla="*/ 427320 h 427320"/>
            </a:gdLst>
            <a:ahLst/>
            <a:rect l="textAreaLeft" t="textAreaTop" r="textAreaRight" b="textAreaBottom"/>
            <a:pathLst>
              <a:path fill="none" w="38682" h="43095">
                <a:moveTo>
                  <a:pt x="19205" y="-1"/>
                </a:moveTo>
                <a:cubicBezTo>
                  <a:pt x="30258" y="1091"/>
                  <a:pt x="38682" y="10387"/>
                  <a:pt x="38682" y="21495"/>
                </a:cubicBezTo>
                <a:cubicBezTo>
                  <a:pt x="38682" y="33424"/>
                  <a:pt x="29011" y="43095"/>
                  <a:pt x="17082" y="43095"/>
                </a:cubicBezTo>
                <a:cubicBezTo>
                  <a:pt x="10398" y="43095"/>
                  <a:pt x="4090" y="40000"/>
                  <a:pt x="0" y="34714"/>
                </a:cubicBezTo>
              </a:path>
              <a:path stroke="0" w="38682" h="43095">
                <a:moveTo>
                  <a:pt x="19205" y="-1"/>
                </a:moveTo>
                <a:cubicBezTo>
                  <a:pt x="30258" y="1091"/>
                  <a:pt x="38682" y="10387"/>
                  <a:pt x="38682" y="21495"/>
                </a:cubicBezTo>
                <a:cubicBezTo>
                  <a:pt x="38682" y="33424"/>
                  <a:pt x="29011" y="43095"/>
                  <a:pt x="17082" y="43095"/>
                </a:cubicBezTo>
                <a:cubicBezTo>
                  <a:pt x="10398" y="43095"/>
                  <a:pt x="4090" y="40000"/>
                  <a:pt x="0" y="34714"/>
                </a:cubicBezTo>
                <a:lnTo>
                  <a:pt x="17082" y="21495"/>
                </a:lnTo>
                <a:lnTo>
                  <a:pt x="19205" y="-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145"/>
          <p:cNvSpPr/>
          <p:nvPr/>
        </p:nvSpPr>
        <p:spPr>
          <a:xfrm flipH="1" flipV="1" rot="6695400">
            <a:off x="7439760" y="5250960"/>
            <a:ext cx="792360" cy="497160"/>
          </a:xfrm>
          <a:custGeom>
            <a:avLst/>
            <a:gdLst>
              <a:gd name="textAreaLeft" fmla="*/ -360 w 792360"/>
              <a:gd name="textAreaRight" fmla="*/ 792360 w 792360"/>
              <a:gd name="textAreaTop" fmla="*/ -360 h 497160"/>
              <a:gd name="textAreaBottom" fmla="*/ 497160 h 497160"/>
            </a:gdLst>
            <a:ahLst/>
            <a:rect l="textAreaLeft" t="textAreaTop" r="textAreaRight" b="textAreaBottom"/>
            <a:pathLst>
              <a:path fill="none" w="43200" h="40600">
                <a:moveTo>
                  <a:pt x="31874" y="-1"/>
                </a:moveTo>
                <a:cubicBezTo>
                  <a:pt x="38851" y="3773"/>
                  <a:pt x="43200" y="11067"/>
                  <a:pt x="43200" y="19000"/>
                </a:cubicBezTo>
                <a:cubicBezTo>
                  <a:pt x="43200" y="30929"/>
                  <a:pt x="33529" y="40600"/>
                  <a:pt x="21600" y="40600"/>
                </a:cubicBezTo>
                <a:cubicBezTo>
                  <a:pt x="9670" y="40600"/>
                  <a:pt x="0" y="30929"/>
                  <a:pt x="0" y="19000"/>
                </a:cubicBezTo>
                <a:cubicBezTo>
                  <a:pt x="-1" y="11818"/>
                  <a:pt x="3569" y="5106"/>
                  <a:pt x="9523" y="1091"/>
                </a:cubicBezTo>
              </a:path>
              <a:path stroke="0" w="43200" h="40600">
                <a:moveTo>
                  <a:pt x="31874" y="-1"/>
                </a:moveTo>
                <a:cubicBezTo>
                  <a:pt x="38851" y="3773"/>
                  <a:pt x="43200" y="11067"/>
                  <a:pt x="43200" y="19000"/>
                </a:cubicBezTo>
                <a:cubicBezTo>
                  <a:pt x="43200" y="30929"/>
                  <a:pt x="33529" y="40600"/>
                  <a:pt x="21600" y="40600"/>
                </a:cubicBezTo>
                <a:cubicBezTo>
                  <a:pt x="9670" y="40600"/>
                  <a:pt x="0" y="30929"/>
                  <a:pt x="0" y="19000"/>
                </a:cubicBezTo>
                <a:cubicBezTo>
                  <a:pt x="-1" y="11818"/>
                  <a:pt x="3569" y="5106"/>
                  <a:pt x="9523" y="1091"/>
                </a:cubicBezTo>
                <a:lnTo>
                  <a:pt x="21600" y="19000"/>
                </a:lnTo>
                <a:lnTo>
                  <a:pt x="31874" y="-1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6"/>
          <p:cNvSpPr/>
          <p:nvPr/>
        </p:nvSpPr>
        <p:spPr>
          <a:xfrm flipH="1">
            <a:off x="7667280" y="4653000"/>
            <a:ext cx="7308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147"/>
          <p:cNvSpPr/>
          <p:nvPr/>
        </p:nvSpPr>
        <p:spPr>
          <a:xfrm flipV="1">
            <a:off x="7740720" y="4507920"/>
            <a:ext cx="372960" cy="285480"/>
          </a:xfrm>
          <a:custGeom>
            <a:avLst/>
            <a:gdLst>
              <a:gd name="textAreaLeft" fmla="*/ 0 w 372960"/>
              <a:gd name="textAreaRight" fmla="*/ 373320 w 372960"/>
              <a:gd name="textAreaTop" fmla="*/ -360 h 285480"/>
              <a:gd name="textAreaBottom" fmla="*/ 285480 h 285480"/>
            </a:gdLst>
            <a:ahLst/>
            <a:rect l="textAreaLeft" t="textAreaTop" r="textAreaRight" b="textAreaBottom"/>
            <a:pathLst>
              <a:path fill="none" w="18534" h="21600">
                <a:moveTo>
                  <a:pt x="0" y="2715"/>
                </a:moveTo>
                <a:cubicBezTo>
                  <a:pt x="3207" y="934"/>
                  <a:pt x="6816" y="-1"/>
                  <a:pt x="10485" y="0"/>
                </a:cubicBezTo>
                <a:cubicBezTo>
                  <a:pt x="13242" y="0"/>
                  <a:pt x="15974" y="528"/>
                  <a:pt x="18534" y="1555"/>
                </a:cubicBezTo>
              </a:path>
              <a:path stroke="0" w="18534" h="21600">
                <a:moveTo>
                  <a:pt x="0" y="2715"/>
                </a:moveTo>
                <a:cubicBezTo>
                  <a:pt x="3207" y="934"/>
                  <a:pt x="6816" y="-1"/>
                  <a:pt x="10485" y="0"/>
                </a:cubicBezTo>
                <a:cubicBezTo>
                  <a:pt x="13242" y="0"/>
                  <a:pt x="15974" y="528"/>
                  <a:pt x="18534" y="1555"/>
                </a:cubicBezTo>
                <a:lnTo>
                  <a:pt x="10485" y="21600"/>
                </a:lnTo>
                <a:lnTo>
                  <a:pt x="0" y="2715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52"/>
          <p:cNvGrpSpPr/>
          <p:nvPr/>
        </p:nvGrpSpPr>
        <p:grpSpPr>
          <a:xfrm>
            <a:off x="6516720" y="1989000"/>
            <a:ext cx="1727280" cy="1871640"/>
            <a:chOff x="6516720" y="1989000"/>
            <a:chExt cx="1727280" cy="1871640"/>
          </a:xfrm>
        </p:grpSpPr>
        <p:sp>
          <p:nvSpPr>
            <p:cNvPr id="150" name="Rectangle 150"/>
            <p:cNvSpPr/>
            <p:nvPr/>
          </p:nvSpPr>
          <p:spPr>
            <a:xfrm>
              <a:off x="6516720" y="2637000"/>
              <a:ext cx="1727280" cy="122364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51"/>
            <p:cNvSpPr/>
            <p:nvPr/>
          </p:nvSpPr>
          <p:spPr>
            <a:xfrm>
              <a:off x="6516720" y="1989000"/>
              <a:ext cx="1727280" cy="64944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3132000" y="5300640"/>
            <a:ext cx="73080" cy="716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3132000" y="2781360"/>
            <a:ext cx="71640" cy="730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4356000" y="1844640"/>
            <a:ext cx="71640" cy="716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5580000" y="2924280"/>
            <a:ext cx="71640" cy="730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5580000" y="5229360"/>
            <a:ext cx="71640" cy="71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2340000" y="4869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557440" y="256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4140360" y="119700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796000" y="2637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5867280" y="49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 flipV="1">
            <a:off x="3132000" y="2852640"/>
            <a:ext cx="0" cy="244800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"/>
          <p:cNvSpPr/>
          <p:nvPr/>
        </p:nvSpPr>
        <p:spPr>
          <a:xfrm flipV="1">
            <a:off x="3132000" y="1844640"/>
            <a:ext cx="1295640" cy="100800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1"/>
          <p:cNvSpPr/>
          <p:nvPr/>
        </p:nvSpPr>
        <p:spPr>
          <a:xfrm>
            <a:off x="4427640" y="1916280"/>
            <a:ext cx="1216080" cy="102204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1022040"/>
              <a:gd name="textAreaBottom" fmla="*/ 1022400 h 1022040"/>
            </a:gdLst>
            <a:ahLst/>
            <a:rect l="textAreaLeft" t="textAreaTop" r="textAreaRight" b="textAreaBottom"/>
            <a:pathLst>
              <a:path w="766" h="644">
                <a:moveTo>
                  <a:pt x="0" y="0"/>
                </a:moveTo>
                <a:lnTo>
                  <a:pt x="481" y="407"/>
                </a:lnTo>
                <a:lnTo>
                  <a:pt x="766" y="644"/>
                </a:lnTo>
                <a:lnTo>
                  <a:pt x="0" y="0"/>
                </a:lnTo>
                <a:close/>
              </a:path>
            </a:pathLst>
          </a:custGeom>
          <a:noFill/>
          <a:ln w="763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>
            <a:off x="5651640" y="2924280"/>
            <a:ext cx="0" cy="237636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>
            <a:off x="3131640" y="5300640"/>
            <a:ext cx="251964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98 0.07657 L -0.23264 0.12029 C -0.21511 0.14295 -0.18733 0.14134 -0.1599 0.14134 C -0.1283 0.14134 -0.10296 0.12237 -0.0856 0.0997 L 5E-006 1.40874E-006 E">
                                      <p:cBhvr>
                                        <p:cTn id="34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3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712 0.04765 L 0.00712 0.2334 C 0.00712 0.31691 -0.06041 0.41962 -0.11493 0.41962 L -0.23663 0.41962 E">
                                      <p:cBhvr>
                                        <p:cTn id="35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72496E-006 L 0.03107 0.6248 E">
                                      <p:cBhvr>
                                        <p:cTn id="35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38 -0.00486 L -0.05538 0.20796 C -0.05538 0.30326 0.0375 0.42077 0.11372 0.42077 L 0.28281 0.42077 E">
                                      <p:cBhvr>
                                        <p:cTn id="354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16748E-006 L -1.11111E-006 0.04464 C -1.11111E-006 0.06477 0.10191 0.08975 0.1849 0.08975 L 0.36979 0.08975 E">
                                      <p:cBhvr>
                                        <p:cTn id="356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Monotype Corsiva"/>
              </a:rPr>
              <a:t>Догадайся, как нужно расставить числа в домике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 rot="10800000">
            <a:off x="684360" y="3141720"/>
            <a:ext cx="1584000" cy="914400"/>
          </a:xfrm>
          <a:custGeom>
            <a:avLst/>
            <a:gdLst>
              <a:gd name="textAreaLeft" fmla="*/ 329760 w 1584000"/>
              <a:gd name="textAreaRight" fmla="*/ 1254240 w 158400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2"/>
          <p:cNvGrpSpPr/>
          <p:nvPr/>
        </p:nvGrpSpPr>
        <p:grpSpPr>
          <a:xfrm>
            <a:off x="900000" y="4076640"/>
            <a:ext cx="1224000" cy="1513080"/>
            <a:chOff x="900000" y="4076640"/>
            <a:chExt cx="1224000" cy="1513080"/>
          </a:xfrm>
        </p:grpSpPr>
        <p:sp>
          <p:nvSpPr>
            <p:cNvPr id="171" name="Rectangle 4"/>
            <p:cNvSpPr/>
            <p:nvPr/>
          </p:nvSpPr>
          <p:spPr>
            <a:xfrm>
              <a:off x="900000" y="4076640"/>
              <a:ext cx="1224000" cy="1513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971640" y="429264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1619280" y="429264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6"/>
            <p:cNvSpPr/>
            <p:nvPr/>
          </p:nvSpPr>
          <p:spPr>
            <a:xfrm>
              <a:off x="971640" y="486900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1619280" y="4869000"/>
              <a:ext cx="431640" cy="43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AutoShape 10"/>
          <p:cNvSpPr/>
          <p:nvPr/>
        </p:nvSpPr>
        <p:spPr>
          <a:xfrm rot="10800000">
            <a:off x="2771280" y="1700280"/>
            <a:ext cx="1584360" cy="936720"/>
          </a:xfrm>
          <a:custGeom>
            <a:avLst/>
            <a:gdLst>
              <a:gd name="textAreaLeft" fmla="*/ 330120 w 1584360"/>
              <a:gd name="textAreaRight" fmla="*/ 1254240 w 158436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94"/>
          <p:cNvGrpSpPr/>
          <p:nvPr/>
        </p:nvGrpSpPr>
        <p:grpSpPr>
          <a:xfrm>
            <a:off x="4642920" y="3429000"/>
            <a:ext cx="1584360" cy="2087640"/>
            <a:chOff x="4642920" y="3429000"/>
            <a:chExt cx="1584360" cy="2087640"/>
          </a:xfrm>
        </p:grpSpPr>
        <p:grpSp>
          <p:nvGrpSpPr>
            <p:cNvPr id="178" name="Group 93"/>
            <p:cNvGrpSpPr/>
            <p:nvPr/>
          </p:nvGrpSpPr>
          <p:grpSpPr>
            <a:xfrm>
              <a:off x="4642920" y="3429000"/>
              <a:ext cx="1584360" cy="2087640"/>
              <a:chOff x="4642920" y="3429000"/>
              <a:chExt cx="1584360" cy="2087640"/>
            </a:xfrm>
          </p:grpSpPr>
          <p:sp>
            <p:nvSpPr>
              <p:cNvPr id="179" name="Rectangle 6"/>
              <p:cNvSpPr/>
              <p:nvPr/>
            </p:nvSpPr>
            <p:spPr>
              <a:xfrm>
                <a:off x="4859280" y="4365720"/>
                <a:ext cx="1224000" cy="1150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1"/>
              <p:cNvSpPr/>
              <p:nvPr/>
            </p:nvSpPr>
            <p:spPr>
              <a:xfrm rot="10800000">
                <a:off x="4642920" y="3429000"/>
                <a:ext cx="1584360" cy="914400"/>
              </a:xfrm>
              <a:custGeom>
                <a:avLst/>
                <a:gdLst>
                  <a:gd name="textAreaLeft" fmla="*/ 330120 w 1584360"/>
                  <a:gd name="textAreaRight" fmla="*/ 1254240 w 1584360"/>
                  <a:gd name="textAreaTop" fmla="*/ 190440 h 914400"/>
                  <a:gd name="textAreaBottom" fmla="*/ 72396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4"/>
              <p:cNvSpPr/>
              <p:nvPr/>
            </p:nvSpPr>
            <p:spPr>
              <a:xfrm>
                <a:off x="5508720" y="4724280"/>
                <a:ext cx="43164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5"/>
              <p:cNvSpPr/>
              <p:nvPr/>
            </p:nvSpPr>
            <p:spPr>
              <a:xfrm>
                <a:off x="4932360" y="4724280"/>
                <a:ext cx="43164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35"/>
              <p:cNvSpPr/>
              <p:nvPr/>
            </p:nvSpPr>
            <p:spPr>
              <a:xfrm>
                <a:off x="5219640" y="3716280"/>
                <a:ext cx="432000" cy="4320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48"/>
            <p:cNvSpPr/>
            <p:nvPr/>
          </p:nvSpPr>
          <p:spPr>
            <a:xfrm>
              <a:off x="5292720" y="371628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49"/>
            <p:cNvSpPr/>
            <p:nvPr/>
          </p:nvSpPr>
          <p:spPr>
            <a:xfrm>
              <a:off x="5005800" y="4797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89"/>
          <p:cNvGrpSpPr/>
          <p:nvPr/>
        </p:nvGrpSpPr>
        <p:grpSpPr>
          <a:xfrm>
            <a:off x="1042920" y="3429000"/>
            <a:ext cx="833400" cy="1806480"/>
            <a:chOff x="1042920" y="3429000"/>
            <a:chExt cx="833400" cy="1806480"/>
          </a:xfrm>
        </p:grpSpPr>
        <p:sp>
          <p:nvSpPr>
            <p:cNvPr id="187" name="Oval 33"/>
            <p:cNvSpPr/>
            <p:nvPr/>
          </p:nvSpPr>
          <p:spPr>
            <a:xfrm>
              <a:off x="1258920" y="3429000"/>
              <a:ext cx="431640" cy="4316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1"/>
            <p:cNvSpPr/>
            <p:nvPr/>
          </p:nvSpPr>
          <p:spPr>
            <a:xfrm>
              <a:off x="1258920" y="350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2"/>
            <p:cNvSpPr/>
            <p:nvPr/>
          </p:nvSpPr>
          <p:spPr>
            <a:xfrm>
              <a:off x="1042920" y="4365720"/>
              <a:ext cx="289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9"/>
            <p:cNvSpPr/>
            <p:nvPr/>
          </p:nvSpPr>
          <p:spPr>
            <a:xfrm>
              <a:off x="1692360" y="48690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90"/>
          <p:cNvGrpSpPr/>
          <p:nvPr/>
        </p:nvGrpSpPr>
        <p:grpSpPr>
          <a:xfrm>
            <a:off x="2987640" y="2060640"/>
            <a:ext cx="1224000" cy="3265560"/>
            <a:chOff x="2987640" y="2060640"/>
            <a:chExt cx="1224000" cy="3265560"/>
          </a:xfrm>
        </p:grpSpPr>
        <p:sp>
          <p:nvSpPr>
            <p:cNvPr id="192" name="Rectangle 5"/>
            <p:cNvSpPr/>
            <p:nvPr/>
          </p:nvSpPr>
          <p:spPr>
            <a:xfrm>
              <a:off x="2987640" y="2637000"/>
              <a:ext cx="1224000" cy="268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6"/>
            <p:cNvSpPr/>
            <p:nvPr/>
          </p:nvSpPr>
          <p:spPr>
            <a:xfrm>
              <a:off x="3635280" y="3500280"/>
              <a:ext cx="43200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7"/>
            <p:cNvSpPr/>
            <p:nvPr/>
          </p:nvSpPr>
          <p:spPr>
            <a:xfrm>
              <a:off x="3059280" y="3500280"/>
              <a:ext cx="43164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8"/>
            <p:cNvSpPr/>
            <p:nvPr/>
          </p:nvSpPr>
          <p:spPr>
            <a:xfrm>
              <a:off x="3635280" y="2852640"/>
              <a:ext cx="43200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9"/>
            <p:cNvSpPr/>
            <p:nvPr/>
          </p:nvSpPr>
          <p:spPr>
            <a:xfrm>
              <a:off x="3059280" y="2852640"/>
              <a:ext cx="43164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2"/>
            <p:cNvSpPr/>
            <p:nvPr/>
          </p:nvSpPr>
          <p:spPr>
            <a:xfrm>
              <a:off x="3635280" y="4076640"/>
              <a:ext cx="43200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059280" y="4076640"/>
              <a:ext cx="431640" cy="424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3348000" y="2060640"/>
              <a:ext cx="432000" cy="423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5"/>
            <p:cNvSpPr/>
            <p:nvPr/>
          </p:nvSpPr>
          <p:spPr>
            <a:xfrm>
              <a:off x="3134160" y="2852640"/>
              <a:ext cx="307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6"/>
            <p:cNvSpPr/>
            <p:nvPr/>
          </p:nvSpPr>
          <p:spPr>
            <a:xfrm>
              <a:off x="3689640" y="3521160"/>
              <a:ext cx="307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47"/>
            <p:cNvSpPr/>
            <p:nvPr/>
          </p:nvSpPr>
          <p:spPr>
            <a:xfrm>
              <a:off x="3134160" y="4076640"/>
              <a:ext cx="3070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5"/>
            <p:cNvSpPr/>
            <p:nvPr/>
          </p:nvSpPr>
          <p:spPr>
            <a:xfrm>
              <a:off x="3635280" y="4653000"/>
              <a:ext cx="432000" cy="423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6"/>
            <p:cNvSpPr/>
            <p:nvPr/>
          </p:nvSpPr>
          <p:spPr>
            <a:xfrm>
              <a:off x="3059280" y="4653000"/>
              <a:ext cx="431640" cy="423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58"/>
            <p:cNvSpPr/>
            <p:nvPr/>
          </p:nvSpPr>
          <p:spPr>
            <a:xfrm>
              <a:off x="3708360" y="4653000"/>
              <a:ext cx="35892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87"/>
            <p:cNvSpPr/>
            <p:nvPr/>
          </p:nvSpPr>
          <p:spPr>
            <a:xfrm>
              <a:off x="3419640" y="20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92"/>
          <p:cNvGrpSpPr/>
          <p:nvPr/>
        </p:nvGrpSpPr>
        <p:grpSpPr>
          <a:xfrm>
            <a:off x="6948000" y="1773360"/>
            <a:ext cx="1584360" cy="2808000"/>
            <a:chOff x="6948000" y="1773360"/>
            <a:chExt cx="1584360" cy="2808000"/>
          </a:xfrm>
        </p:grpSpPr>
        <p:grpSp>
          <p:nvGrpSpPr>
            <p:cNvPr id="208" name="Group 40"/>
            <p:cNvGrpSpPr/>
            <p:nvPr/>
          </p:nvGrpSpPr>
          <p:grpSpPr>
            <a:xfrm>
              <a:off x="6948000" y="1773360"/>
              <a:ext cx="1584360" cy="2808000"/>
              <a:chOff x="6948000" y="1773360"/>
              <a:chExt cx="1584360" cy="2808000"/>
            </a:xfrm>
          </p:grpSpPr>
          <p:sp>
            <p:nvSpPr>
              <p:cNvPr id="209" name="Rectangle 7"/>
              <p:cNvSpPr/>
              <p:nvPr/>
            </p:nvSpPr>
            <p:spPr>
              <a:xfrm>
                <a:off x="7093080" y="2708280"/>
                <a:ext cx="1224000" cy="18730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utoShape 12"/>
              <p:cNvSpPr/>
              <p:nvPr/>
            </p:nvSpPr>
            <p:spPr>
              <a:xfrm rot="10800000">
                <a:off x="6948000" y="1773360"/>
                <a:ext cx="1584360" cy="914400"/>
              </a:xfrm>
              <a:custGeom>
                <a:avLst/>
                <a:gdLst>
                  <a:gd name="textAreaLeft" fmla="*/ 330120 w 1584360"/>
                  <a:gd name="textAreaRight" fmla="*/ 1254240 w 1584360"/>
                  <a:gd name="textAreaTop" fmla="*/ 190440 h 914400"/>
                  <a:gd name="textAreaBottom" fmla="*/ 72396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>
                <a:off x="7740720" y="2781360"/>
                <a:ext cx="43164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>
                <a:off x="7164360" y="2781360"/>
                <a:ext cx="43200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28"/>
              <p:cNvSpPr/>
              <p:nvPr/>
            </p:nvSpPr>
            <p:spPr>
              <a:xfrm>
                <a:off x="7740720" y="3933720"/>
                <a:ext cx="43164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29"/>
              <p:cNvSpPr/>
              <p:nvPr/>
            </p:nvSpPr>
            <p:spPr>
              <a:xfrm>
                <a:off x="7164360" y="3933720"/>
                <a:ext cx="432000" cy="432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30"/>
              <p:cNvSpPr/>
              <p:nvPr/>
            </p:nvSpPr>
            <p:spPr>
              <a:xfrm>
                <a:off x="7740720" y="3357720"/>
                <a:ext cx="43164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31"/>
              <p:cNvSpPr/>
              <p:nvPr/>
            </p:nvSpPr>
            <p:spPr>
              <a:xfrm>
                <a:off x="7164360" y="3357720"/>
                <a:ext cx="432000" cy="43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36"/>
              <p:cNvSpPr/>
              <p:nvPr/>
            </p:nvSpPr>
            <p:spPr>
              <a:xfrm>
                <a:off x="7524720" y="2060640"/>
                <a:ext cx="432000" cy="431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52"/>
            <p:cNvSpPr/>
            <p:nvPr/>
          </p:nvSpPr>
          <p:spPr>
            <a:xfrm>
              <a:off x="7237800" y="27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53"/>
            <p:cNvSpPr/>
            <p:nvPr/>
          </p:nvSpPr>
          <p:spPr>
            <a:xfrm>
              <a:off x="7814160" y="335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54"/>
            <p:cNvSpPr/>
            <p:nvPr/>
          </p:nvSpPr>
          <p:spPr>
            <a:xfrm>
              <a:off x="7237800" y="393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88"/>
            <p:cNvSpPr/>
            <p:nvPr/>
          </p:nvSpPr>
          <p:spPr>
            <a:xfrm>
              <a:off x="7596360" y="2060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95"/>
          <p:cNvSpPr/>
          <p:nvPr/>
        </p:nvSpPr>
        <p:spPr>
          <a:xfrm>
            <a:off x="1763640" y="494172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6"/>
          <p:cNvSpPr/>
          <p:nvPr/>
        </p:nvSpPr>
        <p:spPr>
          <a:xfrm>
            <a:off x="169416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7"/>
          <p:cNvSpPr/>
          <p:nvPr/>
        </p:nvSpPr>
        <p:spPr>
          <a:xfrm>
            <a:off x="161928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8"/>
          <p:cNvSpPr/>
          <p:nvPr/>
        </p:nvSpPr>
        <p:spPr>
          <a:xfrm>
            <a:off x="3132000" y="465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9"/>
          <p:cNvSpPr/>
          <p:nvPr/>
        </p:nvSpPr>
        <p:spPr>
          <a:xfrm>
            <a:off x="370836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3132000" y="3500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1"/>
          <p:cNvSpPr/>
          <p:nvPr/>
        </p:nvSpPr>
        <p:spPr>
          <a:xfrm>
            <a:off x="3708360" y="28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2"/>
          <p:cNvSpPr/>
          <p:nvPr/>
        </p:nvSpPr>
        <p:spPr>
          <a:xfrm>
            <a:off x="5508720" y="47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3"/>
          <p:cNvSpPr/>
          <p:nvPr/>
        </p:nvSpPr>
        <p:spPr>
          <a:xfrm>
            <a:off x="781200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4"/>
          <p:cNvSpPr/>
          <p:nvPr/>
        </p:nvSpPr>
        <p:spPr>
          <a:xfrm>
            <a:off x="723600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5"/>
          <p:cNvSpPr/>
          <p:nvPr/>
        </p:nvSpPr>
        <p:spPr>
          <a:xfrm>
            <a:off x="7812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6" descr=""/>
          <p:cNvPicPr/>
          <p:nvPr/>
        </p:nvPicPr>
        <p:blipFill>
          <a:blip r:embed="rId9"/>
          <a:stretch/>
        </p:blipFill>
        <p:spPr>
          <a:xfrm>
            <a:off x="7093080" y="4581360"/>
            <a:ext cx="1301760" cy="1509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9" descr=""/>
          <p:cNvPicPr/>
          <p:nvPr/>
        </p:nvPicPr>
        <p:blipFill>
          <a:blip r:embed="rId10"/>
          <a:stretch/>
        </p:blipFill>
        <p:spPr>
          <a:xfrm>
            <a:off x="2771640" y="530064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2" descr=""/>
          <p:cNvPicPr/>
          <p:nvPr/>
        </p:nvPicPr>
        <p:blipFill>
          <a:blip r:embed="rId11"/>
          <a:stretch/>
        </p:blipFill>
        <p:spPr>
          <a:xfrm>
            <a:off x="4932360" y="2205000"/>
            <a:ext cx="1063800" cy="1152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3" descr=""/>
          <p:cNvPicPr/>
          <p:nvPr/>
        </p:nvPicPr>
        <p:blipFill>
          <a:blip r:embed="rId12"/>
          <a:stretch/>
        </p:blipFill>
        <p:spPr>
          <a:xfrm>
            <a:off x="900000" y="1700280"/>
            <a:ext cx="107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38" name="Picture 10" descr="1228584765_1"/>
          <p:cNvPicPr/>
          <p:nvPr/>
        </p:nvPicPr>
        <p:blipFill>
          <a:blip r:embed="rId1"/>
          <a:stretch/>
        </p:blipFill>
        <p:spPr>
          <a:xfrm>
            <a:off x="6227640" y="2421000"/>
            <a:ext cx="2543400" cy="3809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юб"/>
          <p:cNvPicPr/>
          <p:nvPr/>
        </p:nvPicPr>
        <p:blipFill>
          <a:blip r:embed="rId2"/>
          <a:stretch/>
        </p:blipFill>
        <p:spPr>
          <a:xfrm>
            <a:off x="3857760" y="285768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к"/>
          <p:cNvPicPr/>
          <p:nvPr/>
        </p:nvPicPr>
        <p:blipFill>
          <a:blip r:embed="rId3"/>
          <a:stretch/>
        </p:blipFill>
        <p:spPr>
          <a:xfrm>
            <a:off x="684360" y="1125360"/>
            <a:ext cx="2735280" cy="2159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" descr="к"/>
          <p:cNvPicPr/>
          <p:nvPr/>
        </p:nvPicPr>
        <p:blipFill>
          <a:blip r:embed="rId4"/>
          <a:stretch/>
        </p:blipFill>
        <p:spPr>
          <a:xfrm>
            <a:off x="684360" y="3716280"/>
            <a:ext cx="2735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d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2615400" y="204840"/>
            <a:ext cx="283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Физминут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1979640" y="836640"/>
            <a:ext cx="532908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На болоте две подруж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Две зелёные лягу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Утром рано умы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олотенцем растиралис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Ножками топа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учками хлоп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право, влево наклоня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И обратно возвраща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от здоровья в чём секр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сем друзьям физкульт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"/>
          <p:cNvPicPr/>
          <p:nvPr/>
        </p:nvPicPr>
        <p:blipFill>
          <a:blip r:embed="rId2"/>
          <a:stretch/>
        </p:blipFill>
        <p:spPr>
          <a:xfrm>
            <a:off x="7236000" y="4941720"/>
            <a:ext cx="165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Monotype Corsiva"/>
              </a:rPr>
              <a:t>Соедини выражение с числом, которому оно равно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+1           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1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3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+3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+2                   4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0" y="2746440"/>
            <a:ext cx="4038480" cy="3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1332000" y="206064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1332000" y="292428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8"/>
          <p:cNvSpPr/>
          <p:nvPr/>
        </p:nvSpPr>
        <p:spPr>
          <a:xfrm>
            <a:off x="1332000" y="3860640"/>
            <a:ext cx="28872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1332000" y="486900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1332000" y="5877000"/>
            <a:ext cx="28872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2627280" y="1989000"/>
            <a:ext cx="28908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2627280" y="2924280"/>
            <a:ext cx="289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3"/>
          <p:cNvSpPr/>
          <p:nvPr/>
        </p:nvSpPr>
        <p:spPr>
          <a:xfrm>
            <a:off x="2700360" y="3860640"/>
            <a:ext cx="289080" cy="289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4"/>
          <p:cNvSpPr/>
          <p:nvPr/>
        </p:nvSpPr>
        <p:spPr>
          <a:xfrm>
            <a:off x="2700360" y="4869000"/>
            <a:ext cx="289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5"/>
          <p:cNvSpPr/>
          <p:nvPr/>
        </p:nvSpPr>
        <p:spPr>
          <a:xfrm>
            <a:off x="2700360" y="5877000"/>
            <a:ext cx="289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1619280" y="2205000"/>
            <a:ext cx="1008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 flipV="1">
            <a:off x="1619280" y="227664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1619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0"/>
          <p:cNvSpPr/>
          <p:nvPr/>
        </p:nvSpPr>
        <p:spPr>
          <a:xfrm>
            <a:off x="1692360" y="501336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"/>
          <p:cNvSpPr/>
          <p:nvPr/>
        </p:nvSpPr>
        <p:spPr>
          <a:xfrm flipV="1">
            <a:off x="1619280" y="4149360"/>
            <a:ext cx="1081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7215120" y="270828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6372360" y="558972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5940360" y="1916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+1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6012000" y="2708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1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5867280" y="3645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+3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5796000" y="4508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+3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084720" y="551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+2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2" descr="ть"/>
          <p:cNvPicPr/>
          <p:nvPr/>
        </p:nvPicPr>
        <p:blipFill>
          <a:blip r:embed="rId1"/>
          <a:stretch/>
        </p:blipFill>
        <p:spPr>
          <a:xfrm>
            <a:off x="4140360" y="2637000"/>
            <a:ext cx="1663560" cy="23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3" descr="лд"/>
          <p:cNvPicPr/>
          <p:nvPr/>
        </p:nvPicPr>
        <p:blipFill>
          <a:blip r:embed="rId2"/>
          <a:stretch/>
        </p:blipFill>
        <p:spPr>
          <a:xfrm>
            <a:off x="4140360" y="2637000"/>
            <a:ext cx="1655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2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Monotype Corsiva"/>
              </a:rPr>
              <a:t>Дострой</a:t>
            </a:r>
            <a:r>
              <a:rPr b="0" i="1" lang="ru-RU" sz="45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500" spc="-1" strike="noStrike">
                <a:solidFill>
                  <a:srgbClr val="000000"/>
                </a:solidFill>
                <a:latin typeface="Monotype Corsiva"/>
              </a:rPr>
              <a:t>башенк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1116000" y="2852640"/>
            <a:ext cx="7056360" cy="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1116000" y="2708280"/>
            <a:ext cx="0" cy="28908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8172360" y="2708280"/>
            <a:ext cx="0" cy="28908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3708360" y="2492280"/>
            <a:ext cx="28728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708000" y="2276280"/>
            <a:ext cx="289080" cy="2458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1979640" y="2205000"/>
            <a:ext cx="28728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7020000" y="2205000"/>
            <a:ext cx="28728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5364000" y="2492280"/>
            <a:ext cx="28764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3708360" y="1989000"/>
            <a:ext cx="28728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1979640" y="2492280"/>
            <a:ext cx="28728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7020000" y="2492280"/>
            <a:ext cx="287280" cy="2890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1835280" y="2997360"/>
            <a:ext cx="57600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2268360" y="4005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1258920" y="4005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3564000" y="2997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5219640" y="2997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6948360" y="2997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3132000" y="4005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4067280" y="4005360"/>
            <a:ext cx="57600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4859280" y="4005360"/>
            <a:ext cx="576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5651640" y="4005360"/>
            <a:ext cx="57600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6588000" y="3933720"/>
            <a:ext cx="576360" cy="576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7380360" y="3933720"/>
            <a:ext cx="576360" cy="576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2"/>
          <p:cNvSpPr/>
          <p:nvPr/>
        </p:nvSpPr>
        <p:spPr>
          <a:xfrm flipH="1">
            <a:off x="1692360" y="3573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3"/>
          <p:cNvSpPr/>
          <p:nvPr/>
        </p:nvSpPr>
        <p:spPr>
          <a:xfrm>
            <a:off x="2268360" y="3573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4"/>
          <p:cNvSpPr/>
          <p:nvPr/>
        </p:nvSpPr>
        <p:spPr>
          <a:xfrm flipH="1">
            <a:off x="3419280" y="357336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5"/>
          <p:cNvSpPr/>
          <p:nvPr/>
        </p:nvSpPr>
        <p:spPr>
          <a:xfrm>
            <a:off x="3995640" y="3573360"/>
            <a:ext cx="21744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6"/>
          <p:cNvSpPr/>
          <p:nvPr/>
        </p:nvSpPr>
        <p:spPr>
          <a:xfrm flipH="1">
            <a:off x="5219640" y="357336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7"/>
          <p:cNvSpPr/>
          <p:nvPr/>
        </p:nvSpPr>
        <p:spPr>
          <a:xfrm>
            <a:off x="5651640" y="357336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8"/>
          <p:cNvSpPr/>
          <p:nvPr/>
        </p:nvSpPr>
        <p:spPr>
          <a:xfrm flipH="1">
            <a:off x="6877080" y="357336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7380360" y="3500280"/>
            <a:ext cx="216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2"/>
          <p:cNvSpPr/>
          <p:nvPr/>
        </p:nvSpPr>
        <p:spPr>
          <a:xfrm>
            <a:off x="1979640" y="1916280"/>
            <a:ext cx="28728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3"/>
          <p:cNvSpPr/>
          <p:nvPr/>
        </p:nvSpPr>
        <p:spPr>
          <a:xfrm>
            <a:off x="4211640" y="40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4"/>
          <p:cNvSpPr/>
          <p:nvPr/>
        </p:nvSpPr>
        <p:spPr>
          <a:xfrm>
            <a:off x="3708360" y="1700280"/>
            <a:ext cx="28728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5"/>
          <p:cNvSpPr/>
          <p:nvPr/>
        </p:nvSpPr>
        <p:spPr>
          <a:xfrm>
            <a:off x="3708360" y="1413000"/>
            <a:ext cx="28728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6"/>
          <p:cNvSpPr/>
          <p:nvPr/>
        </p:nvSpPr>
        <p:spPr>
          <a:xfrm>
            <a:off x="579600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7"/>
          <p:cNvSpPr/>
          <p:nvPr/>
        </p:nvSpPr>
        <p:spPr>
          <a:xfrm>
            <a:off x="5364000" y="2205000"/>
            <a:ext cx="28764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8"/>
          <p:cNvSpPr/>
          <p:nvPr/>
        </p:nvSpPr>
        <p:spPr>
          <a:xfrm>
            <a:off x="752472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9"/>
          <p:cNvSpPr/>
          <p:nvPr/>
        </p:nvSpPr>
        <p:spPr>
          <a:xfrm>
            <a:off x="7020000" y="1916280"/>
            <a:ext cx="28728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0"/>
          <p:cNvSpPr/>
          <p:nvPr/>
        </p:nvSpPr>
        <p:spPr>
          <a:xfrm>
            <a:off x="7020000" y="1628640"/>
            <a:ext cx="28728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7:43:22Z</dcterms:created>
  <dc:creator>Илья</dc:creator>
  <dc:description/>
  <dc:language>en-US</dc:language>
  <cp:lastModifiedBy>admin</cp:lastModifiedBy>
  <dcterms:modified xsi:type="dcterms:W3CDTF">2016-10-14T15:56:42Z</dcterms:modified>
  <cp:revision>24</cp:revision>
  <dc:subject/>
  <dc:title>Назови соседей </dc:title>
</cp:coreProperties>
</file>