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1.jpeg" ContentType="image/jpeg"/>
  <Override PartName="/ppt/media/image35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27.jpeg" ContentType="image/jpeg"/>
  <Override PartName="/ppt/media/image6.jpeg" ContentType="image/jpeg"/>
  <Override PartName="/ppt/media/image18.png" ContentType="image/png"/>
  <Override PartName="/ppt/media/image9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41.jpeg" ContentType="image/jpeg"/>
  <Override PartName="/ppt/media/image43.jpeg" ContentType="image/jpeg"/>
  <Override PartName="/ppt/media/image7.jpeg" ContentType="image/jpeg"/>
  <Override PartName="/ppt/media/image38.jpeg" ContentType="image/jpeg"/>
  <Override PartName="/ppt/media/image44.jpeg" ContentType="image/jpeg"/>
  <Override PartName="/ppt/media/image45.png" ContentType="image/png"/>
  <Override PartName="/ppt/media/image33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1.png" ContentType="image/png"/>
  <Override PartName="/ppt/media/image54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media/image55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EAB20-5C99-4E13-84B9-0C7A7BEAE9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94C7A-9EC0-47B1-8DFC-F1CC220432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3F16-25E2-4059-B5C0-2DFE5A80D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0CF7-BEF4-4692-89BA-995C0462E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A1C3-F542-4FA0-98F3-6447227FD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BA5E-9FB2-498B-93F9-65925B888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5239-9ECB-4A3B-B9E3-1361B7CA3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1E89-54F3-4C6A-9292-228B1B06F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D558-DFD8-444A-BB2D-99D3B0A2C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7BBE-B264-4F1D-B01E-C5DCE266F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F8D8-B552-4BA9-AC24-7B1DBDCFB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596C-FD06-483E-A8D5-3F122043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0106-A2B4-491B-96C5-53A5C187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ED29-C2A3-4FD6-A5BF-533E085E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B67FC-6C9B-4F6D-BB2E-A7829B29DD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image" Target="../media/image35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2.pn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image" Target="../media/image45.png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image" Target="../media/image4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2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2.pn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798984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Monotype Corsiva"/>
              </a:rPr>
              <a:t>Проект </a:t>
            </a:r>
            <a:br>
              <a:rPr sz="8000"/>
            </a:br>
            <a:r>
              <a:rPr b="1" lang="ru-RU" sz="8000" spc="-1" strike="noStrike">
                <a:solidFill>
                  <a:srgbClr val="000000"/>
                </a:solidFill>
                <a:latin typeface="Monotype Corsiva"/>
              </a:rPr>
              <a:t>«Рождение книги»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C:\Documents and Settings\Ирина Алексеевна\Мои документы\Мои рисунки\клипарт книга открытая с пером.png"/>
          <p:cNvPicPr/>
          <p:nvPr/>
        </p:nvPicPr>
        <p:blipFill>
          <a:blip r:embed="rId2"/>
          <a:stretch/>
        </p:blipFill>
        <p:spPr>
          <a:xfrm>
            <a:off x="7885080" y="5621400"/>
            <a:ext cx="1357200" cy="12366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http://trezvenie.org/bible_study/%D1%81%D0%BB%D0%B0%D0%B9%D0%B4%D1%8B/flora/%D0%BF%D0%B0%D0%BF%D0%B8%D1%80%D1%83%D1%81.jpg"/>
          <p:cNvPicPr/>
          <p:nvPr/>
        </p:nvPicPr>
        <p:blipFill>
          <a:blip r:embed="rId3"/>
          <a:stretch/>
        </p:blipFill>
        <p:spPr>
          <a:xfrm>
            <a:off x="5651640" y="333360"/>
            <a:ext cx="2916000" cy="3887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http://www.livingathome.de/pflanzen_gaertnern/zimmergarten/images/428/zypergras.jpg"/>
          <p:cNvPicPr/>
          <p:nvPr/>
        </p:nvPicPr>
        <p:blipFill>
          <a:blip r:embed="rId4"/>
          <a:stretch/>
        </p:blipFill>
        <p:spPr>
          <a:xfrm>
            <a:off x="468360" y="333360"/>
            <a:ext cx="4076640" cy="2857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i?id=6eb7fa50607fa8eafb792d02e0b60220&amp;n=33&amp;h=190&amp;w=262"/>
          <p:cNvPicPr/>
          <p:nvPr/>
        </p:nvPicPr>
        <p:blipFill>
          <a:blip r:embed="rId5"/>
          <a:stretch/>
        </p:blipFill>
        <p:spPr>
          <a:xfrm>
            <a:off x="468360" y="4005360"/>
            <a:ext cx="3143160" cy="1809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papyrus"/>
          <p:cNvPicPr/>
          <p:nvPr/>
        </p:nvPicPr>
        <p:blipFill>
          <a:blip r:embed="rId6"/>
          <a:stretch/>
        </p:blipFill>
        <p:spPr>
          <a:xfrm>
            <a:off x="3995640" y="4508640"/>
            <a:ext cx="3816360" cy="20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C:\Documents and Settings\Ирина Алексеевна\Мои документы\Мои рисунки\клипарт книга открытая с пером.png"/>
          <p:cNvPicPr/>
          <p:nvPr/>
        </p:nvPicPr>
        <p:blipFill>
          <a:blip r:embed="rId2"/>
          <a:stretch/>
        </p:blipFill>
        <p:spPr>
          <a:xfrm>
            <a:off x="7885080" y="5622840"/>
            <a:ext cx="1357200" cy="1236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http://img-fotki.yandex.ru/get/6201/122864833.16/0_9acd7_d1e45dec_XL"/>
          <p:cNvPicPr/>
          <p:nvPr/>
        </p:nvPicPr>
        <p:blipFill>
          <a:blip r:embed="rId3"/>
          <a:stretch/>
        </p:blipFill>
        <p:spPr>
          <a:xfrm>
            <a:off x="1835280" y="476280"/>
            <a:ext cx="5184720" cy="293688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7"/>
          <p:cNvSpPr/>
          <p:nvPr/>
        </p:nvSpPr>
        <p:spPr>
          <a:xfrm>
            <a:off x="539640" y="3397320"/>
            <a:ext cx="788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historia-starozytnego-rzymu-w-wybranych-biografiach"/>
          <p:cNvPicPr/>
          <p:nvPr/>
        </p:nvPicPr>
        <p:blipFill>
          <a:blip r:embed="rId4"/>
          <a:stretch/>
        </p:blipFill>
        <p:spPr>
          <a:xfrm>
            <a:off x="250920" y="3573360"/>
            <a:ext cx="3166920" cy="2845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ovid"/>
          <p:cNvPicPr/>
          <p:nvPr/>
        </p:nvPicPr>
        <p:blipFill>
          <a:blip r:embed="rId5"/>
          <a:stretch/>
        </p:blipFill>
        <p:spPr>
          <a:xfrm>
            <a:off x="250920" y="981000"/>
            <a:ext cx="1638360" cy="2105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586705_w_800"/>
          <p:cNvPicPr/>
          <p:nvPr/>
        </p:nvPicPr>
        <p:blipFill>
          <a:blip r:embed="rId6"/>
          <a:stretch/>
        </p:blipFill>
        <p:spPr>
          <a:xfrm>
            <a:off x="7164360" y="1413000"/>
            <a:ext cx="1809720" cy="1871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4" descr="li1"/>
          <p:cNvPicPr/>
          <p:nvPr/>
        </p:nvPicPr>
        <p:blipFill>
          <a:blip r:embed="rId7"/>
          <a:stretch/>
        </p:blipFill>
        <p:spPr>
          <a:xfrm>
            <a:off x="3708360" y="3573360"/>
            <a:ext cx="374508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C:\Documents and Settings\Ирина Алексеевна\Мои документы\Мои рисунки\клипарт книга открытая с пером.png"/>
          <p:cNvPicPr/>
          <p:nvPr/>
        </p:nvPicPr>
        <p:blipFill>
          <a:blip r:embed="rId2"/>
          <a:stretch/>
        </p:blipFill>
        <p:spPr>
          <a:xfrm>
            <a:off x="7799400" y="5592600"/>
            <a:ext cx="1357200" cy="123696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http://900igr.net/datai/istorija/Drevnerusskoe-gosudarstvo-IX-XII-vv/0005-005-Prosveschenie.jpg"/>
          <p:cNvPicPr/>
          <p:nvPr/>
        </p:nvPicPr>
        <p:blipFill>
          <a:blip r:embed="rId3"/>
          <a:stretch/>
        </p:blipFill>
        <p:spPr>
          <a:xfrm>
            <a:off x="4788000" y="333360"/>
            <a:ext cx="3465360" cy="2755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http://im7-tub-ru.yandex.net/i?id=333647442-64-72&amp;n=21"/>
          <p:cNvPicPr/>
          <p:nvPr/>
        </p:nvPicPr>
        <p:blipFill>
          <a:blip r:embed="rId4"/>
          <a:stretch/>
        </p:blipFill>
        <p:spPr>
          <a:xfrm>
            <a:off x="250920" y="333360"/>
            <a:ext cx="3384360" cy="2538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gramota"/>
          <p:cNvPicPr/>
          <p:nvPr/>
        </p:nvPicPr>
        <p:blipFill>
          <a:blip r:embed="rId5"/>
          <a:stretch/>
        </p:blipFill>
        <p:spPr>
          <a:xfrm>
            <a:off x="900000" y="3357720"/>
            <a:ext cx="6667560" cy="28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C:\Documents and Settings\Ирина Алексеевна\Мои документы\Мои рисунки\клипарт книга открытая с пером.png"/>
          <p:cNvPicPr/>
          <p:nvPr/>
        </p:nvPicPr>
        <p:blipFill>
          <a:blip r:embed="rId2"/>
          <a:stretch/>
        </p:blipFill>
        <p:spPr>
          <a:xfrm>
            <a:off x="7885080" y="5621400"/>
            <a:ext cx="1357200" cy="1236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http://infonositeli.narod.ru/images/image003.jpg"/>
          <p:cNvPicPr/>
          <p:nvPr/>
        </p:nvPicPr>
        <p:blipFill>
          <a:blip r:embed="rId3"/>
          <a:stretch/>
        </p:blipFill>
        <p:spPr>
          <a:xfrm>
            <a:off x="4284720" y="1700280"/>
            <a:ext cx="3889440" cy="417672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5"/>
          <p:cNvSpPr/>
          <p:nvPr/>
        </p:nvSpPr>
        <p:spPr>
          <a:xfrm>
            <a:off x="465120" y="5300640"/>
            <a:ext cx="457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http://im4-tub-ru.yandex.net/i?id=257453201-36-72&amp;n=21"/>
          <p:cNvPicPr/>
          <p:nvPr/>
        </p:nvPicPr>
        <p:blipFill>
          <a:blip r:embed="rId4"/>
          <a:stretch/>
        </p:blipFill>
        <p:spPr>
          <a:xfrm>
            <a:off x="755640" y="1700280"/>
            <a:ext cx="2449440" cy="35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C:\Documents and Settings\Ирина Алексеевна\Мои документы\Мои рисунки\клипарт книга открытая с пером.png"/>
          <p:cNvPicPr/>
          <p:nvPr/>
        </p:nvPicPr>
        <p:blipFill>
          <a:blip r:embed="rId2"/>
          <a:stretch/>
        </p:blipFill>
        <p:spPr>
          <a:xfrm>
            <a:off x="7956720" y="5562720"/>
            <a:ext cx="1357200" cy="123660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http://shgpi.edu.ru/biblioteka/forum/img/interesnoe_v_ceti/lok_museum_perepleta_book.jpg"/>
          <p:cNvPicPr/>
          <p:nvPr/>
        </p:nvPicPr>
        <p:blipFill>
          <a:blip r:embed="rId3"/>
          <a:stretch/>
        </p:blipFill>
        <p:spPr>
          <a:xfrm>
            <a:off x="468360" y="404640"/>
            <a:ext cx="2631960" cy="3311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http://ic.pics.livejournal.com/kryukov_a/15237437/178321/178321_640.jpg"/>
          <p:cNvPicPr/>
          <p:nvPr/>
        </p:nvPicPr>
        <p:blipFill>
          <a:blip r:embed="rId4"/>
          <a:stretch/>
        </p:blipFill>
        <p:spPr>
          <a:xfrm>
            <a:off x="3419640" y="404640"/>
            <a:ext cx="5040000" cy="3370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ixfg0ek6zb7lx7lhypzt"/>
          <p:cNvPicPr/>
          <p:nvPr/>
        </p:nvPicPr>
        <p:blipFill>
          <a:blip r:embed="rId5"/>
          <a:stretch/>
        </p:blipFill>
        <p:spPr>
          <a:xfrm>
            <a:off x="539640" y="3933720"/>
            <a:ext cx="4176720" cy="242892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8" descr="418863_html_36a594de"/>
          <p:cNvPicPr/>
          <p:nvPr/>
        </p:nvPicPr>
        <p:blipFill>
          <a:blip r:embed="rId6"/>
          <a:stretch/>
        </p:blipFill>
        <p:spPr>
          <a:xfrm>
            <a:off x="5003640" y="4076640"/>
            <a:ext cx="2737080" cy="23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C:\Documents and Settings\Ирина Алексеевна\Мои документы\Мои рисунки\клипарт книга открытая с пером.png"/>
          <p:cNvPicPr/>
          <p:nvPr/>
        </p:nvPicPr>
        <p:blipFill>
          <a:blip r:embed="rId2"/>
          <a:stretch/>
        </p:blipFill>
        <p:spPr>
          <a:xfrm>
            <a:off x="7885080" y="5621400"/>
            <a:ext cx="1357200" cy="1236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http://4.bp.blogspot.com/_I_oHjDieoAE/TIS8_k0bBYI/AAAAAAAAACY/FCusfoGHTB8/s1600/75.gif"/>
          <p:cNvPicPr/>
          <p:nvPr/>
        </p:nvPicPr>
        <p:blipFill>
          <a:blip r:embed="rId3"/>
          <a:stretch/>
        </p:blipFill>
        <p:spPr>
          <a:xfrm>
            <a:off x="395280" y="620640"/>
            <a:ext cx="3892680" cy="2160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http://www.badgood.info/photos/notes/1/36/35798/35798_1.jpg"/>
          <p:cNvPicPr/>
          <p:nvPr/>
        </p:nvPicPr>
        <p:blipFill>
          <a:blip r:embed="rId4"/>
          <a:stretch/>
        </p:blipFill>
        <p:spPr>
          <a:xfrm>
            <a:off x="4500720" y="404640"/>
            <a:ext cx="3968640" cy="2376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b1"/>
          <p:cNvPicPr/>
          <p:nvPr/>
        </p:nvPicPr>
        <p:blipFill>
          <a:blip r:embed="rId5"/>
          <a:stretch/>
        </p:blipFill>
        <p:spPr>
          <a:xfrm>
            <a:off x="324000" y="2852640"/>
            <a:ext cx="4248000" cy="3376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zaozji"/>
          <p:cNvPicPr/>
          <p:nvPr/>
        </p:nvPicPr>
        <p:blipFill>
          <a:blip r:embed="rId6"/>
          <a:stretch/>
        </p:blipFill>
        <p:spPr>
          <a:xfrm>
            <a:off x="4788000" y="2708280"/>
            <a:ext cx="333216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C:\Documents and Settings\Ирина Алексеевна\Мои документы\Мои рисунки\клипарт книга открытая с пером.png"/>
          <p:cNvPicPr/>
          <p:nvPr/>
        </p:nvPicPr>
        <p:blipFill>
          <a:blip r:embed="rId2"/>
          <a:stretch/>
        </p:blipFill>
        <p:spPr>
          <a:xfrm>
            <a:off x="7885080" y="5732640"/>
            <a:ext cx="1357200" cy="1236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img35"/>
          <p:cNvPicPr/>
          <p:nvPr/>
        </p:nvPicPr>
        <p:blipFill>
          <a:blip r:embed="rId3"/>
          <a:stretch/>
        </p:blipFill>
        <p:spPr>
          <a:xfrm>
            <a:off x="395280" y="47628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50920" y="4652640"/>
            <a:ext cx="381636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Х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.   Иоганн Гутенберг изобрел печатный станок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 тех пор книги в Европе стали печатать .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4" descr="C:\Documents and Settings\Ирина Алексеевна\Мои документы\Мои рисунки\клипарт книга открытая с пером.png"/>
          <p:cNvPicPr/>
          <p:nvPr/>
        </p:nvPicPr>
        <p:blipFill>
          <a:blip r:embed="rId2"/>
          <a:stretch/>
        </p:blipFill>
        <p:spPr>
          <a:xfrm>
            <a:off x="7524720" y="5157720"/>
            <a:ext cx="1357200" cy="12366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http://900igr.net/datai/geografija/Nemetskij-jazyk/0014-029-Prichina-6.-Innovatsii.png"/>
          <p:cNvPicPr/>
          <p:nvPr/>
        </p:nvPicPr>
        <p:blipFill>
          <a:blip r:embed="rId3"/>
          <a:stretch/>
        </p:blipFill>
        <p:spPr>
          <a:xfrm>
            <a:off x="4643280" y="404640"/>
            <a:ext cx="3984840" cy="4032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eea2c84ebaef479902dc6d7f52752d42"/>
          <p:cNvPicPr/>
          <p:nvPr/>
        </p:nvPicPr>
        <p:blipFill>
          <a:blip r:embed="rId4"/>
          <a:stretch/>
        </p:blipFill>
        <p:spPr>
          <a:xfrm>
            <a:off x="250920" y="3573360"/>
            <a:ext cx="3240000" cy="3078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37314-s-devisa-s-dlya-chaynikov"/>
          <p:cNvPicPr/>
          <p:nvPr/>
        </p:nvPicPr>
        <p:blipFill>
          <a:blip r:embed="rId5"/>
          <a:stretch/>
        </p:blipFill>
        <p:spPr>
          <a:xfrm>
            <a:off x="250920" y="692280"/>
            <a:ext cx="215244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C:\Documents and Settings\Ирина Алексеевна\Мои документы\Мои рисунки\клипарт книга открытая с пером.png"/>
          <p:cNvPicPr/>
          <p:nvPr/>
        </p:nvPicPr>
        <p:blipFill>
          <a:blip r:embed="rId2"/>
          <a:stretch/>
        </p:blipFill>
        <p:spPr>
          <a:xfrm>
            <a:off x="7786800" y="5649840"/>
            <a:ext cx="1357200" cy="1236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http://img1.liveinternet.ru/images/attach/c/7/96/183/96183489_1303064849_fedorov.jpg"/>
          <p:cNvPicPr/>
          <p:nvPr/>
        </p:nvPicPr>
        <p:blipFill>
          <a:blip r:embed="rId3"/>
          <a:stretch/>
        </p:blipFill>
        <p:spPr>
          <a:xfrm>
            <a:off x="4859280" y="620640"/>
            <a:ext cx="3819600" cy="5238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Ivan_Fyodorov_-_first_printer_of_Russia_Moscow"/>
          <p:cNvPicPr/>
          <p:nvPr/>
        </p:nvPicPr>
        <p:blipFill>
          <a:blip r:embed="rId4"/>
          <a:stretch/>
        </p:blipFill>
        <p:spPr>
          <a:xfrm>
            <a:off x="395280" y="404640"/>
            <a:ext cx="416088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74200" y="836640"/>
            <a:ext cx="810108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вые книги изготавливались из непрочного материала- глины, пергамента ,бересты, папирус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нигопечатание на Руси возникло в марте 1564 года, благодаря Ивану Федоров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аринные книги в моей  домашней библиотеке ,,,,,,,,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иск исчезновения книг с приходом инновационных технологи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C:\Documents and Settings\Ирина Алексеевна\Мои документы\Мои рисунки\клипарт книга открытая с пером.png"/>
          <p:cNvPicPr/>
          <p:nvPr/>
        </p:nvPicPr>
        <p:blipFill>
          <a:blip r:embed="rId1"/>
          <a:stretch/>
        </p:blipFill>
        <p:spPr>
          <a:xfrm>
            <a:off x="7786800" y="1125360"/>
            <a:ext cx="1357200" cy="123696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2"/>
          <p:cNvSpPr/>
          <p:nvPr/>
        </p:nvSpPr>
        <p:spPr>
          <a:xfrm>
            <a:off x="250920" y="189000"/>
            <a:ext cx="8642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egoe Script"/>
              </a:rPr>
              <a:t>Актуальность</a:t>
            </a:r>
            <a:r>
              <a:rPr b="0" lang="ru-RU" sz="1800" spc="-1" strike="noStrike">
                <a:solidFill>
                  <a:srgbClr val="000000"/>
                </a:solidFill>
                <a:latin typeface="Segoe Script"/>
              </a:rPr>
              <a:t>:  В век компьютеров и высоких технологий человек не может обойтись без чтения.  В последнее время, к сожалению, значительно снизилась потребность детей к чтению. Но даже  с появлением  гаджетов, позволяющих читать произведение в электронном виде, КНИГА все равно остается нашим неизменным путником. Мне стало интересно какие же были первые  кни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egoe Script"/>
              </a:rPr>
              <a:t>ЦЕЛЬ</a:t>
            </a:r>
            <a:r>
              <a:rPr b="0" lang="ru-RU" sz="1800" spc="-1" strike="noStrike">
                <a:solidFill>
                  <a:srgbClr val="000000"/>
                </a:solidFill>
                <a:latin typeface="Segoe Script"/>
              </a:rPr>
              <a:t>: узнать об истории кни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egoe Script"/>
              </a:rPr>
              <a:t>ЗАДАЧИ</a:t>
            </a:r>
            <a:r>
              <a:rPr b="0" lang="ru-RU" sz="1800" spc="-1" strike="noStrike">
                <a:solidFill>
                  <a:srgbClr val="000000"/>
                </a:solidFill>
                <a:latin typeface="Segoe Script"/>
              </a:rPr>
              <a:t>:    исследовать  какие были первые книги и как они изготавливалис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Script"/>
              </a:rPr>
              <a:t>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Segoe Script"/>
              </a:rPr>
              <a:t>познакомится с историей возникновения книгопечатания на Рус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Script"/>
              </a:rPr>
              <a:t>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Segoe Script"/>
              </a:rPr>
              <a:t>узнать  какие старинные книги есть в моей домашней библиотеке ,  познакомиться с историей их появл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Script"/>
              </a:rPr>
              <a:t>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Segoe Script"/>
              </a:rPr>
              <a:t>определить свое отношение к книга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amazon_gewinnt_ebookkrieg_gegen_eboo-high20121107055302"/>
          <p:cNvPicPr/>
          <p:nvPr/>
        </p:nvPicPr>
        <p:blipFill>
          <a:blip r:embed="rId2"/>
          <a:stretch/>
        </p:blipFill>
        <p:spPr>
          <a:xfrm>
            <a:off x="179280" y="4724280"/>
            <a:ext cx="4032360" cy="1944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4e34ea6f211fb4510eeea34c7f2fc95d"/>
          <p:cNvPicPr/>
          <p:nvPr/>
        </p:nvPicPr>
        <p:blipFill>
          <a:blip r:embed="rId3"/>
          <a:stretch/>
        </p:blipFill>
        <p:spPr>
          <a:xfrm>
            <a:off x="4427640" y="4941720"/>
            <a:ext cx="3095640" cy="1727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345"/>
          <p:cNvPicPr/>
          <p:nvPr/>
        </p:nvPicPr>
        <p:blipFill>
          <a:blip r:embed="rId4"/>
          <a:stretch/>
        </p:blipFill>
        <p:spPr>
          <a:xfrm>
            <a:off x="7667640" y="4221000"/>
            <a:ext cx="147636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7772400" cy="15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4360" y="5300280"/>
            <a:ext cx="64008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Книга – величайшее сокровище      человечества, кладезь мудрости, источник знаний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4" descr="C:\Documents and Settings\Ирина Алексеевна\Мои документы\Мои рисунки\клипарт книга открытая с пером.png"/>
          <p:cNvPicPr/>
          <p:nvPr/>
        </p:nvPicPr>
        <p:blipFill>
          <a:blip r:embed="rId2"/>
          <a:stretch/>
        </p:blipFill>
        <p:spPr>
          <a:xfrm>
            <a:off x="7524720" y="5373720"/>
            <a:ext cx="1357200" cy="12366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http://s018.radikal.ru/i520/1202/61/95d9861ea499.jpg"/>
          <p:cNvPicPr/>
          <p:nvPr/>
        </p:nvPicPr>
        <p:blipFill>
          <a:blip r:embed="rId3"/>
          <a:stretch/>
        </p:blipFill>
        <p:spPr>
          <a:xfrm>
            <a:off x="1258920" y="1413000"/>
            <a:ext cx="651816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C:\Documents and Settings\Ирина Алексеевна\Мои документы\Мои рисунки\клипарт книга открытая с пером.png"/>
          <p:cNvPicPr/>
          <p:nvPr/>
        </p:nvPicPr>
        <p:blipFill>
          <a:blip r:embed="rId2"/>
          <a:stretch/>
        </p:blipFill>
        <p:spPr>
          <a:xfrm>
            <a:off x="7786800" y="5621400"/>
            <a:ext cx="1357200" cy="12366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5"/>
          <p:cNvSpPr/>
          <p:nvPr/>
        </p:nvSpPr>
        <p:spPr>
          <a:xfrm>
            <a:off x="684360" y="907920"/>
            <a:ext cx="784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papirus"/>
          <p:cNvPicPr/>
          <p:nvPr/>
        </p:nvPicPr>
        <p:blipFill>
          <a:blip r:embed="rId3"/>
          <a:stretch/>
        </p:blipFill>
        <p:spPr>
          <a:xfrm>
            <a:off x="250920" y="476280"/>
            <a:ext cx="4392360" cy="2698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2"/>
          <p:cNvPicPr/>
          <p:nvPr/>
        </p:nvPicPr>
        <p:blipFill>
          <a:blip r:embed="rId4"/>
          <a:stretch/>
        </p:blipFill>
        <p:spPr>
          <a:xfrm>
            <a:off x="395280" y="3357720"/>
            <a:ext cx="4357800" cy="2960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3703816"/>
          <p:cNvPicPr/>
          <p:nvPr/>
        </p:nvPicPr>
        <p:blipFill>
          <a:blip r:embed="rId5"/>
          <a:stretch/>
        </p:blipFill>
        <p:spPr>
          <a:xfrm>
            <a:off x="5003640" y="476280"/>
            <a:ext cx="3240360" cy="2784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kc3b6ln-tora-und-innenansicht-synagoge-glockengasse-040"/>
          <p:cNvPicPr/>
          <p:nvPr/>
        </p:nvPicPr>
        <p:blipFill>
          <a:blip r:embed="rId6"/>
          <a:stretch/>
        </p:blipFill>
        <p:spPr>
          <a:xfrm>
            <a:off x="4859280" y="3357720"/>
            <a:ext cx="345600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C:\Documents and Settings\Ирина Алексеевна\Мои документы\Мои рисунки\клипарт книга открытая с пером.png"/>
          <p:cNvPicPr/>
          <p:nvPr/>
        </p:nvPicPr>
        <p:blipFill>
          <a:blip r:embed="rId2"/>
          <a:stretch/>
        </p:blipFill>
        <p:spPr>
          <a:xfrm>
            <a:off x="7596360" y="5621400"/>
            <a:ext cx="1357200" cy="1236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http://festival.1september.ru/articles/600638/img7.jpg"/>
          <p:cNvPicPr/>
          <p:nvPr/>
        </p:nvPicPr>
        <p:blipFill>
          <a:blip r:embed="rId3"/>
          <a:stretch/>
        </p:blipFill>
        <p:spPr>
          <a:xfrm>
            <a:off x="4500720" y="765000"/>
            <a:ext cx="4341600" cy="5064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pismennost_na_kamne"/>
          <p:cNvPicPr/>
          <p:nvPr/>
        </p:nvPicPr>
        <p:blipFill>
          <a:blip r:embed="rId4"/>
          <a:stretch/>
        </p:blipFill>
        <p:spPr>
          <a:xfrm>
            <a:off x="684360" y="549360"/>
            <a:ext cx="3527280" cy="2349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63547_html_2ac98ea4"/>
          <p:cNvPicPr/>
          <p:nvPr/>
        </p:nvPicPr>
        <p:blipFill>
          <a:blip r:embed="rId5"/>
          <a:stretch/>
        </p:blipFill>
        <p:spPr>
          <a:xfrm>
            <a:off x="755640" y="3141720"/>
            <a:ext cx="295596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C:\Documents and Settings\Ирина Алексеевна\Мои документы\Мои рисунки\клипарт книга открытая с пером.png"/>
          <p:cNvPicPr/>
          <p:nvPr/>
        </p:nvPicPr>
        <p:blipFill>
          <a:blip r:embed="rId2"/>
          <a:stretch/>
        </p:blipFill>
        <p:spPr>
          <a:xfrm>
            <a:off x="8101080" y="5773680"/>
            <a:ext cx="1197000" cy="1090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http://www.bestreferat.ru/images/paper/83/52/6365283.jpeg"/>
          <p:cNvPicPr/>
          <p:nvPr/>
        </p:nvPicPr>
        <p:blipFill>
          <a:blip r:embed="rId3"/>
          <a:stretch/>
        </p:blipFill>
        <p:spPr>
          <a:xfrm>
            <a:off x="3824280" y="1143000"/>
            <a:ext cx="5019840" cy="4962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img3"/>
          <p:cNvPicPr/>
          <p:nvPr/>
        </p:nvPicPr>
        <p:blipFill>
          <a:blip r:embed="rId4"/>
          <a:stretch/>
        </p:blipFill>
        <p:spPr>
          <a:xfrm>
            <a:off x="468360" y="620640"/>
            <a:ext cx="3203640" cy="3024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beer"/>
          <p:cNvPicPr/>
          <p:nvPr/>
        </p:nvPicPr>
        <p:blipFill>
          <a:blip r:embed="rId5"/>
          <a:stretch/>
        </p:blipFill>
        <p:spPr>
          <a:xfrm>
            <a:off x="395280" y="3860640"/>
            <a:ext cx="331308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C:\Documents and Settings\Ирина Алексеевна\Мои документы\Мои рисунки\клипарт книга открытая с пером.png"/>
          <p:cNvPicPr/>
          <p:nvPr/>
        </p:nvPicPr>
        <p:blipFill>
          <a:blip r:embed="rId2"/>
          <a:stretch/>
        </p:blipFill>
        <p:spPr>
          <a:xfrm>
            <a:off x="7981920" y="5775480"/>
            <a:ext cx="1197000" cy="1090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http://festival.1september.ru/articles/600638/img8.jpg"/>
          <p:cNvPicPr/>
          <p:nvPr/>
        </p:nvPicPr>
        <p:blipFill>
          <a:blip r:embed="rId3"/>
          <a:stretch/>
        </p:blipFill>
        <p:spPr>
          <a:xfrm>
            <a:off x="6877080" y="3789360"/>
            <a:ext cx="1938240" cy="205416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3"/>
          <p:cNvSpPr/>
          <p:nvPr/>
        </p:nvSpPr>
        <p:spPr>
          <a:xfrm>
            <a:off x="395280" y="301680"/>
            <a:ext cx="4176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____20150307_1732093736"/>
          <p:cNvPicPr/>
          <p:nvPr/>
        </p:nvPicPr>
        <p:blipFill>
          <a:blip r:embed="rId4"/>
          <a:stretch/>
        </p:blipFill>
        <p:spPr>
          <a:xfrm>
            <a:off x="468360" y="3645000"/>
            <a:ext cx="6335640" cy="28810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img8"/>
          <p:cNvPicPr/>
          <p:nvPr/>
        </p:nvPicPr>
        <p:blipFill>
          <a:blip r:embed="rId5"/>
          <a:stretch/>
        </p:blipFill>
        <p:spPr>
          <a:xfrm>
            <a:off x="0" y="92160"/>
            <a:ext cx="896472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C:\Documents and Settings\Ирина Алексеевна\Мои документы\Мои рисунки\клипарт книга открытая с пером.png"/>
          <p:cNvPicPr/>
          <p:nvPr/>
        </p:nvPicPr>
        <p:blipFill>
          <a:blip r:embed="rId2"/>
          <a:stretch/>
        </p:blipFill>
        <p:spPr>
          <a:xfrm>
            <a:off x="7956720" y="5516640"/>
            <a:ext cx="1357200" cy="1236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http://scilib.narod.ru/Technics/Ilyin1/images/280_1.png"/>
          <p:cNvPicPr/>
          <p:nvPr/>
        </p:nvPicPr>
        <p:blipFill>
          <a:blip r:embed="rId3"/>
          <a:stretch/>
        </p:blipFill>
        <p:spPr>
          <a:xfrm>
            <a:off x="468360" y="907920"/>
            <a:ext cx="3240000" cy="4753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img4"/>
          <p:cNvPicPr/>
          <p:nvPr/>
        </p:nvPicPr>
        <p:blipFill>
          <a:blip r:embed="rId4"/>
          <a:stretch/>
        </p:blipFill>
        <p:spPr>
          <a:xfrm>
            <a:off x="3708360" y="907920"/>
            <a:ext cx="5257800" cy="48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C:\Documents and Settings\Ирина Алексеевна\Мои документы\Мои рисунки\клипарт книга открытая с пером.png"/>
          <p:cNvPicPr/>
          <p:nvPr/>
        </p:nvPicPr>
        <p:blipFill>
          <a:blip r:embed="rId2"/>
          <a:stretch/>
        </p:blipFill>
        <p:spPr>
          <a:xfrm>
            <a:off x="7885080" y="5516640"/>
            <a:ext cx="1357200" cy="1236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http://900igr.net/datai/literatura/Istorija-knigi/0018-019-Knigi-iz-voska.jpg"/>
          <p:cNvPicPr/>
          <p:nvPr/>
        </p:nvPicPr>
        <p:blipFill>
          <a:blip r:embed="rId3"/>
          <a:stretch/>
        </p:blipFill>
        <p:spPr>
          <a:xfrm>
            <a:off x="1547640" y="1125360"/>
            <a:ext cx="5977080" cy="44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C:\Documents and Settings\Ирина Алексеевна\Мои документы\Мои рисунки\клипарт книга открытая с пером.png"/>
          <p:cNvPicPr/>
          <p:nvPr/>
        </p:nvPicPr>
        <p:blipFill>
          <a:blip r:embed="rId2"/>
          <a:stretch/>
        </p:blipFill>
        <p:spPr>
          <a:xfrm>
            <a:off x="7885080" y="5560920"/>
            <a:ext cx="1357200" cy="1236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http://fortee.ru/wp-content/uploads/2013/06/saepe-stilum-vertas-580x435.jpg"/>
          <p:cNvPicPr/>
          <p:nvPr/>
        </p:nvPicPr>
        <p:blipFill>
          <a:blip r:embed="rId3"/>
          <a:stretch/>
        </p:blipFill>
        <p:spPr>
          <a:xfrm>
            <a:off x="1763640" y="1413000"/>
            <a:ext cx="552456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6T08:23:22Z</dcterms:created>
  <dc:creator>Ирина Алексеевна</dc:creator>
  <dc:description/>
  <dc:language>en-US</dc:language>
  <cp:lastModifiedBy>Ан</cp:lastModifiedBy>
  <dcterms:modified xsi:type="dcterms:W3CDTF">2016-10-14T11:13:37Z</dcterms:modified>
  <cp:revision>28</cp:revision>
  <dc:subject/>
  <dc:title>Слайд 1</dc:title>
</cp:coreProperties>
</file>