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1.png" ContentType="image/png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9.jpeg" ContentType="image/jpeg"/>
  <Override PartName="/ppt/media/image32.gif" ContentType="image/gif"/>
  <Override PartName="/ppt/media/image15.gif" ContentType="image/gif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575-AA40-4B94-ACE0-774331FA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751-686D-4B03-847C-5F5C2B1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9E6-5D61-488E-BDE6-7EC09BCD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440-ED63-45B2-996C-AB8979D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5342-DE79-4BAD-9CC4-9184635F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9460-34B8-4A6F-9CFB-F3A41130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409B-515F-4A37-8A3A-C887777A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43B1-3AE9-42D1-AD17-DB82EFF9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FB12-78C0-4ABA-8122-8AE90D1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9CBE-56C0-48BF-8794-ED94E7B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6C7F-4372-4809-ADEC-76DB218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F47-4738-4D2D-A637-693B480B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89D-69BE-4650-BF56-1AD9F4A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B42-04F8-43CE-809A-095244F7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51F4-34EE-4762-9CD8-E7491F6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0CC-2795-475B-8157-FDE7DA68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FF65-6C44-4C4E-BDE3-0C9F6A36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C2566-3F66-42BF-9FD5-C579ABD321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BCAD5-50CA-4460-B216-748E705A5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03CAC-941D-4B96-ACBB-B804FF2CA7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4D1F1-07E1-44B0-B2B8-21850AE012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FC6B4-060D-482F-B0F0-0AF159D7D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AE0-2BDE-4313-A2DE-D8CBE01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D43AA-45C9-45AB-9649-3B83F79125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C5107-8903-4672-B349-ECE9B36AFB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F5DAD-B0D2-4B47-91D6-BFE2E2DE2E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FD709-5D0B-47FB-B74D-DB5F33074F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9C2D3-5CDB-47C9-9DBC-23EAD7B259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8414B-1946-405D-BB3A-A77FE6E314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0F45D-90D3-4870-A5F4-A71D62A2E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7CA-74DE-48BD-B1DE-2F6F6C4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1F7-5973-4F01-87DF-25F1C89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37B-2C1E-47DA-BD01-BC9E325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AD5-FF8C-4902-A784-4E292B7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C29-3B80-44E4-BE81-71C8914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109-FE4E-4E10-8C9D-B9974B8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5C5-E796-4598-B403-749C85F3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15D-D49E-450A-8B8B-EA569BF4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062-E644-45D0-8952-900F96FC7BEE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pravmir.ru/wp-content/uploads/2010/07/m231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10/07/v1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404640"/>
            <a:ext cx="822960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cc00"/>
                </a:solidFill>
                <a:latin typeface="Arial"/>
              </a:rPr>
              <a:t>Крещение Рус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стиков Васил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9 «А» к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о. Колом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Крещение Руси"/>
          <p:cNvPicPr/>
          <p:nvPr/>
        </p:nvPicPr>
        <p:blipFill>
          <a:blip r:embed="rId1"/>
          <a:stretch/>
        </p:blipFill>
        <p:spPr>
          <a:xfrm>
            <a:off x="900000" y="1916280"/>
            <a:ext cx="3438720" cy="449568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зычество тормозило развитие ремесла, торгов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зыческие обря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 способствова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ъединению племё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креплению власти княз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аключению международны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енных и династических союз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1116000" y="620640"/>
            <a:ext cx="7632720" cy="4032360"/>
            <a:chOff x="1116000" y="620640"/>
            <a:chExt cx="7632720" cy="4032360"/>
          </a:xfrm>
        </p:grpSpPr>
        <p:sp>
          <p:nvSpPr>
            <p:cNvPr id="266" name="WordArt 4"/>
            <p:cNvSpPr txBox="1"/>
            <p:nvPr/>
          </p:nvSpPr>
          <p:spPr>
            <a:xfrm>
              <a:off x="1116000" y="620640"/>
              <a:ext cx="7056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ffff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Причины поиска новой веры:</a:t>
              </a:r>
              <a:endParaRPr b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267" name="Picture 6" descr="book37"/>
            <p:cNvPicPr/>
            <p:nvPr/>
          </p:nvPicPr>
          <p:blipFill>
            <a:blip r:embed="rId7"/>
            <a:stretch/>
          </p:blipFill>
          <p:spPr>
            <a:xfrm>
              <a:off x="6877080" y="3076560"/>
              <a:ext cx="1871640" cy="157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3"/>
          <p:cNvSpPr/>
          <p:nvPr/>
        </p:nvSpPr>
        <p:spPr>
          <a:xfrm>
            <a:off x="4238640" y="42242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27"/>
          <p:cNvGrpSpPr/>
          <p:nvPr/>
        </p:nvGrpSpPr>
        <p:grpSpPr>
          <a:xfrm>
            <a:off x="0" y="907920"/>
            <a:ext cx="4427640" cy="5113440"/>
            <a:chOff x="0" y="907920"/>
            <a:chExt cx="4427640" cy="5113440"/>
          </a:xfrm>
        </p:grpSpPr>
        <p:sp>
          <p:nvSpPr>
            <p:cNvPr id="270" name="AutoShape 14"/>
            <p:cNvSpPr/>
            <p:nvPr/>
          </p:nvSpPr>
          <p:spPr>
            <a:xfrm>
              <a:off x="0" y="907920"/>
              <a:ext cx="4427640" cy="51134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>
              <a:off x="826920" y="1844640"/>
              <a:ext cx="2665440" cy="26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Соседи 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Киевской Руси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исповедовали веру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в единого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Бога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grpSp>
        <p:nvGrpSpPr>
          <p:cNvPr id="272" name="Group 29"/>
          <p:cNvGrpSpPr/>
          <p:nvPr/>
        </p:nvGrpSpPr>
        <p:grpSpPr>
          <a:xfrm>
            <a:off x="5796000" y="2276640"/>
            <a:ext cx="2952720" cy="2088720"/>
            <a:chOff x="5796000" y="2276640"/>
            <a:chExt cx="2952720" cy="2088720"/>
          </a:xfrm>
        </p:grpSpPr>
        <p:sp>
          <p:nvSpPr>
            <p:cNvPr id="273" name="AutoShape 16"/>
            <p:cNvSpPr/>
            <p:nvPr/>
          </p:nvSpPr>
          <p:spPr>
            <a:xfrm>
              <a:off x="5796000" y="2276640"/>
              <a:ext cx="2952720" cy="2088720"/>
            </a:xfrm>
            <a:prstGeom prst="wedgeEllipseCallout">
              <a:avLst>
                <a:gd name="adj1" fmla="val -115657"/>
                <a:gd name="adj2" fmla="val 17458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WordArt 17"/>
            <p:cNvSpPr txBox="1"/>
            <p:nvPr/>
          </p:nvSpPr>
          <p:spPr>
            <a:xfrm>
              <a:off x="5933880" y="2998800"/>
              <a:ext cx="2514960" cy="76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Византии- 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христианство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75" name="Group 28"/>
          <p:cNvGrpSpPr/>
          <p:nvPr/>
        </p:nvGrpSpPr>
        <p:grpSpPr>
          <a:xfrm>
            <a:off x="5427360" y="85680"/>
            <a:ext cx="3259800" cy="1932840"/>
            <a:chOff x="5427360" y="85680"/>
            <a:chExt cx="3259800" cy="1932840"/>
          </a:xfrm>
        </p:grpSpPr>
        <p:sp>
          <p:nvSpPr>
            <p:cNvPr id="276" name="AutoShape 18"/>
            <p:cNvSpPr/>
            <p:nvPr/>
          </p:nvSpPr>
          <p:spPr>
            <a:xfrm rot="400200">
              <a:off x="5508720" y="259920"/>
              <a:ext cx="3096720" cy="1584000"/>
            </a:xfrm>
            <a:prstGeom prst="wedgeEllipseCallout">
              <a:avLst>
                <a:gd name="adj1" fmla="val -94837"/>
                <a:gd name="adj2" fmla="val 171296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WordArt 19"/>
            <p:cNvSpPr txBox="1"/>
            <p:nvPr/>
          </p:nvSpPr>
          <p:spPr>
            <a:xfrm rot="400200">
              <a:off x="5927400" y="788760"/>
              <a:ext cx="2265480" cy="83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Хазарии -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удаизм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78" name="Group 30"/>
          <p:cNvGrpSpPr/>
          <p:nvPr/>
        </p:nvGrpSpPr>
        <p:grpSpPr>
          <a:xfrm>
            <a:off x="5313600" y="4689000"/>
            <a:ext cx="3628440" cy="1945440"/>
            <a:chOff x="5313600" y="4689000"/>
            <a:chExt cx="3628440" cy="1945440"/>
          </a:xfrm>
        </p:grpSpPr>
        <p:sp>
          <p:nvSpPr>
            <p:cNvPr id="279" name="AutoShape 20"/>
            <p:cNvSpPr/>
            <p:nvPr/>
          </p:nvSpPr>
          <p:spPr>
            <a:xfrm rot="21385200">
              <a:off x="5364000" y="4797360"/>
              <a:ext cx="3527280" cy="1728360"/>
            </a:xfrm>
            <a:prstGeom prst="wedgeEllipseCallout">
              <a:avLst>
                <a:gd name="adj1" fmla="val -87777"/>
                <a:gd name="adj2" fmla="val -109393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WordArt 21"/>
            <p:cNvSpPr txBox="1"/>
            <p:nvPr/>
          </p:nvSpPr>
          <p:spPr>
            <a:xfrm rot="21385200">
              <a:off x="5908320" y="5119560"/>
              <a:ext cx="2613240" cy="97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Волжской 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улгарии -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слам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1"/>
          <p:cNvGrpSpPr/>
          <p:nvPr/>
        </p:nvGrpSpPr>
        <p:grpSpPr>
          <a:xfrm>
            <a:off x="2410920" y="-91800"/>
            <a:ext cx="6625440" cy="4962240"/>
            <a:chOff x="2410920" y="-91800"/>
            <a:chExt cx="6625440" cy="4962240"/>
          </a:xfrm>
        </p:grpSpPr>
        <p:sp>
          <p:nvSpPr>
            <p:cNvPr id="282" name="AutoShape 15"/>
            <p:cNvSpPr/>
            <p:nvPr/>
          </p:nvSpPr>
          <p:spPr>
            <a:xfrm rot="912600">
              <a:off x="2771280" y="620640"/>
              <a:ext cx="5904000" cy="3537000"/>
            </a:xfrm>
            <a:prstGeom prst="verticalScroll">
              <a:avLst>
                <a:gd name="adj" fmla="val 12509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cc"/>
                </a:gs>
                <a:gs pos="100000">
                  <a:srgbClr val="66ffcc"/>
                </a:gs>
              </a:gsLst>
              <a:lin ang="4488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WordArt 14"/>
            <p:cNvSpPr txBox="1"/>
            <p:nvPr/>
          </p:nvSpPr>
          <p:spPr>
            <a:xfrm rot="921000">
              <a:off x="3492360" y="1557000"/>
              <a:ext cx="453708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«Повесть временных лет» рассказывает,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что в 986 г. в Киеве появились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оповедники из хтих стран,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адлагая Владимиру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нять их веру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4" name="AutoShape 17"/>
          <p:cNvSpPr/>
          <p:nvPr/>
        </p:nvSpPr>
        <p:spPr>
          <a:xfrm>
            <a:off x="2484360" y="4552920"/>
            <a:ext cx="2448000" cy="2116080"/>
          </a:xfrm>
          <a:prstGeom prst="wedgeRoundRectCallout">
            <a:avLst>
              <a:gd name="adj1" fmla="val 67379"/>
              <a:gd name="adj2" fmla="val -67481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поведь византийской церкв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извела на него сам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лагоприятное впечат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5867280" y="5013360"/>
            <a:ext cx="3025800" cy="1657440"/>
          </a:xfrm>
          <a:prstGeom prst="wedgeRoundRectCallout">
            <a:avLst>
              <a:gd name="adj1" fmla="val -67259"/>
              <a:gd name="adj2" fmla="val -103546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удаизм - из-за того,  что  евреи лишились своего государств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ыли рассеяны по всей 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Крещение Владимира и его дружинников (древнерусская миниатюра)"/>
          <p:cNvPicPr/>
          <p:nvPr/>
        </p:nvPicPr>
        <p:blipFill>
          <a:blip r:embed="rId1"/>
          <a:stretch/>
        </p:blipFill>
        <p:spPr>
          <a:xfrm rot="20941200">
            <a:off x="877680" y="318960"/>
            <a:ext cx="224784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7" name="AutoShape 16"/>
          <p:cNvSpPr/>
          <p:nvPr/>
        </p:nvSpPr>
        <p:spPr>
          <a:xfrm>
            <a:off x="179280" y="3284640"/>
            <a:ext cx="1944720" cy="1944720"/>
          </a:xfrm>
          <a:prstGeom prst="wedgeRoundRectCallout">
            <a:avLst>
              <a:gd name="adj1" fmla="val 218245"/>
              <a:gd name="adj2" fmla="val -6328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лам был отвергнут княз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.к. скучная и суровая рели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8" descr="Херсонес Таврический - место крещения князя Владимира"/>
          <p:cNvPicPr/>
          <p:nvPr/>
        </p:nvPicPr>
        <p:blipFill>
          <a:blip r:embed="rId1"/>
          <a:stretch/>
        </p:blipFill>
        <p:spPr>
          <a:xfrm>
            <a:off x="7020000" y="549360"/>
            <a:ext cx="1800000" cy="1944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9" name="WordArt 11"/>
          <p:cNvSpPr txBox="1"/>
          <p:nvPr/>
        </p:nvSpPr>
        <p:spPr>
          <a:xfrm>
            <a:off x="5867280" y="2852640"/>
            <a:ext cx="3025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Владимир был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крещен в Херсонесе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(Корсунь)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324000" y="0"/>
            <a:ext cx="6335640" cy="3068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24000" y="692280"/>
            <a:ext cx="59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решением Владимира перейти в христианскую веру тесно связана в летописи история его женитьбы на византийской принцессе Анне, сестре императоров-соправителей Василия и Констант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1219"/>
          <p:cNvPicPr/>
          <p:nvPr/>
        </p:nvPicPr>
        <p:blipFill>
          <a:blip r:embed="rId2"/>
          <a:stretch/>
        </p:blipFill>
        <p:spPr>
          <a:xfrm>
            <a:off x="250920" y="2855880"/>
            <a:ext cx="5182920" cy="4002120"/>
          </a:xfrm>
          <a:prstGeom prst="rect">
            <a:avLst/>
          </a:prstGeom>
          <a:ln w="76320">
            <a:solidFill>
              <a:srgbClr val="ccec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3" name="" descr="">
            <a:hlinkClick r:id="rId3"/>
          </p:cNvPr>
          <p:cNvPicPr/>
          <p:nvPr/>
        </p:nvPicPr>
        <p:blipFill>
          <a:blip r:embed="rId4"/>
          <a:srcRect l="4793" t="6292" r="3092" b="5881"/>
          <a:stretch/>
        </p:blipFill>
        <p:spPr>
          <a:xfrm>
            <a:off x="5508720" y="4737240"/>
            <a:ext cx="3635280" cy="212076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Крещение Владимира </a:t>
            </a: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 Святославовича, </a:t>
            </a:r>
            <a:br>
              <a:rPr sz="4000"/>
            </a:b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его жены и нар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5041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середине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ружающие Русь страны уже приняли одну из мировых религ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ти все крупные государства Европы стали христианскими: одни по римскому, другие по византийскому образ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крещене Руси1"/>
          <p:cNvPicPr/>
          <p:nvPr/>
        </p:nvPicPr>
        <p:blipFill>
          <a:blip r:embed="rId1"/>
          <a:stretch/>
        </p:blipFill>
        <p:spPr>
          <a:xfrm>
            <a:off x="5888160" y="2205000"/>
            <a:ext cx="3255840" cy="465300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850"/>
                            </p:stCondLst>
                            <p:childTnLst>
                              <p:par>
                                <p:cTn id="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"/>
                            </p:stCondLst>
                            <p:childTnLst>
                              <p:par>
                                <p:cTn id="3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лигиозная реформа князя Владимир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980 году при помощи варяжской дружины князь Владимир захватил Киев. Утвердившись в городе, князь решил стать приверженцем Перуна (кровожадного бога войны). Однако, реформа князя оказалась неудачной – большинство неславянских племён не приняло чужую рели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9" descr="город"/>
          <p:cNvPicPr/>
          <p:nvPr/>
        </p:nvPicPr>
        <p:blipFill>
          <a:blip r:embed="rId1"/>
          <a:stretch/>
        </p:blipFill>
        <p:spPr>
          <a:xfrm>
            <a:off x="108000" y="115920"/>
            <a:ext cx="3097080" cy="1873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0" name="WordArt 7"/>
          <p:cNvSpPr txBox="1"/>
          <p:nvPr/>
        </p:nvSpPr>
        <p:spPr>
          <a:xfrm rot="20155200">
            <a:off x="0" y="1916280"/>
            <a:ext cx="53658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267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рнувшись в Киев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ладимир повелел уничтожить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зыческих идолов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1" name="Picture 12" descr="крещ в реке"/>
          <p:cNvPicPr/>
          <p:nvPr/>
        </p:nvPicPr>
        <p:blipFill>
          <a:blip r:embed="rId2"/>
          <a:stretch/>
        </p:blipFill>
        <p:spPr>
          <a:xfrm>
            <a:off x="179280" y="3429000"/>
            <a:ext cx="2592360" cy="3240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2" name="Picture 10" descr="KreshenieVladimira"/>
          <p:cNvPicPr/>
          <p:nvPr/>
        </p:nvPicPr>
        <p:blipFill>
          <a:blip r:embed="rId3"/>
          <a:stretch/>
        </p:blipFill>
        <p:spPr>
          <a:xfrm>
            <a:off x="4716360" y="189000"/>
            <a:ext cx="2762280" cy="360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3" name="AutoShape 15"/>
          <p:cNvSpPr/>
          <p:nvPr/>
        </p:nvSpPr>
        <p:spPr>
          <a:xfrm>
            <a:off x="2987640" y="4365720"/>
            <a:ext cx="5832360" cy="2232000"/>
          </a:xfrm>
          <a:prstGeom prst="wedgeRoundRectCallout">
            <a:avLst>
              <a:gd name="adj1" fmla="val -53972"/>
              <a:gd name="adj2" fmla="val -90967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19640" y="3789360"/>
            <a:ext cx="4136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обращение киевлян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в христианство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059280" y="4508640"/>
            <a:ext cx="57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Как когда-то Иоанн Креститель крест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древних иудеев, погружая их в воды Иордана, так теперь пришедшие из Царьграда и Корсуня священники крестили жителей Киева в Днепре (или, по другим сведениям, в его притоке - реке Почай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РЕЩЕНИЕ КИЕВЛЯ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972480" cy="493236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вн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391464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  <p:sp>
        <p:nvSpPr>
          <p:cNvPr id="309" name="WordArt 7"/>
          <p:cNvSpPr txBox="1"/>
          <p:nvPr/>
        </p:nvSpPr>
        <p:spPr>
          <a:xfrm>
            <a:off x="4356000" y="4365720"/>
            <a:ext cx="331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датируетс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988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годом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901200" y="4322160"/>
            <a:ext cx="2442960" cy="2730600"/>
            <a:chOff x="6901200" y="4322160"/>
            <a:chExt cx="2442960" cy="2730600"/>
          </a:xfrm>
        </p:grpSpPr>
        <p:sp>
          <p:nvSpPr>
            <p:cNvPr id="311" name="AutoShape 9"/>
            <p:cNvSpPr/>
            <p:nvPr/>
          </p:nvSpPr>
          <p:spPr>
            <a:xfrm rot="21111600">
              <a:off x="7064280" y="4459320"/>
              <a:ext cx="2116080" cy="2455560"/>
            </a:xfrm>
            <a:custGeom>
              <a:avLst/>
              <a:gdLst>
                <a:gd name="textAreaLeft" fmla="*/ 510840 w 2116080"/>
                <a:gd name="textAreaRight" fmla="*/ 1605240 w 2116080"/>
                <a:gd name="textAreaTop" fmla="*/ 592560 h 2455560"/>
                <a:gd name="textAreaBottom" fmla="*/ 1863000 h 24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76" y="13759"/>
                  </a:lnTo>
                  <a:lnTo>
                    <a:pt x="3163" y="18437"/>
                  </a:lnTo>
                  <a:lnTo>
                    <a:pt x="7714" y="18071"/>
                  </a:lnTo>
                  <a:lnTo>
                    <a:pt x="10800" y="21600"/>
                  </a:lnTo>
                  <a:lnTo>
                    <a:pt x="13759" y="18124"/>
                  </a:lnTo>
                  <a:lnTo>
                    <a:pt x="18437" y="18437"/>
                  </a:lnTo>
                  <a:lnTo>
                    <a:pt x="18071" y="13886"/>
                  </a:lnTo>
                  <a:lnTo>
                    <a:pt x="21600" y="10800"/>
                  </a:lnTo>
                  <a:lnTo>
                    <a:pt x="18124" y="7841"/>
                  </a:lnTo>
                  <a:lnTo>
                    <a:pt x="18437" y="3163"/>
                  </a:lnTo>
                  <a:lnTo>
                    <a:pt x="13886" y="3529"/>
                  </a:lnTo>
                  <a:lnTo>
                    <a:pt x="10800" y="0"/>
                  </a:lnTo>
                  <a:lnTo>
                    <a:pt x="7841" y="3476"/>
                  </a:lnTo>
                  <a:lnTo>
                    <a:pt x="3163" y="3163"/>
                  </a:lnTo>
                  <a:lnTo>
                    <a:pt x="3529" y="77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50000">
                  <a:srgbClr val="ccecff"/>
                </a:gs>
                <a:gs pos="100000">
                  <a:srgbClr val="ffcccc"/>
                </a:gs>
              </a:gsLst>
              <a:lin ang="516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5"/>
            <p:cNvSpPr txBox="1"/>
            <p:nvPr/>
          </p:nvSpPr>
          <p:spPr>
            <a:xfrm rot="407400">
              <a:off x="7250040" y="4853880"/>
              <a:ext cx="1633320" cy="168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6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ОДНАКО, 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дата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крещения 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остаётся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спорной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1673280"/>
            <a:ext cx="4319640" cy="5184720"/>
          </a:xfrm>
          <a:prstGeom prst="rect">
            <a:avLst/>
          </a:prstGeom>
          <a:ln w="0">
            <a:noFill/>
          </a:ln>
        </p:spPr>
      </p:pic>
      <p:sp>
        <p:nvSpPr>
          <p:cNvPr id="314" name="WordArt 7"/>
          <p:cNvSpPr txBox="1"/>
          <p:nvPr/>
        </p:nvSpPr>
        <p:spPr>
          <a:xfrm>
            <a:off x="250920" y="333360"/>
            <a:ext cx="6156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Традиционно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принятие христианства Русью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book35"/>
          <p:cNvPicPr/>
          <p:nvPr/>
        </p:nvPicPr>
        <p:blipFill>
          <a:blip r:embed="rId1"/>
          <a:stretch/>
        </p:blipFill>
        <p:spPr>
          <a:xfrm rot="755400">
            <a:off x="5379840" y="177840"/>
            <a:ext cx="2665080" cy="20160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 rot="21177000">
            <a:off x="391680" y="431640"/>
            <a:ext cx="439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щение шл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сильственным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е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0" y="2349360"/>
            <a:ext cx="9144000" cy="4508640"/>
          </a:xfrm>
          <a:prstGeom prst="foldedCorner">
            <a:avLst>
              <a:gd name="adj" fmla="val 12500"/>
            </a:avLst>
          </a:prstGeom>
          <a:solidFill>
            <a:srgbClr val="ffcc99">
              <a:alpha val="40000"/>
            </a:srgbClr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вгородцы встретили дружину князя с оружием в руках, заявля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Лучше нам помрети, неже боги наша дати на поругани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ставить упорных язычников покориться удалось, лишь когда киевская рать подожгла несколько домов, грозя превратить весь деревянный город в огромный костёр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вгородцы запросили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ведение на Руси православного христианства в качестве государственной религии, начато в 98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8360" y="40464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Крещение Рус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6"/>
          <p:cNvSpPr txBox="1"/>
          <p:nvPr/>
        </p:nvSpPr>
        <p:spPr>
          <a:xfrm>
            <a:off x="684360" y="260280"/>
            <a:ext cx="78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облегчения принятие христианства,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рковь освятила некоторы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зыческие праздник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Picture 7" descr="vfcktyybwf"/>
          <p:cNvPicPr/>
          <p:nvPr/>
        </p:nvPicPr>
        <p:blipFill>
          <a:blip r:embed="rId1"/>
          <a:stretch/>
        </p:blipFill>
        <p:spPr>
          <a:xfrm rot="962400">
            <a:off x="304920" y="1828440"/>
            <a:ext cx="2682720" cy="21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1" name="WordArt 8"/>
          <p:cNvSpPr txBox="1"/>
          <p:nvPr/>
        </p:nvSpPr>
        <p:spPr>
          <a:xfrm rot="841800">
            <a:off x="304920" y="4191120"/>
            <a:ext cx="209556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ческим  является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к маслениц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2" name="Picture 11" descr="ив"/>
          <p:cNvPicPr/>
          <p:nvPr/>
        </p:nvPicPr>
        <p:blipFill>
          <a:blip r:embed="rId2"/>
          <a:stretch/>
        </p:blipFill>
        <p:spPr>
          <a:xfrm rot="735000">
            <a:off x="5435640" y="2133720"/>
            <a:ext cx="3403440" cy="239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3" name="WordArt 10"/>
          <p:cNvSpPr txBox="1"/>
          <p:nvPr/>
        </p:nvSpPr>
        <p:spPr>
          <a:xfrm rot="980400">
            <a:off x="6156360" y="4868640"/>
            <a:ext cx="25891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к Купалы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меновавший приход лета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ился с днём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того Иоанна Крестителя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4" name="Picture 12" descr="илья пророк"/>
          <p:cNvPicPr/>
          <p:nvPr/>
        </p:nvPicPr>
        <p:blipFill>
          <a:blip r:embed="rId3"/>
          <a:stretch/>
        </p:blipFill>
        <p:spPr>
          <a:xfrm rot="304800">
            <a:off x="2626920" y="2707920"/>
            <a:ext cx="3095640" cy="274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5" name="WordArt 13"/>
          <p:cNvSpPr txBox="1"/>
          <p:nvPr/>
        </p:nvSpPr>
        <p:spPr>
          <a:xfrm rot="373800">
            <a:off x="2627280" y="5516280"/>
            <a:ext cx="259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клонение громовержцу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уну сменилось почитанием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ьи Пророка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34"/>
          <p:cNvGrpSpPr/>
          <p:nvPr/>
        </p:nvGrpSpPr>
        <p:grpSpPr>
          <a:xfrm>
            <a:off x="2841840" y="2311560"/>
            <a:ext cx="3028680" cy="4109760"/>
            <a:chOff x="2841840" y="2311560"/>
            <a:chExt cx="3028680" cy="4109760"/>
          </a:xfrm>
        </p:grpSpPr>
        <p:pic>
          <p:nvPicPr>
            <p:cNvPr id="327" name="Picture 4" descr="book20"/>
            <p:cNvPicPr/>
            <p:nvPr/>
          </p:nvPicPr>
          <p:blipFill>
            <a:blip r:embed="rId2"/>
            <a:stretch/>
          </p:blipFill>
          <p:spPr>
            <a:xfrm>
              <a:off x="3348000" y="5516640"/>
              <a:ext cx="21607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8"/>
            <p:cNvSpPr/>
            <p:nvPr/>
          </p:nvSpPr>
          <p:spPr>
            <a:xfrm rot="631200">
              <a:off x="2916000" y="2565360"/>
              <a:ext cx="2879640" cy="1079640"/>
            </a:xfrm>
            <a:prstGeom prst="cloudCallout">
              <a:avLst>
                <a:gd name="adj1" fmla="val 6629"/>
                <a:gd name="adj2" fmla="val 237634"/>
              </a:avLst>
            </a:prstGeom>
            <a:solidFill>
              <a:srgbClr val="ffff99"/>
            </a:solidFill>
            <a:ln w="9360">
              <a:solidFill>
                <a:srgbClr val="ffcc6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WordArt 5"/>
          <p:cNvSpPr txBox="1"/>
          <p:nvPr/>
        </p:nvSpPr>
        <p:spPr>
          <a:xfrm rot="187200">
            <a:off x="3564000" y="2773080"/>
            <a:ext cx="143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тоги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30" name="Group 33"/>
          <p:cNvGrpSpPr/>
          <p:nvPr/>
        </p:nvGrpSpPr>
        <p:grpSpPr>
          <a:xfrm>
            <a:off x="3132000" y="260280"/>
            <a:ext cx="3024360" cy="865080"/>
            <a:chOff x="3132000" y="260280"/>
            <a:chExt cx="3024360" cy="865080"/>
          </a:xfrm>
        </p:grpSpPr>
        <p:sp>
          <p:nvSpPr>
            <p:cNvPr id="331" name="AutoShape 10"/>
            <p:cNvSpPr/>
            <p:nvPr/>
          </p:nvSpPr>
          <p:spPr>
            <a:xfrm>
              <a:off x="3132000" y="260280"/>
              <a:ext cx="3024360" cy="865080"/>
            </a:xfrm>
            <a:prstGeom prst="wedgeEllipseCallout">
              <a:avLst>
                <a:gd name="adj1" fmla="val -22125"/>
                <a:gd name="adj2" fmla="val 220643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WordArt 14"/>
            <p:cNvSpPr txBox="1"/>
            <p:nvPr/>
          </p:nvSpPr>
          <p:spPr>
            <a:xfrm>
              <a:off x="3708360" y="404640"/>
              <a:ext cx="1943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азвитие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емесла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3" name="Group 32"/>
          <p:cNvGrpSpPr/>
          <p:nvPr/>
        </p:nvGrpSpPr>
        <p:grpSpPr>
          <a:xfrm>
            <a:off x="5796000" y="189000"/>
            <a:ext cx="3168720" cy="1584360"/>
            <a:chOff x="5796000" y="189000"/>
            <a:chExt cx="3168720" cy="1584360"/>
          </a:xfrm>
        </p:grpSpPr>
        <p:sp>
          <p:nvSpPr>
            <p:cNvPr id="334" name="AutoShape 11"/>
            <p:cNvSpPr/>
            <p:nvPr/>
          </p:nvSpPr>
          <p:spPr>
            <a:xfrm>
              <a:off x="5796000" y="189000"/>
              <a:ext cx="3168720" cy="1584360"/>
            </a:xfrm>
            <a:prstGeom prst="wedgeEllipseCallout">
              <a:avLst>
                <a:gd name="adj1" fmla="val -74699"/>
                <a:gd name="adj2" fmla="val 109018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16"/>
            <p:cNvSpPr txBox="1"/>
            <p:nvPr/>
          </p:nvSpPr>
          <p:spPr>
            <a:xfrm>
              <a:off x="6516720" y="404640"/>
              <a:ext cx="215892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усь получила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письменность на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лавянском язык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108000" y="3141720"/>
            <a:ext cx="2916360" cy="1079280"/>
            <a:chOff x="108000" y="3141720"/>
            <a:chExt cx="2916360" cy="1079280"/>
          </a:xfrm>
        </p:grpSpPr>
        <p:sp>
          <p:nvSpPr>
            <p:cNvPr id="337" name="AutoShape 18"/>
            <p:cNvSpPr/>
            <p:nvPr/>
          </p:nvSpPr>
          <p:spPr>
            <a:xfrm>
              <a:off x="108000" y="3141720"/>
              <a:ext cx="2916360" cy="1079280"/>
            </a:xfrm>
            <a:prstGeom prst="wedgeEllipseCallout">
              <a:avLst>
                <a:gd name="adj1" fmla="val 50597"/>
                <a:gd name="adj2" fmla="val -66472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WordArt 20"/>
            <p:cNvSpPr txBox="1"/>
            <p:nvPr/>
          </p:nvSpPr>
          <p:spPr>
            <a:xfrm>
              <a:off x="324000" y="3429000"/>
              <a:ext cx="24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мягчению царивших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на Руси нравов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179280" y="4797360"/>
            <a:ext cx="2521080" cy="1511280"/>
            <a:chOff x="179280" y="4797360"/>
            <a:chExt cx="2521080" cy="1511280"/>
          </a:xfrm>
        </p:grpSpPr>
        <p:sp>
          <p:nvSpPr>
            <p:cNvPr id="340" name="AutoShape 19"/>
            <p:cNvSpPr/>
            <p:nvPr/>
          </p:nvSpPr>
          <p:spPr>
            <a:xfrm>
              <a:off x="179280" y="4797360"/>
              <a:ext cx="2521080" cy="1511280"/>
            </a:xfrm>
            <a:prstGeom prst="wedgeEllipseCallout">
              <a:avLst>
                <a:gd name="adj1" fmla="val 99370"/>
                <a:gd name="adj2" fmla="val -140337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WordArt 21"/>
            <p:cNvSpPr txBox="1"/>
            <p:nvPr/>
          </p:nvSpPr>
          <p:spPr>
            <a:xfrm>
              <a:off x="539640" y="5157720"/>
              <a:ext cx="1873440" cy="83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укреплени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княжеской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власти.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2" name="Group 31"/>
          <p:cNvGrpSpPr/>
          <p:nvPr/>
        </p:nvGrpSpPr>
        <p:grpSpPr>
          <a:xfrm>
            <a:off x="5472000" y="5013360"/>
            <a:ext cx="3672000" cy="1295280"/>
            <a:chOff x="5472000" y="5013360"/>
            <a:chExt cx="3672000" cy="1295280"/>
          </a:xfrm>
        </p:grpSpPr>
        <p:sp>
          <p:nvSpPr>
            <p:cNvPr id="343" name="AutoShape 12"/>
            <p:cNvSpPr/>
            <p:nvPr/>
          </p:nvSpPr>
          <p:spPr>
            <a:xfrm>
              <a:off x="5472000" y="5013360"/>
              <a:ext cx="3672000" cy="1295280"/>
            </a:xfrm>
            <a:prstGeom prst="wedgeEllipseCallout">
              <a:avLst>
                <a:gd name="adj1" fmla="val -68763"/>
                <a:gd name="adj2" fmla="val -164949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WordArt 22"/>
            <p:cNvSpPr txBox="1"/>
            <p:nvPr/>
          </p:nvSpPr>
          <p:spPr>
            <a:xfrm>
              <a:off x="5796000" y="5373720"/>
              <a:ext cx="2973240" cy="87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изменилось положени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Киевской Руси на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международной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арен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45" name="Picture 25" descr="к и м"/>
          <p:cNvPicPr/>
          <p:nvPr/>
        </p:nvPicPr>
        <p:blipFill>
          <a:blip r:embed="rId3"/>
          <a:stretch/>
        </p:blipFill>
        <p:spPr>
          <a:xfrm rot="20429400">
            <a:off x="7020000" y="1628280"/>
            <a:ext cx="1314360" cy="15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46" name="Group 26"/>
          <p:cNvGrpSpPr/>
          <p:nvPr/>
        </p:nvGrpSpPr>
        <p:grpSpPr>
          <a:xfrm>
            <a:off x="6372360" y="2781360"/>
            <a:ext cx="2771640" cy="1584360"/>
            <a:chOff x="6372360" y="2781360"/>
            <a:chExt cx="2771640" cy="1584360"/>
          </a:xfrm>
        </p:grpSpPr>
        <p:sp>
          <p:nvSpPr>
            <p:cNvPr id="347" name="AutoShape 17"/>
            <p:cNvSpPr/>
            <p:nvPr/>
          </p:nvSpPr>
          <p:spPr>
            <a:xfrm>
              <a:off x="6372360" y="2781360"/>
              <a:ext cx="2771640" cy="1584360"/>
            </a:xfrm>
            <a:prstGeom prst="wedgeEllipseCallout">
              <a:avLst>
                <a:gd name="adj1" fmla="val -80527"/>
                <a:gd name="adj2" fmla="val -40981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WordArt 23"/>
            <p:cNvSpPr txBox="1"/>
            <p:nvPr/>
          </p:nvSpPr>
          <p:spPr>
            <a:xfrm>
              <a:off x="6516720" y="3068640"/>
              <a:ext cx="2303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объединение различных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восточнославянских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племён в единый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усский народ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49" name="Picture 27" descr="храм"/>
          <p:cNvPicPr/>
          <p:nvPr/>
        </p:nvPicPr>
        <p:blipFill>
          <a:blip r:embed="rId4"/>
          <a:stretch/>
        </p:blipFill>
        <p:spPr>
          <a:xfrm rot="20562600">
            <a:off x="2556000" y="1196640"/>
            <a:ext cx="1773000" cy="115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50" name="Group 28"/>
          <p:cNvGrpSpPr/>
          <p:nvPr/>
        </p:nvGrpSpPr>
        <p:grpSpPr>
          <a:xfrm>
            <a:off x="0" y="620640"/>
            <a:ext cx="3024360" cy="1224000"/>
            <a:chOff x="0" y="620640"/>
            <a:chExt cx="3024360" cy="1224000"/>
          </a:xfrm>
        </p:grpSpPr>
        <p:sp>
          <p:nvSpPr>
            <p:cNvPr id="351" name="AutoShape 9"/>
            <p:cNvSpPr/>
            <p:nvPr/>
          </p:nvSpPr>
          <p:spPr>
            <a:xfrm>
              <a:off x="0" y="620640"/>
              <a:ext cx="3024360" cy="1224000"/>
            </a:xfrm>
            <a:prstGeom prst="wedgeEllipseCallout">
              <a:avLst>
                <a:gd name="adj1" fmla="val 57087"/>
                <a:gd name="adj2" fmla="val 121726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WordArt 13"/>
            <p:cNvSpPr txBox="1"/>
            <p:nvPr/>
          </p:nvSpPr>
          <p:spPr>
            <a:xfrm>
              <a:off x="324000" y="907920"/>
              <a:ext cx="2376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овершенствовалось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огородничество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47640" y="1700280"/>
            <a:ext cx="61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«Крещение дало нашим предкам высшую свободу – свободу выбора между Добром и Злом, а победа православия подарила Руси тысячелетнюю историю»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. Н. Гумилёв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826920" y="476280"/>
            <a:ext cx="66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ТЕРАТУРА</a:t>
            </a:r>
            <a:endParaRPr b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Picture 6" descr="кн book32"/>
          <p:cNvPicPr/>
          <p:nvPr/>
        </p:nvPicPr>
        <p:blipFill>
          <a:blip r:embed="rId1"/>
          <a:stretch/>
        </p:blipFill>
        <p:spPr>
          <a:xfrm>
            <a:off x="6372360" y="4581360"/>
            <a:ext cx="2295360" cy="1913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вошеев Ю.В. — Религия восточных славян накануне крещения Рус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бовский А.А. — Факты, догадки, гипотезы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гер А.Ф. — Тайны и парадоксы печен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ельман А.Б. — Риторика в тени пирамид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стых А. — Возрасты жизни (Эврика)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а В.В. — Основные правила торговл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алев В.М. — Кулинария для всех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яджиев Х. — Деревянный дом своими рукам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оленко И.А. — Вайна Божественный, инка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кин А.В. – Золото: международный экономический аспект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ww.tatural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rusfederation.narod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estival.1september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ww.pravoslavi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71640" y="1484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2852640"/>
            <a:ext cx="849780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уководите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орташевич И.В., учитель истории и обществозн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стикова С.Б., учитель информатики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.о. Коломна – 2013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ещение Рус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обытие, определившее судьбу не только русского народа, но и всей Восточной Европы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ят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истиан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овышало престиж Древнерусского государства и авторитет его правителе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йствовало развитию культуры, созданию памятников письменности, архитектуры, искусства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0"/>
          <p:cNvGrpSpPr/>
          <p:nvPr/>
        </p:nvGrpSpPr>
        <p:grpSpPr>
          <a:xfrm>
            <a:off x="4932360" y="3213000"/>
            <a:ext cx="3960720" cy="1008000"/>
            <a:chOff x="4932360" y="3213000"/>
            <a:chExt cx="3960720" cy="1008000"/>
          </a:xfrm>
        </p:grpSpPr>
        <p:sp>
          <p:nvSpPr>
            <p:cNvPr id="192" name="Oval 28"/>
            <p:cNvSpPr/>
            <p:nvPr/>
          </p:nvSpPr>
          <p:spPr>
            <a:xfrm>
              <a:off x="4932360" y="3213000"/>
              <a:ext cx="3960720" cy="1008000"/>
            </a:xfrm>
            <a:prstGeom prst="ellips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WordArt 27"/>
            <p:cNvSpPr txBox="1"/>
            <p:nvPr/>
          </p:nvSpPr>
          <p:spPr>
            <a:xfrm>
              <a:off x="5508720" y="3500280"/>
              <a:ext cx="293364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земледельцы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94" name="AutoShape 29"/>
          <p:cNvSpPr/>
          <p:nvPr/>
        </p:nvSpPr>
        <p:spPr>
          <a:xfrm>
            <a:off x="826920" y="4508640"/>
            <a:ext cx="3095640" cy="1944720"/>
          </a:xfrm>
          <a:prstGeom prst="wedgeRectCallout">
            <a:avLst>
              <a:gd name="adj1" fmla="val 125898"/>
              <a:gd name="adj2" fmla="val -64694"/>
            </a:avLst>
          </a:prstGeom>
          <a:solidFill>
            <a:srgbClr val="ffccff"/>
          </a:solidFill>
          <a:ln w="9360">
            <a:solidFill>
              <a:srgbClr val="0088e4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БОЖЕСТВЛЯЛИ</a:t>
            </a:r>
            <a:r>
              <a:rPr b="1" lang="ru-RU" sz="2400" spc="-1" strike="noStrike">
                <a:solidFill>
                  <a:srgbClr val="0088e4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землю, солнце, 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38"/>
          <p:cNvGrpSpPr/>
          <p:nvPr/>
        </p:nvGrpSpPr>
        <p:grpSpPr>
          <a:xfrm>
            <a:off x="250920" y="404640"/>
            <a:ext cx="2592360" cy="1657440"/>
            <a:chOff x="250920" y="404640"/>
            <a:chExt cx="2592360" cy="1657440"/>
          </a:xfrm>
        </p:grpSpPr>
        <p:sp>
          <p:nvSpPr>
            <p:cNvPr id="196" name="Oval 23"/>
            <p:cNvSpPr/>
            <p:nvPr/>
          </p:nvSpPr>
          <p:spPr>
            <a:xfrm>
              <a:off x="250920" y="404640"/>
              <a:ext cx="2592360" cy="1079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WordArt 22"/>
            <p:cNvSpPr txBox="1"/>
            <p:nvPr/>
          </p:nvSpPr>
          <p:spPr>
            <a:xfrm>
              <a:off x="684360" y="765000"/>
              <a:ext cx="17618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лавяне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98" name="Line 33"/>
            <p:cNvSpPr/>
            <p:nvPr/>
          </p:nvSpPr>
          <p:spPr>
            <a:xfrm>
              <a:off x="611280" y="134136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611280" y="2060640"/>
              <a:ext cx="1873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39"/>
          <p:cNvGrpSpPr/>
          <p:nvPr/>
        </p:nvGrpSpPr>
        <p:grpSpPr>
          <a:xfrm>
            <a:off x="2411280" y="1341360"/>
            <a:ext cx="2952720" cy="2158920"/>
            <a:chOff x="2411280" y="1341360"/>
            <a:chExt cx="2952720" cy="2158920"/>
          </a:xfrm>
        </p:grpSpPr>
        <p:sp>
          <p:nvSpPr>
            <p:cNvPr id="201" name="Oval 25"/>
            <p:cNvSpPr/>
            <p:nvPr/>
          </p:nvSpPr>
          <p:spPr>
            <a:xfrm>
              <a:off x="2411280" y="1341360"/>
              <a:ext cx="2952720" cy="1150920"/>
            </a:xfrm>
            <a:prstGeom prst="ellips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WordArt 24"/>
            <p:cNvSpPr txBox="1"/>
            <p:nvPr/>
          </p:nvSpPr>
          <p:spPr>
            <a:xfrm>
              <a:off x="2916360" y="1628640"/>
              <a:ext cx="20001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язычники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3" name="Line 35"/>
            <p:cNvSpPr/>
            <p:nvPr/>
          </p:nvSpPr>
          <p:spPr>
            <a:xfrm>
              <a:off x="3851280" y="249228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6"/>
            <p:cNvSpPr/>
            <p:nvPr/>
          </p:nvSpPr>
          <p:spPr>
            <a:xfrm>
              <a:off x="3851280" y="3500280"/>
              <a:ext cx="1297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Picture 37" descr="veles"/>
          <p:cNvPicPr/>
          <p:nvPr/>
        </p:nvPicPr>
        <p:blipFill>
          <a:blip r:embed="rId1"/>
          <a:stretch/>
        </p:blipFill>
        <p:spPr>
          <a:xfrm>
            <a:off x="6516720" y="189000"/>
            <a:ext cx="2392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10"/>
          <p:cNvSpPr txBox="1"/>
          <p:nvPr/>
        </p:nvSpPr>
        <p:spPr>
          <a:xfrm>
            <a:off x="2124000" y="260280"/>
            <a:ext cx="53164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50000">
                      <a:srgbClr val="cc66ff"/>
                    </a:gs>
                    <a:gs pos="100000">
                      <a:srgbClr val="333399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евнейшие   славянские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50000">
                    <a:srgbClr val="cc66ff"/>
                  </a:gs>
                  <a:gs pos="100000">
                    <a:srgbClr val="333399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50000">
                      <a:srgbClr val="cc66ff"/>
                    </a:gs>
                    <a:gs pos="100000">
                      <a:srgbClr val="333399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жества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50000">
                    <a:srgbClr val="cc66ff"/>
                  </a:gs>
                  <a:gs pos="100000">
                    <a:srgbClr val="333399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7" name="Group 30"/>
          <p:cNvGrpSpPr/>
          <p:nvPr/>
        </p:nvGrpSpPr>
        <p:grpSpPr>
          <a:xfrm>
            <a:off x="1692360" y="2349360"/>
            <a:ext cx="1655640" cy="3311640"/>
            <a:chOff x="1692360" y="2349360"/>
            <a:chExt cx="1655640" cy="3311640"/>
          </a:xfrm>
        </p:grpSpPr>
        <p:pic>
          <p:nvPicPr>
            <p:cNvPr id="208" name="Picture 11" descr="велес"/>
            <p:cNvPicPr/>
            <p:nvPr/>
          </p:nvPicPr>
          <p:blipFill>
            <a:blip r:embed="rId2"/>
            <a:stretch/>
          </p:blipFill>
          <p:spPr>
            <a:xfrm>
              <a:off x="1692360" y="2349360"/>
              <a:ext cx="1633320" cy="23036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09" name="WordArt 16"/>
            <p:cNvSpPr txBox="1"/>
            <p:nvPr/>
          </p:nvSpPr>
          <p:spPr>
            <a:xfrm>
              <a:off x="1692360" y="4869000"/>
              <a:ext cx="1655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 скотоводов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и охотников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ЕЛЕС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5587920" y="2421000"/>
            <a:ext cx="1657440" cy="3187800"/>
            <a:chOff x="5587920" y="2421000"/>
            <a:chExt cx="1657440" cy="3187800"/>
          </a:xfrm>
        </p:grpSpPr>
        <p:pic>
          <p:nvPicPr>
            <p:cNvPr id="211" name="Picture 17" descr="ярило"/>
            <p:cNvPicPr/>
            <p:nvPr/>
          </p:nvPicPr>
          <p:blipFill>
            <a:blip r:embed="rId3"/>
            <a:stretch/>
          </p:blipFill>
          <p:spPr>
            <a:xfrm>
              <a:off x="5587920" y="2421000"/>
              <a:ext cx="1548000" cy="2259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2" name="WordArt 18"/>
            <p:cNvSpPr txBox="1"/>
            <p:nvPr/>
          </p:nvSpPr>
          <p:spPr>
            <a:xfrm>
              <a:off x="5724360" y="5013360"/>
              <a:ext cx="152100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 Солнца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Ярило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3" name="Group 33"/>
          <p:cNvGrpSpPr/>
          <p:nvPr/>
        </p:nvGrpSpPr>
        <p:grpSpPr>
          <a:xfrm>
            <a:off x="7164360" y="260280"/>
            <a:ext cx="1758960" cy="3353040"/>
            <a:chOff x="7164360" y="260280"/>
            <a:chExt cx="1758960" cy="3353040"/>
          </a:xfrm>
        </p:grpSpPr>
        <p:pic>
          <p:nvPicPr>
            <p:cNvPr id="214" name="Picture 19" descr="род"/>
            <p:cNvPicPr/>
            <p:nvPr/>
          </p:nvPicPr>
          <p:blipFill>
            <a:blip r:embed="rId4"/>
            <a:stretch/>
          </p:blipFill>
          <p:spPr>
            <a:xfrm>
              <a:off x="7451640" y="260280"/>
              <a:ext cx="1438200" cy="1656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5" name="WordArt 21"/>
            <p:cNvSpPr txBox="1"/>
            <p:nvPr/>
          </p:nvSpPr>
          <p:spPr>
            <a:xfrm>
              <a:off x="7164360" y="2060640"/>
              <a:ext cx="1758960" cy="155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Род и рожаницы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- творец и господин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селенной и богини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плодородия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6" name="Group 31"/>
          <p:cNvGrpSpPr/>
          <p:nvPr/>
        </p:nvGrpSpPr>
        <p:grpSpPr>
          <a:xfrm>
            <a:off x="3564000" y="2421000"/>
            <a:ext cx="1890720" cy="3887640"/>
            <a:chOff x="3564000" y="2421000"/>
            <a:chExt cx="1890720" cy="3887640"/>
          </a:xfrm>
        </p:grpSpPr>
        <p:pic>
          <p:nvPicPr>
            <p:cNvPr id="217" name="Picture 22" descr="свар"/>
            <p:cNvPicPr/>
            <p:nvPr/>
          </p:nvPicPr>
          <p:blipFill>
            <a:blip r:embed="rId5"/>
            <a:stretch/>
          </p:blipFill>
          <p:spPr>
            <a:xfrm>
              <a:off x="3780000" y="4076640"/>
              <a:ext cx="1590480" cy="2232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8" name="WordArt 23"/>
            <p:cNvSpPr txBox="1"/>
            <p:nvPr/>
          </p:nvSpPr>
          <p:spPr>
            <a:xfrm>
              <a:off x="3564000" y="2421000"/>
              <a:ext cx="18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а неба и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ерховный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ластитель мира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Сварога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179280" y="260280"/>
            <a:ext cx="1728720" cy="3136680"/>
            <a:chOff x="179280" y="260280"/>
            <a:chExt cx="1728720" cy="3136680"/>
          </a:xfrm>
        </p:grpSpPr>
        <p:grpSp>
          <p:nvGrpSpPr>
            <p:cNvPr id="220" name="Group 14"/>
            <p:cNvGrpSpPr/>
            <p:nvPr/>
          </p:nvGrpSpPr>
          <p:grpSpPr>
            <a:xfrm>
              <a:off x="179280" y="260280"/>
              <a:ext cx="1728720" cy="2016000"/>
              <a:chOff x="179280" y="260280"/>
              <a:chExt cx="1728720" cy="2016000"/>
            </a:xfrm>
          </p:grpSpPr>
          <p:sp>
            <p:nvSpPr>
              <p:cNvPr id="221" name="Rectangle 13"/>
              <p:cNvSpPr/>
              <p:nvPr/>
            </p:nvSpPr>
            <p:spPr>
              <a:xfrm>
                <a:off x="179280" y="260280"/>
                <a:ext cx="1728720" cy="20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e9770a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" name="Picture 12" descr="перун"/>
              <p:cNvPicPr/>
              <p:nvPr/>
            </p:nvPicPr>
            <p:blipFill>
              <a:blip r:embed="rId6"/>
              <a:stretch/>
            </p:blipFill>
            <p:spPr>
              <a:xfrm>
                <a:off x="388080" y="473040"/>
                <a:ext cx="1296720" cy="16437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sp>
          <p:nvSpPr>
            <p:cNvPr id="223" name="WordArt 25"/>
            <p:cNvSpPr txBox="1"/>
            <p:nvPr/>
          </p:nvSpPr>
          <p:spPr>
            <a:xfrm>
              <a:off x="179280" y="2420640"/>
              <a:ext cx="1411560" cy="97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а грома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и молнии 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Перун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8"/>
          <p:cNvGrpSpPr/>
          <p:nvPr/>
        </p:nvGrpSpPr>
        <p:grpSpPr>
          <a:xfrm>
            <a:off x="1547640" y="3284640"/>
            <a:ext cx="6050160" cy="863640"/>
            <a:chOff x="1547640" y="3284640"/>
            <a:chExt cx="6050160" cy="863640"/>
          </a:xfrm>
        </p:grpSpPr>
        <p:sp>
          <p:nvSpPr>
            <p:cNvPr id="225" name="AutoShape 7"/>
            <p:cNvSpPr/>
            <p:nvPr/>
          </p:nvSpPr>
          <p:spPr>
            <a:xfrm>
              <a:off x="1547640" y="3284640"/>
              <a:ext cx="6050160" cy="863640"/>
            </a:xfrm>
            <a:prstGeom prst="flowChartTerminator">
              <a:avLst/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WordArt 8"/>
            <p:cNvSpPr txBox="1"/>
            <p:nvPr/>
          </p:nvSpPr>
          <p:spPr>
            <a:xfrm>
              <a:off x="2484360" y="3500640"/>
              <a:ext cx="3781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служители культ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1403280" y="5013360"/>
            <a:ext cx="2735280" cy="720720"/>
            <a:chOff x="1403280" y="5013360"/>
            <a:chExt cx="2735280" cy="720720"/>
          </a:xfrm>
        </p:grpSpPr>
        <p:sp>
          <p:nvSpPr>
            <p:cNvPr id="228" name="AutoShape 9"/>
            <p:cNvSpPr/>
            <p:nvPr/>
          </p:nvSpPr>
          <p:spPr>
            <a:xfrm>
              <a:off x="1403280" y="5013360"/>
              <a:ext cx="2735280" cy="720720"/>
            </a:xfrm>
            <a:prstGeom prst="wedgeRoundRectCallout">
              <a:avLst>
                <a:gd name="adj1" fmla="val 63060"/>
                <a:gd name="adj2" fmla="val -180175"/>
                <a:gd name="adj3" fmla="val 16667"/>
              </a:avLst>
            </a:prstGeom>
            <a:gradFill rotWithShape="0">
              <a:gsLst>
                <a:gs pos="0">
                  <a:srgbClr val="cc66ff"/>
                </a:gs>
                <a:gs pos="50000">
                  <a:srgbClr val="bbe0e3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WordArt 11"/>
            <p:cNvSpPr txBox="1"/>
            <p:nvPr/>
          </p:nvSpPr>
          <p:spPr>
            <a:xfrm>
              <a:off x="1474920" y="5300640"/>
              <a:ext cx="244800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a50021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жрецы - волхвы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5148360" y="5013360"/>
            <a:ext cx="2535120" cy="720720"/>
            <a:chOff x="5148360" y="5013360"/>
            <a:chExt cx="2535120" cy="720720"/>
          </a:xfrm>
        </p:grpSpPr>
        <p:sp>
          <p:nvSpPr>
            <p:cNvPr id="231" name="AutoShape 10"/>
            <p:cNvSpPr/>
            <p:nvPr/>
          </p:nvSpPr>
          <p:spPr>
            <a:xfrm>
              <a:off x="5148360" y="5013360"/>
              <a:ext cx="2520720" cy="720720"/>
            </a:xfrm>
            <a:prstGeom prst="wedgeRoundRectCallout">
              <a:avLst>
                <a:gd name="adj1" fmla="val -69708"/>
                <a:gd name="adj2" fmla="val -171365"/>
                <a:gd name="adj3" fmla="val 16667"/>
              </a:avLst>
            </a:prstGeom>
            <a:gradFill rotWithShape="0">
              <a:gsLst>
                <a:gs pos="0">
                  <a:srgbClr val="cc66ff"/>
                </a:gs>
                <a:gs pos="50000">
                  <a:srgbClr val="bbe0e3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WordArt 12"/>
            <p:cNvSpPr txBox="1"/>
            <p:nvPr/>
          </p:nvSpPr>
          <p:spPr>
            <a:xfrm>
              <a:off x="5292720" y="5229360"/>
              <a:ext cx="239076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a50021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кудесники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3" name="Group 19"/>
          <p:cNvGrpSpPr/>
          <p:nvPr/>
        </p:nvGrpSpPr>
        <p:grpSpPr>
          <a:xfrm>
            <a:off x="7515360" y="0"/>
            <a:ext cx="1628640" cy="2376360"/>
            <a:chOff x="7515360" y="0"/>
            <a:chExt cx="1628640" cy="2376360"/>
          </a:xfrm>
        </p:grpSpPr>
        <p:pic>
          <p:nvPicPr>
            <p:cNvPr id="234" name="Picture 13" descr="сварог"/>
            <p:cNvPicPr/>
            <p:nvPr/>
          </p:nvPicPr>
          <p:blipFill>
            <a:blip r:embed="rId2"/>
            <a:stretch/>
          </p:blipFill>
          <p:spPr>
            <a:xfrm>
              <a:off x="7515360" y="0"/>
              <a:ext cx="16286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WordArt 14"/>
            <p:cNvSpPr txBox="1"/>
            <p:nvPr/>
          </p:nvSpPr>
          <p:spPr>
            <a:xfrm>
              <a:off x="7586640" y="2160720"/>
              <a:ext cx="15238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варог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6" name="WordArt 15"/>
          <p:cNvSpPr txBox="1"/>
          <p:nvPr/>
        </p:nvSpPr>
        <p:spPr>
          <a:xfrm>
            <a:off x="1476360" y="1484280"/>
            <a:ext cx="5800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гам возносили молитвы,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осили жертв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одчас человеческие)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Владимир"/>
          <p:cNvPicPr/>
          <p:nvPr/>
        </p:nvPicPr>
        <p:blipFill>
          <a:blip r:embed="rId1"/>
          <a:stretch/>
        </p:blipFill>
        <p:spPr>
          <a:xfrm>
            <a:off x="3203640" y="2708280"/>
            <a:ext cx="3672000" cy="3257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WordArt 6"/>
          <p:cNvSpPr txBox="1"/>
          <p:nvPr/>
        </p:nvSpPr>
        <p:spPr>
          <a:xfrm>
            <a:off x="1908000" y="333360"/>
            <a:ext cx="55915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 I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980—1015 гг.) 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тель Киевской Руси,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сын Святослава. 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51"/>
          <p:cNvGrpSpPr/>
          <p:nvPr/>
        </p:nvGrpSpPr>
        <p:grpSpPr>
          <a:xfrm>
            <a:off x="250920" y="260280"/>
            <a:ext cx="8641800" cy="1728720"/>
            <a:chOff x="250920" y="260280"/>
            <a:chExt cx="8641800" cy="1728720"/>
          </a:xfrm>
        </p:grpSpPr>
        <p:sp>
          <p:nvSpPr>
            <p:cNvPr id="240" name="AutoShape 27"/>
            <p:cNvSpPr/>
            <p:nvPr/>
          </p:nvSpPr>
          <p:spPr>
            <a:xfrm>
              <a:off x="250920" y="260280"/>
              <a:ext cx="8641800" cy="1728720"/>
            </a:xfrm>
            <a:prstGeom prst="flowChartInputOutpu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ff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WordArt 17"/>
            <p:cNvSpPr txBox="1"/>
            <p:nvPr/>
          </p:nvSpPr>
          <p:spPr>
            <a:xfrm>
              <a:off x="1203480" y="476280"/>
              <a:ext cx="53542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      </a:t>
              </a: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ВЛАДИМИР попытался </a:t>
              </a:r>
              <a:endPara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      </a:t>
              </a: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укрепить языческую веру</a:t>
              </a:r>
              <a:endPara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42" name="AutoShape 28"/>
          <p:cNvSpPr/>
          <p:nvPr/>
        </p:nvSpPr>
        <p:spPr>
          <a:xfrm>
            <a:off x="4067280" y="2349360"/>
            <a:ext cx="4752720" cy="1224000"/>
          </a:xfrm>
          <a:prstGeom prst="wedgeRoundRectCallout">
            <a:avLst>
              <a:gd name="adj1" fmla="val -131865"/>
              <a:gd name="adj2" fmla="val -79444"/>
              <a:gd name="adj3" fmla="val 16667"/>
            </a:avLst>
          </a:prstGeom>
          <a:solidFill>
            <a:srgbClr val="ccff99"/>
          </a:solidFill>
          <a:ln w="936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WordArt 18"/>
          <p:cNvSpPr txBox="1"/>
          <p:nvPr/>
        </p:nvSpPr>
        <p:spPr>
          <a:xfrm>
            <a:off x="4572000" y="2492280"/>
            <a:ext cx="4095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Создал 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языческий пантеон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богов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grpSp>
        <p:nvGrpSpPr>
          <p:cNvPr id="244" name="Group 55"/>
          <p:cNvGrpSpPr/>
          <p:nvPr/>
        </p:nvGrpSpPr>
        <p:grpSpPr>
          <a:xfrm>
            <a:off x="179280" y="3860640"/>
            <a:ext cx="7201080" cy="1440000"/>
            <a:chOff x="179280" y="3860640"/>
            <a:chExt cx="7201080" cy="1440000"/>
          </a:xfrm>
        </p:grpSpPr>
        <p:sp>
          <p:nvSpPr>
            <p:cNvPr id="245" name="AutoShape 29"/>
            <p:cNvSpPr/>
            <p:nvPr/>
          </p:nvSpPr>
          <p:spPr>
            <a:xfrm>
              <a:off x="179280" y="3860640"/>
              <a:ext cx="7201080" cy="1440000"/>
            </a:xfrm>
            <a:prstGeom prst="wedgeEllipseCallout">
              <a:avLst>
                <a:gd name="adj1" fmla="val 51324"/>
                <a:gd name="adj2" fmla="val -67861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WordArt 22"/>
            <p:cNvSpPr txBox="1"/>
            <p:nvPr/>
          </p:nvSpPr>
          <p:spPr>
            <a:xfrm>
              <a:off x="1476360" y="4149720"/>
              <a:ext cx="45370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Заставить верить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в Перуна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всех не удалось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47" name="AutoShape 33"/>
          <p:cNvSpPr/>
          <p:nvPr/>
        </p:nvSpPr>
        <p:spPr>
          <a:xfrm>
            <a:off x="1187280" y="5516640"/>
            <a:ext cx="1800360" cy="86508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35"/>
          <p:cNvSpPr/>
          <p:nvPr/>
        </p:nvSpPr>
        <p:spPr>
          <a:xfrm>
            <a:off x="3780000" y="5445000"/>
            <a:ext cx="1800000" cy="100836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708360" y="551664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ил Вел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6"/>
          <p:cNvSpPr/>
          <p:nvPr/>
        </p:nvSpPr>
        <p:spPr>
          <a:xfrm>
            <a:off x="6300720" y="5445000"/>
            <a:ext cx="1800360" cy="86544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56"/>
          <p:cNvGrpSpPr/>
          <p:nvPr/>
        </p:nvGrpSpPr>
        <p:grpSpPr>
          <a:xfrm>
            <a:off x="179280" y="4653000"/>
            <a:ext cx="8569440" cy="1944720"/>
            <a:chOff x="179280" y="4653000"/>
            <a:chExt cx="8569440" cy="1944720"/>
          </a:xfrm>
        </p:grpSpPr>
        <p:sp>
          <p:nvSpPr>
            <p:cNvPr id="252" name="Text Box 30"/>
            <p:cNvSpPr/>
            <p:nvPr/>
          </p:nvSpPr>
          <p:spPr>
            <a:xfrm>
              <a:off x="1042920" y="5516640"/>
              <a:ext cx="2089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ружинник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чтил Перу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32"/>
            <p:cNvSpPr/>
            <p:nvPr/>
          </p:nvSpPr>
          <p:spPr>
            <a:xfrm>
              <a:off x="6012000" y="5445000"/>
              <a:ext cx="2447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уз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чтил Сварог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52"/>
            <p:cNvGrpSpPr/>
            <p:nvPr/>
          </p:nvGrpSpPr>
          <p:grpSpPr>
            <a:xfrm>
              <a:off x="179280" y="4653000"/>
              <a:ext cx="1008000" cy="1944720"/>
              <a:chOff x="179280" y="4653000"/>
              <a:chExt cx="1008000" cy="1944720"/>
            </a:xfrm>
          </p:grpSpPr>
          <p:sp>
            <p:nvSpPr>
              <p:cNvPr id="255" name="Line 44"/>
              <p:cNvSpPr/>
              <p:nvPr/>
            </p:nvSpPr>
            <p:spPr>
              <a:xfrm>
                <a:off x="179280" y="4653000"/>
                <a:ext cx="0" cy="19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48"/>
              <p:cNvSpPr/>
              <p:nvPr/>
            </p:nvSpPr>
            <p:spPr>
              <a:xfrm>
                <a:off x="179280" y="5877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54"/>
            <p:cNvGrpSpPr/>
            <p:nvPr/>
          </p:nvGrpSpPr>
          <p:grpSpPr>
            <a:xfrm>
              <a:off x="179280" y="5805360"/>
              <a:ext cx="8569440" cy="792000"/>
              <a:chOff x="179280" y="5805360"/>
              <a:chExt cx="8569440" cy="792000"/>
            </a:xfrm>
          </p:grpSpPr>
          <p:sp>
            <p:nvSpPr>
              <p:cNvPr id="258" name="Line 46"/>
              <p:cNvSpPr/>
              <p:nvPr/>
            </p:nvSpPr>
            <p:spPr>
              <a:xfrm flipV="1">
                <a:off x="179280" y="6524280"/>
                <a:ext cx="856944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47"/>
              <p:cNvSpPr/>
              <p:nvPr/>
            </p:nvSpPr>
            <p:spPr>
              <a:xfrm flipV="1">
                <a:off x="8748720" y="5805360"/>
                <a:ext cx="0" cy="71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49"/>
              <p:cNvSpPr/>
              <p:nvPr/>
            </p:nvSpPr>
            <p:spPr>
              <a:xfrm flipV="1">
                <a:off x="4572000" y="645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50"/>
              <p:cNvSpPr/>
              <p:nvPr/>
            </p:nvSpPr>
            <p:spPr>
              <a:xfrm flipH="1">
                <a:off x="8100720" y="580536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нако эта языческая реформа, изменившая лишь внешнее обличье старых богов, не могла удовлетворить Владими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708280"/>
            <a:ext cx="3708360" cy="386064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8:10:09Z</dcterms:created>
  <dc:creator>Светлана</dc:creator>
  <dc:description/>
  <dc:language>en-US</dc:language>
  <cp:lastModifiedBy>Светлана</cp:lastModifiedBy>
  <dcterms:modified xsi:type="dcterms:W3CDTF">2013-11-19T17:59:24Z</dcterms:modified>
  <cp:revision>19</cp:revision>
  <dc:subject/>
  <dc:title>Слайд 1</dc:title>
</cp:coreProperties>
</file>