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CCC-98F1-426E-9F82-F24D4519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905-DDB5-4039-A7E4-EB0EC6A5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BBA-FD96-4C3B-9F2D-A9950C20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C84-4F39-47A0-8506-5723450A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CFF-59F6-40A2-81A2-264EBCAB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89F-5DBD-4E47-B40A-37D9C4F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78E-3F44-4185-AABA-651E09D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D4F-42B3-4628-B28C-99E407FB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11E-FA55-4E9C-9B71-10A73E75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006-78ED-460A-8722-8CB4DC2F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716-5850-49CF-8EF2-CC76AA0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712-4CF1-476B-9BA7-5C1DA63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A17D-378E-435F-8E4A-48DE6C1E1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765000"/>
            <a:ext cx="813600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обные выраж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24280"/>
            <a:ext cx="1562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95640" y="907920"/>
            <a:ext cx="468144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4292640"/>
            <a:ext cx="4608360" cy="115236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14400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458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557000"/>
            <a:ext cx="680112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0 – 21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- 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2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: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+ 2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+ 4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1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708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33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40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70828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28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3933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56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87400" y="1773360"/>
                <a:ext cx="12542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95640" y="1757520"/>
                <a:ext cx="129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1773360"/>
                <a:ext cx="593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00000" y="2924280"/>
                <a:ext cx="147816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68360" y="2852640"/>
                <a:ext cx="13669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64000" y="2895480"/>
                <a:ext cx="819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2868480"/>
                <a:ext cx="6602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04960" y="4005360"/>
                <a:ext cx="20606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771640" y="4019400"/>
                <a:ext cx="17290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00720" y="4076640"/>
                <a:ext cx="16556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084720" y="4078440"/>
                <a:ext cx="12240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236000" y="4349880"/>
                <a:ext cx="649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20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выра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значает дробная чер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выражение, стоящее над чер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знамен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последовательность действий при нахождении значения дробного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419640" y="765000"/>
                <a:ext cx="181260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,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490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дробных выра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981000"/>
                <a:ext cx="1171440" cy="23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116000" y="1557360"/>
                <a:ext cx="1871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916360" y="1557360"/>
                <a:ext cx="1439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284720" y="1557360"/>
                <a:ext cx="1295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508720" y="1557360"/>
                <a:ext cx="1003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43640" y="1542960"/>
                <a:ext cx="1297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740720" y="1873080"/>
                <a:ext cx="6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0" y="3141720"/>
                <a:ext cx="115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6</m:t>
                        </m:r>
                      </m:num>
                      <m:den>
                        <m:r>
                          <m:t xml:space="preserve">6,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42920" y="3127320"/>
                <a:ext cx="180036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6,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28800" y="3112920"/>
                <a:ext cx="106524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708360" y="3141720"/>
                <a:ext cx="446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0" y="4365720"/>
                <a:ext cx="21240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,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050920" y="4394160"/>
                <a:ext cx="1944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24360" y="4437000"/>
                <a:ext cx="17319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580000" y="4379760"/>
                <a:ext cx="13683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77080" y="4394160"/>
                <a:ext cx="10666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812000" y="4365720"/>
                <a:ext cx="1044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0" y="5599080"/>
                <a:ext cx="2160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0,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,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0920" y="5657760"/>
                <a:ext cx="20163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924360" y="5665680"/>
                <a:ext cx="19429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24360" y="5648400"/>
                <a:ext cx="1105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659640" y="5978520"/>
                <a:ext cx="369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443640" y="1557360"/>
                <a:ext cx="1297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0920" y="765000"/>
                <a:ext cx="107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0920" y="2205000"/>
                <a:ext cx="12999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,2</m:t>
                        </m:r>
                      </m:num>
                      <m:den>
                        <m:r>
                          <m:t xml:space="preserve">6,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0920" y="3068640"/>
                <a:ext cx="1692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,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920" y="3860640"/>
                <a:ext cx="19796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÷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0920" y="5526000"/>
                <a:ext cx="14763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4859280" y="765000"/>
          <a:ext cx="4079880" cy="6120000"/>
        </p:xfrm>
        <a:graphic>
          <a:graphicData uri="http://schemas.openxmlformats.org/drawingml/2006/table">
            <a:tbl>
              <a:tblPr/>
              <a:tblGrid>
                <a:gridCol w="2040120"/>
                <a:gridCol w="203976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08720" y="836640"/>
                <a:ext cx="542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580000" y="1916280"/>
                <a:ext cx="544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651640" y="2997360"/>
                <a:ext cx="390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08720" y="4149720"/>
                <a:ext cx="64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651640" y="4941720"/>
                <a:ext cx="504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651640" y="5950080"/>
                <a:ext cx="468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258920" y="907920"/>
            <a:ext cx="936720" cy="1150920"/>
          </a:xfrm>
          <a:custGeom>
            <a:avLst/>
            <a:gdLst>
              <a:gd name="textAreaLeft" fmla="*/ 213840 w 936720"/>
              <a:gd name="textAreaRight" fmla="*/ 722880 w 93672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7640" y="1052640"/>
                <a:ext cx="390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76360" y="2060640"/>
            <a:ext cx="1008000" cy="129528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763640" y="2205000"/>
                <a:ext cx="504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68360" y="2852640"/>
            <a:ext cx="1008360" cy="122400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3213000"/>
                <a:ext cx="64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268360" y="4005360"/>
            <a:ext cx="1008360" cy="122400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84360" y="4149720"/>
                <a:ext cx="544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84360" y="4149720"/>
                <a:ext cx="544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92360" y="5373720"/>
            <a:ext cx="1008000" cy="12240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08000" y="5516640"/>
                <a:ext cx="543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У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римлян слово «УНЦИЯ» сначала было названием двенадцатой доли единицы массы, а потом стало обозначать одну двенадцатую любой величины. Говорили: «Семь унций пути», то есть семь двенадцатых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40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1, № 7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76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19, с. 116 – чит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95(б,д,з), №696(д,ж,л), №7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7:59:20Z</dcterms:created>
  <dc:creator>Intel</dc:creator>
  <dc:description/>
  <dc:language>en-US</dc:language>
  <cp:lastModifiedBy>Intel</cp:lastModifiedBy>
  <dcterms:modified xsi:type="dcterms:W3CDTF">2009-12-23T15:07:04Z</dcterms:modified>
  <cp:revision>4</cp:revision>
  <dc:subject/>
  <dc:title>Дробные выражения</dc:title>
</cp:coreProperties>
</file>