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026A-E334-432F-B19D-FC0EE3D9E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1F96-A2D9-4EFE-AED5-6BE072A4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4EBD-6218-4347-B570-32EEB681A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D385-90AC-4087-8D89-984507E36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7F1C-283A-461A-9ABA-A8EAED08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FDBA-6D7C-49FC-8971-1D258EDB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9887-182A-42F0-9D7E-CACD1DAC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82ED-533A-45F0-95BA-37405522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085B-1043-426B-B697-BF780006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4A7E-8417-41A6-8C70-3C9F6478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8C21-78FF-4D58-AF3C-7DB68B71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ADEF-2652-4D21-A027-E508C988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46"/>
            </a:gs>
            <a:gs pos="50000">
              <a:srgbClr val="00ff99"/>
            </a:gs>
            <a:gs pos="100000">
              <a:srgbClr val="00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DA0A-6FC5-4C99-A506-784B48C7A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46"/>
            </a:gs>
            <a:gs pos="50000">
              <a:srgbClr val="00ff99"/>
            </a:gs>
            <a:gs pos="100000">
              <a:srgbClr val="00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8360" y="765000"/>
            <a:ext cx="8136000" cy="292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робные выражен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80000" y="4724280"/>
            <a:ext cx="1562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6 клас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46"/>
            </a:gs>
            <a:gs pos="50000">
              <a:srgbClr val="00ff99"/>
            </a:gs>
            <a:gs pos="100000">
              <a:srgbClr val="00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195640" y="907920"/>
            <a:ext cx="4681440" cy="24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урок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6000" y="4292640"/>
            <a:ext cx="4608360" cy="1152360"/>
          </a:xfrm>
          <a:custGeom>
            <a:avLst/>
            <a:gdLst>
              <a:gd name="textAreaLeft" fmla="*/ 1152000 w 4608360"/>
              <a:gd name="textAreaRight" fmla="*/ 3456360 w 4608360"/>
              <a:gd name="textAreaTop" fmla="*/ 14400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19640" y="4581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46"/>
            </a:gs>
            <a:gs pos="50000">
              <a:srgbClr val="00ff99"/>
            </a:gs>
            <a:gs pos="100000">
              <a:srgbClr val="00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стный сч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920" y="1557000"/>
            <a:ext cx="680112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70 – 21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 - 4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2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: 1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37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1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+ 2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+ 4,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213372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58920" y="2708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42920" y="335772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4005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03640" y="213372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64000" y="2708280"/>
            <a:ext cx="5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03640" y="32846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51640" y="39337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46"/>
            </a:gs>
            <a:gs pos="50000">
              <a:srgbClr val="00ff99"/>
            </a:gs>
            <a:gs pos="100000">
              <a:srgbClr val="00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26920" y="1628640"/>
            <a:ext cx="7561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887400" y="1773360"/>
                <a:ext cx="125424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195640" y="1757520"/>
                <a:ext cx="129672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419640" y="1773360"/>
                <a:ext cx="5936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900000" y="2924280"/>
                <a:ext cx="147816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268360" y="2852640"/>
                <a:ext cx="136692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564000" y="2895480"/>
                <a:ext cx="8190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284720" y="2868480"/>
                <a:ext cx="66024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804960" y="4005360"/>
                <a:ext cx="206064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 </m:t>
                    </m:r>
                    <m:r>
                      <m:t xml:space="preserve">÷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771640" y="4019400"/>
                <a:ext cx="172908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500720" y="4076640"/>
                <a:ext cx="165564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084720" y="4078440"/>
                <a:ext cx="12240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236000" y="4349880"/>
                <a:ext cx="649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46"/>
            </a:gs>
            <a:gs pos="50000">
              <a:srgbClr val="00ff99"/>
            </a:gs>
            <a:gs pos="100000">
              <a:srgbClr val="00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7201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называется выраж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означает дробная чер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называется выражение, стоящее над черт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такое знаменате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овите последовательность действий при нахождении значения дробного выра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419640" y="765000"/>
                <a:ext cx="1812600" cy="23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,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0,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46"/>
            </a:gs>
            <a:gs pos="50000">
              <a:srgbClr val="00ff99"/>
            </a:gs>
            <a:gs pos="100000">
              <a:srgbClr val="00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4901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ры дробных выра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0" y="981000"/>
                <a:ext cx="1171440" cy="230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116000" y="1557360"/>
                <a:ext cx="187164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916360" y="1557360"/>
                <a:ext cx="143964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284720" y="1557360"/>
                <a:ext cx="129528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5508720" y="1557360"/>
                <a:ext cx="10033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443640" y="1542960"/>
                <a:ext cx="129708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7740720" y="1873080"/>
                <a:ext cx="647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,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0" y="3141720"/>
                <a:ext cx="115092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,6</m:t>
                        </m:r>
                      </m:num>
                      <m:den>
                        <m:r>
                          <m:t xml:space="preserve">6,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042920" y="3127320"/>
                <a:ext cx="1800360" cy="12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,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6,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728800" y="3112920"/>
                <a:ext cx="106524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708360" y="3141720"/>
                <a:ext cx="4460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0" y="4365720"/>
                <a:ext cx="212400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1,4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050920" y="4394160"/>
                <a:ext cx="19447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924360" y="4437000"/>
                <a:ext cx="173196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580000" y="4379760"/>
                <a:ext cx="136836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877080" y="4394160"/>
                <a:ext cx="10666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7812000" y="4365720"/>
                <a:ext cx="10447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0" y="5599080"/>
                <a:ext cx="216072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0,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1,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050920" y="5657760"/>
                <a:ext cx="201636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924360" y="5665680"/>
                <a:ext cx="194292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724360" y="5648400"/>
                <a:ext cx="11052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659640" y="5978520"/>
                <a:ext cx="369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443640" y="1557360"/>
                <a:ext cx="129708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46"/>
            </a:gs>
            <a:gs pos="50000">
              <a:srgbClr val="00ff99"/>
            </a:gs>
            <a:gs pos="100000">
              <a:srgbClr val="00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50920" y="765000"/>
                <a:ext cx="1076400" cy="151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50920" y="2205000"/>
                <a:ext cx="12999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4,2</m:t>
                        </m:r>
                      </m:num>
                      <m:den>
                        <m:r>
                          <m:t xml:space="preserve">6,3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50920" y="3068640"/>
                <a:ext cx="16923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4,2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50920" y="3860640"/>
                <a:ext cx="1979640" cy="15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÷</m:t>
                        </m:r>
                        <m:r>
                          <m:t xml:space="preserve">3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50920" y="5526000"/>
                <a:ext cx="147636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06" name=""/>
          <p:cNvGraphicFramePr/>
          <p:nvPr/>
        </p:nvGraphicFramePr>
        <p:xfrm>
          <a:off x="4859280" y="765000"/>
          <a:ext cx="4079880" cy="6120000"/>
        </p:xfrm>
        <a:graphic>
          <a:graphicData uri="http://schemas.openxmlformats.org/drawingml/2006/table">
            <a:tbl>
              <a:tblPr/>
              <a:tblGrid>
                <a:gridCol w="2040120"/>
                <a:gridCol w="203976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508720" y="836640"/>
                <a:ext cx="54288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580000" y="1916280"/>
                <a:ext cx="5446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651640" y="2997360"/>
                <a:ext cx="3902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508720" y="4149720"/>
                <a:ext cx="6476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,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651640" y="4941720"/>
                <a:ext cx="50472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651640" y="5950080"/>
                <a:ext cx="46800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1258920" y="907920"/>
            <a:ext cx="936720" cy="1150920"/>
          </a:xfrm>
          <a:custGeom>
            <a:avLst/>
            <a:gdLst>
              <a:gd name="textAreaLeft" fmla="*/ 213840 w 936720"/>
              <a:gd name="textAreaRight" fmla="*/ 722880 w 936720"/>
              <a:gd name="textAreaTop" fmla="*/ 262800 h 1150920"/>
              <a:gd name="textAreaBottom" fmla="*/ 88812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547640" y="1052640"/>
                <a:ext cx="3906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476360" y="2060640"/>
            <a:ext cx="1008000" cy="1295280"/>
          </a:xfrm>
          <a:custGeom>
            <a:avLst/>
            <a:gdLst>
              <a:gd name="textAreaLeft" fmla="*/ 230040 w 1008000"/>
              <a:gd name="textAreaRight" fmla="*/ 777960 w 10080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763640" y="2205000"/>
                <a:ext cx="5047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2268360" y="2852640"/>
            <a:ext cx="1008360" cy="1224000"/>
          </a:xfrm>
          <a:custGeom>
            <a:avLst/>
            <a:gdLst>
              <a:gd name="textAreaLeft" fmla="*/ 230040 w 1008360"/>
              <a:gd name="textAreaRight" fmla="*/ 778320 w 100836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484360" y="3213000"/>
                <a:ext cx="6476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,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2268360" y="4005360"/>
            <a:ext cx="1008360" cy="1224000"/>
          </a:xfrm>
          <a:custGeom>
            <a:avLst/>
            <a:gdLst>
              <a:gd name="textAreaLeft" fmla="*/ 230040 w 1008360"/>
              <a:gd name="textAreaRight" fmla="*/ 778320 w 100836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484360" y="4149720"/>
                <a:ext cx="5446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484360" y="4149720"/>
                <a:ext cx="5446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692360" y="5373720"/>
            <a:ext cx="1008000" cy="1224000"/>
          </a:xfrm>
          <a:custGeom>
            <a:avLst/>
            <a:gdLst>
              <a:gd name="textAreaLeft" fmla="*/ 230040 w 1008000"/>
              <a:gd name="textAreaRight" fmla="*/ 777960 w 100800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908000" y="5516640"/>
                <a:ext cx="5432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46"/>
            </a:gs>
            <a:gs pos="50000">
              <a:srgbClr val="00ff99"/>
            </a:gs>
            <a:gs pos="100000">
              <a:srgbClr val="00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Ун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римлян слово «УНЦИЯ» сначала было названием двенадцатой доли единицы массы, а потом стало обозначать одну двенадцатую любой величины. Говорили: «Семь унций пути», то есть семь двенадцатых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46"/>
            </a:gs>
            <a:gs pos="50000">
              <a:srgbClr val="00ff99"/>
            </a:gs>
            <a:gs pos="100000">
              <a:srgbClr val="00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им задач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32000" y="1916280"/>
            <a:ext cx="6440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11, № 7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46"/>
            </a:gs>
            <a:gs pos="50000">
              <a:srgbClr val="00ff99"/>
            </a:gs>
            <a:gs pos="100000">
              <a:srgbClr val="00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7636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 19, с. 116 – чита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95(б,д,з), №696(д,ж,л), №7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7:59:20Z</dcterms:created>
  <dc:creator>Intel</dc:creator>
  <dc:description/>
  <dc:language>en-US</dc:language>
  <cp:lastModifiedBy>Intel</cp:lastModifiedBy>
  <dcterms:modified xsi:type="dcterms:W3CDTF">2009-12-23T15:07:04Z</dcterms:modified>
  <cp:revision>4</cp:revision>
  <dc:subject/>
  <dc:title>Дробные выражения</dc:title>
</cp:coreProperties>
</file>