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_rels/drawing2.xml.rels" ContentType="application/vnd.openxmlformats-package.relationships+xml"/>
  <Override PartName="/ppt/diagrams/_rels/data2.xml.rels" ContentType="application/vnd.openxmlformats-package.relationship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OOXDiagramDataRels2_0.png" ContentType="image/png"/>
  <Override PartName="/ppt/media/OOXDiagramDrawingRels2_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_rels/drawing2.xml.rels><?xml version="1.0" encoding="UTF-8"?>
<Relationships xmlns="http://schemas.openxmlformats.org/package/2006/relationships"><Relationship Id="rId1" Type="http://schemas.openxmlformats.org/officeDocument/2006/relationships/image" Target="../media/OOXDiagramDrawing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2_4">
  <dgm:title val=""/>
  <dgm:desc val=""/>
  <dgm:catLst>
    <dgm:cat type="accent2" pri="11400"/>
  </dgm:catLst>
  <dgm:styleLbl name="node0">
    <dgm:fillClrLst meth="cycle">
      <a:schemeClr val="accent2">
        <a:shade val="6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cycle">
      <a:schemeClr val="accent2">
        <a:shade val="50000"/>
      </a:schemeClr>
      <a:schemeClr val="accent2">
        <a:tint val="45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cycle">
      <a:schemeClr val="accent2">
        <a:shade val="50000"/>
      </a:schemeClr>
      <a:schemeClr val="accent2">
        <a:tint val="45000"/>
      </a:schemeClr>
    </dgm:fillClrLst>
    <dgm:linClrLst meth="cycle">
      <a:schemeClr val="accent2">
        <a:shade val="50000"/>
      </a:schemeClr>
      <a:schemeClr val="accent2">
        <a:tint val="45000"/>
      </a:schemeClr>
    </dgm:linClrLst>
    <dgm:effectClrLst/>
    <dgm:txLinClrLst/>
    <dgm:txFillClrLst/>
    <dgm:txEffectClrLst/>
  </dgm:styleLbl>
  <dgm:styleLbl name="lnNode1">
    <dgm:fillClrLst meth="cycle">
      <a:schemeClr val="accent2">
        <a:shade val="50000"/>
      </a:schemeClr>
      <a:schemeClr val="accent2">
        <a:tint val="45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cycle">
      <a:schemeClr val="accent2">
        <a:shade val="80000"/>
        <a:alpha val="50000"/>
      </a:schemeClr>
      <a:schemeClr val="accent2">
        <a:tint val="45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2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cycle">
      <a:schemeClr val="accent2">
        <a:shade val="90000"/>
      </a:schemeClr>
      <a:schemeClr val="accent2">
        <a:tint val="50000"/>
      </a:schemeClr>
    </dgm:fillClrLst>
    <dgm:linClrLst meth="cycle"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2">
        <a:shade val="90000"/>
      </a:schemeClr>
      <a:schemeClr val="accent2">
        <a:tint val="50000"/>
      </a:schemeClr>
    </dgm:fillClrLst>
    <dgm:linClrLst meth="cycle"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 meth="cycle">
      <a:schemeClr val="accent2">
        <a:shade val="90000"/>
      </a:schemeClr>
      <a:schemeClr val="accent2">
        <a:tint val="50000"/>
      </a:schemeClr>
    </dgm:fillClrLst>
    <dgm:linClrLst meth="cycle"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 meth="cycle">
      <a:schemeClr val="accent2">
        <a:shade val="90000"/>
      </a:schemeClr>
      <a:schemeClr val="accent2">
        <a:tint val="50000"/>
      </a:schemeClr>
    </dgm:fillClrLst>
    <dgm:linClrLst meth="cycle"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tint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55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55000"/>
      </a:schemeClr>
    </dgm:fillClrLst>
    <dgm:linClrLst meth="repeat">
      <a:schemeClr val="accent2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55000"/>
      </a:schemeClr>
    </dgm:fillClrLst>
    <dgm:linClrLst meth="repeat">
      <a:schemeClr val="accent2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55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55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36B081A-FD93-4AFD-A533-9F6AF60854BE}" type="doc">
      <dgm:prSet loTypeId="urn:microsoft.com/office/officeart/2008/layout/VerticalCurvedList" loCatId="list" qsTypeId="urn:microsoft.com/office/officeart/2005/8/quickstyle/simple1" qsCatId="simple" csTypeId="urn:microsoft.com/office/officeart/2005/8/colors/accent2_4" csCatId="accent2" phldr="1"/>
      <dgm:spPr/>
      <dgm:t>
        <a:bodyPr/>
        <a:lstStyle/>
        <a:p>
          <a:endParaRPr lang="ru-RU"/>
        </a:p>
      </dgm:t>
    </dgm:pt>
    <dgm:pt modelId="{85EDCC4D-1159-428F-B74E-BCBF2D4BE185}">
      <dgm:prSet custT="1"/>
      <dgm:spPr/>
      <dgm:t>
        <a:bodyPr/>
        <a:lstStyle/>
        <a:p>
          <a:r>
            <a:rPr lang="ru-RU" sz="2000" b="1" dirty="0" smtClean="0">
              <a:solidFill>
                <a:schemeClr val="tx1"/>
              </a:solidFill>
            </a:rPr>
            <a:t>формированию доверительных отношений к друг другу;</a:t>
          </a:r>
          <a:endParaRPr lang="ru-RU" sz="2000" b="1" dirty="0">
            <a:solidFill>
              <a:schemeClr val="tx1"/>
            </a:solidFill>
          </a:endParaRPr>
        </a:p>
      </dgm:t>
    </dgm:pt>
    <dgm:pt modelId="{B7937B74-3541-422D-B241-B034D9484AAB}" type="parTrans" cxnId="{29CDC51F-63A4-4186-BC76-8AF0397F069A}">
      <dgm:prSet/>
      <dgm:spPr/>
      <dgm:t>
        <a:bodyPr/>
        <a:lstStyle/>
        <a:p>
          <a:endParaRPr lang="ru-RU"/>
        </a:p>
      </dgm:t>
    </dgm:pt>
    <dgm:pt modelId="{F3B0FE8B-4706-4547-8272-97BAF2CB1B1E}" type="sibTrans" cxnId="{29CDC51F-63A4-4186-BC76-8AF0397F069A}">
      <dgm:prSet/>
      <dgm:spPr/>
      <dgm:t>
        <a:bodyPr/>
        <a:lstStyle/>
        <a:p>
          <a:endParaRPr lang="ru-RU"/>
        </a:p>
      </dgm:t>
    </dgm:pt>
    <dgm:pt modelId="{E520C10B-2464-4F7B-92E4-AC388970A319}">
      <dgm:prSet custT="1"/>
      <dgm:spPr/>
      <dgm:t>
        <a:bodyPr/>
        <a:lstStyle/>
        <a:p>
          <a:r>
            <a:rPr lang="ru-RU" sz="1800" b="1" dirty="0" smtClean="0"/>
            <a:t>развитию умения понимать друг друга, вникать в суть полученной информации;</a:t>
          </a:r>
          <a:endParaRPr lang="ru-RU" sz="1800" b="1" dirty="0"/>
        </a:p>
      </dgm:t>
    </dgm:pt>
    <dgm:pt modelId="{25F657F4-EA63-4B4C-B78A-635FD6B6DB53}" type="parTrans" cxnId="{B6AD4240-1A2D-4AFF-934F-4EAEAE29326D}">
      <dgm:prSet/>
      <dgm:spPr/>
      <dgm:t>
        <a:bodyPr/>
        <a:lstStyle/>
        <a:p>
          <a:endParaRPr lang="ru-RU"/>
        </a:p>
      </dgm:t>
    </dgm:pt>
    <dgm:pt modelId="{DA1E0043-5C3A-4665-9260-5EA3FD40B273}" type="sibTrans" cxnId="{B6AD4240-1A2D-4AFF-934F-4EAEAE29326D}">
      <dgm:prSet/>
      <dgm:spPr/>
      <dgm:t>
        <a:bodyPr/>
        <a:lstStyle/>
        <a:p>
          <a:endParaRPr lang="ru-RU"/>
        </a:p>
      </dgm:t>
    </dgm:pt>
    <dgm:pt modelId="{08600325-B4A9-48E2-ABA4-F59FA5496016}">
      <dgm:prSet custT="1"/>
      <dgm:spPr/>
      <dgm:t>
        <a:bodyPr/>
        <a:lstStyle/>
        <a:p>
          <a:r>
            <a:rPr lang="ru-RU" sz="1800" b="1" smtClean="0">
              <a:solidFill>
                <a:schemeClr val="accent3"/>
              </a:solidFill>
            </a:rPr>
            <a:t>формированию </a:t>
          </a:r>
          <a:r>
            <a:rPr lang="ru-RU" sz="1800" b="1" dirty="0" smtClean="0">
              <a:solidFill>
                <a:schemeClr val="accent3"/>
              </a:solidFill>
            </a:rPr>
            <a:t>позитивного отношения к собственному  телу и развивают способность управлять им;</a:t>
          </a:r>
        </a:p>
      </dgm:t>
    </dgm:pt>
    <dgm:pt modelId="{AA76F38F-CC73-4D3D-B610-768D879693A8}" type="parTrans" cxnId="{42C6E2E4-107E-4466-B8DB-DD7DAEA93722}">
      <dgm:prSet/>
      <dgm:spPr/>
      <dgm:t>
        <a:bodyPr/>
        <a:lstStyle/>
        <a:p>
          <a:endParaRPr lang="ru-RU"/>
        </a:p>
      </dgm:t>
    </dgm:pt>
    <dgm:pt modelId="{7BFB2387-FD45-45FC-BEF6-3711825A81BC}" type="sibTrans" cxnId="{42C6E2E4-107E-4466-B8DB-DD7DAEA93722}">
      <dgm:prSet/>
      <dgm:spPr/>
      <dgm:t>
        <a:bodyPr/>
        <a:lstStyle/>
        <a:p>
          <a:endParaRPr lang="ru-RU"/>
        </a:p>
      </dgm:t>
    </dgm:pt>
    <dgm:pt modelId="{A9531BF1-0FBF-4100-9BFC-0D9F13BA3270}">
      <dgm:prSet custT="1"/>
      <dgm:spPr/>
      <dgm:t>
        <a:bodyPr/>
        <a:lstStyle/>
        <a:p>
          <a:pPr marL="0" marR="0" indent="0" defTabSz="914400" eaLnBrk="1" fontAlgn="auto" latinLnBrk="0" hangingPunct="1">
            <a:lnSpc>
              <a:spcPct val="100000"/>
            </a:lnSpc>
            <a:spcBef>
              <a:spcPts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endParaRPr lang="ru-RU" sz="1400" dirty="0" smtClean="0"/>
        </a:p>
        <a:p>
          <a:pPr marL="0" marR="0" indent="0" defTabSz="914400" eaLnBrk="1" fontAlgn="auto" latinLnBrk="0" hangingPunct="1">
            <a:lnSpc>
              <a:spcPct val="100000"/>
            </a:lnSpc>
            <a:spcBef>
              <a:spcPts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endParaRPr lang="ru-RU" sz="1400" dirty="0" smtClean="0"/>
        </a:p>
        <a:p>
          <a:pPr marL="0" marR="0" indent="0" defTabSz="914400" eaLnBrk="1" fontAlgn="auto" latinLnBrk="0" hangingPunct="1">
            <a:lnSpc>
              <a:spcPct val="100000"/>
            </a:lnSpc>
            <a:spcBef>
              <a:spcPts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r>
            <a:rPr lang="ru-RU" sz="2000" b="1" dirty="0" smtClean="0">
              <a:solidFill>
                <a:schemeClr val="tx1"/>
              </a:solidFill>
            </a:rPr>
            <a:t>развитию эмоциональной сферы и психических процессов;</a:t>
          </a:r>
        </a:p>
        <a:p>
          <a:endParaRPr lang="ru-RU" sz="2800" dirty="0"/>
        </a:p>
      </dgm:t>
    </dgm:pt>
    <dgm:pt modelId="{A2AB4100-D4B9-4713-86BC-3C0FF2A455B2}" type="parTrans" cxnId="{4617FC37-3A5F-45EA-9670-E25D4ECFA3E1}">
      <dgm:prSet/>
      <dgm:spPr/>
      <dgm:t>
        <a:bodyPr/>
        <a:lstStyle/>
        <a:p>
          <a:endParaRPr lang="ru-RU"/>
        </a:p>
      </dgm:t>
    </dgm:pt>
    <dgm:pt modelId="{001540B0-A954-41A1-B451-83229333E923}" type="sibTrans" cxnId="{4617FC37-3A5F-45EA-9670-E25D4ECFA3E1}">
      <dgm:prSet/>
      <dgm:spPr/>
      <dgm:t>
        <a:bodyPr/>
        <a:lstStyle/>
        <a:p>
          <a:endParaRPr lang="ru-RU"/>
        </a:p>
      </dgm:t>
    </dgm:pt>
    <dgm:pt modelId="{1F206C90-D882-4D88-BC0E-BF0A78906266}">
      <dgm:prSet custT="1"/>
      <dgm:spPr/>
      <dgm:t>
        <a:bodyPr/>
        <a:lstStyle/>
        <a:p>
          <a:r>
            <a:rPr lang="ru-RU" sz="3200" dirty="0" smtClean="0"/>
            <a:t> </a:t>
          </a:r>
          <a:r>
            <a:rPr lang="ru-RU" sz="2000" b="1" dirty="0" smtClean="0">
              <a:solidFill>
                <a:schemeClr val="tx1"/>
              </a:solidFill>
            </a:rPr>
            <a:t>развитию невербального воображения, образного мышления. </a:t>
          </a:r>
          <a:endParaRPr lang="ru-RU" sz="1800" b="1" dirty="0">
            <a:solidFill>
              <a:schemeClr val="tx1"/>
            </a:solidFill>
          </a:endParaRPr>
        </a:p>
      </dgm:t>
    </dgm:pt>
    <dgm:pt modelId="{238436DD-C561-4A7D-96C6-01AB9C6D3516}" type="parTrans" cxnId="{40457BB9-6D52-4190-AF90-90D4B6A7BDF5}">
      <dgm:prSet/>
      <dgm:spPr/>
      <dgm:t>
        <a:bodyPr/>
        <a:lstStyle/>
        <a:p>
          <a:endParaRPr lang="ru-RU"/>
        </a:p>
      </dgm:t>
    </dgm:pt>
    <dgm:pt modelId="{953DE085-2D05-4ACE-AD9C-5E76AB204454}" type="sibTrans" cxnId="{40457BB9-6D52-4190-AF90-90D4B6A7BDF5}">
      <dgm:prSet/>
      <dgm:spPr/>
      <dgm:t>
        <a:bodyPr/>
        <a:lstStyle/>
        <a:p>
          <a:endParaRPr lang="ru-RU"/>
        </a:p>
      </dgm:t>
    </dgm:pt>
    <dgm:pt modelId="{BD2D3478-521C-4EFA-A83A-E76CCBDC1293}">
      <dgm:prSet custT="1"/>
      <dgm:spPr/>
      <dgm:t>
        <a:bodyPr/>
        <a:lstStyle/>
        <a:p>
          <a:r>
            <a:rPr lang="ru-RU" sz="2000" b="1" dirty="0" smtClean="0"/>
            <a:t>формированию</a:t>
          </a:r>
          <a:r>
            <a:rPr lang="ru-RU" sz="2400" b="1" dirty="0" smtClean="0"/>
            <a:t> речевого аппарата</a:t>
          </a:r>
          <a:endParaRPr lang="ru-RU" sz="2400" b="1" dirty="0"/>
        </a:p>
      </dgm:t>
    </dgm:pt>
    <dgm:pt modelId="{70D4C06E-4D58-4B76-BB99-9599D77CA979}" type="parTrans" cxnId="{3F9E8617-35C4-4B51-BDA8-DE5DD04EC391}">
      <dgm:prSet/>
      <dgm:spPr/>
      <dgm:t>
        <a:bodyPr/>
        <a:lstStyle/>
        <a:p>
          <a:endParaRPr lang="ru-RU"/>
        </a:p>
      </dgm:t>
    </dgm:pt>
    <dgm:pt modelId="{CE16FFE6-2479-49CF-813A-38977C97F815}" type="sibTrans" cxnId="{3F9E8617-35C4-4B51-BDA8-DE5DD04EC391}">
      <dgm:prSet/>
      <dgm:spPr/>
      <dgm:t>
        <a:bodyPr/>
        <a:lstStyle/>
        <a:p>
          <a:endParaRPr lang="ru-RU"/>
        </a:p>
      </dgm:t>
    </dgm:pt>
    <dgm:pt modelId="{FD8F79B3-3775-45EE-9C0B-F6B5207E0C84}" type="pres">
      <dgm:prSet presAssocID="{536B081A-FD93-4AFD-A533-9F6AF60854BE}" presName="Name0" presStyleCnt="0">
        <dgm:presLayoutVars>
          <dgm:chMax val="7"/>
          <dgm:chPref val="7"/>
          <dgm:dir/>
        </dgm:presLayoutVars>
      </dgm:prSet>
      <dgm:spPr/>
      <dgm:t>
        <a:bodyPr/>
        <a:lstStyle/>
        <a:p>
          <a:endParaRPr lang="ru-RU"/>
        </a:p>
      </dgm:t>
    </dgm:pt>
    <dgm:pt modelId="{53E1F7B1-09D6-4689-8E75-2106850210D5}" type="pres">
      <dgm:prSet presAssocID="{536B081A-FD93-4AFD-A533-9F6AF60854BE}" presName="Name1" presStyleCnt="0"/>
      <dgm:spPr/>
    </dgm:pt>
    <dgm:pt modelId="{9D497F0F-F152-4366-8BA5-54873D9C4FF8}" type="pres">
      <dgm:prSet presAssocID="{536B081A-FD93-4AFD-A533-9F6AF60854BE}" presName="cycle" presStyleCnt="0"/>
      <dgm:spPr/>
    </dgm:pt>
    <dgm:pt modelId="{F2469BED-5CA8-46D3-91B7-FEFC7773B6A2}" type="pres">
      <dgm:prSet presAssocID="{536B081A-FD93-4AFD-A533-9F6AF60854BE}" presName="srcNode" presStyleLbl="node1" presStyleIdx="0" presStyleCnt="6"/>
      <dgm:spPr/>
    </dgm:pt>
    <dgm:pt modelId="{96DBE0E2-9C77-47D0-8D5A-63BD9D349417}" type="pres">
      <dgm:prSet presAssocID="{536B081A-FD93-4AFD-A533-9F6AF60854BE}" presName="conn" presStyleLbl="parChTrans1D2" presStyleIdx="0" presStyleCnt="1"/>
      <dgm:spPr/>
      <dgm:t>
        <a:bodyPr/>
        <a:lstStyle/>
        <a:p>
          <a:endParaRPr lang="ru-RU"/>
        </a:p>
      </dgm:t>
    </dgm:pt>
    <dgm:pt modelId="{60CBFE7B-A49B-4985-A271-D0CB49411598}" type="pres">
      <dgm:prSet presAssocID="{536B081A-FD93-4AFD-A533-9F6AF60854BE}" presName="extraNode" presStyleLbl="node1" presStyleIdx="0" presStyleCnt="6"/>
      <dgm:spPr/>
    </dgm:pt>
    <dgm:pt modelId="{16052679-D8DB-414A-BCAA-C027F31FC1C0}" type="pres">
      <dgm:prSet presAssocID="{536B081A-FD93-4AFD-A533-9F6AF60854BE}" presName="dstNode" presStyleLbl="node1" presStyleIdx="0" presStyleCnt="6"/>
      <dgm:spPr/>
    </dgm:pt>
    <dgm:pt modelId="{FFD963D4-A11C-49BF-9E57-14AA5F452F9F}" type="pres">
      <dgm:prSet presAssocID="{08600325-B4A9-48E2-ABA4-F59FA5496016}" presName="text_1" presStyleLbl="node1" presStyleIdx="0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21E7DE2-95A4-4298-9EE6-A7F3BA1A5E2C}" type="pres">
      <dgm:prSet presAssocID="{08600325-B4A9-48E2-ABA4-F59FA5496016}" presName="accent_1" presStyleCnt="0"/>
      <dgm:spPr/>
    </dgm:pt>
    <dgm:pt modelId="{69406B36-CACA-44EC-8819-D71352097129}" type="pres">
      <dgm:prSet presAssocID="{08600325-B4A9-48E2-ABA4-F59FA5496016}" presName="accentRepeatNode" presStyleLbl="solidFgAcc1" presStyleIdx="0" presStyleCnt="6"/>
      <dgm:spPr/>
    </dgm:pt>
    <dgm:pt modelId="{EC1638C0-99C7-441B-A32B-8DC33F45070C}" type="pres">
      <dgm:prSet presAssocID="{E520C10B-2464-4F7B-92E4-AC388970A319}" presName="text_2" presStyleLbl="node1" presStyleIdx="1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775D2CD-2B11-4DC0-810D-F6EA833AC754}" type="pres">
      <dgm:prSet presAssocID="{E520C10B-2464-4F7B-92E4-AC388970A319}" presName="accent_2" presStyleCnt="0"/>
      <dgm:spPr/>
    </dgm:pt>
    <dgm:pt modelId="{8E0114CA-E844-4DBF-AB4D-441077490AEF}" type="pres">
      <dgm:prSet presAssocID="{E520C10B-2464-4F7B-92E4-AC388970A319}" presName="accentRepeatNode" presStyleLbl="solidFgAcc1" presStyleIdx="1" presStyleCnt="6"/>
      <dgm:spPr/>
    </dgm:pt>
    <dgm:pt modelId="{7120FB7B-E0AC-4D96-9665-B53EF5967A9F}" type="pres">
      <dgm:prSet presAssocID="{A9531BF1-0FBF-4100-9BFC-0D9F13BA3270}" presName="text_3" presStyleLbl="node1" presStyleIdx="2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F440161-CE2D-42AB-846B-EB911E3C573A}" type="pres">
      <dgm:prSet presAssocID="{A9531BF1-0FBF-4100-9BFC-0D9F13BA3270}" presName="accent_3" presStyleCnt="0"/>
      <dgm:spPr/>
    </dgm:pt>
    <dgm:pt modelId="{BCC375F6-645F-4FB6-BC42-FBFB71DC078B}" type="pres">
      <dgm:prSet presAssocID="{A9531BF1-0FBF-4100-9BFC-0D9F13BA3270}" presName="accentRepeatNode" presStyleLbl="solidFgAcc1" presStyleIdx="2" presStyleCnt="6"/>
      <dgm:spPr/>
    </dgm:pt>
    <dgm:pt modelId="{40149C06-4229-4E56-A34E-BEAE05D49B18}" type="pres">
      <dgm:prSet presAssocID="{85EDCC4D-1159-428F-B74E-BCBF2D4BE185}" presName="text_4" presStyleLbl="node1" presStyleIdx="3" presStyleCnt="6" custLinFactNeighborX="-320" custLinFactNeighborY="198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B5061EF-46BF-4AD5-B5EA-AA628EF0C703}" type="pres">
      <dgm:prSet presAssocID="{85EDCC4D-1159-428F-B74E-BCBF2D4BE185}" presName="accent_4" presStyleCnt="0"/>
      <dgm:spPr/>
    </dgm:pt>
    <dgm:pt modelId="{2B26C479-189E-400E-B46F-FE59A3B2DE1D}" type="pres">
      <dgm:prSet presAssocID="{85EDCC4D-1159-428F-B74E-BCBF2D4BE185}" presName="accentRepeatNode" presStyleLbl="solidFgAcc1" presStyleIdx="3" presStyleCnt="6"/>
      <dgm:spPr/>
    </dgm:pt>
    <dgm:pt modelId="{BC4D8DDC-2C85-479E-9C5E-A142F05AD2A1}" type="pres">
      <dgm:prSet presAssocID="{1F206C90-D882-4D88-BC0E-BF0A78906266}" presName="text_5" presStyleLbl="node1" presStyleIdx="4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E20937E-CFC9-4220-B9D6-86D2DB99CA0C}" type="pres">
      <dgm:prSet presAssocID="{1F206C90-D882-4D88-BC0E-BF0A78906266}" presName="accent_5" presStyleCnt="0"/>
      <dgm:spPr/>
    </dgm:pt>
    <dgm:pt modelId="{08C13384-E2C8-4388-8B20-92A4FCC5D140}" type="pres">
      <dgm:prSet presAssocID="{1F206C90-D882-4D88-BC0E-BF0A78906266}" presName="accentRepeatNode" presStyleLbl="solidFgAcc1" presStyleIdx="4" presStyleCnt="6"/>
      <dgm:spPr/>
    </dgm:pt>
    <dgm:pt modelId="{A27EBC6A-A86C-4E7D-B6E2-84DC96CEA1EE}" type="pres">
      <dgm:prSet presAssocID="{BD2D3478-521C-4EFA-A83A-E76CCBDC1293}" presName="text_6" presStyleLbl="node1" presStyleIdx="5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6C7B1C8-95F6-4D04-BF11-1CC2C0BBFC26}" type="pres">
      <dgm:prSet presAssocID="{BD2D3478-521C-4EFA-A83A-E76CCBDC1293}" presName="accent_6" presStyleCnt="0"/>
      <dgm:spPr/>
    </dgm:pt>
    <dgm:pt modelId="{BAF61CB4-AB9E-419E-A867-83A9F3A53D7F}" type="pres">
      <dgm:prSet presAssocID="{BD2D3478-521C-4EFA-A83A-E76CCBDC1293}" presName="accentRepeatNode" presStyleLbl="solidFgAcc1" presStyleIdx="5" presStyleCnt="6"/>
      <dgm:spPr/>
    </dgm:pt>
  </dgm:ptLst>
  <dgm:cxnLst>
    <dgm:cxn modelId="{29CDC51F-63A4-4186-BC76-8AF0397F069A}" srcId="{536B081A-FD93-4AFD-A533-9F6AF60854BE}" destId="{85EDCC4D-1159-428F-B74E-BCBF2D4BE185}" srcOrd="3" destOrd="0" parTransId="{B7937B74-3541-422D-B241-B034D9484AAB}" sibTransId="{F3B0FE8B-4706-4547-8272-97BAF2CB1B1E}"/>
    <dgm:cxn modelId="{40457BB9-6D52-4190-AF90-90D4B6A7BDF5}" srcId="{536B081A-FD93-4AFD-A533-9F6AF60854BE}" destId="{1F206C90-D882-4D88-BC0E-BF0A78906266}" srcOrd="4" destOrd="0" parTransId="{238436DD-C561-4A7D-96C6-01AB9C6D3516}" sibTransId="{953DE085-2D05-4ACE-AD9C-5E76AB204454}"/>
    <dgm:cxn modelId="{C4B0A653-683D-4522-BE6B-A65B453B8DBB}" type="presOf" srcId="{1F206C90-D882-4D88-BC0E-BF0A78906266}" destId="{BC4D8DDC-2C85-479E-9C5E-A142F05AD2A1}" srcOrd="0" destOrd="0" presId="urn:microsoft.com/office/officeart/2008/layout/VerticalCurvedList"/>
    <dgm:cxn modelId="{3F9E8617-35C4-4B51-BDA8-DE5DD04EC391}" srcId="{536B081A-FD93-4AFD-A533-9F6AF60854BE}" destId="{BD2D3478-521C-4EFA-A83A-E76CCBDC1293}" srcOrd="5" destOrd="0" parTransId="{70D4C06E-4D58-4B76-BB99-9599D77CA979}" sibTransId="{CE16FFE6-2479-49CF-813A-38977C97F815}"/>
    <dgm:cxn modelId="{45C2B754-0C4A-4023-A830-09904B57CDAF}" type="presOf" srcId="{7BFB2387-FD45-45FC-BEF6-3711825A81BC}" destId="{96DBE0E2-9C77-47D0-8D5A-63BD9D349417}" srcOrd="0" destOrd="0" presId="urn:microsoft.com/office/officeart/2008/layout/VerticalCurvedList"/>
    <dgm:cxn modelId="{B6AD4240-1A2D-4AFF-934F-4EAEAE29326D}" srcId="{536B081A-FD93-4AFD-A533-9F6AF60854BE}" destId="{E520C10B-2464-4F7B-92E4-AC388970A319}" srcOrd="1" destOrd="0" parTransId="{25F657F4-EA63-4B4C-B78A-635FD6B6DB53}" sibTransId="{DA1E0043-5C3A-4665-9260-5EA3FD40B273}"/>
    <dgm:cxn modelId="{DFA0DDC4-E0F2-447F-8CEE-8E88FF74C478}" type="presOf" srcId="{536B081A-FD93-4AFD-A533-9F6AF60854BE}" destId="{FD8F79B3-3775-45EE-9C0B-F6B5207E0C84}" srcOrd="0" destOrd="0" presId="urn:microsoft.com/office/officeart/2008/layout/VerticalCurvedList"/>
    <dgm:cxn modelId="{4617FC37-3A5F-45EA-9670-E25D4ECFA3E1}" srcId="{536B081A-FD93-4AFD-A533-9F6AF60854BE}" destId="{A9531BF1-0FBF-4100-9BFC-0D9F13BA3270}" srcOrd="2" destOrd="0" parTransId="{A2AB4100-D4B9-4713-86BC-3C0FF2A455B2}" sibTransId="{001540B0-A954-41A1-B451-83229333E923}"/>
    <dgm:cxn modelId="{EBDD0588-046F-4006-A09B-6FCDA2841CC7}" type="presOf" srcId="{BD2D3478-521C-4EFA-A83A-E76CCBDC1293}" destId="{A27EBC6A-A86C-4E7D-B6E2-84DC96CEA1EE}" srcOrd="0" destOrd="0" presId="urn:microsoft.com/office/officeart/2008/layout/VerticalCurvedList"/>
    <dgm:cxn modelId="{8708C7E9-7ACF-4B6E-91AE-42A1CECA4046}" type="presOf" srcId="{A9531BF1-0FBF-4100-9BFC-0D9F13BA3270}" destId="{7120FB7B-E0AC-4D96-9665-B53EF5967A9F}" srcOrd="0" destOrd="0" presId="urn:microsoft.com/office/officeart/2008/layout/VerticalCurvedList"/>
    <dgm:cxn modelId="{A03E6CA7-8430-4B56-BA14-84E91B887DFA}" type="presOf" srcId="{08600325-B4A9-48E2-ABA4-F59FA5496016}" destId="{FFD963D4-A11C-49BF-9E57-14AA5F452F9F}" srcOrd="0" destOrd="0" presId="urn:microsoft.com/office/officeart/2008/layout/VerticalCurvedList"/>
    <dgm:cxn modelId="{C54A70FD-4101-49DF-AD4A-7F759DC390D1}" type="presOf" srcId="{E520C10B-2464-4F7B-92E4-AC388970A319}" destId="{EC1638C0-99C7-441B-A32B-8DC33F45070C}" srcOrd="0" destOrd="0" presId="urn:microsoft.com/office/officeart/2008/layout/VerticalCurvedList"/>
    <dgm:cxn modelId="{42C6E2E4-107E-4466-B8DB-DD7DAEA93722}" srcId="{536B081A-FD93-4AFD-A533-9F6AF60854BE}" destId="{08600325-B4A9-48E2-ABA4-F59FA5496016}" srcOrd="0" destOrd="0" parTransId="{AA76F38F-CC73-4D3D-B610-768D879693A8}" sibTransId="{7BFB2387-FD45-45FC-BEF6-3711825A81BC}"/>
    <dgm:cxn modelId="{85385C20-3A7F-4499-BD9A-553AB845BD03}" type="presOf" srcId="{85EDCC4D-1159-428F-B74E-BCBF2D4BE185}" destId="{40149C06-4229-4E56-A34E-BEAE05D49B18}" srcOrd="0" destOrd="0" presId="urn:microsoft.com/office/officeart/2008/layout/VerticalCurvedList"/>
    <dgm:cxn modelId="{083B723B-4DAB-4281-8322-501AAC7F274F}" type="presParOf" srcId="{FD8F79B3-3775-45EE-9C0B-F6B5207E0C84}" destId="{53E1F7B1-09D6-4689-8E75-2106850210D5}" srcOrd="0" destOrd="0" presId="urn:microsoft.com/office/officeart/2008/layout/VerticalCurvedList"/>
    <dgm:cxn modelId="{43DB3543-1087-4C0D-BB27-951B18688CEA}" type="presParOf" srcId="{53E1F7B1-09D6-4689-8E75-2106850210D5}" destId="{9D497F0F-F152-4366-8BA5-54873D9C4FF8}" srcOrd="0" destOrd="0" presId="urn:microsoft.com/office/officeart/2008/layout/VerticalCurvedList"/>
    <dgm:cxn modelId="{F972A6CC-447D-422D-B99F-20B17DE48FC0}" type="presParOf" srcId="{9D497F0F-F152-4366-8BA5-54873D9C4FF8}" destId="{F2469BED-5CA8-46D3-91B7-FEFC7773B6A2}" srcOrd="0" destOrd="0" presId="urn:microsoft.com/office/officeart/2008/layout/VerticalCurvedList"/>
    <dgm:cxn modelId="{AF4E97AE-F6D8-4C79-8114-798F47559C22}" type="presParOf" srcId="{9D497F0F-F152-4366-8BA5-54873D9C4FF8}" destId="{96DBE0E2-9C77-47D0-8D5A-63BD9D349417}" srcOrd="1" destOrd="0" presId="urn:microsoft.com/office/officeart/2008/layout/VerticalCurvedList"/>
    <dgm:cxn modelId="{8F0220FB-157A-4ABD-9844-88E429F480F2}" type="presParOf" srcId="{9D497F0F-F152-4366-8BA5-54873D9C4FF8}" destId="{60CBFE7B-A49B-4985-A271-D0CB49411598}" srcOrd="2" destOrd="0" presId="urn:microsoft.com/office/officeart/2008/layout/VerticalCurvedList"/>
    <dgm:cxn modelId="{0F4F0E10-5879-41CE-9FDF-4072A35AAC42}" type="presParOf" srcId="{9D497F0F-F152-4366-8BA5-54873D9C4FF8}" destId="{16052679-D8DB-414A-BCAA-C027F31FC1C0}" srcOrd="3" destOrd="0" presId="urn:microsoft.com/office/officeart/2008/layout/VerticalCurvedList"/>
    <dgm:cxn modelId="{67AA63EB-6B38-4649-8B61-5A69E6C2CFB6}" type="presParOf" srcId="{53E1F7B1-09D6-4689-8E75-2106850210D5}" destId="{FFD963D4-A11C-49BF-9E57-14AA5F452F9F}" srcOrd="1" destOrd="0" presId="urn:microsoft.com/office/officeart/2008/layout/VerticalCurvedList"/>
    <dgm:cxn modelId="{324151D6-B47C-4BA6-997F-2D47354C4633}" type="presParOf" srcId="{53E1F7B1-09D6-4689-8E75-2106850210D5}" destId="{021E7DE2-95A4-4298-9EE6-A7F3BA1A5E2C}" srcOrd="2" destOrd="0" presId="urn:microsoft.com/office/officeart/2008/layout/VerticalCurvedList"/>
    <dgm:cxn modelId="{63A70BB1-8E6D-422A-AC09-BEE6DCFE0979}" type="presParOf" srcId="{021E7DE2-95A4-4298-9EE6-A7F3BA1A5E2C}" destId="{69406B36-CACA-44EC-8819-D71352097129}" srcOrd="0" destOrd="0" presId="urn:microsoft.com/office/officeart/2008/layout/VerticalCurvedList"/>
    <dgm:cxn modelId="{D8D50863-825C-49DB-9BF6-E7F5ECB9D2D6}" type="presParOf" srcId="{53E1F7B1-09D6-4689-8E75-2106850210D5}" destId="{EC1638C0-99C7-441B-A32B-8DC33F45070C}" srcOrd="3" destOrd="0" presId="urn:microsoft.com/office/officeart/2008/layout/VerticalCurvedList"/>
    <dgm:cxn modelId="{D8DEA3D4-D50A-4F24-86C6-E5AD73A364D6}" type="presParOf" srcId="{53E1F7B1-09D6-4689-8E75-2106850210D5}" destId="{7775D2CD-2B11-4DC0-810D-F6EA833AC754}" srcOrd="4" destOrd="0" presId="urn:microsoft.com/office/officeart/2008/layout/VerticalCurvedList"/>
    <dgm:cxn modelId="{B1361759-08D1-4F15-8218-FE4FB5854553}" type="presParOf" srcId="{7775D2CD-2B11-4DC0-810D-F6EA833AC754}" destId="{8E0114CA-E844-4DBF-AB4D-441077490AEF}" srcOrd="0" destOrd="0" presId="urn:microsoft.com/office/officeart/2008/layout/VerticalCurvedList"/>
    <dgm:cxn modelId="{8AFCC95F-0A1E-47D6-AE3F-C0EB2C0FBABA}" type="presParOf" srcId="{53E1F7B1-09D6-4689-8E75-2106850210D5}" destId="{7120FB7B-E0AC-4D96-9665-B53EF5967A9F}" srcOrd="5" destOrd="0" presId="urn:microsoft.com/office/officeart/2008/layout/VerticalCurvedList"/>
    <dgm:cxn modelId="{4E2687FF-2E14-4D89-90D8-198629669DF2}" type="presParOf" srcId="{53E1F7B1-09D6-4689-8E75-2106850210D5}" destId="{EF440161-CE2D-42AB-846B-EB911E3C573A}" srcOrd="6" destOrd="0" presId="urn:microsoft.com/office/officeart/2008/layout/VerticalCurvedList"/>
    <dgm:cxn modelId="{51538996-54A7-41B5-A535-F264B734EBCF}" type="presParOf" srcId="{EF440161-CE2D-42AB-846B-EB911E3C573A}" destId="{BCC375F6-645F-4FB6-BC42-FBFB71DC078B}" srcOrd="0" destOrd="0" presId="urn:microsoft.com/office/officeart/2008/layout/VerticalCurvedList"/>
    <dgm:cxn modelId="{53D942A1-6142-4048-A7EE-6869CA7D1102}" type="presParOf" srcId="{53E1F7B1-09D6-4689-8E75-2106850210D5}" destId="{40149C06-4229-4E56-A34E-BEAE05D49B18}" srcOrd="7" destOrd="0" presId="urn:microsoft.com/office/officeart/2008/layout/VerticalCurvedList"/>
    <dgm:cxn modelId="{42113A81-5FDA-4466-A3C4-5E1D226F4B2F}" type="presParOf" srcId="{53E1F7B1-09D6-4689-8E75-2106850210D5}" destId="{1B5061EF-46BF-4AD5-B5EA-AA628EF0C703}" srcOrd="8" destOrd="0" presId="urn:microsoft.com/office/officeart/2008/layout/VerticalCurvedList"/>
    <dgm:cxn modelId="{C0AF5205-6325-484D-9326-FBA40F83956A}" type="presParOf" srcId="{1B5061EF-46BF-4AD5-B5EA-AA628EF0C703}" destId="{2B26C479-189E-400E-B46F-FE59A3B2DE1D}" srcOrd="0" destOrd="0" presId="urn:microsoft.com/office/officeart/2008/layout/VerticalCurvedList"/>
    <dgm:cxn modelId="{7FDA88D7-6C0E-4C49-B505-18A0B7AF9DCF}" type="presParOf" srcId="{53E1F7B1-09D6-4689-8E75-2106850210D5}" destId="{BC4D8DDC-2C85-479E-9C5E-A142F05AD2A1}" srcOrd="9" destOrd="0" presId="urn:microsoft.com/office/officeart/2008/layout/VerticalCurvedList"/>
    <dgm:cxn modelId="{EC36AC58-AEBB-464F-BDD4-7435D7E7B540}" type="presParOf" srcId="{53E1F7B1-09D6-4689-8E75-2106850210D5}" destId="{3E20937E-CFC9-4220-B9D6-86D2DB99CA0C}" srcOrd="10" destOrd="0" presId="urn:microsoft.com/office/officeart/2008/layout/VerticalCurvedList"/>
    <dgm:cxn modelId="{D72D8D98-8826-479A-8424-3919EF2DF5F5}" type="presParOf" srcId="{3E20937E-CFC9-4220-B9D6-86D2DB99CA0C}" destId="{08C13384-E2C8-4388-8B20-92A4FCC5D140}" srcOrd="0" destOrd="0" presId="urn:microsoft.com/office/officeart/2008/layout/VerticalCurvedList"/>
    <dgm:cxn modelId="{96A80CBD-27F3-46F0-95C9-236180E04E46}" type="presParOf" srcId="{53E1F7B1-09D6-4689-8E75-2106850210D5}" destId="{A27EBC6A-A86C-4E7D-B6E2-84DC96CEA1EE}" srcOrd="11" destOrd="0" presId="urn:microsoft.com/office/officeart/2008/layout/VerticalCurvedList"/>
    <dgm:cxn modelId="{1EC84834-A01E-4E4B-A7E5-97311A0EBCC4}" type="presParOf" srcId="{53E1F7B1-09D6-4689-8E75-2106850210D5}" destId="{F6C7B1C8-95F6-4D04-BF11-1CC2C0BBFC26}" srcOrd="12" destOrd="0" presId="urn:microsoft.com/office/officeart/2008/layout/VerticalCurvedList"/>
    <dgm:cxn modelId="{0D553E38-0EBD-4ABE-B5BC-6564164F81C9}" type="presParOf" srcId="{F6C7B1C8-95F6-4D04-BF11-1CC2C0BBFC26}" destId="{BAF61CB4-AB9E-419E-A867-83A9F3A53D7F}" srcOrd="0" destOrd="0" presId="urn:microsoft.com/office/officeart/2008/layout/VerticalCurvedLis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FA6E985E-CB1D-455A-ACB2-29391D44E105}" type="doc">
      <dgm:prSet loTypeId="urn:microsoft.com/office/officeart/2005/8/layout/hierarchy2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10E59048-32C3-4369-ABE1-D9ECC2CFB604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  <a:ln>
          <a:solidFill>
            <a:schemeClr val="accent1">
              <a:lumMod val="75000"/>
            </a:schemeClr>
          </a:solidFill>
        </a:ln>
      </dgm:spPr>
      <dgm:t>
        <a:bodyPr/>
        <a:lstStyle/>
        <a:p>
          <a:endParaRPr lang="ru-RU" sz="3200" dirty="0">
            <a:solidFill>
              <a:schemeClr val="tx1"/>
            </a:solidFill>
            <a:latin typeface="Calibri" pitchFamily="34" charset="0"/>
            <a:cs typeface="Calibri" pitchFamily="34" charset="0"/>
          </a:endParaRPr>
        </a:p>
      </dgm:t>
    </dgm:pt>
    <dgm:pt modelId="{5D6618A1-0954-440A-9A08-38D4883B961A}" type="parTrans" cxnId="{54F75A19-20AC-44BD-A3A9-3391C3144B6C}">
      <dgm:prSet/>
      <dgm:spPr/>
      <dgm:t>
        <a:bodyPr/>
        <a:lstStyle/>
        <a:p>
          <a:endParaRPr lang="ru-RU" sz="3200">
            <a:latin typeface="Calibri" pitchFamily="34" charset="0"/>
            <a:cs typeface="Calibri" pitchFamily="34" charset="0"/>
          </a:endParaRPr>
        </a:p>
      </dgm:t>
    </dgm:pt>
    <dgm:pt modelId="{269D5742-3A5B-43C2-8C2B-53B45426280E}" type="sibTrans" cxnId="{54F75A19-20AC-44BD-A3A9-3391C3144B6C}">
      <dgm:prSet/>
      <dgm:spPr/>
      <dgm:t>
        <a:bodyPr/>
        <a:lstStyle/>
        <a:p>
          <a:endParaRPr lang="ru-RU" sz="3200">
            <a:latin typeface="Calibri" pitchFamily="34" charset="0"/>
            <a:cs typeface="Calibri" pitchFamily="34" charset="0"/>
          </a:endParaRPr>
        </a:p>
      </dgm:t>
    </dgm:pt>
    <dgm:pt modelId="{1479EAAA-595C-4351-95B9-AFAB9EF5D603}">
      <dgm:prSet custT="1"/>
      <dgm:spPr/>
      <dgm:t>
        <a:bodyPr/>
        <a:lstStyle/>
        <a:p>
          <a:r>
            <a:rPr lang="ru-RU" sz="2800" dirty="0" smtClean="0">
              <a:solidFill>
                <a:schemeClr val="tx1"/>
              </a:solidFill>
            </a:rPr>
            <a:t>игры и упражнения на развитие умения сотрудничать и действовать сообща;</a:t>
          </a:r>
        </a:p>
      </dgm:t>
    </dgm:pt>
    <dgm:pt modelId="{5B050B10-A995-4CE6-9269-1F5459D57B10}" type="parTrans" cxnId="{EAC24E3B-6967-4764-9A6A-6D3CA299987B}">
      <dgm:prSet/>
      <dgm:spPr/>
      <dgm:t>
        <a:bodyPr/>
        <a:lstStyle/>
        <a:p>
          <a:endParaRPr lang="ru-RU"/>
        </a:p>
      </dgm:t>
    </dgm:pt>
    <dgm:pt modelId="{8BA269CD-E4CD-4C28-B61B-295FA54F42F6}" type="sibTrans" cxnId="{EAC24E3B-6967-4764-9A6A-6D3CA299987B}">
      <dgm:prSet/>
      <dgm:spPr/>
      <dgm:t>
        <a:bodyPr/>
        <a:lstStyle/>
        <a:p>
          <a:endParaRPr lang="ru-RU"/>
        </a:p>
      </dgm:t>
    </dgm:pt>
    <dgm:pt modelId="{9DE8B9F6-0395-47CF-8A3A-836C4009BAB5}">
      <dgm:prSet custT="1"/>
      <dgm:spPr/>
      <dgm:t>
        <a:bodyPr/>
        <a:lstStyle/>
        <a:p>
          <a:r>
            <a:rPr lang="ru-RU" sz="2800" dirty="0" smtClean="0">
              <a:solidFill>
                <a:schemeClr val="tx1"/>
              </a:solidFill>
            </a:rPr>
            <a:t>игры и упражнения на развитие доверительных отношений;</a:t>
          </a:r>
        </a:p>
      </dgm:t>
    </dgm:pt>
    <dgm:pt modelId="{900DB12F-BD09-485C-9AC7-06742EF9FF1B}" type="parTrans" cxnId="{500107B9-9DFE-4F97-8EF0-F584419CFCED}">
      <dgm:prSet/>
      <dgm:spPr/>
      <dgm:t>
        <a:bodyPr/>
        <a:lstStyle/>
        <a:p>
          <a:endParaRPr lang="ru-RU"/>
        </a:p>
      </dgm:t>
    </dgm:pt>
    <dgm:pt modelId="{E9E309B9-CFFB-4656-BF36-7E8ABD5B5B47}" type="sibTrans" cxnId="{500107B9-9DFE-4F97-8EF0-F584419CFCED}">
      <dgm:prSet/>
      <dgm:spPr/>
      <dgm:t>
        <a:bodyPr/>
        <a:lstStyle/>
        <a:p>
          <a:endParaRPr lang="ru-RU"/>
        </a:p>
      </dgm:t>
    </dgm:pt>
    <dgm:pt modelId="{22793300-0117-47BF-948C-B933EC4B6C63}">
      <dgm:prSet custT="1"/>
      <dgm:spPr/>
      <dgm:t>
        <a:bodyPr/>
        <a:lstStyle/>
        <a:p>
          <a:r>
            <a:rPr lang="ru-RU" sz="2800" dirty="0" smtClean="0">
              <a:solidFill>
                <a:schemeClr val="tx1"/>
              </a:solidFill>
            </a:rPr>
            <a:t>игры и упражнения на развитие умения  перерабатывать информацию. </a:t>
          </a:r>
          <a:endParaRPr lang="ru-RU" sz="2800" dirty="0">
            <a:solidFill>
              <a:schemeClr val="tx1"/>
            </a:solidFill>
          </a:endParaRPr>
        </a:p>
      </dgm:t>
    </dgm:pt>
    <dgm:pt modelId="{23E73A7E-458F-4FB7-AE6D-0EE9B70820E8}" type="parTrans" cxnId="{AA80E47E-C937-47B6-8765-DFDE3C008213}">
      <dgm:prSet/>
      <dgm:spPr/>
      <dgm:t>
        <a:bodyPr/>
        <a:lstStyle/>
        <a:p>
          <a:endParaRPr lang="ru-RU"/>
        </a:p>
      </dgm:t>
    </dgm:pt>
    <dgm:pt modelId="{B785472F-200E-4ED4-94B3-114B6FA0E10B}" type="sibTrans" cxnId="{AA80E47E-C937-47B6-8765-DFDE3C008213}">
      <dgm:prSet/>
      <dgm:spPr/>
      <dgm:t>
        <a:bodyPr/>
        <a:lstStyle/>
        <a:p>
          <a:endParaRPr lang="ru-RU"/>
        </a:p>
      </dgm:t>
    </dgm:pt>
    <dgm:pt modelId="{32DCC6D6-AC9F-4F9F-B5EE-5DCCC3EE267A}">
      <dgm:prSet phldrT="[Текст]" custT="1"/>
      <dgm:spPr>
        <a:ln>
          <a:solidFill>
            <a:schemeClr val="accent1">
              <a:lumMod val="75000"/>
            </a:schemeClr>
          </a:solidFill>
        </a:ln>
      </dgm:spPr>
      <dgm:t>
        <a:bodyPr/>
        <a:lstStyle/>
        <a:p>
          <a:r>
            <a:rPr lang="ru-RU" sz="3600" dirty="0" smtClean="0">
              <a:solidFill>
                <a:schemeClr val="tx1"/>
              </a:solidFill>
              <a:latin typeface="Calibri" pitchFamily="34" charset="0"/>
              <a:cs typeface="Calibri" pitchFamily="34" charset="0"/>
            </a:rPr>
            <a:t>4 блока игр</a:t>
          </a:r>
          <a:endParaRPr lang="ru-RU" sz="3600" dirty="0">
            <a:solidFill>
              <a:schemeClr val="tx1"/>
            </a:solidFill>
            <a:latin typeface="Calibri" pitchFamily="34" charset="0"/>
            <a:cs typeface="Calibri" pitchFamily="34" charset="0"/>
          </a:endParaRPr>
        </a:p>
      </dgm:t>
    </dgm:pt>
    <dgm:pt modelId="{9C7B231A-6062-489B-9FBF-E6E2007D64A1}" type="sibTrans" cxnId="{D4F2F015-1D96-4ACD-BFC8-43AC9C348FBC}">
      <dgm:prSet/>
      <dgm:spPr/>
      <dgm:t>
        <a:bodyPr/>
        <a:lstStyle/>
        <a:p>
          <a:endParaRPr lang="ru-RU"/>
        </a:p>
      </dgm:t>
    </dgm:pt>
    <dgm:pt modelId="{3FB06277-2017-4A5F-BB13-65B06E8720ED}" type="parTrans" cxnId="{D4F2F015-1D96-4ACD-BFC8-43AC9C348FBC}">
      <dgm:prSet/>
      <dgm:spPr/>
      <dgm:t>
        <a:bodyPr/>
        <a:lstStyle/>
        <a:p>
          <a:endParaRPr lang="ru-RU"/>
        </a:p>
      </dgm:t>
    </dgm:pt>
    <dgm:pt modelId="{6E8DF992-6270-45DE-A0F0-51A1DF37477A}">
      <dgm:prSet custT="1"/>
      <dgm:spPr>
        <a:ln>
          <a:solidFill>
            <a:schemeClr val="accent1">
              <a:lumMod val="75000"/>
            </a:schemeClr>
          </a:solidFill>
        </a:ln>
      </dgm:spPr>
      <dgm:t>
        <a:bodyPr/>
        <a:lstStyle/>
        <a:p>
          <a:r>
            <a:rPr lang="ru-RU" sz="2800" dirty="0" smtClean="0">
              <a:solidFill>
                <a:schemeClr val="tx1"/>
              </a:solidFill>
            </a:rPr>
            <a:t>игры и упражнения на развитие умения активно слушать;</a:t>
          </a:r>
          <a:endParaRPr lang="ru-RU" sz="2800" dirty="0">
            <a:solidFill>
              <a:schemeClr val="tx1"/>
            </a:solidFill>
            <a:latin typeface="Calibri" pitchFamily="34" charset="0"/>
            <a:cs typeface="Calibri" pitchFamily="34" charset="0"/>
          </a:endParaRPr>
        </a:p>
      </dgm:t>
    </dgm:pt>
    <dgm:pt modelId="{4390EAEA-2812-43E1-A4DE-8D0DE34F4293}" type="sibTrans" cxnId="{A724884F-A6BD-4A13-8A6B-A2487DBADFA0}">
      <dgm:prSet/>
      <dgm:spPr/>
      <dgm:t>
        <a:bodyPr/>
        <a:lstStyle/>
        <a:p>
          <a:endParaRPr lang="ru-RU" sz="3200">
            <a:latin typeface="Calibri" pitchFamily="34" charset="0"/>
            <a:cs typeface="Calibri" pitchFamily="34" charset="0"/>
          </a:endParaRPr>
        </a:p>
      </dgm:t>
    </dgm:pt>
    <dgm:pt modelId="{5C14E218-941A-4FB2-9A4F-D62F3D57AB71}" type="parTrans" cxnId="{A724884F-A6BD-4A13-8A6B-A2487DBADFA0}">
      <dgm:prSet custT="1"/>
      <dgm:spPr/>
      <dgm:t>
        <a:bodyPr/>
        <a:lstStyle/>
        <a:p>
          <a:endParaRPr lang="ru-RU" sz="3200">
            <a:latin typeface="Calibri" pitchFamily="34" charset="0"/>
            <a:cs typeface="Calibri" pitchFamily="34" charset="0"/>
          </a:endParaRPr>
        </a:p>
      </dgm:t>
    </dgm:pt>
    <dgm:pt modelId="{DF305D2C-F8AC-4C87-B201-B8A152D6DF9A}" type="pres">
      <dgm:prSet presAssocID="{FA6E985E-CB1D-455A-ACB2-29391D44E105}" presName="diagram" presStyleCnt="0">
        <dgm:presLayoutVars>
          <dgm:chPref val="1"/>
          <dgm:dir/>
          <dgm:animOne val="branch"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7D4910B-0BF0-4DF6-9B3F-A4CF24475565}" type="pres">
      <dgm:prSet presAssocID="{10E59048-32C3-4369-ABE1-D9ECC2CFB604}" presName="root1" presStyleCnt="0"/>
      <dgm:spPr/>
    </dgm:pt>
    <dgm:pt modelId="{B74F5620-84C0-4C34-92F4-7C291ABD098C}" type="pres">
      <dgm:prSet presAssocID="{10E59048-32C3-4369-ABE1-D9ECC2CFB604}" presName="LevelOneTextNode" presStyleLbl="node0" presStyleIdx="0" presStyleCnt="2" custLinFactNeighborX="-53256" custLinFactNeighborY="-426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393BAE-FF7B-4545-B995-75D2C956234C}" type="pres">
      <dgm:prSet presAssocID="{10E59048-32C3-4369-ABE1-D9ECC2CFB604}" presName="level2hierChild" presStyleCnt="0"/>
      <dgm:spPr/>
    </dgm:pt>
    <dgm:pt modelId="{A21C0BD4-B3B5-4382-BB2F-9EE2F8FA57C2}" type="pres">
      <dgm:prSet presAssocID="{5B050B10-A995-4CE6-9269-1F5459D57B10}" presName="conn2-1" presStyleLbl="parChTrans1D2" presStyleIdx="0" presStyleCnt="4"/>
      <dgm:spPr/>
      <dgm:t>
        <a:bodyPr/>
        <a:lstStyle/>
        <a:p>
          <a:endParaRPr lang="ru-RU"/>
        </a:p>
      </dgm:t>
    </dgm:pt>
    <dgm:pt modelId="{B19F8BA1-9B9D-4B31-9724-FA1CD47825DC}" type="pres">
      <dgm:prSet presAssocID="{5B050B10-A995-4CE6-9269-1F5459D57B10}" presName="connTx" presStyleLbl="parChTrans1D2" presStyleIdx="0" presStyleCnt="4"/>
      <dgm:spPr/>
      <dgm:t>
        <a:bodyPr/>
        <a:lstStyle/>
        <a:p>
          <a:endParaRPr lang="ru-RU"/>
        </a:p>
      </dgm:t>
    </dgm:pt>
    <dgm:pt modelId="{FB2B5028-A7CA-4FFA-9080-927F8DF6A399}" type="pres">
      <dgm:prSet presAssocID="{1479EAAA-595C-4351-95B9-AFAB9EF5D603}" presName="root2" presStyleCnt="0"/>
      <dgm:spPr/>
    </dgm:pt>
    <dgm:pt modelId="{90866C96-E86B-4BEE-BC11-7731746B0218}" type="pres">
      <dgm:prSet presAssocID="{1479EAAA-595C-4351-95B9-AFAB9EF5D603}" presName="LevelTwoTextNode" presStyleLbl="node2" presStyleIdx="0" presStyleCnt="4" custScaleX="206675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1B52BC0-DEAB-4E48-B014-1B8BCABAACA5}" type="pres">
      <dgm:prSet presAssocID="{1479EAAA-595C-4351-95B9-AFAB9EF5D603}" presName="level3hierChild" presStyleCnt="0"/>
      <dgm:spPr/>
    </dgm:pt>
    <dgm:pt modelId="{EF11D42C-96F3-4F18-983A-941C20D48BFE}" type="pres">
      <dgm:prSet presAssocID="{900DB12F-BD09-485C-9AC7-06742EF9FF1B}" presName="conn2-1" presStyleLbl="parChTrans1D2" presStyleIdx="1" presStyleCnt="4"/>
      <dgm:spPr/>
      <dgm:t>
        <a:bodyPr/>
        <a:lstStyle/>
        <a:p>
          <a:endParaRPr lang="ru-RU"/>
        </a:p>
      </dgm:t>
    </dgm:pt>
    <dgm:pt modelId="{D8FA3D84-8379-4259-A9C3-7A55A34A87A7}" type="pres">
      <dgm:prSet presAssocID="{900DB12F-BD09-485C-9AC7-06742EF9FF1B}" presName="connTx" presStyleLbl="parChTrans1D2" presStyleIdx="1" presStyleCnt="4"/>
      <dgm:spPr/>
      <dgm:t>
        <a:bodyPr/>
        <a:lstStyle/>
        <a:p>
          <a:endParaRPr lang="ru-RU"/>
        </a:p>
      </dgm:t>
    </dgm:pt>
    <dgm:pt modelId="{C7AF15C7-99DE-4391-9BC9-5D3D50B04F9F}" type="pres">
      <dgm:prSet presAssocID="{9DE8B9F6-0395-47CF-8A3A-836C4009BAB5}" presName="root2" presStyleCnt="0"/>
      <dgm:spPr/>
    </dgm:pt>
    <dgm:pt modelId="{034D203C-AD7A-46DD-9DDF-CA624C1820FB}" type="pres">
      <dgm:prSet presAssocID="{9DE8B9F6-0395-47CF-8A3A-836C4009BAB5}" presName="LevelTwoTextNode" presStyleLbl="node2" presStyleIdx="1" presStyleCnt="4" custScaleX="20398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81024CFD-777E-45FB-8F3E-25126C64C2BA}" type="pres">
      <dgm:prSet presAssocID="{9DE8B9F6-0395-47CF-8A3A-836C4009BAB5}" presName="level3hierChild" presStyleCnt="0"/>
      <dgm:spPr/>
    </dgm:pt>
    <dgm:pt modelId="{48C8F3F3-984D-4DBE-9BD1-DF09133977F6}" type="pres">
      <dgm:prSet presAssocID="{5C14E218-941A-4FB2-9A4F-D62F3D57AB71}" presName="conn2-1" presStyleLbl="parChTrans1D2" presStyleIdx="2" presStyleCnt="4"/>
      <dgm:spPr/>
      <dgm:t>
        <a:bodyPr/>
        <a:lstStyle/>
        <a:p>
          <a:endParaRPr lang="ru-RU"/>
        </a:p>
      </dgm:t>
    </dgm:pt>
    <dgm:pt modelId="{2E587981-D7FF-4C0F-9B7C-B3A13C11E843}" type="pres">
      <dgm:prSet presAssocID="{5C14E218-941A-4FB2-9A4F-D62F3D57AB71}" presName="connTx" presStyleLbl="parChTrans1D2" presStyleIdx="2" presStyleCnt="4"/>
      <dgm:spPr/>
      <dgm:t>
        <a:bodyPr/>
        <a:lstStyle/>
        <a:p>
          <a:endParaRPr lang="ru-RU"/>
        </a:p>
      </dgm:t>
    </dgm:pt>
    <dgm:pt modelId="{AAB49FDA-67E8-40E7-9351-6BAD3D047FF1}" type="pres">
      <dgm:prSet presAssocID="{6E8DF992-6270-45DE-A0F0-51A1DF37477A}" presName="root2" presStyleCnt="0"/>
      <dgm:spPr/>
    </dgm:pt>
    <dgm:pt modelId="{766EB81C-A80C-403C-B649-26EFD20B72C0}" type="pres">
      <dgm:prSet presAssocID="{6E8DF992-6270-45DE-A0F0-51A1DF37477A}" presName="LevelTwoTextNode" presStyleLbl="node2" presStyleIdx="2" presStyleCnt="4" custScaleX="203343" custLinFactNeighborX="786" custLinFactNeighborY="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E5E4D3B2-4C16-44A0-9D2C-8842FEAD96ED}" type="pres">
      <dgm:prSet presAssocID="{6E8DF992-6270-45DE-A0F0-51A1DF37477A}" presName="level3hierChild" presStyleCnt="0"/>
      <dgm:spPr/>
    </dgm:pt>
    <dgm:pt modelId="{CA44BA22-D87A-4060-A2C6-CD33A7CA7025}" type="pres">
      <dgm:prSet presAssocID="{23E73A7E-458F-4FB7-AE6D-0EE9B70820E8}" presName="conn2-1" presStyleLbl="parChTrans1D2" presStyleIdx="3" presStyleCnt="4"/>
      <dgm:spPr/>
      <dgm:t>
        <a:bodyPr/>
        <a:lstStyle/>
        <a:p>
          <a:endParaRPr lang="ru-RU"/>
        </a:p>
      </dgm:t>
    </dgm:pt>
    <dgm:pt modelId="{E2B57BA7-1DA2-45FD-AA22-E2AEED4C6A4F}" type="pres">
      <dgm:prSet presAssocID="{23E73A7E-458F-4FB7-AE6D-0EE9B70820E8}" presName="connTx" presStyleLbl="parChTrans1D2" presStyleIdx="3" presStyleCnt="4"/>
      <dgm:spPr/>
      <dgm:t>
        <a:bodyPr/>
        <a:lstStyle/>
        <a:p>
          <a:endParaRPr lang="ru-RU"/>
        </a:p>
      </dgm:t>
    </dgm:pt>
    <dgm:pt modelId="{1ED250C3-415B-4F4B-8E9C-91A55E0814FA}" type="pres">
      <dgm:prSet presAssocID="{22793300-0117-47BF-948C-B933EC4B6C63}" presName="root2" presStyleCnt="0"/>
      <dgm:spPr/>
    </dgm:pt>
    <dgm:pt modelId="{6AA8086F-3695-45E3-B9F9-21EC6CB8EFBB}" type="pres">
      <dgm:prSet presAssocID="{22793300-0117-47BF-948C-B933EC4B6C63}" presName="LevelTwoTextNode" presStyleLbl="node2" presStyleIdx="3" presStyleCnt="4" custScaleX="20431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DC3E25D-16C7-47E9-A2A5-7F5FD17B8486}" type="pres">
      <dgm:prSet presAssocID="{22793300-0117-47BF-948C-B933EC4B6C63}" presName="level3hierChild" presStyleCnt="0"/>
      <dgm:spPr/>
    </dgm:pt>
    <dgm:pt modelId="{A9B9715C-65FA-4DBE-B18D-AAB3096AB517}" type="pres">
      <dgm:prSet presAssocID="{32DCC6D6-AC9F-4F9F-B5EE-5DCCC3EE267A}" presName="root1" presStyleCnt="0"/>
      <dgm:spPr/>
    </dgm:pt>
    <dgm:pt modelId="{AE146E71-E7A6-410F-9FE5-FFB66858E40C}" type="pres">
      <dgm:prSet presAssocID="{32DCC6D6-AC9F-4F9F-B5EE-5DCCC3EE267A}" presName="LevelOneTextNode" presStyleLbl="node0" presStyleIdx="1" presStyleCnt="2" custScaleX="115275" custLinFactY="-21290" custLinFactNeighborX="-282" custLinFactNeighborY="-10000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22A2AA3C-5B13-496C-A0D1-87F049678A8D}" type="pres">
      <dgm:prSet presAssocID="{32DCC6D6-AC9F-4F9F-B5EE-5DCCC3EE267A}" presName="level2hierChild" presStyleCnt="0"/>
      <dgm:spPr/>
    </dgm:pt>
  </dgm:ptLst>
  <dgm:cxnLst>
    <dgm:cxn modelId="{BA98453D-83C3-4728-A56A-857EC271F426}" type="presOf" srcId="{6E8DF992-6270-45DE-A0F0-51A1DF37477A}" destId="{766EB81C-A80C-403C-B649-26EFD20B72C0}" srcOrd="0" destOrd="0" presId="urn:microsoft.com/office/officeart/2005/8/layout/hierarchy2"/>
    <dgm:cxn modelId="{D4F2F015-1D96-4ACD-BFC8-43AC9C348FBC}" srcId="{FA6E985E-CB1D-455A-ACB2-29391D44E105}" destId="{32DCC6D6-AC9F-4F9F-B5EE-5DCCC3EE267A}" srcOrd="1" destOrd="0" parTransId="{3FB06277-2017-4A5F-BB13-65B06E8720ED}" sibTransId="{9C7B231A-6062-489B-9FBF-E6E2007D64A1}"/>
    <dgm:cxn modelId="{AA80E47E-C937-47B6-8765-DFDE3C008213}" srcId="{10E59048-32C3-4369-ABE1-D9ECC2CFB604}" destId="{22793300-0117-47BF-948C-B933EC4B6C63}" srcOrd="3" destOrd="0" parTransId="{23E73A7E-458F-4FB7-AE6D-0EE9B70820E8}" sibTransId="{B785472F-200E-4ED4-94B3-114B6FA0E10B}"/>
    <dgm:cxn modelId="{BAE0439C-3A3B-4540-8C7C-49510D716643}" type="presOf" srcId="{5B050B10-A995-4CE6-9269-1F5459D57B10}" destId="{B19F8BA1-9B9D-4B31-9724-FA1CD47825DC}" srcOrd="1" destOrd="0" presId="urn:microsoft.com/office/officeart/2005/8/layout/hierarchy2"/>
    <dgm:cxn modelId="{500107B9-9DFE-4F97-8EF0-F584419CFCED}" srcId="{10E59048-32C3-4369-ABE1-D9ECC2CFB604}" destId="{9DE8B9F6-0395-47CF-8A3A-836C4009BAB5}" srcOrd="1" destOrd="0" parTransId="{900DB12F-BD09-485C-9AC7-06742EF9FF1B}" sibTransId="{E9E309B9-CFFB-4656-BF36-7E8ABD5B5B47}"/>
    <dgm:cxn modelId="{41C8B1B4-FF39-4DC1-9FB7-5E68C3A4FD2B}" type="presOf" srcId="{9DE8B9F6-0395-47CF-8A3A-836C4009BAB5}" destId="{034D203C-AD7A-46DD-9DDF-CA624C1820FB}" srcOrd="0" destOrd="0" presId="urn:microsoft.com/office/officeart/2005/8/layout/hierarchy2"/>
    <dgm:cxn modelId="{ACD59148-B171-43CF-89FF-7E4575804834}" type="presOf" srcId="{23E73A7E-458F-4FB7-AE6D-0EE9B70820E8}" destId="{E2B57BA7-1DA2-45FD-AA22-E2AEED4C6A4F}" srcOrd="1" destOrd="0" presId="urn:microsoft.com/office/officeart/2005/8/layout/hierarchy2"/>
    <dgm:cxn modelId="{C8A9C37F-E3B5-4C52-B536-74CC2E8678F4}" type="presOf" srcId="{5B050B10-A995-4CE6-9269-1F5459D57B10}" destId="{A21C0BD4-B3B5-4382-BB2F-9EE2F8FA57C2}" srcOrd="0" destOrd="0" presId="urn:microsoft.com/office/officeart/2005/8/layout/hierarchy2"/>
    <dgm:cxn modelId="{E3D28AB4-FB01-40C5-BFB3-3509D8F222D4}" type="presOf" srcId="{23E73A7E-458F-4FB7-AE6D-0EE9B70820E8}" destId="{CA44BA22-D87A-4060-A2C6-CD33A7CA7025}" srcOrd="0" destOrd="0" presId="urn:microsoft.com/office/officeart/2005/8/layout/hierarchy2"/>
    <dgm:cxn modelId="{A724884F-A6BD-4A13-8A6B-A2487DBADFA0}" srcId="{10E59048-32C3-4369-ABE1-D9ECC2CFB604}" destId="{6E8DF992-6270-45DE-A0F0-51A1DF37477A}" srcOrd="2" destOrd="0" parTransId="{5C14E218-941A-4FB2-9A4F-D62F3D57AB71}" sibTransId="{4390EAEA-2812-43E1-A4DE-8D0DE34F4293}"/>
    <dgm:cxn modelId="{EAC24E3B-6967-4764-9A6A-6D3CA299987B}" srcId="{10E59048-32C3-4369-ABE1-D9ECC2CFB604}" destId="{1479EAAA-595C-4351-95B9-AFAB9EF5D603}" srcOrd="0" destOrd="0" parTransId="{5B050B10-A995-4CE6-9269-1F5459D57B10}" sibTransId="{8BA269CD-E4CD-4C28-B61B-295FA54F42F6}"/>
    <dgm:cxn modelId="{406DDD7A-8750-4093-9C4D-D85B1CF7EC48}" type="presOf" srcId="{900DB12F-BD09-485C-9AC7-06742EF9FF1B}" destId="{EF11D42C-96F3-4F18-983A-941C20D48BFE}" srcOrd="0" destOrd="0" presId="urn:microsoft.com/office/officeart/2005/8/layout/hierarchy2"/>
    <dgm:cxn modelId="{C8342026-9D14-4220-856D-08EAF8241DFA}" type="presOf" srcId="{32DCC6D6-AC9F-4F9F-B5EE-5DCCC3EE267A}" destId="{AE146E71-E7A6-410F-9FE5-FFB66858E40C}" srcOrd="0" destOrd="0" presId="urn:microsoft.com/office/officeart/2005/8/layout/hierarchy2"/>
    <dgm:cxn modelId="{656F8D4D-3717-411F-AB21-430A308796AF}" type="presOf" srcId="{FA6E985E-CB1D-455A-ACB2-29391D44E105}" destId="{DF305D2C-F8AC-4C87-B201-B8A152D6DF9A}" srcOrd="0" destOrd="0" presId="urn:microsoft.com/office/officeart/2005/8/layout/hierarchy2"/>
    <dgm:cxn modelId="{B17BB43F-F176-4AC8-B02B-D160B97A5ADB}" type="presOf" srcId="{5C14E218-941A-4FB2-9A4F-D62F3D57AB71}" destId="{2E587981-D7FF-4C0F-9B7C-B3A13C11E843}" srcOrd="1" destOrd="0" presId="urn:microsoft.com/office/officeart/2005/8/layout/hierarchy2"/>
    <dgm:cxn modelId="{54683B00-D3AA-423A-8043-E08F1D28B08F}" type="presOf" srcId="{10E59048-32C3-4369-ABE1-D9ECC2CFB604}" destId="{B74F5620-84C0-4C34-92F4-7C291ABD098C}" srcOrd="0" destOrd="0" presId="urn:microsoft.com/office/officeart/2005/8/layout/hierarchy2"/>
    <dgm:cxn modelId="{7DB0B5FE-9E63-4D4B-B66D-DD09A0630E9B}" type="presOf" srcId="{22793300-0117-47BF-948C-B933EC4B6C63}" destId="{6AA8086F-3695-45E3-B9F9-21EC6CB8EFBB}" srcOrd="0" destOrd="0" presId="urn:microsoft.com/office/officeart/2005/8/layout/hierarchy2"/>
    <dgm:cxn modelId="{B9C8144E-C39C-4F93-9E32-B92CAD452891}" type="presOf" srcId="{1479EAAA-595C-4351-95B9-AFAB9EF5D603}" destId="{90866C96-E86B-4BEE-BC11-7731746B0218}" srcOrd="0" destOrd="0" presId="urn:microsoft.com/office/officeart/2005/8/layout/hierarchy2"/>
    <dgm:cxn modelId="{D4059AE6-DCBB-49C6-8512-385EC1F65ACE}" type="presOf" srcId="{900DB12F-BD09-485C-9AC7-06742EF9FF1B}" destId="{D8FA3D84-8379-4259-A9C3-7A55A34A87A7}" srcOrd="1" destOrd="0" presId="urn:microsoft.com/office/officeart/2005/8/layout/hierarchy2"/>
    <dgm:cxn modelId="{93240793-23D0-4D49-A4F4-6A9467A1FC78}" type="presOf" srcId="{5C14E218-941A-4FB2-9A4F-D62F3D57AB71}" destId="{48C8F3F3-984D-4DBE-9BD1-DF09133977F6}" srcOrd="0" destOrd="0" presId="urn:microsoft.com/office/officeart/2005/8/layout/hierarchy2"/>
    <dgm:cxn modelId="{54F75A19-20AC-44BD-A3A9-3391C3144B6C}" srcId="{FA6E985E-CB1D-455A-ACB2-29391D44E105}" destId="{10E59048-32C3-4369-ABE1-D9ECC2CFB604}" srcOrd="0" destOrd="0" parTransId="{5D6618A1-0954-440A-9A08-38D4883B961A}" sibTransId="{269D5742-3A5B-43C2-8C2B-53B45426280E}"/>
    <dgm:cxn modelId="{CAD03BF9-8C7E-4225-A2F6-74053A9AF3E8}" type="presParOf" srcId="{DF305D2C-F8AC-4C87-B201-B8A152D6DF9A}" destId="{B7D4910B-0BF0-4DF6-9B3F-A4CF24475565}" srcOrd="0" destOrd="0" presId="urn:microsoft.com/office/officeart/2005/8/layout/hierarchy2"/>
    <dgm:cxn modelId="{7BA0F42B-E7E9-4A1D-8A69-57ABFC87D9C7}" type="presParOf" srcId="{B7D4910B-0BF0-4DF6-9B3F-A4CF24475565}" destId="{B74F5620-84C0-4C34-92F4-7C291ABD098C}" srcOrd="0" destOrd="0" presId="urn:microsoft.com/office/officeart/2005/8/layout/hierarchy2"/>
    <dgm:cxn modelId="{CE07197C-7C10-4EF9-B6B2-76F36980B2A2}" type="presParOf" srcId="{B7D4910B-0BF0-4DF6-9B3F-A4CF24475565}" destId="{12393BAE-FF7B-4545-B995-75D2C956234C}" srcOrd="1" destOrd="0" presId="urn:microsoft.com/office/officeart/2005/8/layout/hierarchy2"/>
    <dgm:cxn modelId="{FCC0E9E0-B7E9-41DA-9815-C10BF81CF5EE}" type="presParOf" srcId="{12393BAE-FF7B-4545-B995-75D2C956234C}" destId="{A21C0BD4-B3B5-4382-BB2F-9EE2F8FA57C2}" srcOrd="0" destOrd="0" presId="urn:microsoft.com/office/officeart/2005/8/layout/hierarchy2"/>
    <dgm:cxn modelId="{C66F310F-1418-4314-92B8-601A56639328}" type="presParOf" srcId="{A21C0BD4-B3B5-4382-BB2F-9EE2F8FA57C2}" destId="{B19F8BA1-9B9D-4B31-9724-FA1CD47825DC}" srcOrd="0" destOrd="0" presId="urn:microsoft.com/office/officeart/2005/8/layout/hierarchy2"/>
    <dgm:cxn modelId="{8068200E-A66A-4582-9F99-39C2AB52DD81}" type="presParOf" srcId="{12393BAE-FF7B-4545-B995-75D2C956234C}" destId="{FB2B5028-A7CA-4FFA-9080-927F8DF6A399}" srcOrd="1" destOrd="0" presId="urn:microsoft.com/office/officeart/2005/8/layout/hierarchy2"/>
    <dgm:cxn modelId="{6D8C0E92-A3FA-42F4-AD1D-2613FF3781BB}" type="presParOf" srcId="{FB2B5028-A7CA-4FFA-9080-927F8DF6A399}" destId="{90866C96-E86B-4BEE-BC11-7731746B0218}" srcOrd="0" destOrd="0" presId="urn:microsoft.com/office/officeart/2005/8/layout/hierarchy2"/>
    <dgm:cxn modelId="{7AE578E9-1EC1-4B8F-823C-CD9C7E10931C}" type="presParOf" srcId="{FB2B5028-A7CA-4FFA-9080-927F8DF6A399}" destId="{C1B52BC0-DEAB-4E48-B014-1B8BCABAACA5}" srcOrd="1" destOrd="0" presId="urn:microsoft.com/office/officeart/2005/8/layout/hierarchy2"/>
    <dgm:cxn modelId="{8DAA36A3-44EC-4259-BFA7-0C88CB5DCAE4}" type="presParOf" srcId="{12393BAE-FF7B-4545-B995-75D2C956234C}" destId="{EF11D42C-96F3-4F18-983A-941C20D48BFE}" srcOrd="2" destOrd="0" presId="urn:microsoft.com/office/officeart/2005/8/layout/hierarchy2"/>
    <dgm:cxn modelId="{9D6D6C89-8C40-40B9-914E-F743DA7AC3E0}" type="presParOf" srcId="{EF11D42C-96F3-4F18-983A-941C20D48BFE}" destId="{D8FA3D84-8379-4259-A9C3-7A55A34A87A7}" srcOrd="0" destOrd="0" presId="urn:microsoft.com/office/officeart/2005/8/layout/hierarchy2"/>
    <dgm:cxn modelId="{4C2B9043-E983-4C35-A844-CEBA876D1A29}" type="presParOf" srcId="{12393BAE-FF7B-4545-B995-75D2C956234C}" destId="{C7AF15C7-99DE-4391-9BC9-5D3D50B04F9F}" srcOrd="3" destOrd="0" presId="urn:microsoft.com/office/officeart/2005/8/layout/hierarchy2"/>
    <dgm:cxn modelId="{204D547A-EA98-4F92-AC13-34B98AA2638B}" type="presParOf" srcId="{C7AF15C7-99DE-4391-9BC9-5D3D50B04F9F}" destId="{034D203C-AD7A-46DD-9DDF-CA624C1820FB}" srcOrd="0" destOrd="0" presId="urn:microsoft.com/office/officeart/2005/8/layout/hierarchy2"/>
    <dgm:cxn modelId="{06FFF185-EBF5-45CB-9AA0-8EDF24BBC6F4}" type="presParOf" srcId="{C7AF15C7-99DE-4391-9BC9-5D3D50B04F9F}" destId="{81024CFD-777E-45FB-8F3E-25126C64C2BA}" srcOrd="1" destOrd="0" presId="urn:microsoft.com/office/officeart/2005/8/layout/hierarchy2"/>
    <dgm:cxn modelId="{9A908963-C12E-4A83-AF86-1ABBDB5F476E}" type="presParOf" srcId="{12393BAE-FF7B-4545-B995-75D2C956234C}" destId="{48C8F3F3-984D-4DBE-9BD1-DF09133977F6}" srcOrd="4" destOrd="0" presId="urn:microsoft.com/office/officeart/2005/8/layout/hierarchy2"/>
    <dgm:cxn modelId="{420E858D-9A07-485F-8028-B73C5F83EB49}" type="presParOf" srcId="{48C8F3F3-984D-4DBE-9BD1-DF09133977F6}" destId="{2E587981-D7FF-4C0F-9B7C-B3A13C11E843}" srcOrd="0" destOrd="0" presId="urn:microsoft.com/office/officeart/2005/8/layout/hierarchy2"/>
    <dgm:cxn modelId="{A776BC05-B7D9-43CA-82A0-DCD3B2665DC0}" type="presParOf" srcId="{12393BAE-FF7B-4545-B995-75D2C956234C}" destId="{AAB49FDA-67E8-40E7-9351-6BAD3D047FF1}" srcOrd="5" destOrd="0" presId="urn:microsoft.com/office/officeart/2005/8/layout/hierarchy2"/>
    <dgm:cxn modelId="{507E27E7-83D5-45DD-97F2-3EDDF1F6E3E8}" type="presParOf" srcId="{AAB49FDA-67E8-40E7-9351-6BAD3D047FF1}" destId="{766EB81C-A80C-403C-B649-26EFD20B72C0}" srcOrd="0" destOrd="0" presId="urn:microsoft.com/office/officeart/2005/8/layout/hierarchy2"/>
    <dgm:cxn modelId="{BBBA3EFB-17F9-4150-94C2-2C4FBA1EE655}" type="presParOf" srcId="{AAB49FDA-67E8-40E7-9351-6BAD3D047FF1}" destId="{E5E4D3B2-4C16-44A0-9D2C-8842FEAD96ED}" srcOrd="1" destOrd="0" presId="urn:microsoft.com/office/officeart/2005/8/layout/hierarchy2"/>
    <dgm:cxn modelId="{51773D68-27FB-413E-8A2A-14DE140253A3}" type="presParOf" srcId="{12393BAE-FF7B-4545-B995-75D2C956234C}" destId="{CA44BA22-D87A-4060-A2C6-CD33A7CA7025}" srcOrd="6" destOrd="0" presId="urn:microsoft.com/office/officeart/2005/8/layout/hierarchy2"/>
    <dgm:cxn modelId="{937A2BD4-162A-4D6E-AE63-9414523F30E2}" type="presParOf" srcId="{CA44BA22-D87A-4060-A2C6-CD33A7CA7025}" destId="{E2B57BA7-1DA2-45FD-AA22-E2AEED4C6A4F}" srcOrd="0" destOrd="0" presId="urn:microsoft.com/office/officeart/2005/8/layout/hierarchy2"/>
    <dgm:cxn modelId="{D15EA55D-F218-449C-A8BF-B9E2E7BDDDA1}" type="presParOf" srcId="{12393BAE-FF7B-4545-B995-75D2C956234C}" destId="{1ED250C3-415B-4F4B-8E9C-91A55E0814FA}" srcOrd="7" destOrd="0" presId="urn:microsoft.com/office/officeart/2005/8/layout/hierarchy2"/>
    <dgm:cxn modelId="{33E3E501-30DF-440B-B1B8-383FD0E475A3}" type="presParOf" srcId="{1ED250C3-415B-4F4B-8E9C-91A55E0814FA}" destId="{6AA8086F-3695-45E3-B9F9-21EC6CB8EFBB}" srcOrd="0" destOrd="0" presId="urn:microsoft.com/office/officeart/2005/8/layout/hierarchy2"/>
    <dgm:cxn modelId="{6184DA90-4152-4DD4-B269-A7435F4176A4}" type="presParOf" srcId="{1ED250C3-415B-4F4B-8E9C-91A55E0814FA}" destId="{1DC3E25D-16C7-47E9-A2A5-7F5FD17B8486}" srcOrd="1" destOrd="0" presId="urn:microsoft.com/office/officeart/2005/8/layout/hierarchy2"/>
    <dgm:cxn modelId="{BFB7501B-1ED9-4E44-9841-9396F51E9569}" type="presParOf" srcId="{DF305D2C-F8AC-4C87-B201-B8A152D6DF9A}" destId="{A9B9715C-65FA-4DBE-B18D-AAB3096AB517}" srcOrd="1" destOrd="0" presId="urn:microsoft.com/office/officeart/2005/8/layout/hierarchy2"/>
    <dgm:cxn modelId="{FB8122C8-DC6D-4760-B6F7-5B9698C1CD0F}" type="presParOf" srcId="{A9B9715C-65FA-4DBE-B18D-AAB3096AB517}" destId="{AE146E71-E7A6-410F-9FE5-FFB66858E40C}" srcOrd="0" destOrd="0" presId="urn:microsoft.com/office/officeart/2005/8/layout/hierarchy2"/>
    <dgm:cxn modelId="{6C692348-F63B-4B47-A2DD-84CF5F28ACA3}" type="presParOf" srcId="{A9B9715C-65FA-4DBE-B18D-AAB3096AB517}" destId="{22A2AA3C-5B13-496C-A0D1-87F049678A8D}" srcOrd="1" destOrd="0" presId="urn:microsoft.com/office/officeart/2005/8/layout/hierarchy2"/>
  </dgm:cxnLst>
  <dgm:bg/>
  <dgm:whole>
    <a:ln w="9525" cap="flat" cmpd="sng" algn="ctr">
      <a:solidFill>
        <a:schemeClr val="lt1">
          <a:hueOff val="0"/>
          <a:satOff val="0"/>
          <a:lumOff val="0"/>
        </a:schemeClr>
      </a:solidFill>
      <a:prstDash val="solid"/>
      <a:round/>
      <a:headEnd type="none" w="med" len="med"/>
      <a:tailEnd type="none" w="med" len="med"/>
    </a:ln>
  </dgm:whole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6DBE0E2-9C77-47D0-8D5A-63BD9D349417}">
      <dsp:nvSpPr>
        <dsp:cNvPr id="0" name=""/>
        <dsp:cNvSpPr/>
      </dsp:nvSpPr>
      <dsp:spPr>
        <a:xfrm>
          <a:off x="-6502036" y="-994429"/>
          <a:ext cx="7739027" cy="7739027"/>
        </a:xfrm>
        <a:prstGeom prst="blockArc">
          <a:avLst>
            <a:gd name="adj1" fmla="val 18900000"/>
            <a:gd name="adj2" fmla="val 2700000"/>
            <a:gd name="adj3" fmla="val 279"/>
          </a:avLst>
        </a:prstGeom>
        <a:noFill/>
        <a:ln w="25400" cap="flat" cmpd="sng" algn="ctr">
          <a:solidFill>
            <a:schemeClr val="accent2">
              <a:tint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FFD963D4-A11C-49BF-9E57-14AA5F452F9F}">
      <dsp:nvSpPr>
        <dsp:cNvPr id="0" name=""/>
        <dsp:cNvSpPr/>
      </dsp:nvSpPr>
      <dsp:spPr>
        <a:xfrm>
          <a:off x="460423" y="302803"/>
          <a:ext cx="7992159" cy="605377"/>
        </a:xfrm>
        <a:prstGeom prst="rect">
          <a:avLst/>
        </a:prstGeom>
        <a:solidFill>
          <a:schemeClr val="accent2">
            <a:shade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80519" tIns="45720" rIns="45720" bIns="45720" numCol="1" spcCol="1270" anchor="ctr" anchorCtr="0">
          <a:noAutofit/>
        </a:bodyPr>
        <a:lstStyle/>
        <a:p>
          <a:pPr lvl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smtClean="0">
              <a:solidFill>
                <a:schemeClr val="accent3"/>
              </a:solidFill>
            </a:rPr>
            <a:t>формированию </a:t>
          </a:r>
          <a:r>
            <a:rPr lang="ru-RU" sz="1800" b="1" kern="1200" dirty="0" smtClean="0">
              <a:solidFill>
                <a:schemeClr val="accent3"/>
              </a:solidFill>
            </a:rPr>
            <a:t>позитивного отношения к собственному  телу и развивают способность управлять им;</a:t>
          </a:r>
        </a:p>
      </dsp:txBody>
      <dsp:txXfrm>
        <a:off x="460423" y="302803"/>
        <a:ext cx="7992159" cy="605377"/>
      </dsp:txXfrm>
    </dsp:sp>
    <dsp:sp modelId="{69406B36-CACA-44EC-8819-D71352097129}">
      <dsp:nvSpPr>
        <dsp:cNvPr id="0" name=""/>
        <dsp:cNvSpPr/>
      </dsp:nvSpPr>
      <dsp:spPr>
        <a:xfrm>
          <a:off x="82061" y="227131"/>
          <a:ext cx="756722" cy="756722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5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EC1638C0-99C7-441B-A32B-8DC33F45070C}">
      <dsp:nvSpPr>
        <dsp:cNvPr id="0" name=""/>
        <dsp:cNvSpPr/>
      </dsp:nvSpPr>
      <dsp:spPr>
        <a:xfrm>
          <a:off x="958387" y="1210755"/>
          <a:ext cx="7494194" cy="605377"/>
        </a:xfrm>
        <a:prstGeom prst="rect">
          <a:avLst/>
        </a:prstGeom>
        <a:solidFill>
          <a:schemeClr val="accent2">
            <a:shade val="50000"/>
            <a:hueOff val="0"/>
            <a:satOff val="-5471"/>
            <a:lumOff val="16203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80519" tIns="45720" rIns="45720" bIns="45720" numCol="1" spcCol="1270" anchor="ctr" anchorCtr="0">
          <a:noAutofit/>
        </a:bodyPr>
        <a:lstStyle/>
        <a:p>
          <a:pPr lvl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/>
            <a:t>развитию умения понимать друг друга, вникать в суть полученной информации;</a:t>
          </a:r>
          <a:endParaRPr lang="ru-RU" sz="1800" b="1" kern="1200" dirty="0"/>
        </a:p>
      </dsp:txBody>
      <dsp:txXfrm>
        <a:off x="958387" y="1210755"/>
        <a:ext cx="7494194" cy="605377"/>
      </dsp:txXfrm>
    </dsp:sp>
    <dsp:sp modelId="{8E0114CA-E844-4DBF-AB4D-441077490AEF}">
      <dsp:nvSpPr>
        <dsp:cNvPr id="0" name=""/>
        <dsp:cNvSpPr/>
      </dsp:nvSpPr>
      <dsp:spPr>
        <a:xfrm>
          <a:off x="580026" y="1135083"/>
          <a:ext cx="756722" cy="756722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50000"/>
              <a:hueOff val="0"/>
              <a:satOff val="-5045"/>
              <a:lumOff val="1483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7120FB7B-E0AC-4D96-9665-B53EF5967A9F}">
      <dsp:nvSpPr>
        <dsp:cNvPr id="0" name=""/>
        <dsp:cNvSpPr/>
      </dsp:nvSpPr>
      <dsp:spPr>
        <a:xfrm>
          <a:off x="1186094" y="2118707"/>
          <a:ext cx="7266487" cy="605377"/>
        </a:xfrm>
        <a:prstGeom prst="rect">
          <a:avLst/>
        </a:prstGeom>
        <a:solidFill>
          <a:schemeClr val="accent2">
            <a:shade val="50000"/>
            <a:hueOff val="0"/>
            <a:satOff val="-10943"/>
            <a:lumOff val="32405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80519" tIns="35560" rIns="35560" bIns="35560" numCol="1" spcCol="1270" anchor="ctr" anchorCtr="0">
          <a:noAutofit/>
        </a:bodyPr>
        <a:lstStyle/>
        <a:p>
          <a:pPr marL="0" marR="0" lvl="0" indent="0" algn="l" defTabSz="914400" eaLnBrk="1" fontAlgn="auto" latinLnBrk="0" hangingPunct="1">
            <a:lnSpc>
              <a:spcPct val="100000"/>
            </a:lnSpc>
            <a:spcBef>
              <a:spcPct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endParaRPr lang="ru-RU" sz="1400" kern="1200" dirty="0" smtClean="0"/>
        </a:p>
        <a:p>
          <a:pPr marL="0" marR="0" lvl="0" indent="0" algn="l" defTabSz="914400" eaLnBrk="1" fontAlgn="auto" latinLnBrk="0" hangingPunct="1">
            <a:lnSpc>
              <a:spcPct val="100000"/>
            </a:lnSpc>
            <a:spcBef>
              <a:spcPct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endParaRPr lang="ru-RU" sz="1400" kern="1200" dirty="0" smtClean="0"/>
        </a:p>
        <a:p>
          <a:pPr marL="0" marR="0" lvl="0" indent="0" algn="l" defTabSz="914400" eaLnBrk="1" fontAlgn="auto" latinLnBrk="0" hangingPunct="1">
            <a:lnSpc>
              <a:spcPct val="100000"/>
            </a:lnSpc>
            <a:spcBef>
              <a:spcPct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r>
            <a:rPr lang="ru-RU" sz="2000" b="1" kern="1200" dirty="0" smtClean="0">
              <a:solidFill>
                <a:schemeClr val="tx1"/>
              </a:solidFill>
            </a:rPr>
            <a:t>развитию эмоциональной сферы и психических процессов;</a:t>
          </a:r>
        </a:p>
        <a:p>
          <a:pPr lvl="0" algn="l">
            <a:spcBef>
              <a:spcPct val="0"/>
            </a:spcBef>
          </a:pPr>
          <a:endParaRPr lang="ru-RU" sz="2800" kern="1200" dirty="0"/>
        </a:p>
      </dsp:txBody>
      <dsp:txXfrm>
        <a:off x="1186094" y="2118707"/>
        <a:ext cx="7266487" cy="605377"/>
      </dsp:txXfrm>
    </dsp:sp>
    <dsp:sp modelId="{BCC375F6-645F-4FB6-BC42-FBFB71DC078B}">
      <dsp:nvSpPr>
        <dsp:cNvPr id="0" name=""/>
        <dsp:cNvSpPr/>
      </dsp:nvSpPr>
      <dsp:spPr>
        <a:xfrm>
          <a:off x="807733" y="2043035"/>
          <a:ext cx="756722" cy="756722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50000"/>
              <a:hueOff val="0"/>
              <a:satOff val="-10090"/>
              <a:lumOff val="29659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40149C06-4229-4E56-A34E-BEAE05D49B18}">
      <dsp:nvSpPr>
        <dsp:cNvPr id="0" name=""/>
        <dsp:cNvSpPr/>
      </dsp:nvSpPr>
      <dsp:spPr>
        <a:xfrm>
          <a:off x="1162841" y="3038100"/>
          <a:ext cx="7266487" cy="605377"/>
        </a:xfrm>
        <a:prstGeom prst="rect">
          <a:avLst/>
        </a:prstGeom>
        <a:solidFill>
          <a:schemeClr val="accent2">
            <a:shade val="50000"/>
            <a:hueOff val="0"/>
            <a:satOff val="-16414"/>
            <a:lumOff val="48608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80519" tIns="50800" rIns="50800" bIns="50800" numCol="1" spcCol="1270" anchor="ctr" anchorCtr="0">
          <a:noAutofit/>
        </a:bodyPr>
        <a:lstStyle/>
        <a:p>
          <a:pPr lvl="0" algn="l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kern="1200" dirty="0" smtClean="0">
              <a:solidFill>
                <a:schemeClr val="tx1"/>
              </a:solidFill>
            </a:rPr>
            <a:t>формированию доверительных отношений к друг другу;</a:t>
          </a:r>
          <a:endParaRPr lang="ru-RU" sz="2000" b="1" kern="1200" dirty="0">
            <a:solidFill>
              <a:schemeClr val="tx1"/>
            </a:solidFill>
          </a:endParaRPr>
        </a:p>
      </dsp:txBody>
      <dsp:txXfrm>
        <a:off x="1162841" y="3038100"/>
        <a:ext cx="7266487" cy="605377"/>
      </dsp:txXfrm>
    </dsp:sp>
    <dsp:sp modelId="{2B26C479-189E-400E-B46F-FE59A3B2DE1D}">
      <dsp:nvSpPr>
        <dsp:cNvPr id="0" name=""/>
        <dsp:cNvSpPr/>
      </dsp:nvSpPr>
      <dsp:spPr>
        <a:xfrm>
          <a:off x="807733" y="2950411"/>
          <a:ext cx="756722" cy="756722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50000"/>
              <a:hueOff val="0"/>
              <a:satOff val="-15135"/>
              <a:lumOff val="44489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BC4D8DDC-2C85-479E-9C5E-A142F05AD2A1}">
      <dsp:nvSpPr>
        <dsp:cNvPr id="0" name=""/>
        <dsp:cNvSpPr/>
      </dsp:nvSpPr>
      <dsp:spPr>
        <a:xfrm>
          <a:off x="958387" y="3934035"/>
          <a:ext cx="7494194" cy="605377"/>
        </a:xfrm>
        <a:prstGeom prst="rect">
          <a:avLst/>
        </a:prstGeom>
        <a:solidFill>
          <a:schemeClr val="accent2">
            <a:shade val="50000"/>
            <a:hueOff val="0"/>
            <a:satOff val="-10943"/>
            <a:lumOff val="32405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80519" tIns="81280" rIns="81280" bIns="81280" numCol="1" spcCol="1270" anchor="ctr" anchorCtr="0">
          <a:noAutofit/>
        </a:bodyPr>
        <a:lstStyle/>
        <a:p>
          <a:pPr lvl="0" algn="l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200" kern="1200" dirty="0" smtClean="0"/>
            <a:t> </a:t>
          </a:r>
          <a:r>
            <a:rPr lang="ru-RU" sz="2000" b="1" kern="1200" dirty="0" smtClean="0">
              <a:solidFill>
                <a:schemeClr val="tx1"/>
              </a:solidFill>
            </a:rPr>
            <a:t>развитию невербального воображения, образного мышления. </a:t>
          </a:r>
          <a:endParaRPr lang="ru-RU" sz="1800" b="1" kern="1200" dirty="0">
            <a:solidFill>
              <a:schemeClr val="tx1"/>
            </a:solidFill>
          </a:endParaRPr>
        </a:p>
      </dsp:txBody>
      <dsp:txXfrm>
        <a:off x="958387" y="3934035"/>
        <a:ext cx="7494194" cy="605377"/>
      </dsp:txXfrm>
    </dsp:sp>
    <dsp:sp modelId="{08C13384-E2C8-4388-8B20-92A4FCC5D140}">
      <dsp:nvSpPr>
        <dsp:cNvPr id="0" name=""/>
        <dsp:cNvSpPr/>
      </dsp:nvSpPr>
      <dsp:spPr>
        <a:xfrm>
          <a:off x="580026" y="3858363"/>
          <a:ext cx="756722" cy="756722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50000"/>
              <a:hueOff val="0"/>
              <a:satOff val="-10090"/>
              <a:lumOff val="29659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A27EBC6A-A86C-4E7D-B6E2-84DC96CEA1EE}">
      <dsp:nvSpPr>
        <dsp:cNvPr id="0" name=""/>
        <dsp:cNvSpPr/>
      </dsp:nvSpPr>
      <dsp:spPr>
        <a:xfrm>
          <a:off x="460423" y="4841987"/>
          <a:ext cx="7992159" cy="605377"/>
        </a:xfrm>
        <a:prstGeom prst="rect">
          <a:avLst/>
        </a:prstGeom>
        <a:solidFill>
          <a:schemeClr val="accent2">
            <a:shade val="50000"/>
            <a:hueOff val="0"/>
            <a:satOff val="-5471"/>
            <a:lumOff val="16203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80519" tIns="50800" rIns="50800" bIns="50800" numCol="1" spcCol="1270" anchor="ctr" anchorCtr="0">
          <a:noAutofit/>
        </a:bodyPr>
        <a:lstStyle/>
        <a:p>
          <a:pPr lvl="0" algn="l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kern="1200" dirty="0" smtClean="0"/>
            <a:t>формированию</a:t>
          </a:r>
          <a:r>
            <a:rPr lang="ru-RU" sz="2400" b="1" kern="1200" dirty="0" smtClean="0"/>
            <a:t> речевого аппарата</a:t>
          </a:r>
          <a:endParaRPr lang="ru-RU" sz="2400" b="1" kern="1200" dirty="0"/>
        </a:p>
      </dsp:txBody>
      <dsp:txXfrm>
        <a:off x="460423" y="4841987"/>
        <a:ext cx="7992159" cy="605377"/>
      </dsp:txXfrm>
    </dsp:sp>
    <dsp:sp modelId="{BAF61CB4-AB9E-419E-A867-83A9F3A53D7F}">
      <dsp:nvSpPr>
        <dsp:cNvPr id="0" name=""/>
        <dsp:cNvSpPr/>
      </dsp:nvSpPr>
      <dsp:spPr>
        <a:xfrm>
          <a:off x="82061" y="4766315"/>
          <a:ext cx="756722" cy="756722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50000"/>
              <a:hueOff val="0"/>
              <a:satOff val="-5045"/>
              <a:lumOff val="1483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74F5620-84C0-4C34-92F4-7C291ABD098C}">
      <dsp:nvSpPr>
        <dsp:cNvPr id="0" name=""/>
        <dsp:cNvSpPr/>
      </dsp:nvSpPr>
      <dsp:spPr>
        <a:xfrm>
          <a:off x="0" y="2355850"/>
          <a:ext cx="2486416" cy="1243208"/>
        </a:xfrm>
        <a:prstGeom prst="roundRect">
          <a:avLst>
            <a:gd name="adj" fmla="val 10000"/>
          </a:avLst>
        </a:prstGeom>
        <a:blipFill rotWithShape="0">
          <a:blip xmlns:r="http://schemas.openxmlformats.org/officeDocument/2006/relationships" r:embed="rId1"/>
          <a:stretch>
            <a:fillRect/>
          </a:stretch>
        </a:blipFill>
        <a:ln w="25400" cap="flat" cmpd="sng" algn="ctr">
          <a:solidFill>
            <a:schemeClr val="accent1">
              <a:lumMod val="7500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200" kern="1200" dirty="0">
            <a:solidFill>
              <a:schemeClr val="tx1"/>
            </a:solidFill>
            <a:latin typeface="Calibri" pitchFamily="34" charset="0"/>
            <a:cs typeface="Calibri" pitchFamily="34" charset="0"/>
          </a:endParaRPr>
        </a:p>
      </dsp:txBody>
      <dsp:txXfrm>
        <a:off x="36412" y="2392262"/>
        <a:ext cx="2413592" cy="1170384"/>
      </dsp:txXfrm>
    </dsp:sp>
    <dsp:sp modelId="{A21C0BD4-B3B5-4382-BB2F-9EE2F8FA57C2}">
      <dsp:nvSpPr>
        <dsp:cNvPr id="0" name=""/>
        <dsp:cNvSpPr/>
      </dsp:nvSpPr>
      <dsp:spPr>
        <a:xfrm rot="17737321">
          <a:off x="1828129" y="1913206"/>
          <a:ext cx="2319675" cy="36921"/>
        </a:xfrm>
        <a:custGeom>
          <a:avLst/>
          <a:gdLst/>
          <a:ahLst/>
          <a:cxnLst/>
          <a:rect l="0" t="0" r="0" b="0"/>
          <a:pathLst>
            <a:path>
              <a:moveTo>
                <a:pt x="0" y="18460"/>
              </a:moveTo>
              <a:lnTo>
                <a:pt x="2319675" y="18460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355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800" kern="1200"/>
        </a:p>
      </dsp:txBody>
      <dsp:txXfrm>
        <a:off x="2929975" y="1873675"/>
        <a:ext cx="115983" cy="115983"/>
      </dsp:txXfrm>
    </dsp:sp>
    <dsp:sp modelId="{90866C96-E86B-4BEE-BC11-7731746B0218}">
      <dsp:nvSpPr>
        <dsp:cNvPr id="0" name=""/>
        <dsp:cNvSpPr/>
      </dsp:nvSpPr>
      <dsp:spPr>
        <a:xfrm>
          <a:off x="3489518" y="264276"/>
          <a:ext cx="5138800" cy="1243208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>
              <a:solidFill>
                <a:schemeClr val="tx1"/>
              </a:solidFill>
            </a:rPr>
            <a:t>игры и упражнения на развитие умения сотрудничать и действовать сообща;</a:t>
          </a:r>
        </a:p>
      </dsp:txBody>
      <dsp:txXfrm>
        <a:off x="3525930" y="300688"/>
        <a:ext cx="5065976" cy="1170384"/>
      </dsp:txXfrm>
    </dsp:sp>
    <dsp:sp modelId="{EF11D42C-96F3-4F18-983A-941C20D48BFE}">
      <dsp:nvSpPr>
        <dsp:cNvPr id="0" name=""/>
        <dsp:cNvSpPr/>
      </dsp:nvSpPr>
      <dsp:spPr>
        <a:xfrm rot="19594902">
          <a:off x="2387071" y="2628051"/>
          <a:ext cx="1201792" cy="36921"/>
        </a:xfrm>
        <a:custGeom>
          <a:avLst/>
          <a:gdLst/>
          <a:ahLst/>
          <a:cxnLst/>
          <a:rect l="0" t="0" r="0" b="0"/>
          <a:pathLst>
            <a:path>
              <a:moveTo>
                <a:pt x="0" y="18460"/>
              </a:moveTo>
              <a:lnTo>
                <a:pt x="1201792" y="18460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2957922" y="2616467"/>
        <a:ext cx="60089" cy="60089"/>
      </dsp:txXfrm>
    </dsp:sp>
    <dsp:sp modelId="{034D203C-AD7A-46DD-9DDF-CA624C1820FB}">
      <dsp:nvSpPr>
        <dsp:cNvPr id="0" name=""/>
        <dsp:cNvSpPr/>
      </dsp:nvSpPr>
      <dsp:spPr>
        <a:xfrm>
          <a:off x="3489518" y="1693966"/>
          <a:ext cx="5071791" cy="1243208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>
              <a:solidFill>
                <a:schemeClr val="tx1"/>
              </a:solidFill>
            </a:rPr>
            <a:t>игры и упражнения на развитие доверительных отношений;</a:t>
          </a:r>
        </a:p>
      </dsp:txBody>
      <dsp:txXfrm>
        <a:off x="3525930" y="1730378"/>
        <a:ext cx="4998967" cy="1170384"/>
      </dsp:txXfrm>
    </dsp:sp>
    <dsp:sp modelId="{48C8F3F3-984D-4DBE-9BD1-DF09133977F6}">
      <dsp:nvSpPr>
        <dsp:cNvPr id="0" name=""/>
        <dsp:cNvSpPr/>
      </dsp:nvSpPr>
      <dsp:spPr>
        <a:xfrm rot="2213960">
          <a:off x="2358339" y="3342896"/>
          <a:ext cx="1278799" cy="36921"/>
        </a:xfrm>
        <a:custGeom>
          <a:avLst/>
          <a:gdLst/>
          <a:ahLst/>
          <a:cxnLst/>
          <a:rect l="0" t="0" r="0" b="0"/>
          <a:pathLst>
            <a:path>
              <a:moveTo>
                <a:pt x="0" y="18460"/>
              </a:moveTo>
              <a:lnTo>
                <a:pt x="1278799" y="18460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200" kern="1200">
            <a:latin typeface="Calibri" pitchFamily="34" charset="0"/>
            <a:cs typeface="Calibri" pitchFamily="34" charset="0"/>
          </a:endParaRPr>
        </a:p>
      </dsp:txBody>
      <dsp:txXfrm>
        <a:off x="2965768" y="3329386"/>
        <a:ext cx="63939" cy="63939"/>
      </dsp:txXfrm>
    </dsp:sp>
    <dsp:sp modelId="{766EB81C-A80C-403C-B649-26EFD20B72C0}">
      <dsp:nvSpPr>
        <dsp:cNvPr id="0" name=""/>
        <dsp:cNvSpPr/>
      </dsp:nvSpPr>
      <dsp:spPr>
        <a:xfrm>
          <a:off x="3509061" y="3123655"/>
          <a:ext cx="5055953" cy="1243208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lumMod val="7500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>
              <a:solidFill>
                <a:schemeClr val="tx1"/>
              </a:solidFill>
            </a:rPr>
            <a:t>игры и упражнения на развитие умения активно слушать;</a:t>
          </a:r>
          <a:endParaRPr lang="ru-RU" sz="2800" kern="1200" dirty="0">
            <a:solidFill>
              <a:schemeClr val="tx1"/>
            </a:solidFill>
            <a:latin typeface="Calibri" pitchFamily="34" charset="0"/>
            <a:cs typeface="Calibri" pitchFamily="34" charset="0"/>
          </a:endParaRPr>
        </a:p>
      </dsp:txBody>
      <dsp:txXfrm>
        <a:off x="3545473" y="3160067"/>
        <a:ext cx="4983129" cy="1170384"/>
      </dsp:txXfrm>
    </dsp:sp>
    <dsp:sp modelId="{CA44BA22-D87A-4060-A2C6-CD33A7CA7025}">
      <dsp:nvSpPr>
        <dsp:cNvPr id="0" name=""/>
        <dsp:cNvSpPr/>
      </dsp:nvSpPr>
      <dsp:spPr>
        <a:xfrm rot="3927868">
          <a:off x="1780159" y="4057740"/>
          <a:ext cx="2415615" cy="36921"/>
        </a:xfrm>
        <a:custGeom>
          <a:avLst/>
          <a:gdLst/>
          <a:ahLst/>
          <a:cxnLst/>
          <a:rect l="0" t="0" r="0" b="0"/>
          <a:pathLst>
            <a:path>
              <a:moveTo>
                <a:pt x="0" y="18460"/>
              </a:moveTo>
              <a:lnTo>
                <a:pt x="2415615" y="18460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900" kern="1200"/>
        </a:p>
      </dsp:txBody>
      <dsp:txXfrm>
        <a:off x="2927576" y="4015811"/>
        <a:ext cx="120780" cy="120780"/>
      </dsp:txXfrm>
    </dsp:sp>
    <dsp:sp modelId="{6AA8086F-3695-45E3-B9F9-21EC6CB8EFBB}">
      <dsp:nvSpPr>
        <dsp:cNvPr id="0" name=""/>
        <dsp:cNvSpPr/>
      </dsp:nvSpPr>
      <dsp:spPr>
        <a:xfrm>
          <a:off x="3489518" y="4553344"/>
          <a:ext cx="5080220" cy="1243208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>
              <a:solidFill>
                <a:schemeClr val="tx1"/>
              </a:solidFill>
            </a:rPr>
            <a:t>игры и упражнения на развитие умения  перерабатывать информацию. </a:t>
          </a:r>
          <a:endParaRPr lang="ru-RU" sz="2800" kern="1200" dirty="0">
            <a:solidFill>
              <a:schemeClr val="tx1"/>
            </a:solidFill>
          </a:endParaRPr>
        </a:p>
      </dsp:txBody>
      <dsp:txXfrm>
        <a:off x="3525930" y="4589756"/>
        <a:ext cx="5007396" cy="1170384"/>
      </dsp:txXfrm>
    </dsp:sp>
    <dsp:sp modelId="{AE146E71-E7A6-410F-9FE5-FFB66858E40C}">
      <dsp:nvSpPr>
        <dsp:cNvPr id="0" name=""/>
        <dsp:cNvSpPr/>
      </dsp:nvSpPr>
      <dsp:spPr>
        <a:xfrm>
          <a:off x="1524" y="2330613"/>
          <a:ext cx="2866216" cy="1243208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lumMod val="7500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860" tIns="22860" rIns="22860" bIns="22860" numCol="1" spcCol="1270" anchor="ctr" anchorCtr="0">
          <a:noAutofit/>
        </a:bodyPr>
        <a:lstStyle/>
        <a:p>
          <a:pPr lvl="0" algn="ctr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600" kern="1200" dirty="0" smtClean="0">
              <a:solidFill>
                <a:schemeClr val="tx1"/>
              </a:solidFill>
              <a:latin typeface="Calibri" pitchFamily="34" charset="0"/>
              <a:cs typeface="Calibri" pitchFamily="34" charset="0"/>
            </a:rPr>
            <a:t>4 блока игр</a:t>
          </a:r>
          <a:endParaRPr lang="ru-RU" sz="3600" kern="1200" dirty="0">
            <a:solidFill>
              <a:schemeClr val="tx1"/>
            </a:solidFill>
            <a:latin typeface="Calibri" pitchFamily="34" charset="0"/>
            <a:cs typeface="Calibri" pitchFamily="34" charset="0"/>
          </a:endParaRPr>
        </a:p>
      </dsp:txBody>
      <dsp:txXfrm>
        <a:off x="37936" y="2367025"/>
        <a:ext cx="2793392" cy="1170384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8/layout/VerticalCurvedList">
  <dgm:title val=""/>
  <dgm:desc val=""/>
  <dgm:catLst>
    <dgm:cat type="list" pri="2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7"/>
      <dgm:chPref val="7"/>
      <dgm:dir/>
    </dgm:varLst>
    <dgm:alg type="composite"/>
    <dgm:shape xmlns:r="http://schemas.openxmlformats.org/officeDocument/2006/relationships" r:blip="">
      <dgm:adjLst/>
    </dgm:shape>
    <dgm:constrLst>
      <dgm:constr type="w" for="ch" refType="h" refFor="ch" op="gte" fact="0.8"/>
    </dgm:constrLst>
    <dgm:layoutNode name="Name1">
      <dgm:alg type="composite"/>
      <dgm:shape xmlns:r="http://schemas.openxmlformats.org/officeDocument/2006/relationships" r:blip="">
        <dgm:adjLst/>
      </dgm:shape>
      <dgm:choose name="Name2">
        <dgm:if name="Name3" func="var" arg="dir" op="equ" val="norm">
          <dgm:choose name="Name4">
            <dgm:if name="Name5" axis="ch" ptType="node" func="cnt" op="equ" val="1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625"/>
                <dgm:constr type="w" for="ch" forName="accent_1" refType="h" refFor="ch" refForName="accent_1" op="equ"/>
                <dgm:constr type="ctrY" for="ch" forName="accent_1" refType="h" fact="0.5"/>
                <dgm:constr type="ctrX" for="ch" forName="accent_1" refType="h" fact="0.2253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primFontSz" for="ch" ptType="node" op="equ" val="65"/>
              </dgm:constrLst>
            </dgm:if>
            <dgm:if name="Name6" axis="ch" ptType="node" func="cnt" op="equ" val="2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3571"/>
                <dgm:constr type="w" for="ch" forName="accent_1" refType="h" refFor="ch" refForName="accent_1" op="equ"/>
                <dgm:constr type="ctrY" for="ch" forName="accent_1" refType="h" fact="0.2857"/>
                <dgm:constr type="ctrX" for="ch" forName="accent_1" refType="h" fact="0.1891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3571"/>
                <dgm:constr type="w" for="ch" forName="accent_2" refType="h" refFor="ch" refForName="accent_2" op="equ"/>
                <dgm:constr type="ctrY" for="ch" forName="accent_2" refType="h" fact="0.7143"/>
                <dgm:constr type="ctrX" for="ch" forName="accent_2" refType="h" fact="0.1891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primFontSz" for="ch" ptType="node" op="equ" val="65"/>
              </dgm:constrLst>
            </dgm:if>
            <dgm:if name="Name7" axis="ch" ptType="node" func="cnt" op="equ" val="3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25"/>
                <dgm:constr type="w" for="ch" forName="accent_1" refType="h" refFor="ch" refForName="accent_1" op="equ"/>
                <dgm:constr type="ctrY" for="ch" forName="accent_1" refType="h" fact="0.2"/>
                <dgm:constr type="ctrX" for="ch" forName="accent_1" refType="h" fact="0.1526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25"/>
                <dgm:constr type="w" for="ch" forName="accent_2" refType="h" refFor="ch" refForName="accent_2" op="equ"/>
                <dgm:constr type="ctrY" for="ch" forName="accent_2" refType="h" fact="0.5"/>
                <dgm:constr type="ctrX" for="ch" forName="accent_2" refType="h" fact="0.2253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25"/>
                <dgm:constr type="w" for="ch" forName="accent_3" refType="h" refFor="ch" refForName="accent_3" op="equ"/>
                <dgm:constr type="ctrY" for="ch" forName="accent_3" refType="h" fact="0.8"/>
                <dgm:constr type="ctrX" for="ch" forName="accent_3" refType="h" fact="0.1526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primFontSz" for="ch" ptType="node" op="equ" val="65"/>
              </dgm:constrLst>
            </dgm:if>
            <dgm:if name="Name8" axis="ch" ptType="node" func="cnt" op="equ" val="4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923"/>
                <dgm:constr type="w" for="ch" forName="accent_1" refType="h" refFor="ch" refForName="accent_1" op="equ"/>
                <dgm:constr type="ctrY" for="ch" forName="accent_1" refType="h" fact="0.1538"/>
                <dgm:constr type="ctrX" for="ch" forName="accent_1" refType="h" fact="0.1268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923"/>
                <dgm:constr type="w" for="ch" forName="accent_2" refType="h" refFor="ch" refForName="accent_2" op="equ"/>
                <dgm:constr type="ctrY" for="ch" forName="accent_2" refType="h" fact="0.3846"/>
                <dgm:constr type="ctrX" for="ch" forName="accent_2" refType="h" fact="0.215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923"/>
                <dgm:constr type="w" for="ch" forName="accent_3" refType="h" refFor="ch" refForName="accent_3" op="equ"/>
                <dgm:constr type="ctrY" for="ch" forName="accent_3" refType="h" fact="0.6154"/>
                <dgm:constr type="ctrX" for="ch" forName="accent_3" refType="h" fact="0.215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923"/>
                <dgm:constr type="w" for="ch" forName="accent_4" refType="h" refFor="ch" refForName="accent_4" op="equ"/>
                <dgm:constr type="ctrY" for="ch" forName="accent_4" refType="h" fact="0.8462"/>
                <dgm:constr type="ctrX" for="ch" forName="accent_4" refType="h" fact="0.1268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primFontSz" for="ch" ptType="node" op="equ" val="65"/>
              </dgm:constrLst>
            </dgm:if>
            <dgm:if name="Name9" axis="ch" ptType="node" func="cnt" op="equ" val="5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563"/>
                <dgm:constr type="w" for="ch" forName="accent_1" refType="h" refFor="ch" refForName="accent_1" op="equ"/>
                <dgm:constr type="ctrY" for="ch" forName="accent_1" refType="h" fact="0.125"/>
                <dgm:constr type="ctrX" for="ch" forName="accent_1" refType="h" fact="0.1082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563"/>
                <dgm:constr type="w" for="ch" forName="accent_2" refType="h" refFor="ch" refForName="accent_2" op="equ"/>
                <dgm:constr type="ctrY" for="ch" forName="accent_2" refType="h" fact="0.3125"/>
                <dgm:constr type="ctrX" for="ch" forName="accent_2" refType="h" fact="0.1978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563"/>
                <dgm:constr type="w" for="ch" forName="accent_3" refType="h" refFor="ch" refForName="accent_3" op="equ"/>
                <dgm:constr type="ctrY" for="ch" forName="accent_3" refType="h" fact="0.5"/>
                <dgm:constr type="ctrX" for="ch" forName="accent_3" refType="h" fact="0.2253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563"/>
                <dgm:constr type="w" for="ch" forName="accent_4" refType="h" refFor="ch" refForName="accent_4" op="equ"/>
                <dgm:constr type="ctrY" for="ch" forName="accent_4" refType="h" fact="0.6875"/>
                <dgm:constr type="ctrX" for="ch" forName="accent_4" refType="h" fact="0.1978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563"/>
                <dgm:constr type="w" for="ch" forName="accent_5" refType="h" refFor="ch" refForName="accent_5" op="equ"/>
                <dgm:constr type="ctrY" for="ch" forName="accent_5" refType="h" fact="0.875"/>
                <dgm:constr type="ctrX" for="ch" forName="accent_5" refType="h" fact="0.1082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primFontSz" for="ch" ptType="node" op="equ" val="65"/>
              </dgm:constrLst>
            </dgm:if>
            <dgm:if name="Name10" axis="ch" ptType="node" func="cnt" op="equ" val="6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316"/>
                <dgm:constr type="w" for="ch" forName="accent_1" refType="h" refFor="ch" refForName="accent_1" op="equ"/>
                <dgm:constr type="ctrY" for="ch" forName="accent_1" refType="h" fact="0.1053"/>
                <dgm:constr type="ctrX" for="ch" forName="accent_1" refType="h" fact="0.0943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316"/>
                <dgm:constr type="w" for="ch" forName="accent_2" refType="h" refFor="ch" refForName="accent_2" op="equ"/>
                <dgm:constr type="ctrY" for="ch" forName="accent_2" refType="h" fact="0.2632"/>
                <dgm:constr type="ctrX" for="ch" forName="accent_2" refType="h" fact="0.1809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316"/>
                <dgm:constr type="w" for="ch" forName="accent_3" refType="h" refFor="ch" refForName="accent_3" op="equ"/>
                <dgm:constr type="ctrY" for="ch" forName="accent_3" refType="h" fact="0.4211"/>
                <dgm:constr type="ctrX" for="ch" forName="accent_3" refType="h" fact="0.2205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316"/>
                <dgm:constr type="w" for="ch" forName="accent_4" refType="h" refFor="ch" refForName="accent_4" op="equ"/>
                <dgm:constr type="ctrY" for="ch" forName="accent_4" refType="h" fact="0.5789"/>
                <dgm:constr type="ctrX" for="ch" forName="accent_4" refType="h" fact="0.2205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316"/>
                <dgm:constr type="w" for="ch" forName="accent_5" refType="h" refFor="ch" refForName="accent_5" op="equ"/>
                <dgm:constr type="ctrY" for="ch" forName="accent_5" refType="h" fact="0.7368"/>
                <dgm:constr type="ctrX" for="ch" forName="accent_5" refType="h" fact="0.1809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h" for="ch" forName="accent_6" refType="h" fact="0.1316"/>
                <dgm:constr type="w" for="ch" forName="accent_6" refType="h" refFor="ch" refForName="accent_6" op="equ"/>
                <dgm:constr type="ctrY" for="ch" forName="accent_6" refType="h" fact="0.8947"/>
                <dgm:constr type="ctrX" for="ch" forName="accent_6" refType="h" fact="0.0943"/>
                <dgm:constr type="l" for="ch" forName="text_6" refType="ctrX" refFor="ch" refForName="accent_6"/>
                <dgm:constr type="r" for="ch" forName="text_6" refType="w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lMarg" for="ch" forName="text_6" refType="w" refFor="ch" refForName="accent_6" fact="1.8"/>
                <dgm:constr type="primFontSz" for="ch" ptType="node" op="equ" val="65"/>
              </dgm:constrLst>
            </dgm:if>
            <dgm:else name="Name11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136"/>
                <dgm:constr type="w" for="ch" forName="accent_1" refType="h" refFor="ch" refForName="accent_1" op="equ"/>
                <dgm:constr type="ctrY" for="ch" forName="accent_1" refType="h" fact="0.0909"/>
                <dgm:constr type="ctrX" for="ch" forName="accent_1" refType="h" fact="0.0835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136"/>
                <dgm:constr type="w" for="ch" forName="accent_2" refType="h" refFor="ch" refForName="accent_2" op="equ"/>
                <dgm:constr type="ctrY" for="ch" forName="accent_2" refType="h" fact="0.2273"/>
                <dgm:constr type="ctrX" for="ch" forName="accent_2" refType="h" fact="0.1658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136"/>
                <dgm:constr type="w" for="ch" forName="accent_3" refType="h" refFor="ch" refForName="accent_3" op="equ"/>
                <dgm:constr type="ctrY" for="ch" forName="accent_3" refType="h" fact="0.3636"/>
                <dgm:constr type="ctrX" for="ch" forName="accent_3" refType="h" fact="0.2109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136"/>
                <dgm:constr type="w" for="ch" forName="accent_4" refType="h" refFor="ch" refForName="accent_4" op="equ"/>
                <dgm:constr type="ctrY" for="ch" forName="accent_4" refType="h" fact="0.5"/>
                <dgm:constr type="ctrX" for="ch" forName="accent_4" refType="h" fact="0.2253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136"/>
                <dgm:constr type="w" for="ch" forName="accent_5" refType="h" refFor="ch" refForName="accent_5" op="equ"/>
                <dgm:constr type="ctrY" for="ch" forName="accent_5" refType="h" fact="0.6364"/>
                <dgm:constr type="ctrX" for="ch" forName="accent_5" refType="h" fact="0.2109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h" for="ch" forName="accent_6" refType="h" fact="0.1136"/>
                <dgm:constr type="w" for="ch" forName="accent_6" refType="h" refFor="ch" refForName="accent_6" op="equ"/>
                <dgm:constr type="ctrY" for="ch" forName="accent_6" refType="h" fact="0.7727"/>
                <dgm:constr type="ctrX" for="ch" forName="accent_6" refType="h" fact="0.1658"/>
                <dgm:constr type="l" for="ch" forName="text_6" refType="ctrX" refFor="ch" refForName="accent_6"/>
                <dgm:constr type="r" for="ch" forName="text_6" refType="w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lMarg" for="ch" forName="text_6" refType="w" refFor="ch" refForName="accent_6" fact="1.8"/>
                <dgm:constr type="h" for="ch" forName="accent_7" refType="h" fact="0.1136"/>
                <dgm:constr type="w" for="ch" forName="accent_7" refType="h" refFor="ch" refForName="accent_7" op="equ"/>
                <dgm:constr type="ctrY" for="ch" forName="accent_7" refType="h" fact="0.9091"/>
                <dgm:constr type="ctrX" for="ch" forName="accent_7" refType="h" fact="0.0835"/>
                <dgm:constr type="l" for="ch" forName="text_7" refType="ctrX" refFor="ch" refForName="accent_7"/>
                <dgm:constr type="r" for="ch" forName="text_7" refType="w"/>
                <dgm:constr type="w" for="ch" forName="text_7" refType="h" refFor="ch" refForName="text_7" op="gte"/>
                <dgm:constr type="h" for="ch" forName="text_7" refType="h" refFor="ch" refForName="accent_7" fact="0.8"/>
                <dgm:constr type="ctrY" for="ch" forName="text_7" refType="ctrY" refFor="ch" refForName="accent_7"/>
                <dgm:constr type="lMarg" for="ch" forName="text_7" refType="w" refFor="ch" refForName="accent_7" fact="1.8"/>
                <dgm:constr type="primFontSz" for="ch" ptType="node" op="equ" val="65"/>
              </dgm:constrLst>
            </dgm:else>
          </dgm:choose>
        </dgm:if>
        <dgm:else name="Name12">
          <dgm:choose name="Name13">
            <dgm:if name="Name14" axis="ch" ptType="node" func="cnt" op="equ" val="1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625"/>
                <dgm:constr type="w" for="ch" forName="accent_1" refType="h" refFor="ch" refForName="accent_1" op="equ"/>
                <dgm:constr type="ctrY" for="ch" forName="accent_1" refType="h" fact="0.5"/>
                <dgm:constr type="ctrX" for="ch" forName="accent_1" refType="w"/>
                <dgm:constr type="ctrXOff" for="ch" forName="accent_1" refType="h" fact="-0.2253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primFontSz" for="ch" ptType="node" op="equ" val="65"/>
              </dgm:constrLst>
            </dgm:if>
            <dgm:if name="Name15" axis="ch" ptType="node" func="cnt" op="equ" val="2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3571"/>
                <dgm:constr type="w" for="ch" forName="accent_1" refType="h" refFor="ch" refForName="accent_1" op="equ"/>
                <dgm:constr type="ctrY" for="ch" forName="accent_1" refType="h" fact="0.2857"/>
                <dgm:constr type="ctrX" for="ch" forName="accent_1" refType="w"/>
                <dgm:constr type="ctrXOff" for="ch" forName="accent_1" refType="h" fact="-0.1891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3571"/>
                <dgm:constr type="w" for="ch" forName="accent_2" refType="h" refFor="ch" refForName="accent_2" op="equ"/>
                <dgm:constr type="ctrY" for="ch" forName="accent_2" refType="h" fact="0.7143"/>
                <dgm:constr type="ctrX" for="ch" forName="accent_2" refType="w"/>
                <dgm:constr type="ctrXOff" for="ch" forName="accent_2" refType="h" fact="-0.1891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primFontSz" for="ch" ptType="node" op="equ" val="65"/>
              </dgm:constrLst>
            </dgm:if>
            <dgm:if name="Name16" axis="ch" ptType="node" func="cnt" op="equ" val="3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25"/>
                <dgm:constr type="w" for="ch" forName="accent_1" refType="h" refFor="ch" refForName="accent_1" op="equ"/>
                <dgm:constr type="ctrY" for="ch" forName="accent_1" refType="h" fact="0.2"/>
                <dgm:constr type="ctrX" for="ch" forName="accent_1" refType="w"/>
                <dgm:constr type="ctrXOff" for="ch" forName="accent_1" refType="h" fact="-0.1526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25"/>
                <dgm:constr type="w" for="ch" forName="accent_2" refType="h" refFor="ch" refForName="accent_2" op="equ"/>
                <dgm:constr type="ctrY" for="ch" forName="accent_2" refType="h" fact="0.5"/>
                <dgm:constr type="ctrX" for="ch" forName="accent_2" refType="w"/>
                <dgm:constr type="ctrXOff" for="ch" forName="accent_2" refType="h" fact="-0.2253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25"/>
                <dgm:constr type="w" for="ch" forName="accent_3" refType="h" refFor="ch" refForName="accent_3" op="equ"/>
                <dgm:constr type="ctrY" for="ch" forName="accent_3" refType="h" fact="0.8"/>
                <dgm:constr type="ctrX" for="ch" forName="accent_3" refType="w"/>
                <dgm:constr type="ctrXOff" for="ch" forName="accent_3" refType="h" fact="-0.1526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primFontSz" for="ch" ptType="node" op="equ" val="65"/>
              </dgm:constrLst>
            </dgm:if>
            <dgm:if name="Name17" axis="ch" ptType="node" func="cnt" op="equ" val="4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923"/>
                <dgm:constr type="w" for="ch" forName="accent_1" refType="h" refFor="ch" refForName="accent_1" op="equ"/>
                <dgm:constr type="ctrY" for="ch" forName="accent_1" refType="h" fact="0.1538"/>
                <dgm:constr type="ctrX" for="ch" forName="accent_1" refType="w"/>
                <dgm:constr type="ctrXOff" for="ch" forName="accent_1" refType="h" fact="-0.1268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923"/>
                <dgm:constr type="w" for="ch" forName="accent_2" refType="h" refFor="ch" refForName="accent_2" op="equ"/>
                <dgm:constr type="ctrY" for="ch" forName="accent_2" refType="h" fact="0.3846"/>
                <dgm:constr type="ctrX" for="ch" forName="accent_2" refType="w"/>
                <dgm:constr type="ctrXOff" for="ch" forName="accent_2" refType="h" fact="-0.215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923"/>
                <dgm:constr type="w" for="ch" forName="accent_3" refType="h" refFor="ch" refForName="accent_3" op="equ"/>
                <dgm:constr type="ctrY" for="ch" forName="accent_3" refType="h" fact="0.6154"/>
                <dgm:constr type="ctrX" for="ch" forName="accent_3" refType="w"/>
                <dgm:constr type="ctrXOff" for="ch" forName="accent_3" refType="h" fact="-0.215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923"/>
                <dgm:constr type="w" for="ch" forName="accent_4" refType="h" refFor="ch" refForName="accent_4" op="equ"/>
                <dgm:constr type="ctrY" for="ch" forName="accent_4" refType="h" fact="0.8462"/>
                <dgm:constr type="ctrX" for="ch" forName="accent_4" refType="w"/>
                <dgm:constr type="ctrXOff" for="ch" forName="accent_4" refType="h" fact="-0.1268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primFontSz" for="ch" ptType="node" op="equ" val="65"/>
              </dgm:constrLst>
            </dgm:if>
            <dgm:if name="Name18" axis="ch" ptType="node" func="cnt" op="equ" val="5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563"/>
                <dgm:constr type="w" for="ch" forName="accent_1" refType="h" refFor="ch" refForName="accent_1" op="equ"/>
                <dgm:constr type="ctrY" for="ch" forName="accent_1" refType="h" fact="0.125"/>
                <dgm:constr type="ctrX" for="ch" forName="accent_1" refType="w"/>
                <dgm:constr type="ctrXOff" for="ch" forName="accent_1" refType="h" fact="-0.1082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563"/>
                <dgm:constr type="w" for="ch" forName="accent_2" refType="h" refFor="ch" refForName="accent_2" op="equ"/>
                <dgm:constr type="ctrY" for="ch" forName="accent_2" refType="h" fact="0.3125"/>
                <dgm:constr type="ctrX" for="ch" forName="accent_2" refType="w"/>
                <dgm:constr type="ctrXOff" for="ch" forName="accent_2" refType="h" fact="-0.1978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563"/>
                <dgm:constr type="w" for="ch" forName="accent_3" refType="h" refFor="ch" refForName="accent_3" op="equ"/>
                <dgm:constr type="ctrY" for="ch" forName="accent_3" refType="h" fact="0.5"/>
                <dgm:constr type="ctrX" for="ch" forName="accent_3" refType="w"/>
                <dgm:constr type="ctrXOff" for="ch" forName="accent_3" refType="h" fact="-0.2253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563"/>
                <dgm:constr type="w" for="ch" forName="accent_4" refType="h" refFor="ch" refForName="accent_4" op="equ"/>
                <dgm:constr type="ctrY" for="ch" forName="accent_4" refType="h" fact="0.6875"/>
                <dgm:constr type="ctrX" for="ch" forName="accent_4" refType="w"/>
                <dgm:constr type="ctrXOff" for="ch" forName="accent_4" refType="h" fact="-0.1978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563"/>
                <dgm:constr type="w" for="ch" forName="accent_5" refType="h" refFor="ch" refForName="accent_5" op="equ"/>
                <dgm:constr type="ctrY" for="ch" forName="accent_5" refType="h" fact="0.875"/>
                <dgm:constr type="ctrX" for="ch" forName="accent_5" refType="w"/>
                <dgm:constr type="ctrXOff" for="ch" forName="accent_5" refType="h" fact="-0.1082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primFontSz" for="ch" ptType="node" op="equ" val="65"/>
              </dgm:constrLst>
            </dgm:if>
            <dgm:if name="Name19" axis="ch" ptType="node" func="cnt" op="equ" val="6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316"/>
                <dgm:constr type="w" for="ch" forName="accent_1" refType="h" refFor="ch" refForName="accent_1" op="equ"/>
                <dgm:constr type="ctrY" for="ch" forName="accent_1" refType="h" fact="0.1053"/>
                <dgm:constr type="ctrX" for="ch" forName="accent_1" refType="w"/>
                <dgm:constr type="ctrXOff" for="ch" forName="accent_1" refType="h" fact="-0.0943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316"/>
                <dgm:constr type="w" for="ch" forName="accent_2" refType="h" refFor="ch" refForName="accent_2" op="equ"/>
                <dgm:constr type="ctrY" for="ch" forName="accent_2" refType="h" fact="0.2632"/>
                <dgm:constr type="ctrX" for="ch" forName="accent_2" refType="w"/>
                <dgm:constr type="ctrXOff" for="ch" forName="accent_2" refType="h" fact="-0.1809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316"/>
                <dgm:constr type="w" for="ch" forName="accent_3" refType="h" refFor="ch" refForName="accent_3" op="equ"/>
                <dgm:constr type="ctrY" for="ch" forName="accent_3" refType="h" fact="0.4211"/>
                <dgm:constr type="ctrX" for="ch" forName="accent_3" refType="w"/>
                <dgm:constr type="ctrXOff" for="ch" forName="accent_3" refType="h" fact="-0.2205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316"/>
                <dgm:constr type="w" for="ch" forName="accent_4" refType="h" refFor="ch" refForName="accent_4" op="equ"/>
                <dgm:constr type="ctrY" for="ch" forName="accent_4" refType="h" fact="0.5789"/>
                <dgm:constr type="ctrX" for="ch" forName="accent_4" refType="w"/>
                <dgm:constr type="ctrXOff" for="ch" forName="accent_4" refType="h" fact="-0.2205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316"/>
                <dgm:constr type="w" for="ch" forName="accent_5" refType="h" refFor="ch" refForName="accent_5" op="equ"/>
                <dgm:constr type="ctrY" for="ch" forName="accent_5" refType="h" fact="0.7368"/>
                <dgm:constr type="ctrX" for="ch" forName="accent_5" refType="w"/>
                <dgm:constr type="ctrXOff" for="ch" forName="accent_5" refType="h" fact="-0.1809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h" for="ch" forName="accent_6" refType="h" fact="0.1316"/>
                <dgm:constr type="w" for="ch" forName="accent_6" refType="h" refFor="ch" refForName="accent_6" op="equ"/>
                <dgm:constr type="ctrY" for="ch" forName="accent_6" refType="h" fact="0.8947"/>
                <dgm:constr type="ctrX" for="ch" forName="accent_6" refType="w"/>
                <dgm:constr type="ctrXOff" for="ch" forName="accent_6" refType="h" fact="-0.0943"/>
                <dgm:constr type="r" for="ch" forName="text_6" refType="ctrX" refFor="ch" refForName="accent_6"/>
                <dgm:constr type="rOff" for="ch" forName="text_6" refType="ctrXOff" refFor="ch" refForName="accent_6"/>
                <dgm:constr type="l" for="ch" forName="text_6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rMarg" for="ch" forName="text_6" refType="w" refFor="ch" refForName="accent_6" fact="1.8"/>
                <dgm:constr type="primFontSz" for="ch" ptType="node" op="equ" val="65"/>
              </dgm:constrLst>
            </dgm:if>
            <dgm:else name="Name20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136"/>
                <dgm:constr type="w" for="ch" forName="accent_1" refType="h" refFor="ch" refForName="accent_1" op="equ"/>
                <dgm:constr type="ctrY" for="ch" forName="accent_1" refType="h" fact="0.0909"/>
                <dgm:constr type="ctrX" for="ch" forName="accent_1" refType="w"/>
                <dgm:constr type="ctrXOff" for="ch" forName="accent_1" refType="h" fact="-0.0835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136"/>
                <dgm:constr type="w" for="ch" forName="accent_2" refType="h" refFor="ch" refForName="accent_2" op="equ"/>
                <dgm:constr type="ctrY" for="ch" forName="accent_2" refType="h" fact="0.2273"/>
                <dgm:constr type="ctrX" for="ch" forName="accent_2" refType="w"/>
                <dgm:constr type="ctrXOff" for="ch" forName="accent_2" refType="h" fact="-0.1658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136"/>
                <dgm:constr type="w" for="ch" forName="accent_3" refType="h" refFor="ch" refForName="accent_3" op="equ"/>
                <dgm:constr type="ctrY" for="ch" forName="accent_3" refType="h" fact="0.3636"/>
                <dgm:constr type="ctrX" for="ch" forName="accent_3" refType="w"/>
                <dgm:constr type="ctrXOff" for="ch" forName="accent_3" refType="h" fact="-0.2109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136"/>
                <dgm:constr type="w" for="ch" forName="accent_4" refType="h" refFor="ch" refForName="accent_4" op="equ"/>
                <dgm:constr type="ctrY" for="ch" forName="accent_4" refType="h" fact="0.5"/>
                <dgm:constr type="ctrX" for="ch" forName="accent_4" refType="w"/>
                <dgm:constr type="ctrXOff" for="ch" forName="accent_4" refType="h" fact="-0.2253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136"/>
                <dgm:constr type="w" for="ch" forName="accent_5" refType="h" refFor="ch" refForName="accent_5" op="equ"/>
                <dgm:constr type="ctrY" for="ch" forName="accent_5" refType="h" fact="0.6364"/>
                <dgm:constr type="ctrX" for="ch" forName="accent_5" refType="w"/>
                <dgm:constr type="ctrXOff" for="ch" forName="accent_5" refType="h" fact="-0.2109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h" for="ch" forName="accent_6" refType="h" fact="0.1136"/>
                <dgm:constr type="w" for="ch" forName="accent_6" refType="h" refFor="ch" refForName="accent_6" op="equ"/>
                <dgm:constr type="ctrY" for="ch" forName="accent_6" refType="h" fact="0.7727"/>
                <dgm:constr type="ctrX" for="ch" forName="accent_6" refType="w"/>
                <dgm:constr type="ctrXOff" for="ch" forName="accent_6" refType="h" fact="-0.1658"/>
                <dgm:constr type="r" for="ch" forName="text_6" refType="ctrX" refFor="ch" refForName="accent_6"/>
                <dgm:constr type="rOff" for="ch" forName="text_6" refType="ctrXOff" refFor="ch" refForName="accent_6"/>
                <dgm:constr type="l" for="ch" forName="text_6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rMarg" for="ch" forName="text_6" refType="w" refFor="ch" refForName="accent_6" fact="1.8"/>
                <dgm:constr type="h" for="ch" forName="accent_7" refType="h" fact="0.1136"/>
                <dgm:constr type="w" for="ch" forName="accent_7" refType="h" refFor="ch" refForName="accent_7" op="equ"/>
                <dgm:constr type="ctrY" for="ch" forName="accent_7" refType="h" fact="0.9091"/>
                <dgm:constr type="ctrX" for="ch" forName="accent_7" refType="w"/>
                <dgm:constr type="ctrXOff" for="ch" forName="accent_7" refType="h" fact="-0.0835"/>
                <dgm:constr type="r" for="ch" forName="text_7" refType="ctrX" refFor="ch" refForName="accent_7"/>
                <dgm:constr type="rOff" for="ch" forName="text_7" refType="ctrXOff" refFor="ch" refForName="accent_7"/>
                <dgm:constr type="l" for="ch" forName="text_7"/>
                <dgm:constr type="w" for="ch" forName="text_7" refType="h" refFor="ch" refForName="text_7" op="gte"/>
                <dgm:constr type="h" for="ch" forName="text_7" refType="h" refFor="ch" refForName="accent_7" fact="0.8"/>
                <dgm:constr type="ctrY" for="ch" forName="text_7" refType="ctrY" refFor="ch" refForName="accent_7"/>
                <dgm:constr type="rMarg" for="ch" forName="text_7" refType="w" refFor="ch" refForName="accent_7" fact="1.8"/>
                <dgm:constr type="primFontSz" for="ch" ptType="node" op="equ" val="65"/>
              </dgm:constrLst>
            </dgm:else>
          </dgm:choose>
        </dgm:else>
      </dgm:choose>
      <dgm:layoutNode name="cycle">
        <dgm:choose name="Name21">
          <dgm:if name="Name22" func="var" arg="dir" op="equ" val="norm">
            <dgm:alg type="cycle">
              <dgm:param type="stAng" val="45"/>
              <dgm:param type="spanAng" val="90"/>
            </dgm:alg>
          </dgm:if>
          <dgm:else name="Name23">
            <dgm:alg type="cycle">
              <dgm:param type="stAng" val="225"/>
              <dgm:param type="spanAng" val="90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val="1"/>
          <dgm:constr type="h" for="ch" val="1"/>
          <dgm:constr type="diam" for="ch" forName="conn" refType="diam"/>
        </dgm:constrLst>
        <dgm:layoutNode name="srcNode">
          <dgm:alg type="sp"/>
          <dgm:shape xmlns:r="http://schemas.openxmlformats.org/officeDocument/2006/relationships" type="rect" r:blip="" hideGeom="1">
            <dgm:adjLst/>
          </dgm:shape>
          <dgm:presOf/>
        </dgm:layoutNode>
        <dgm:layoutNode name="conn" styleLbl="parChTrans1D2">
          <dgm:alg type="conn">
            <dgm:param type="connRout" val="curve"/>
            <dgm:param type="srcNode" val="srcNode"/>
            <dgm:param type="dstNode" val="dstNode"/>
            <dgm:param type="begPts" val="ctr"/>
            <dgm:param type="endPts" val="ctr"/>
            <dgm:param type="endSty" val="noArr"/>
          </dgm:alg>
          <dgm:shape xmlns:r="http://schemas.openxmlformats.org/officeDocument/2006/relationships" type="conn" r:blip="">
            <dgm:adjLst/>
          </dgm:shape>
          <dgm:presOf axis="desOrSelf" ptType="sibTrans" hideLastTrans="0" st="0" cnt="1"/>
          <dgm:constrLst>
            <dgm:constr type="begPad"/>
            <dgm:constr type="endPad"/>
          </dgm:constrLst>
        </dgm:layoutNode>
        <dgm:layoutNode name="extraNode">
          <dgm:alg type="sp"/>
          <dgm:shape xmlns:r="http://schemas.openxmlformats.org/officeDocument/2006/relationships" type="rect" r:blip="" hideGeom="1">
            <dgm:adjLst/>
          </dgm:shape>
          <dgm:presOf/>
        </dgm:layoutNode>
        <dgm:layoutNode name="dstNode">
          <dgm:alg type="sp"/>
          <dgm:shape xmlns:r="http://schemas.openxmlformats.org/officeDocument/2006/relationships" type="rect" r:blip="" hideGeom="1">
            <dgm:adjLst/>
          </dgm:shape>
          <dgm:presOf/>
        </dgm:layoutNode>
      </dgm:layoutNode>
      <dgm:forEach name="wrapper" axis="self" ptType="parTrans">
        <dgm:forEach name="wrapper2" axis="self" ptType="sibTrans" st="2">
          <dgm:forEach name="accentRepeat" axis="self">
            <dgm:layoutNode name="accentRepeatNode" styleLbl="solidFgAcc1">
              <dgm:alg type="sp"/>
              <dgm:shape xmlns:r="http://schemas.openxmlformats.org/officeDocument/2006/relationships" type="ellipse" r:blip="">
                <dgm:adjLst/>
              </dgm:shape>
              <dgm:presOf/>
            </dgm:layoutNode>
          </dgm:forEach>
        </dgm:forEach>
      </dgm:forEach>
      <dgm:forEach name="Name24" axis="ch" ptType="node" cnt="1">
        <dgm:layoutNode name="text_1" styleLbl="node1">
          <dgm:varLst>
            <dgm:bulletEnabled val="1"/>
          </dgm:varLst>
          <dgm:choose name="Name25">
            <dgm:if name="Name2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2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1">
          <dgm:alg type="sp"/>
          <dgm:shape xmlns:r="http://schemas.openxmlformats.org/officeDocument/2006/relationships" r:blip="">
            <dgm:adjLst/>
          </dgm:shape>
          <dgm:presOf/>
          <dgm:constrLst/>
          <dgm:forEach name="Name28" ref="accentRepeat"/>
        </dgm:layoutNode>
      </dgm:forEach>
      <dgm:forEach name="Name29" axis="ch" ptType="node" st="2" cnt="1">
        <dgm:layoutNode name="text_2" styleLbl="node1">
          <dgm:varLst>
            <dgm:bulletEnabled val="1"/>
          </dgm:varLst>
          <dgm:choose name="Name30">
            <dgm:if name="Name3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3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2">
          <dgm:alg type="sp"/>
          <dgm:shape xmlns:r="http://schemas.openxmlformats.org/officeDocument/2006/relationships" r:blip="">
            <dgm:adjLst/>
          </dgm:shape>
          <dgm:presOf/>
          <dgm:constrLst/>
          <dgm:forEach name="Name33" ref="accentRepeat"/>
        </dgm:layoutNode>
      </dgm:forEach>
      <dgm:forEach name="Name34" axis="ch" ptType="node" st="3" cnt="1">
        <dgm:layoutNode name="text_3" styleLbl="node1">
          <dgm:varLst>
            <dgm:bulletEnabled val="1"/>
          </dgm:varLst>
          <dgm:choose name="Name35">
            <dgm:if name="Name3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3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3">
          <dgm:alg type="sp"/>
          <dgm:shape xmlns:r="http://schemas.openxmlformats.org/officeDocument/2006/relationships" r:blip="">
            <dgm:adjLst/>
          </dgm:shape>
          <dgm:presOf/>
          <dgm:constrLst/>
          <dgm:forEach name="Name38" ref="accentRepeat"/>
        </dgm:layoutNode>
      </dgm:forEach>
      <dgm:forEach name="Name39" axis="ch" ptType="node" st="4" cnt="1">
        <dgm:layoutNode name="text_4" styleLbl="node1">
          <dgm:varLst>
            <dgm:bulletEnabled val="1"/>
          </dgm:varLst>
          <dgm:choose name="Name40">
            <dgm:if name="Name4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4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4">
          <dgm:alg type="sp"/>
          <dgm:shape xmlns:r="http://schemas.openxmlformats.org/officeDocument/2006/relationships" r:blip="">
            <dgm:adjLst/>
          </dgm:shape>
          <dgm:presOf/>
          <dgm:constrLst/>
          <dgm:forEach name="Name43" ref="accentRepeat"/>
        </dgm:layoutNode>
      </dgm:forEach>
      <dgm:forEach name="Name44" axis="ch" ptType="node" st="5" cnt="1">
        <dgm:layoutNode name="text_5" styleLbl="node1">
          <dgm:varLst>
            <dgm:bulletEnabled val="1"/>
          </dgm:varLst>
          <dgm:choose name="Name45">
            <dgm:if name="Name4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4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5">
          <dgm:alg type="sp"/>
          <dgm:shape xmlns:r="http://schemas.openxmlformats.org/officeDocument/2006/relationships" r:blip="">
            <dgm:adjLst/>
          </dgm:shape>
          <dgm:presOf/>
          <dgm:constrLst/>
          <dgm:forEach name="Name48" ref="accentRepeat"/>
        </dgm:layoutNode>
      </dgm:forEach>
      <dgm:forEach name="Name49" axis="ch" ptType="node" st="6" cnt="1">
        <dgm:layoutNode name="text_6" styleLbl="node1">
          <dgm:varLst>
            <dgm:bulletEnabled val="1"/>
          </dgm:varLst>
          <dgm:choose name="Name50">
            <dgm:if name="Name5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5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6">
          <dgm:alg type="sp"/>
          <dgm:shape xmlns:r="http://schemas.openxmlformats.org/officeDocument/2006/relationships" r:blip="">
            <dgm:adjLst/>
          </dgm:shape>
          <dgm:presOf/>
          <dgm:constrLst/>
          <dgm:forEach name="Name53" ref="accentRepeat"/>
        </dgm:layoutNode>
      </dgm:forEach>
      <dgm:forEach name="Name54" axis="ch" ptType="node" st="7" cnt="1">
        <dgm:layoutNode name="text_7" styleLbl="node1">
          <dgm:varLst>
            <dgm:bulletEnabled val="1"/>
          </dgm:varLst>
          <dgm:choose name="Name55">
            <dgm:if name="Name5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5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7">
          <dgm:alg type="sp"/>
          <dgm:shape xmlns:r="http://schemas.openxmlformats.org/officeDocument/2006/relationships" r:blip="">
            <dgm:adjLst/>
          </dgm:shape>
          <dgm:presOf/>
          <dgm:constrLst/>
          <dgm:forEach name="Name58" ref="accentRepeat"/>
        </dgm:layoutNode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2">
  <dgm:title val=""/>
  <dgm:desc val=""/>
  <dgm:catLst>
    <dgm:cat type="hierarchy" pri="5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diagram">
    <dgm:varLst>
      <dgm:chPref val="1"/>
      <dgm:dir/>
      <dgm:animOne val="branch"/>
      <dgm:animLvl val="lvl"/>
      <dgm:resizeHandles val="exact"/>
    </dgm:varLst>
    <dgm:choose name="Name0">
      <dgm:if name="Name1" func="var" arg="dir" op="equ" val="norm">
        <dgm:alg type="hierChild">
          <dgm:param type="linDir" val="fromT"/>
          <dgm:param type="chAlign" val="l"/>
        </dgm:alg>
      </dgm:if>
      <dgm:else name="Name2">
        <dgm:alg type="hierChild">
          <dgm:param type="linDir" val="fromT"/>
          <dgm:param type="ch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des" ptType="node" refType="h"/>
      <dgm:constr type="w" for="des" ptType="node" refType="h" refFor="des" refPtType="node" fact="2"/>
      <dgm:constr type="sibSp" refType="h" refFor="des" refPtType="node" op="equ" fact="0.15"/>
      <dgm:constr type="sibSp" for="des" forName="level2hierChild" refType="h" refFor="des" refPtType="node" op="equ" fact="0.15"/>
      <dgm:constr type="sibSp" for="des" forName="level3hierChild" refType="h" refFor="des" refPtType="node" op="equ" fact="0.15"/>
      <dgm:constr type="sp" for="des" forName="root1" refType="w" refFor="des" refPtType="node" fact="0.4"/>
      <dgm:constr type="sp" for="des" forName="root2" refType="sp" refFor="des" refForName="root1" op="equ"/>
      <dgm:constr type="primFontSz" for="des" ptType="node" op="equ" val="65"/>
      <dgm:constr type="primFontSz" for="des" forName="connTx" op="equ" val="55"/>
      <dgm:constr type="primFontSz" for="des" forName="connTx" refType="primFontSz" refFor="des" refPtType="node" op="lte" fact="0.8"/>
    </dgm:constrLst>
    <dgm:ruleLst/>
    <dgm:forEach name="Name3" axis="ch">
      <dgm:forEach name="Name4" axis="self" ptType="node">
        <dgm:layoutNode name="root1">
          <dgm:choose name="Name5">
            <dgm:if name="Name6" func="var" arg="dir" op="equ" val="norm">
              <dgm:alg type="hierRoot">
                <dgm:param type="hierAlign" val="lCtrCh"/>
              </dgm:alg>
            </dgm:if>
            <dgm:else name="Name7">
              <dgm:alg type="hierRoot">
                <dgm:param type="hierAlign" val="rCtrCh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/>
          <dgm:layoutNode name="LevelOneTextNode" styleLbl="node0">
            <dgm:varLst>
              <dgm:chPref val="3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05"/>
              <dgm:constr type="bMarg" refType="primFontSz" fact="0.05"/>
              <dgm:constr type="lMarg" refType="primFontSz" fact="0.05"/>
              <dgm:constr type="rMarg" refType="primFontSz" fact="0.05"/>
            </dgm:constrLst>
            <dgm:ruleLst>
              <dgm:rule type="primFontSz" val="5" fact="NaN" max="NaN"/>
            </dgm:ruleLst>
          </dgm:layoutNode>
          <dgm:layoutNode name="level2hierChild">
            <dgm:choose name="Name8">
              <dgm:if name="Name9" func="var" arg="dir" op="equ" val="norm">
                <dgm:alg type="hierChild">
                  <dgm:param type="linDir" val="fromT"/>
                  <dgm:param type="chAlign" val="l"/>
                </dgm:alg>
              </dgm:if>
              <dgm:else name="Name10">
                <dgm:alg type="hierChild">
                  <dgm:param type="linDir" val="fromT"/>
                  <dgm:param type="chAlign" val="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eat" axis="ch">
              <dgm:forEach name="Name11" axis="self" ptType="parTrans" cnt="1">
                <dgm:layoutNode name="conn2-1">
                  <dgm:choose name="Name12">
                    <dgm:if name="Name13" func="var" arg="dir" op="equ" val="norm">
                      <dgm:alg type="conn">
                        <dgm:param type="dim" val="1D"/>
                        <dgm:param type="begPts" val="midR"/>
                        <dgm:param type="endPts" val="midL"/>
                        <dgm:param type="endSty" val="noArr"/>
                      </dgm:alg>
                    </dgm:if>
                    <dgm:else name="Name14">
                      <dgm:alg type="conn">
                        <dgm:param type="dim" val="1D"/>
                        <dgm:param type="begPts" val="midL"/>
                        <dgm:param type="endPts" val="midR"/>
                        <dgm:param type="endSty" val="noArr"/>
                      </dgm:alg>
                    </dgm:else>
                  </dgm:choose>
                  <dgm:shape xmlns:r="http://schemas.openxmlformats.org/officeDocument/2006/relationships" type="conn" r:blip="">
                    <dgm:adjLst/>
                  </dgm:shape>
                  <dgm:presOf axis="self"/>
                  <dgm:constrLst>
                    <dgm:constr type="w" val="1"/>
                    <dgm:constr type="h" val="5"/>
                    <dgm:constr type="connDist"/>
                    <dgm:constr type="begPad"/>
                    <dgm:constr type="endPad"/>
                    <dgm:constr type="userA" for="ch" refType="connDist"/>
                  </dgm:constrLst>
                  <dgm:ruleLst/>
                  <dgm:layoutNode name="connTx">
                    <dgm:alg type="tx">
                      <dgm:param type="autoTxRot" val="grav"/>
                    </dgm:alg>
                    <dgm:shape xmlns:r="http://schemas.openxmlformats.org/officeDocument/2006/relationships" type="rect" r:blip="" hideGeom="1">
                      <dgm:adjLst/>
                    </dgm:shape>
                    <dgm:presOf axis="self"/>
                    <dgm:constrLst>
                      <dgm:constr type="userA"/>
                      <dgm:constr type="w" refType="userA" fact="0.05"/>
                      <dgm:constr type="h" refType="userA" fact="0.05"/>
                      <dgm:constr type="lMarg" val="1"/>
                      <dgm:constr type="rMarg" val="1"/>
                      <dgm:constr type="tMarg"/>
                      <dgm:constr type="bMarg"/>
                    </dgm:constrLst>
                    <dgm:ruleLst>
                      <dgm:rule type="h" val="NaN" fact="0.25" max="NaN"/>
                      <dgm:rule type="w" val="NaN" fact="0.8" max="NaN"/>
                      <dgm:rule type="primFontSz" val="5" fact="NaN" max="NaN"/>
                    </dgm:ruleLst>
                  </dgm:layoutNode>
                </dgm:layoutNode>
              </dgm:forEach>
              <dgm:forEach name="Name15" axis="self" ptType="node">
                <dgm:layoutNode name="root2">
                  <dgm:choose name="Name16">
                    <dgm:if name="Name17" func="var" arg="dir" op="equ" val="norm">
                      <dgm:alg type="hierRoot">
                        <dgm:param type="hierAlign" val="lCtrCh"/>
                      </dgm:alg>
                    </dgm:if>
                    <dgm:else name="Name18">
                      <dgm:alg type="hierRoot">
                        <dgm:param type="hierAlign" val="rCtrCh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layoutNode name="LevelTwoTextNode">
                    <dgm:varLst>
                      <dgm:chPref val="3"/>
                    </dgm:varLst>
                    <dgm:alg type="tx"/>
                    <dgm:shape xmlns:r="http://schemas.openxmlformats.org/officeDocument/2006/relationships" type="roundRect" r:blip="">
                      <dgm:adjLst>
                        <dgm:adj idx="1" val="0.1"/>
                      </dgm:adjLst>
                    </dgm:shape>
                    <dgm:presOf axis="self"/>
                    <dgm:constrLst>
                      <dgm:constr type="tMarg" refType="primFontSz" fact="0.05"/>
                      <dgm:constr type="bMarg" refType="primFontSz" fact="0.05"/>
                      <dgm:constr type="lMarg" refType="primFontSz" fact="0.05"/>
                      <dgm:constr type="r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level3hierChild">
                    <dgm:choose name="Name19">
                      <dgm:if name="Name20" func="var" arg="dir" op="equ" val="norm">
                        <dgm:alg type="hierChild">
                          <dgm:param type="linDir" val="fromT"/>
                          <dgm:param type="chAlign" val="l"/>
                        </dgm:alg>
                      </dgm:if>
                      <dgm:else name="Name21">
                        <dgm:alg type="hierChild">
                          <dgm:param type="linDir" val="fromT"/>
                          <dgm:param type="chAlign" val="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22" ref="repeat"/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5A1ABE-EC8E-4E02-A3AE-FB9A0EC83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8640" cy="25714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25"/>
          </p:nvPr>
        </p:nvSpPr>
        <p:spPr>
          <a:xfrm>
            <a:off x="5180040" y="651348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2B1F73-9987-42B7-B6B8-81220C57543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EBE-0E72-44E2-9FD8-266F3876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6DA-FA8A-4E12-ADEC-1202A586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650-6E0C-419B-84E8-D5177242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C9A-963C-40E4-8799-EBBFC9E3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081D-567E-46FD-BEEF-FE2FE053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212B-E8DC-4A32-82AF-957832C5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70C8-E595-450B-A6F9-5BAEBBDA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A58B-7C8A-429E-8D13-F95AE520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E254-703D-4927-8BE0-8D64E620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9933-72E4-4060-850E-CB4E855E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2702-D986-4993-99E3-C48413D8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380-D385-4192-8189-9864C0A2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80FA-8797-49B7-9B8D-F1FFDF43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BF96-1B43-4596-AF58-EE8631AB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59CD-DD3E-47F0-AA78-E48962E8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B2CC-CB4A-4A08-A1A2-BA7CC49E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1D7E-E41B-4F5D-9D3D-A4E1FBA3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27A58-CB3B-4835-8531-CB767B4F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28D6-B87F-472A-A622-9B170DDF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7907-5A7C-4245-AD7C-9A91659F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9752-9DC2-40DF-9EDE-620BF952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BCEC-28B2-4F81-8E09-780AD9F2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573-A543-4439-B894-9CB925E2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B508F-2A48-4CD1-A813-710341FB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C2E4F-3238-4965-937C-CF286505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E18ED-A991-4909-9AE8-B5D36D5F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70090-6FBE-4CEF-8794-19CDB45F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D07A5-62AB-40AA-A244-08B97705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9D917-848D-4071-A95F-9D2D5B28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ABFBA-11DA-4D25-BF3B-B14C5373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08B-E643-4B3B-887F-4C81588E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C1D-44D0-402E-BA8A-908BB214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815-29E7-4D5F-9169-F6BA9152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AF6-A56F-4E69-A136-F7256D45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C74-2E46-49FE-94F5-6229098E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D02-C890-463E-BBE2-00D98FB3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50000">
              <a:srgbClr val="ffffff"/>
            </a:gs>
            <a:gs pos="100000">
              <a:srgbClr val="00b0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1B31206-8B31-4D5D-BCAD-F96AE693B431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50000">
              <a:srgbClr val="ffffff"/>
            </a:gs>
            <a:gs pos="100000">
              <a:srgbClr val="00b0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C70A1C0-5F56-4F23-BA53-B99A912205DE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50000">
              <a:srgbClr val="ffffff"/>
            </a:gs>
            <a:gs pos="100000">
              <a:srgbClr val="00b0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C5AAF59-0A7B-4108-9FBC-9F1949DF4622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Витек\Desktop\мое не трогать\идеи\173158wakacjeweuropejce.jpg"/>
          <p:cNvPicPr/>
          <p:nvPr/>
        </p:nvPicPr>
        <p:blipFill>
          <a:blip r:embed="rId1"/>
          <a:stretch/>
        </p:blipFill>
        <p:spPr>
          <a:xfrm>
            <a:off x="1629360" y="2810520"/>
            <a:ext cx="5887800" cy="3641400"/>
          </a:xfrm>
          <a:prstGeom prst="rect">
            <a:avLst/>
          </a:prstGeom>
          <a:ln w="0">
            <a:noFill/>
          </a:ln>
        </p:spPr>
      </p:pic>
      <p:sp>
        <p:nvSpPr>
          <p:cNvPr id="130" name="Заголовок 1"/>
          <p:cNvSpPr/>
          <p:nvPr/>
        </p:nvSpPr>
        <p:spPr>
          <a:xfrm>
            <a:off x="-152280" y="351720"/>
            <a:ext cx="9495360" cy="65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 cap="all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ru-RU" sz="4000" spc="-1" strike="noStrike" cap="all">
                <a:solidFill>
                  <a:srgbClr val="003366"/>
                </a:solidFill>
                <a:latin typeface="Calibri"/>
              </a:rPr>
              <a:t>Мастер – класс на те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000" spc="-1" strike="noStrike" cap="all">
                <a:solidFill>
                  <a:srgbClr val="003366"/>
                </a:solidFill>
                <a:latin typeface="Calibri"/>
              </a:rPr>
              <a:t>«Использование коммуникативных игр в социальной адаптации дошкольников».</a:t>
            </a:r>
            <a:r>
              <a:rPr b="0" lang="ru-RU" sz="4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оспитатели:Десятникова Т.В.                            Катасонова О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000" spc="-1" strike="noStrike" cap="all">
                <a:solidFill>
                  <a:srgbClr val="003366"/>
                </a:solidFill>
                <a:latin typeface="Calibri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14280"/>
            <a:ext cx="7772040" cy="110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гры и упражнения на развитие умения активно слуш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457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обери чемодан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лово в слово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Что случилось?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Взаимное цитирование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Азбука почемучек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лушай и повторяй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21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BF5D9D9-E070-45F6-B258-DA05EA3A35E0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3" descr="C:\Users\Витек\Desktop\DSC09600 - копия.JPG"/>
          <p:cNvPicPr/>
          <p:nvPr/>
        </p:nvPicPr>
        <p:blipFill>
          <a:blip r:embed="rId1"/>
          <a:stretch/>
        </p:blipFill>
        <p:spPr>
          <a:xfrm>
            <a:off x="4943520" y="1739520"/>
            <a:ext cx="41238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5120" y="609480"/>
            <a:ext cx="86277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гры и упражнения на развитие умения  перерабатывать информаци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457840" cy="459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Я бросаю тебе мяч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утешествие Буратин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«Вовка в тридевят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арстве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Угадай и нарисуй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чему? А потому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Что на что похоже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Что было бы, если б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22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DE842CB-04DB-46F7-88C4-53CA53C63A24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E:\DCIM\101MSDCF\DSC09608.JPG"/>
          <p:cNvPicPr/>
          <p:nvPr/>
        </p:nvPicPr>
        <p:blipFill>
          <a:blip r:embed="rId1"/>
          <a:stretch/>
        </p:blipFill>
        <p:spPr>
          <a:xfrm>
            <a:off x="4848120" y="1969200"/>
            <a:ext cx="4171680" cy="45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17360"/>
            <a:ext cx="7772040" cy="134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35760"/>
            <a:ext cx="7772040" cy="4255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аким образом, игры вносят огромный вклад в развитие личности ребенка, в его успешной адаптации во взаимоотношениях со взрослыми и сверстниками. Поэтому играйте вместе с деть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23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52B630E-E938-4766-B50F-62C6087B8137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Витек\Desktop\мое не трогать\фото золушка\DSC08634.JPG"/>
          <p:cNvPicPr/>
          <p:nvPr/>
        </p:nvPicPr>
        <p:blipFill>
          <a:blip r:embed="rId1"/>
          <a:stretch/>
        </p:blipFill>
        <p:spPr>
          <a:xfrm>
            <a:off x="266760" y="352440"/>
            <a:ext cx="8496000" cy="621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24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4766862-0FD1-4F41-8324-44AF38940048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2880" y="304920"/>
            <a:ext cx="8086320" cy="1523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 опыта работы  по развитию коммуникативных навыков дошкольников посредством игры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6440" y="1688040"/>
            <a:ext cx="7893000" cy="4583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знакомить участников мастер – класса с  играми коммуникативного характера, способствующих более успешной адаптации дошкольни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высить уровень профессиональной компетентности участников мастер – класса по формированию коммуникативных навыков посредством игр и упражн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формировать у участников мастер – класса мотивацию на использование игр коммуникативного характера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13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0C811FF-F91C-4C65-9BCC-1C617CE9EFF5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960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14280" y="1162080"/>
            <a:ext cx="8543520" cy="5114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ейшими качествами личности становятся инициативность, способность творчески мыслить и находить решения в любых жизненных ситуациях. (Национальная образовательная инициатива «Наша новая школа»)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школьный возраст – уникальный период интенсивного, всестороннего развития ребёнка, когда закладываются начальные ключевые компетенции, главной из которых является коммуника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пособность общаться со сверстниками и взрослыми, понимание и осознание себя. Коммуникация не просто действие – это именно взаимодействие: оно осуществляется между участн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14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75915D6-737C-45CA-9C66-5F7F68E5C39D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40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720" y="152280"/>
            <a:ext cx="8172000" cy="5943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следнее время часто приходится наблюдать, что  дети, не все, конечно, не умеют играть друг с другом. Все чаще можно видеть детскую агрессивность, конфликтность, отсутствие сопереживания к партнерам по общен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 многом это связано с низким уровнем развития коммуникативных навык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этому, считаем, что  проблема общения и взаимодействия  личностей – одна из ведущих и очень важны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5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E6D7AF0-D5F2-4A24-9ADD-097F1F12287F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440" y="257040"/>
            <a:ext cx="8362440" cy="5838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крет успешного общения – в развитии коммуникативных способностей детей в дошкольном возрасте. А поможет в этом, конечно же, игр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– перв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игра – ведущая деятельность дошкольника.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– втор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ммуникативные игры – это совместная деятельность детей, способ самовыражения, взаимного сотрудничества, где партнеры находятся на равных, стараются учитывать интересы и способности друг друг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третьих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ожно искусственно создать жизненную ситуацию, решить проблемы, возникающие в общении между детьми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6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227380E-03C0-4ACB-B17B-169FF6917AEC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4160" y="114480"/>
            <a:ext cx="8897400" cy="799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гры способствую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162562524"/>
              </p:ext>
            </p:extLst>
          </p:nvPr>
        </p:nvGraphicFramePr>
        <p:xfrm>
          <a:off x="380880" y="990720"/>
          <a:ext cx="8534160" cy="5749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44" name="PlaceHolder 2"/>
          <p:cNvSpPr>
            <a:spLocks noGrp="1"/>
          </p:cNvSpPr>
          <p:nvPr>
            <p:ph type="sldNum" idx="17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3C15A7A-FA71-4B41-9D70-6AEE203CE9FE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3"/>
          <p:cNvSpPr/>
          <p:nvPr/>
        </p:nvSpPr>
        <p:spPr>
          <a:xfrm>
            <a:off x="7905960" y="491760"/>
            <a:ext cx="360" cy="360"/>
          </a:xfrm>
          <a:prstGeom prst="line">
            <a:avLst/>
          </a:prstGeom>
          <a:ln w="381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Num" idx="18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25663E9-9CFF-4B37-8BF8-5791343F20B7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4122523483"/>
              </p:ext>
            </p:extLst>
          </p:nvPr>
        </p:nvGraphicFramePr>
        <p:xfrm>
          <a:off x="296280" y="257760"/>
          <a:ext cx="8636400" cy="6060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7456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гры и упражнения на развитие умения сотрудничать и действовать сообщ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457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Горная тропинк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Цифровая бирж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Замри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Зайчики и лис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варят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таренькая бабушк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Небоскреб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9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1F8EAB5-ACF9-4E2D-B383-32108329A0BD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C:\Users\Витек\Desktop\DSC09530.JPG"/>
          <p:cNvPicPr/>
          <p:nvPr/>
        </p:nvPicPr>
        <p:blipFill>
          <a:blip r:embed="rId1"/>
          <a:stretch/>
        </p:blipFill>
        <p:spPr>
          <a:xfrm>
            <a:off x="4562640" y="1628640"/>
            <a:ext cx="43146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040" cy="1388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гры и упражнения на развитие доверительных отношений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480" y="1981080"/>
            <a:ext cx="83437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адовники и цветы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Ласковый мелок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Комплименты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Зеркало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лепой танец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иамские близнецы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Щепка на реке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20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7A29583-2C78-4CE2-8583-3B7FE0162C9C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C:\Users\Витек\Desktop\DSC09595.JPG"/>
          <p:cNvPicPr/>
          <p:nvPr/>
        </p:nvPicPr>
        <p:blipFill>
          <a:blip r:embed="rId1"/>
          <a:stretch/>
        </p:blipFill>
        <p:spPr>
          <a:xfrm>
            <a:off x="4505400" y="1888920"/>
            <a:ext cx="447624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lank</Template>
  <TotalTime>5025</TotalTime>
  <Application>LibreOffice/7.4.7.2$Linux_X86_64 LibreOffice_project/40$Build-2</Application>
  <AppVersion>15.0000</AppVersion>
  <Words>613</Words>
  <Paragraphs>92</Paragraphs>
  <Company>МГУ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53:08Z</dcterms:created>
  <dc:creator>Чернов</dc:creator>
  <dc:description/>
  <dc:language>en-US</dc:language>
  <cp:lastModifiedBy>Витек</cp:lastModifiedBy>
  <dcterms:modified xsi:type="dcterms:W3CDTF">2016-10-15T10:53:06Z</dcterms:modified>
  <cp:revision>434</cp:revision>
  <dc:subject/>
  <dc:title>Аутэколо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340000000000010242300207f6e001e0013c00</vt:lpwstr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13</vt:r8>
  </property>
</Properties>
</file>