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0.gif" ContentType="image/gif"/>
  <Override PartName="/ppt/media/image9.gif" ContentType="image/gif"/>
  <Override PartName="/ppt/media/image13.gif" ContentType="image/gif"/>
  <Override PartName="/ppt/media/image8.gif" ContentType="image/gif"/>
  <Override PartName="/ppt/media/image18.jpeg" ContentType="image/jpeg"/>
  <Override PartName="/ppt/media/image5.jpeg" ContentType="image/jpeg"/>
  <Override PartName="/ppt/media/image4.png" ContentType="image/png"/>
  <Override PartName="/ppt/media/image24.gif" ContentType="image/gif"/>
  <Override PartName="/ppt/media/image7.png" ContentType="image/png"/>
  <Override PartName="/ppt/media/image1.jpeg" ContentType="image/jpeg"/>
  <Override PartName="/ppt/media/image27.gif" ContentType="image/gif"/>
  <Override PartName="/ppt/media/image3.gif" ContentType="image/gif"/>
  <Override PartName="/ppt/media/image6.png" ContentType="image/png"/>
  <Override PartName="/ppt/media/image11.png" ContentType="image/png"/>
  <Override PartName="/ppt/media/image28.gif" ContentType="image/gif"/>
  <Override PartName="/ppt/media/image16.gif" ContentType="image/gif"/>
  <Override PartName="/ppt/media/image25.wmf" ContentType="image/x-wmf"/>
  <Override PartName="/ppt/media/image22.gif" ContentType="image/gif"/>
  <Override PartName="/ppt/media/image26.png" ContentType="image/png"/>
  <Override PartName="/ppt/media/image17.jpeg" ContentType="image/jpeg"/>
  <Override PartName="/ppt/media/image2.gif" ContentType="image/gif"/>
  <Override PartName="/ppt/media/image23.png" ContentType="image/png"/>
  <Override PartName="/ppt/media/image20.gif" ContentType="image/gif"/>
  <Override PartName="/ppt/media/image21.gif" ContentType="image/gif"/>
  <Override PartName="/ppt/media/image19.gif" ContentType="image/gif"/>
  <Override PartName="/ppt/media/image15.gif" ContentType="image/gif"/>
  <Override PartName="/ppt/media/image1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9B3C-456E-4BEC-8916-FA7214F77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D387-1BEA-46D7-818F-C756345D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E9EE-263D-4D56-8960-D5557DA04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588F-BD80-4182-895E-6B0EEBBBF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523F0-0ADE-4233-B979-871098DFC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E181F-954D-4070-AFDC-90FE3AA0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722B9-7266-49E1-9DE8-EE2C2BA3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09876-95A5-4A7E-B2F6-3DE6E544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9C6CB9-143F-4EC1-9D7C-FDE18E40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8264B-B9D8-41DF-981E-EB37DAB0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8AB00-324B-42EF-813B-1D6CDEF5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9FD4-020E-4154-B9E7-13C334E7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FEB5D-5D4A-4748-9AC3-9EED69DF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1D4AD-0C59-41A1-A6CF-1EFB80E9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5307D-7B2D-43CD-8F45-EB3A289A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6CB13-A4F9-4D93-AAE8-4D9DE6BBA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2568B-5B0B-40AA-968F-8465460CD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8015-B7D5-46DF-9089-ABB0AC8D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1B7E-919F-4ED4-8597-CCE4A577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ED6A-C520-4AEA-9406-5D268E04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9694-578B-48B9-BECF-DD10FF4C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6241-4822-42CB-93A5-8606F7EC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F40F-7103-4926-A1E4-86B1C7FA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C6A3-0027-4165-98ED-D3436D0F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66DB-FB1B-4BD1-82EB-907F61E93EA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D051-9B19-4C2A-BF14-CEE289ACC72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9.gi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9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0.gif"/><Relationship Id="rId4" Type="http://schemas.openxmlformats.org/officeDocument/2006/relationships/image" Target="../media/image22.gif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image" Target="../media/image22.gif"/><Relationship Id="rId4" Type="http://schemas.openxmlformats.org/officeDocument/2006/relationships/image" Target="../media/image12.gif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image" Target="../media/image26.png"/><Relationship Id="rId5" Type="http://schemas.openxmlformats.org/officeDocument/2006/relationships/image" Target="../media/image28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image" Target="../media/image2.gif"/><Relationship Id="rId9" Type="http://schemas.openxmlformats.org/officeDocument/2006/relationships/image" Target="../media/image13.gif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488360" cy="1384200"/>
          </a:xfrm>
          <a:prstGeom prst="rect">
            <a:avLst/>
          </a:prstGeom>
          <a:solidFill>
            <a:srgbClr val="ffcc00"/>
          </a:solidFill>
          <a:ln w="9360">
            <a:solidFill>
              <a:srgbClr val="ff339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Tahoma"/>
              </a:rPr>
              <a:t>Урок - морское путешеств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WordArt 5"/>
          <p:cNvSpPr txBox="1"/>
          <p:nvPr/>
        </p:nvSpPr>
        <p:spPr>
          <a:xfrm>
            <a:off x="250920" y="1916280"/>
            <a:ext cx="687708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Дробные выражения"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5" name="Picture 8" descr="cartoons_glitter_wallot"/>
          <p:cNvPicPr/>
          <p:nvPr/>
        </p:nvPicPr>
        <p:blipFill>
          <a:blip r:embed="rId1"/>
          <a:stretch/>
        </p:blipFill>
        <p:spPr>
          <a:xfrm flipH="1">
            <a:off x="6588000" y="3284640"/>
            <a:ext cx="2376720" cy="3362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mult-pict"/>
          <p:cNvPicPr/>
          <p:nvPr/>
        </p:nvPicPr>
        <p:blipFill>
          <a:blip r:embed="rId2"/>
          <a:stretch/>
        </p:blipFill>
        <p:spPr>
          <a:xfrm>
            <a:off x="179280" y="260280"/>
            <a:ext cx="1282680" cy="1365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4897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НА́РХ бабочка семейства данаид. Размах крыльев — 75-100 мм. Окраска оранжево-желтая, с черным рисунком и белыми точками. Основной ареал вида расположен на американском континенте к югу от Канады. Яркая расцветка монархов служит примером предупреждающей окраски, оповещающей хищников об их несъедоб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mxBigArticlePreview" descr="http://www.megabook.ru/MObjects/data/prev2001/m01263i.jpg"/>
          <p:cNvPicPr/>
          <p:nvPr/>
        </p:nvPicPr>
        <p:blipFill>
          <a:blip r:embed="rId1"/>
          <a:stretch/>
        </p:blipFill>
        <p:spPr>
          <a:xfrm>
            <a:off x="5364000" y="476280"/>
            <a:ext cx="3365640" cy="2513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4572000" y="5257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304920" y="1447920"/>
            <a:ext cx="358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95280" y="260280"/>
            <a:ext cx="3220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Остров сокровищ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7" name="Picture 5" descr="ship"/>
          <p:cNvPicPr/>
          <p:nvPr/>
        </p:nvPicPr>
        <p:blipFill>
          <a:blip r:embed="rId2"/>
          <a:stretch/>
        </p:blipFill>
        <p:spPr>
          <a:xfrm>
            <a:off x="1258920" y="3789360"/>
            <a:ext cx="1351080" cy="13683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1547640" y="5734080"/>
            <a:ext cx="2737080" cy="94716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Бухта Бабочек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6156360" y="5300640"/>
            <a:ext cx="2736720" cy="137376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Школа Мудрого Осьминога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50" name="Picture 11" descr="ОСЬМИНОГ"/>
          <p:cNvPicPr/>
          <p:nvPr/>
        </p:nvPicPr>
        <p:blipFill>
          <a:blip r:embed="rId3"/>
          <a:stretch/>
        </p:blipFill>
        <p:spPr>
          <a:xfrm>
            <a:off x="7338960" y="4005360"/>
            <a:ext cx="1805040" cy="1154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" descr="predmet-110"/>
          <p:cNvPicPr/>
          <p:nvPr/>
        </p:nvPicPr>
        <p:blipFill>
          <a:blip r:embed="rId4"/>
          <a:stretch/>
        </p:blipFill>
        <p:spPr>
          <a:xfrm>
            <a:off x="1258920" y="743040"/>
            <a:ext cx="865080" cy="730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948 0.06798 L 0.36736 0.08902 E">
                                      <p:cBhvr>
                                        <p:cTn id="78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taras_tript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28m4"/>
          <p:cNvPicPr/>
          <p:nvPr/>
        </p:nvPicPr>
        <p:blipFill>
          <a:blip r:embed="rId2"/>
          <a:stretch/>
        </p:blipFill>
        <p:spPr>
          <a:xfrm>
            <a:off x="6624720" y="0"/>
            <a:ext cx="2519280" cy="21002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1"/>
          <p:cNvSpPr/>
          <p:nvPr/>
        </p:nvSpPr>
        <p:spPr>
          <a:xfrm>
            <a:off x="250920" y="189000"/>
            <a:ext cx="4608360" cy="192276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Решите задачи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250920" y="1413000"/>
            <a:ext cx="4392360" cy="131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onotype Corsiv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№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636 из учебника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13"/>
              <p:cNvSpPr txBox="1"/>
              <p:nvPr/>
            </p:nvSpPr>
            <p:spPr>
              <a:xfrm>
                <a:off x="0" y="0"/>
                <a:ext cx="152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15"/>
              <p:cNvSpPr txBox="1"/>
              <p:nvPr/>
            </p:nvSpPr>
            <p:spPr>
              <a:xfrm>
                <a:off x="0" y="0"/>
                <a:ext cx="152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7"/>
              <p:cNvSpPr txBox="1"/>
              <p:nvPr/>
            </p:nvSpPr>
            <p:spPr>
              <a:xfrm>
                <a:off x="0" y="0"/>
                <a:ext cx="152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20"/>
              <p:cNvSpPr txBox="1"/>
              <p:nvPr/>
            </p:nvSpPr>
            <p:spPr>
              <a:xfrm>
                <a:off x="0" y="0"/>
                <a:ext cx="152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4" name="Picture 22" descr="predmet-110"/>
          <p:cNvPicPr/>
          <p:nvPr/>
        </p:nvPicPr>
        <p:blipFill>
          <a:blip r:embed="rId3"/>
          <a:stretch/>
        </p:blipFill>
        <p:spPr>
          <a:xfrm>
            <a:off x="179280" y="3284640"/>
            <a:ext cx="3743280" cy="3159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3" descr="zvezdochki-12"/>
          <p:cNvPicPr/>
          <p:nvPr/>
        </p:nvPicPr>
        <p:blipFill>
          <a:blip r:embed="rId4"/>
          <a:stretch/>
        </p:blipFill>
        <p:spPr>
          <a:xfrm>
            <a:off x="4859280" y="4122720"/>
            <a:ext cx="720720" cy="700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4" descr="zvezdochki-12"/>
          <p:cNvPicPr/>
          <p:nvPr/>
        </p:nvPicPr>
        <p:blipFill>
          <a:blip r:embed="rId5"/>
          <a:stretch/>
        </p:blipFill>
        <p:spPr>
          <a:xfrm>
            <a:off x="7020000" y="3860640"/>
            <a:ext cx="647640" cy="628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5" descr="zvezdochki-12"/>
          <p:cNvPicPr/>
          <p:nvPr/>
        </p:nvPicPr>
        <p:blipFill>
          <a:blip r:embed="rId6"/>
          <a:stretch/>
        </p:blipFill>
        <p:spPr>
          <a:xfrm>
            <a:off x="4427640" y="5734080"/>
            <a:ext cx="649080" cy="630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6" descr="zvezdochki-12"/>
          <p:cNvPicPr/>
          <p:nvPr/>
        </p:nvPicPr>
        <p:blipFill>
          <a:blip r:embed="rId7"/>
          <a:stretch/>
        </p:blipFill>
        <p:spPr>
          <a:xfrm>
            <a:off x="3851280" y="3068640"/>
            <a:ext cx="539640" cy="523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7" descr="zvezdochki-12"/>
          <p:cNvPicPr/>
          <p:nvPr/>
        </p:nvPicPr>
        <p:blipFill>
          <a:blip r:embed="rId8"/>
          <a:stretch/>
        </p:blipFill>
        <p:spPr>
          <a:xfrm>
            <a:off x="8459640" y="4592520"/>
            <a:ext cx="684360" cy="663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ff00"/>
                </a:solidFill>
                <a:latin typeface="Tahoma"/>
              </a:rPr>
              <a:t>Решение задачи №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535640"/>
          </a:xfrm>
          <a:prstGeom prst="rect">
            <a:avLst/>
          </a:prstGeom>
          <a:solidFill>
            <a:srgbClr val="ffcc00"/>
          </a:solidFill>
          <a:ln w="9360">
            <a:solidFill>
              <a:srgbClr val="ff33c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)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кг)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во втором ящик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2) 21+27=48 (кг) было в двух ящиках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Ответ: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48 кг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539640" y="1700280"/>
                <a:ext cx="388944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∗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2879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txBody>
          <a:bodyPr anchor="t">
            <a:normAutofit fontScale="87000"/>
          </a:bodyPr>
          <a:p>
            <a:pPr marL="529920" indent="0" algn="ctr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"/>
              </a:rPr>
              <a:t>№</a:t>
            </a:r>
            <a:r>
              <a:rPr b="1" lang="ru-RU" sz="5400" spc="-1" strike="noStrike">
                <a:solidFill>
                  <a:srgbClr val="000000"/>
                </a:solidFill>
                <a:latin typeface="comic"/>
              </a:rPr>
              <a:t>2 Скосили 3/7луга. Найдите площадь луга, если скосили 21га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4" descr="predmet-109"/>
          <p:cNvPicPr/>
          <p:nvPr/>
        </p:nvPicPr>
        <p:blipFill>
          <a:blip r:embed="rId1"/>
          <a:stretch/>
        </p:blipFill>
        <p:spPr>
          <a:xfrm>
            <a:off x="3059280" y="3284640"/>
            <a:ext cx="3168360" cy="3168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Tahoma"/>
              </a:rPr>
              <a:t>Решение задачи №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ffcc00"/>
          </a:solidFill>
          <a:ln w="9360">
            <a:solidFill>
              <a:srgbClr val="ff33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(га) площадь всего луг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9 г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4"/>
              <p:cNvSpPr txBox="1"/>
              <p:nvPr/>
            </p:nvSpPr>
            <p:spPr>
              <a:xfrm>
                <a:off x="611280" y="2421000"/>
                <a:ext cx="784836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∗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569440" cy="5832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txBody>
          <a:bodyPr anchor="t">
            <a:normAutofit fontScale="97000"/>
          </a:bodyPr>
          <a:p>
            <a:pPr marL="591120"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"/>
              </a:rPr>
              <a:t>№</a:t>
            </a:r>
            <a:r>
              <a:rPr b="1" lang="ru-RU" sz="4400" spc="-1" strike="noStrike">
                <a:solidFill>
                  <a:srgbClr val="000000"/>
                </a:solidFill>
                <a:latin typeface="comic"/>
              </a:rPr>
              <a:t>3 Частота пульса человека 80 ударов в минуту, что составляет ¼ пульса домовой мыши, и 1/8 частоты пульса воробья. Во сколько раз сердце воробья бьется чаще, чем сердце домовой мыши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4" descr="mult-pict"/>
          <p:cNvPicPr/>
          <p:nvPr/>
        </p:nvPicPr>
        <p:blipFill>
          <a:blip r:embed="rId1"/>
          <a:stretch/>
        </p:blipFill>
        <p:spPr>
          <a:xfrm>
            <a:off x="324000" y="5157720"/>
            <a:ext cx="1904760" cy="1447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Tahoma"/>
              </a:rPr>
              <a:t>Решение задачи №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472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33cc"/>
            </a:solidFill>
            <a:miter/>
          </a:ln>
        </p:spPr>
        <p:txBody>
          <a:bodyPr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1) 80:        = 320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даров пульс мыш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2) 80:       =64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ударов пульс воробь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3) 640:320=2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чаще бьется сердце воробья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9724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ahoma"/>
              </a:rPr>
              <a:t>Ответ: в 2 раза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4"/>
              <p:cNvSpPr txBox="1"/>
              <p:nvPr/>
            </p:nvSpPr>
            <p:spPr>
              <a:xfrm>
                <a:off x="1835280" y="1052640"/>
                <a:ext cx="10094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6"/>
              <p:cNvSpPr txBox="1"/>
              <p:nvPr/>
            </p:nvSpPr>
            <p:spPr>
              <a:xfrm>
                <a:off x="1835280" y="2276640"/>
                <a:ext cx="684000" cy="12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4572000" y="5257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304920" y="1447920"/>
            <a:ext cx="358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95280" y="260280"/>
            <a:ext cx="3220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Остров сокровищ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91" name="Picture 5" descr="ship"/>
          <p:cNvPicPr/>
          <p:nvPr/>
        </p:nvPicPr>
        <p:blipFill>
          <a:blip r:embed="rId2"/>
          <a:stretch/>
        </p:blipFill>
        <p:spPr>
          <a:xfrm>
            <a:off x="5219640" y="3860640"/>
            <a:ext cx="1351080" cy="13687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6"/>
          <p:cNvSpPr/>
          <p:nvPr/>
        </p:nvSpPr>
        <p:spPr>
          <a:xfrm>
            <a:off x="1547640" y="5734080"/>
            <a:ext cx="2737080" cy="94716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Бухта Бабочек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6156360" y="5300640"/>
            <a:ext cx="2736720" cy="137376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Школа Мудрого Осьминога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6227640" y="836640"/>
            <a:ext cx="2737080" cy="581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Залив Акул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95" name="Picture 9" descr="АКУЛА"/>
          <p:cNvPicPr/>
          <p:nvPr/>
        </p:nvPicPr>
        <p:blipFill>
          <a:blip r:embed="rId3"/>
          <a:stretch/>
        </p:blipFill>
        <p:spPr>
          <a:xfrm>
            <a:off x="3708360" y="476280"/>
            <a:ext cx="2343240" cy="1400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0" descr="АКУЛА"/>
          <p:cNvPicPr/>
          <p:nvPr/>
        </p:nvPicPr>
        <p:blipFill>
          <a:blip r:embed="rId4"/>
          <a:stretch/>
        </p:blipFill>
        <p:spPr>
          <a:xfrm>
            <a:off x="6804000" y="1557360"/>
            <a:ext cx="2631960" cy="1573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2" descr="predmet-110"/>
          <p:cNvPicPr/>
          <p:nvPr/>
        </p:nvPicPr>
        <p:blipFill>
          <a:blip r:embed="rId5"/>
          <a:stretch/>
        </p:blipFill>
        <p:spPr>
          <a:xfrm>
            <a:off x="1258920" y="743040"/>
            <a:ext cx="865080" cy="730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68208E-006 L 0.06805 -0.34081 E">
                                      <p:cBhvr>
                                        <p:cTn id="12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ff00"/>
                </a:solidFill>
                <a:latin typeface="Tahoma"/>
              </a:rPr>
              <a:t>Найти</a:t>
            </a:r>
            <a:r>
              <a:rPr b="1" i="1" lang="ru-RU" sz="40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1" i="1" lang="ru-RU" sz="4000" spc="-1" strike="noStrike">
                <a:solidFill>
                  <a:srgbClr val="00ff00"/>
                </a:solidFill>
                <a:latin typeface="Tahoma"/>
              </a:rPr>
              <a:t>значение дробного выражения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713800" cy="5113440"/>
          </a:xfrm>
          <a:prstGeom prst="rect">
            <a:avLst/>
          </a:prstGeom>
          <a:solidFill>
            <a:srgbClr val="ffcc00"/>
          </a:solidFill>
          <a:ln w="9360">
            <a:solidFill>
              <a:srgbClr val="ff33c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cc"/>
                </a:solidFill>
                <a:latin typeface="Tahoma"/>
              </a:rPr>
              <a:t>а)                        б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cc"/>
                </a:solidFill>
                <a:latin typeface="Tahoma"/>
              </a:rPr>
              <a:t>в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1"/>
              <p:cNvSpPr txBox="1"/>
              <p:nvPr/>
            </p:nvSpPr>
            <p:spPr>
              <a:xfrm>
                <a:off x="900000" y="1628640"/>
                <a:ext cx="165600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4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3"/>
              <p:cNvSpPr txBox="1"/>
              <p:nvPr/>
            </p:nvSpPr>
            <p:spPr>
              <a:xfrm>
                <a:off x="5148360" y="1700280"/>
                <a:ext cx="158436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,5</m:t>
                        </m:r>
                      </m:num>
                      <m:den>
                        <m:r>
                          <m:t xml:space="preserve">1,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Rectangle 16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15"/>
              <p:cNvSpPr txBox="1"/>
              <p:nvPr/>
            </p:nvSpPr>
            <p:spPr>
              <a:xfrm>
                <a:off x="1042920" y="4005360"/>
                <a:ext cx="6193080" cy="20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∗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num>
                      <m:den>
                        <m:r>
                          <m:t xml:space="preserve">5,1</m:t>
                        </m:r>
                        <m:r>
                          <m:t xml:space="preserve">−</m:t>
                        </m:r>
                        <m:r>
                          <m:t xml:space="preserve">2,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ГРАМОТА"/>
          <p:cNvPicPr/>
          <p:nvPr/>
        </p:nvPicPr>
        <p:blipFill>
          <a:blip r:embed="rId1"/>
          <a:stretch/>
        </p:blipFill>
        <p:spPr>
          <a:xfrm>
            <a:off x="250920" y="260280"/>
            <a:ext cx="8570880" cy="60022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5545080" cy="5184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Здравствуйте ребята!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Ко мне случайно попала карта острова сокровищ. Я сейчас очень занят и не могу отправиться за ними сам, поэтому посылаю вам эту карту! Желаю вам удачи! Попутного ветра, и да хранит вас Нептун!!!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аш Джек Вороб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6" descr="l300"/>
          <p:cNvPicPr/>
          <p:nvPr/>
        </p:nvPicPr>
        <p:blipFill>
          <a:blip r:embed="rId2"/>
          <a:stretch/>
        </p:blipFill>
        <p:spPr>
          <a:xfrm>
            <a:off x="6516720" y="1700280"/>
            <a:ext cx="2031840" cy="27097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cc"/>
                </a:solidFill>
                <a:latin typeface="Tahoma"/>
              </a:rPr>
              <a:t>Ответы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395280" y="3068640"/>
            <a:ext cx="1440000" cy="1297080"/>
          </a:xfrm>
          <a:prstGeom prst="rect">
            <a:avLst/>
          </a:prstGeom>
          <a:solidFill>
            <a:srgbClr val="00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ahoma"/>
              </a:rPr>
              <a:t>б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324000" y="4941720"/>
            <a:ext cx="1584000" cy="1239840"/>
          </a:xfrm>
          <a:prstGeom prst="rect">
            <a:avLst/>
          </a:prstGeom>
          <a:solidFill>
            <a:srgbClr val="00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4643280" y="5084640"/>
            <a:ext cx="3384720" cy="1168560"/>
          </a:xfrm>
          <a:prstGeom prst="rect">
            <a:avLst/>
          </a:prstGeom>
          <a:solidFill>
            <a:srgbClr val="ff33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ahoma"/>
              </a:rPr>
              <a:t>4,8</a:t>
            </a:r>
            <a:endParaRPr b="0" lang="en-US" sz="6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1511280" cy="1224000"/>
          </a:xfrm>
          <a:prstGeom prst="rect">
            <a:avLst/>
          </a:prstGeom>
          <a:solidFill>
            <a:srgbClr val="00ff00"/>
          </a:solidFill>
          <a:ln w="9360">
            <a:solidFill>
              <a:srgbClr val="ff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4572000" y="2997360"/>
            <a:ext cx="3384720" cy="1311120"/>
          </a:xfrm>
          <a:prstGeom prst="rect">
            <a:avLst/>
          </a:prstGeom>
          <a:solidFill>
            <a:srgbClr val="ff33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4500720" y="1197000"/>
            <a:ext cx="3404880" cy="1440000"/>
          </a:xfrm>
          <a:prstGeom prst="rect">
            <a:avLst/>
          </a:prstGeom>
          <a:solidFill>
            <a:srgbClr val="ff33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10"/>
              <p:cNvSpPr txBox="1"/>
              <p:nvPr/>
            </p:nvSpPr>
            <p:spPr>
              <a:xfrm>
                <a:off x="5472000" y="1125360"/>
                <a:ext cx="1476360" cy="151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12"/>
              <p:cNvSpPr txBox="1"/>
              <p:nvPr/>
            </p:nvSpPr>
            <p:spPr>
              <a:xfrm>
                <a:off x="5651640" y="2924280"/>
                <a:ext cx="115236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4572000" y="5257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250920" y="907920"/>
            <a:ext cx="358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395280" y="260280"/>
            <a:ext cx="3220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Остров сокровищ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22" name="Picture 5" descr="ship"/>
          <p:cNvPicPr/>
          <p:nvPr/>
        </p:nvPicPr>
        <p:blipFill>
          <a:blip r:embed="rId2"/>
          <a:stretch/>
        </p:blipFill>
        <p:spPr>
          <a:xfrm>
            <a:off x="5364000" y="1413000"/>
            <a:ext cx="1351080" cy="13683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6"/>
          <p:cNvSpPr/>
          <p:nvPr/>
        </p:nvSpPr>
        <p:spPr>
          <a:xfrm>
            <a:off x="1547640" y="5734080"/>
            <a:ext cx="2737080" cy="94716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Бухта Бабочек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6156360" y="5300640"/>
            <a:ext cx="2736720" cy="137376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Школа Мудрого Осьминога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6227640" y="836640"/>
            <a:ext cx="2737080" cy="581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Залив Акул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26" name="Picture 10" descr="АКУЛА"/>
          <p:cNvPicPr/>
          <p:nvPr/>
        </p:nvPicPr>
        <p:blipFill>
          <a:blip r:embed="rId3"/>
          <a:stretch/>
        </p:blipFill>
        <p:spPr>
          <a:xfrm>
            <a:off x="6804000" y="1557360"/>
            <a:ext cx="2631960" cy="1573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СТРЕЛКА"/>
          <p:cNvPicPr/>
          <p:nvPr/>
        </p:nvPicPr>
        <p:blipFill>
          <a:blip r:embed="rId4"/>
          <a:stretch/>
        </p:blipFill>
        <p:spPr>
          <a:xfrm rot="2296200">
            <a:off x="0" y="549000"/>
            <a:ext cx="851040" cy="530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predmet-110"/>
          <p:cNvPicPr/>
          <p:nvPr/>
        </p:nvPicPr>
        <p:blipFill>
          <a:blip r:embed="rId5"/>
          <a:stretch/>
        </p:blipFill>
        <p:spPr>
          <a:xfrm>
            <a:off x="684360" y="836640"/>
            <a:ext cx="865080" cy="730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393 -0.11005 L -0.05799 -0.02635 E">
                                      <p:cBhvr>
                                        <p:cTn id="178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6" descr="SEARTH4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3"/>
          <p:cNvSpPr/>
          <p:nvPr/>
        </p:nvSpPr>
        <p:spPr>
          <a:xfrm>
            <a:off x="1295280" y="11430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31" name="Picture 10" descr="14m4"/>
          <p:cNvPicPr/>
          <p:nvPr/>
        </p:nvPicPr>
        <p:blipFill>
          <a:blip r:embed="rId2"/>
          <a:stretch/>
        </p:blipFill>
        <p:spPr>
          <a:xfrm>
            <a:off x="0" y="4005360"/>
            <a:ext cx="3166920" cy="2469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4" descr="СТРЕЛКА"/>
          <p:cNvPicPr/>
          <p:nvPr/>
        </p:nvPicPr>
        <p:blipFill>
          <a:blip r:embed="rId3"/>
          <a:stretch/>
        </p:blipFill>
        <p:spPr>
          <a:xfrm rot="9603600">
            <a:off x="3780000" y="4868280"/>
            <a:ext cx="2349360" cy="1174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8" descr="predmet-109"/>
          <p:cNvPicPr/>
          <p:nvPr/>
        </p:nvPicPr>
        <p:blipFill>
          <a:blip r:embed="rId4"/>
          <a:stretch/>
        </p:blipFill>
        <p:spPr>
          <a:xfrm>
            <a:off x="3564000" y="1341360"/>
            <a:ext cx="2736720" cy="273708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19"/>
          <p:cNvSpPr/>
          <p:nvPr/>
        </p:nvSpPr>
        <p:spPr>
          <a:xfrm>
            <a:off x="1763640" y="2997360"/>
            <a:ext cx="1871640" cy="1511280"/>
          </a:xfrm>
          <a:prstGeom prst="cloudCallout">
            <a:avLst>
              <a:gd name="adj1" fmla="val -36513"/>
              <a:gd name="adj2" fmla="val 6617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35" name="Picture 17" descr="predmet-110"/>
          <p:cNvPicPr/>
          <p:nvPr/>
        </p:nvPicPr>
        <p:blipFill>
          <a:blip r:embed="rId5"/>
          <a:stretch/>
        </p:blipFill>
        <p:spPr>
          <a:xfrm>
            <a:off x="1979640" y="3141720"/>
            <a:ext cx="1440000" cy="1216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6" name="Object 4"/>
              <p:cNvSpPr txBox="1"/>
              <p:nvPr/>
            </p:nvSpPr>
            <p:spPr>
              <a:xfrm>
                <a:off x="395280" y="1125360"/>
                <a:ext cx="3889440" cy="237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2,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5"/>
              <p:cNvSpPr txBox="1"/>
              <p:nvPr/>
            </p:nvSpPr>
            <p:spPr>
              <a:xfrm>
                <a:off x="4788000" y="1125360"/>
                <a:ext cx="4066920" cy="24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3,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7"/>
              <p:cNvSpPr txBox="1"/>
              <p:nvPr/>
            </p:nvSpPr>
            <p:spPr>
              <a:xfrm>
                <a:off x="395280" y="4581360"/>
                <a:ext cx="367200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9"/>
              <p:cNvSpPr txBox="1"/>
              <p:nvPr/>
            </p:nvSpPr>
            <p:spPr>
              <a:xfrm>
                <a:off x="5003640" y="4581360"/>
                <a:ext cx="3816360" cy="20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68000" y="3860280"/>
            <a:ext cx="824220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)                                     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Rectangle 11"/>
          <p:cNvSpPr/>
          <p:nvPr/>
        </p:nvSpPr>
        <p:spPr>
          <a:xfrm>
            <a:off x="468360" y="333360"/>
            <a:ext cx="82422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)                                     2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ff00"/>
                </a:solidFill>
                <a:latin typeface="Tahoma"/>
              </a:rPr>
              <a:t>Решите уравн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0" y="1197000"/>
          <a:ext cx="9144000" cy="5472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4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244" name="Rectangle 21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20"/>
              <p:cNvSpPr txBox="1"/>
              <p:nvPr/>
            </p:nvSpPr>
            <p:spPr>
              <a:xfrm>
                <a:off x="250920" y="1484280"/>
                <a:ext cx="4070160" cy="489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х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2,8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: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∗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4,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6" name="Rectangle 23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22"/>
              <p:cNvSpPr txBox="1"/>
              <p:nvPr/>
            </p:nvSpPr>
            <p:spPr>
              <a:xfrm>
                <a:off x="5148360" y="1268280"/>
                <a:ext cx="3671640" cy="518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у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3,6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3,6</m:t>
                        </m:r>
                        <m:r>
                          <m:t xml:space="preserve">: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t xml:space="preserve">у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∗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8,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ff00"/>
                </a:solidFill>
                <a:latin typeface="Tahoma"/>
              </a:rPr>
              <a:t>Решить уравнения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50920" y="981000"/>
          <a:ext cx="8713800" cy="561672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561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250" name="Rectangle 14"/>
          <p:cNvSpPr/>
          <p:nvPr/>
        </p:nvSpPr>
        <p:spPr>
          <a:xfrm>
            <a:off x="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13"/>
              <p:cNvSpPr txBox="1"/>
              <p:nvPr/>
            </p:nvSpPr>
            <p:spPr>
              <a:xfrm>
                <a:off x="611280" y="1197000"/>
                <a:ext cx="3816360" cy="475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: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2" name="Rectangle 16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15"/>
              <p:cNvSpPr txBox="1"/>
              <p:nvPr/>
            </p:nvSpPr>
            <p:spPr>
              <a:xfrm>
                <a:off x="4878360" y="1125360"/>
                <a:ext cx="399564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: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Tahoma"/>
              </a:rPr>
              <a:t>Домашнее задание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280360" cy="4114800"/>
          </a:xfrm>
          <a:prstGeom prst="rect">
            <a:avLst/>
          </a:prstGeom>
          <a:solidFill>
            <a:srgbClr val="ffff66"/>
          </a:solidFill>
          <a:ln w="936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lvl="4" marL="2057400" indent="0">
              <a:spcBef>
                <a:spcPts val="15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00"/>
                </a:solidFill>
                <a:latin typeface="Tahoma"/>
              </a:rPr>
              <a:t>П. 18-19 повторить,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15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00"/>
                </a:solidFill>
                <a:latin typeface="Tahoma"/>
              </a:rPr>
              <a:t>№ </a:t>
            </a:r>
            <a:r>
              <a:rPr b="0" lang="ru-RU" sz="6000" spc="-1" strike="noStrike">
                <a:solidFill>
                  <a:srgbClr val="006600"/>
                </a:solidFill>
                <a:latin typeface="Tahoma"/>
              </a:rPr>
              <a:t>700 (ж), №702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Script MT Bold"/>
              </a:rPr>
              <a:t>Выбери Пушистика с таким же настроением как у теб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704360" cy="41544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1Долина = Новый год.mp3" descr=""/>
          <p:cNvPicPr/>
          <p:nvPr/>
        </p:nvPicPr>
        <p:blipFill>
          <a:blip r:embed="rId1"/>
          <a:stretch/>
        </p:blipFill>
        <p:spPr>
          <a:xfrm>
            <a:off x="755640" y="558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68000" y="188640"/>
            <a:ext cx="8280360" cy="1584360"/>
          </a:xfrm>
          <a:prstGeom prst="rect">
            <a:avLst/>
          </a:prstGeom>
          <a:solidFill>
            <a:srgbClr val="ffcc00"/>
          </a:solidFill>
          <a:ln w="9360">
            <a:solidFill>
              <a:srgbClr val="ff3300"/>
            </a:solidFill>
            <a:miter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Monotype Corsiva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Monotype Corsiva"/>
              </a:rPr>
              <a:t>С наступающим Новым годом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0" name="Picture 6" descr="a11"/>
          <p:cNvPicPr/>
          <p:nvPr/>
        </p:nvPicPr>
        <p:blipFill>
          <a:blip r:embed="rId2"/>
          <a:stretch/>
        </p:blipFill>
        <p:spPr>
          <a:xfrm>
            <a:off x="1042920" y="1844640"/>
            <a:ext cx="6553440" cy="3257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a41"/>
          <p:cNvPicPr/>
          <p:nvPr/>
        </p:nvPicPr>
        <p:blipFill>
          <a:blip r:embed="rId3"/>
          <a:stretch/>
        </p:blipFill>
        <p:spPr>
          <a:xfrm>
            <a:off x="179280" y="4941720"/>
            <a:ext cx="1611360" cy="1644840"/>
          </a:xfrm>
          <a:prstGeom prst="rect">
            <a:avLst/>
          </a:prstGeom>
          <a:ln w="0">
            <a:noFill/>
          </a:ln>
        </p:spPr>
      </p:pic>
      <p:pic>
        <p:nvPicPr>
          <p:cNvPr id="262" name="041. Стас Пьеха - Снова С Новым Годом.mp3" descr=""/>
          <p:cNvPicPr/>
          <p:nvPr/>
        </p:nvPicPr>
        <p:blipFill>
          <a:blip r:embed="rId4"/>
          <a:stretch/>
        </p:blipFill>
        <p:spPr>
          <a:xfrm>
            <a:off x="7885080" y="566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" descr="a41"/>
          <p:cNvPicPr/>
          <p:nvPr/>
        </p:nvPicPr>
        <p:blipFill>
          <a:blip r:embed="rId5"/>
          <a:stretch/>
        </p:blipFill>
        <p:spPr>
          <a:xfrm>
            <a:off x="7236000" y="5013360"/>
            <a:ext cx="1611000" cy="1644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1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" dur="168130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4572000" y="5257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304920" y="1447920"/>
            <a:ext cx="358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5867280" y="4221000"/>
            <a:ext cx="3048120" cy="137376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Школа Мудрого Осьминога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250920" y="476280"/>
            <a:ext cx="2789280" cy="94716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Остров сокровищ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4" name="Picture 9" descr="ship"/>
          <p:cNvPicPr/>
          <p:nvPr/>
        </p:nvPicPr>
        <p:blipFill>
          <a:blip r:embed="rId2"/>
          <a:stretch/>
        </p:blipFill>
        <p:spPr>
          <a:xfrm>
            <a:off x="228600" y="3505320"/>
            <a:ext cx="988920" cy="10015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6"/>
          <p:cNvSpPr/>
          <p:nvPr/>
        </p:nvSpPr>
        <p:spPr>
          <a:xfrm>
            <a:off x="1403280" y="5373720"/>
            <a:ext cx="2737080" cy="94716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Бухта Бабочек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5148360" y="1341360"/>
            <a:ext cx="2789280" cy="52056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Залив Акул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" name="Line 18"/>
          <p:cNvSpPr/>
          <p:nvPr/>
        </p:nvSpPr>
        <p:spPr>
          <a:xfrm>
            <a:off x="971640" y="4437000"/>
            <a:ext cx="86364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" name="Line 19"/>
          <p:cNvSpPr/>
          <p:nvPr/>
        </p:nvSpPr>
        <p:spPr>
          <a:xfrm flipV="1">
            <a:off x="2556000" y="4652640"/>
            <a:ext cx="324000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Line 20"/>
          <p:cNvSpPr/>
          <p:nvPr/>
        </p:nvSpPr>
        <p:spPr>
          <a:xfrm flipH="1" flipV="1">
            <a:off x="7164000" y="1844280"/>
            <a:ext cx="792360" cy="23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Line 21"/>
          <p:cNvSpPr/>
          <p:nvPr/>
        </p:nvSpPr>
        <p:spPr>
          <a:xfrm flipH="1" flipV="1">
            <a:off x="3059280" y="620640"/>
            <a:ext cx="324144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5867280" y="4221000"/>
            <a:ext cx="3048120" cy="137376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Школа Мудрого Осьминога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2" name="Picture 23" descr="butflyer"/>
          <p:cNvPicPr/>
          <p:nvPr/>
        </p:nvPicPr>
        <p:blipFill>
          <a:blip r:embed="rId3"/>
          <a:stretch/>
        </p:blipFill>
        <p:spPr>
          <a:xfrm>
            <a:off x="1692360" y="4653000"/>
            <a:ext cx="1000080" cy="703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4" descr="ОСЬМИНОГ"/>
          <p:cNvPicPr/>
          <p:nvPr/>
        </p:nvPicPr>
        <p:blipFill>
          <a:blip r:embed="rId4"/>
          <a:stretch/>
        </p:blipFill>
        <p:spPr>
          <a:xfrm>
            <a:off x="6156360" y="5084640"/>
            <a:ext cx="1515960" cy="107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5" descr="АКУЛА"/>
          <p:cNvPicPr/>
          <p:nvPr/>
        </p:nvPicPr>
        <p:blipFill>
          <a:blip r:embed="rId5"/>
          <a:stretch/>
        </p:blipFill>
        <p:spPr>
          <a:xfrm>
            <a:off x="5292720" y="1268280"/>
            <a:ext cx="2343240" cy="1400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6" descr="predmet-110"/>
          <p:cNvPicPr/>
          <p:nvPr/>
        </p:nvPicPr>
        <p:blipFill>
          <a:blip r:embed="rId6"/>
          <a:stretch/>
        </p:blipFill>
        <p:spPr>
          <a:xfrm>
            <a:off x="1187280" y="907920"/>
            <a:ext cx="865440" cy="730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3744720" cy="718920"/>
          </a:xfrm>
          <a:prstGeom prst="rect">
            <a:avLst/>
          </a:prstGeom>
          <a:solidFill>
            <a:srgbClr val="ffff66"/>
          </a:solidFill>
          <a:ln w="936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99"/>
                </a:solidFill>
                <a:latin typeface="Showcard Gothic"/>
              </a:rPr>
              <a:t>Вычислит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50920" y="1197000"/>
          <a:ext cx="8713800" cy="5472000"/>
        </p:xfrm>
        <a:graphic>
          <a:graphicData uri="http://schemas.openxmlformats.org/drawingml/2006/table">
            <a:tbl>
              <a:tblPr/>
              <a:tblGrid>
                <a:gridCol w="2905200"/>
                <a:gridCol w="2903400"/>
                <a:gridCol w="2905200"/>
              </a:tblGrid>
              <a:tr h="27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%</a:t>
                      </a:r>
                      <a:endParaRPr b="0" lang="en-US" sz="6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 80</a:t>
                      </a:r>
                      <a:endParaRPr b="0" lang="en-US" sz="6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5 </a:t>
                      </a:r>
                      <a:endParaRPr b="0" lang="en-US" sz="6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 14</a:t>
                      </a:r>
                      <a:endParaRPr b="0" lang="en-US" sz="6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%</a:t>
                      </a:r>
                      <a:endParaRPr b="0" lang="en-US" sz="6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 20</a:t>
                      </a:r>
                      <a:endParaRPr b="0" lang="en-US" sz="6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27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8" name="Object 20"/>
              <p:cNvSpPr txBox="1"/>
              <p:nvPr/>
            </p:nvSpPr>
            <p:spPr>
              <a:xfrm>
                <a:off x="6141960" y="4038480"/>
                <a:ext cx="104940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9" name="Rectangle 2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22"/>
              <p:cNvSpPr txBox="1"/>
              <p:nvPr/>
            </p:nvSpPr>
            <p:spPr>
              <a:xfrm>
                <a:off x="3276720" y="4005360"/>
                <a:ext cx="2663640" cy="22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: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" name="Rectangle 2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24"/>
              <p:cNvSpPr txBox="1"/>
              <p:nvPr/>
            </p:nvSpPr>
            <p:spPr>
              <a:xfrm>
                <a:off x="755640" y="4005360"/>
                <a:ext cx="2084400" cy="23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∗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Rectangle 2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26"/>
              <p:cNvSpPr txBox="1"/>
              <p:nvPr/>
            </p:nvSpPr>
            <p:spPr>
              <a:xfrm>
                <a:off x="6227640" y="3971880"/>
                <a:ext cx="2665440" cy="23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620244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Showcard Gothic"/>
              </a:rPr>
              <a:t>Решите задачи устно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29600" cy="4969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10199"/>
                </a:solidFill>
                <a:latin typeface="Tahoma"/>
              </a:rPr>
              <a:t>Древесные лягушки живут 20 лет, что составляет 0,2 продолжительности жизни моллюска – жемчужницы. Сколько живут моллюски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ahoma"/>
              </a:rPr>
              <a:t>Муравей живет 10 лет, что составляет 0,5 жизни кошки. Сколько живут кошки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4572000" y="5257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304920" y="1447920"/>
            <a:ext cx="358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9" name="Picture 13" descr="predmet-109"/>
          <p:cNvPicPr/>
          <p:nvPr/>
        </p:nvPicPr>
        <p:blipFill>
          <a:blip r:embed="rId1"/>
          <a:stretch/>
        </p:blipFill>
        <p:spPr>
          <a:xfrm>
            <a:off x="1332000" y="476280"/>
            <a:ext cx="5832360" cy="583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4572000" y="5257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04920" y="1447920"/>
            <a:ext cx="358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95280" y="260280"/>
            <a:ext cx="3220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Остров сокровищ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3" name="Picture 12" descr="ship"/>
          <p:cNvPicPr/>
          <p:nvPr/>
        </p:nvPicPr>
        <p:blipFill>
          <a:blip r:embed="rId2"/>
          <a:stretch/>
        </p:blipFill>
        <p:spPr>
          <a:xfrm>
            <a:off x="179280" y="3284640"/>
            <a:ext cx="1351080" cy="1368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4"/>
          <p:cNvSpPr/>
          <p:nvPr/>
        </p:nvSpPr>
        <p:spPr>
          <a:xfrm>
            <a:off x="2124000" y="6093000"/>
            <a:ext cx="2737080" cy="94716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Бухта Бабочек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5" name="Picture 19" descr="flower"/>
          <p:cNvPicPr/>
          <p:nvPr/>
        </p:nvPicPr>
        <p:blipFill>
          <a:blip r:embed="rId3"/>
          <a:stretch/>
        </p:blipFill>
        <p:spPr>
          <a:xfrm>
            <a:off x="7740720" y="5950080"/>
            <a:ext cx="718920" cy="649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0" descr="flower"/>
          <p:cNvPicPr/>
          <p:nvPr/>
        </p:nvPicPr>
        <p:blipFill>
          <a:blip r:embed="rId4"/>
          <a:stretch/>
        </p:blipFill>
        <p:spPr>
          <a:xfrm>
            <a:off x="6877080" y="5589720"/>
            <a:ext cx="719280" cy="649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1" descr="babochki-97"/>
          <p:cNvPicPr/>
          <p:nvPr/>
        </p:nvPicPr>
        <p:blipFill>
          <a:blip r:embed="rId5"/>
          <a:stretch/>
        </p:blipFill>
        <p:spPr>
          <a:xfrm>
            <a:off x="1116000" y="5229360"/>
            <a:ext cx="1513080" cy="1314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2" descr="babochki-107"/>
          <p:cNvPicPr/>
          <p:nvPr/>
        </p:nvPicPr>
        <p:blipFill>
          <a:blip r:embed="rId6"/>
          <a:stretch/>
        </p:blipFill>
        <p:spPr>
          <a:xfrm>
            <a:off x="250920" y="5877000"/>
            <a:ext cx="780840" cy="82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3" descr="babochki-110"/>
          <p:cNvPicPr/>
          <p:nvPr/>
        </p:nvPicPr>
        <p:blipFill>
          <a:blip r:embed="rId7"/>
          <a:stretch/>
        </p:blipFill>
        <p:spPr>
          <a:xfrm>
            <a:off x="2556000" y="5445000"/>
            <a:ext cx="780840" cy="581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6" descr="cartoons_glitter_wallot"/>
          <p:cNvPicPr/>
          <p:nvPr/>
        </p:nvPicPr>
        <p:blipFill>
          <a:blip r:embed="rId8"/>
          <a:stretch/>
        </p:blipFill>
        <p:spPr>
          <a:xfrm>
            <a:off x="7550280" y="4005360"/>
            <a:ext cx="1593720" cy="1825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7" descr="flower"/>
          <p:cNvPicPr/>
          <p:nvPr/>
        </p:nvPicPr>
        <p:blipFill>
          <a:blip r:embed="rId9"/>
          <a:stretch/>
        </p:blipFill>
        <p:spPr>
          <a:xfrm>
            <a:off x="7093080" y="6021360"/>
            <a:ext cx="718920" cy="649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8" descr="predmet-110"/>
          <p:cNvPicPr/>
          <p:nvPr/>
        </p:nvPicPr>
        <p:blipFill>
          <a:blip r:embed="rId10"/>
          <a:stretch/>
        </p:blipFill>
        <p:spPr>
          <a:xfrm>
            <a:off x="1258920" y="743040"/>
            <a:ext cx="865080" cy="730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226 0.04717 L 0.19549 0.18382 E">
                                      <p:cBhvr>
                                        <p:cTn id="58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solidFill>
            <a:srgbClr val="ffcc00"/>
          </a:solidFill>
          <a:ln w="9360">
            <a:solidFill>
              <a:srgbClr val="ff33cc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c600"/>
                </a:solidFill>
                <a:latin typeface="Monotype Corsiva"/>
              </a:rPr>
              <a:t>Вычислите значение величины, есл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8360" y="1484280"/>
          <a:ext cx="8229600" cy="4819680"/>
        </p:xfrm>
        <a:graphic>
          <a:graphicData uri="http://schemas.openxmlformats.org/drawingml/2006/table">
            <a:tbl>
              <a:tblPr/>
              <a:tblGrid>
                <a:gridCol w="4032360"/>
                <a:gridCol w="4197240"/>
              </a:tblGrid>
              <a:tr h="15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 38 ее </a:t>
                      </a:r>
                      <a:endParaRPr b="0" lang="en-US" sz="4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вны 57т</a:t>
                      </a:r>
                      <a:endParaRPr b="0" lang="en-US" sz="4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8 ее </a:t>
                      </a:r>
                      <a:endParaRPr b="0" lang="en-US" sz="4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вны 576</a:t>
                      </a:r>
                      <a:endParaRPr b="0" lang="en-US" sz="4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62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% ее равны 223,6 см</a:t>
                      </a:r>
                      <a:endParaRPr b="0" lang="en-US" sz="4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е равны 12,6л;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62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% ее равны 75,66 м</a:t>
                      </a:r>
                      <a:endParaRPr b="0" lang="en-US" sz="4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</a:t>
                      </a:r>
                      <a:endParaRPr b="0" lang="en-US" sz="2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е равны 36л</a:t>
                      </a:r>
                      <a:endParaRPr b="0" lang="en-US" sz="3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135" name="Rectangle 7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76"/>
              <p:cNvSpPr txBox="1"/>
              <p:nvPr/>
            </p:nvSpPr>
            <p:spPr>
              <a:xfrm>
                <a:off x="4643280" y="3141720"/>
                <a:ext cx="93672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Rectangle 8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87"/>
              <p:cNvSpPr txBox="1"/>
              <p:nvPr/>
            </p:nvSpPr>
            <p:spPr>
              <a:xfrm>
                <a:off x="4643280" y="4797360"/>
                <a:ext cx="79236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solidFill>
            <a:srgbClr val="00ff00"/>
          </a:solidFill>
          <a:ln w="9360">
            <a:solidFill>
              <a:srgbClr val="ff33cc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33cc"/>
                </a:solidFill>
                <a:latin typeface="Monotype Corsiva"/>
              </a:rPr>
              <a:t>Монарх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1905120"/>
          <a:ext cx="8229600" cy="4114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150-М</a:t>
                      </a:r>
                      <a:endParaRPr b="0" lang="en-US" sz="7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210-А</a:t>
                      </a:r>
                      <a:endParaRPr b="0" lang="en-US" sz="7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19,6-О</a:t>
                      </a:r>
                      <a:endParaRPr b="0" lang="en-US" sz="7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720-Р</a:t>
                      </a:r>
                      <a:endParaRPr b="0" lang="en-US" sz="7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520-Н</a:t>
                      </a:r>
                      <a:endParaRPr b="0" lang="en-US" sz="7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162-Х</a:t>
                      </a:r>
                      <a:endParaRPr b="0" lang="en-US" sz="7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pic>
        <p:nvPicPr>
          <p:cNvPr id="141" name="Picture 33" descr="butflyer"/>
          <p:cNvPicPr/>
          <p:nvPr/>
        </p:nvPicPr>
        <p:blipFill>
          <a:blip r:embed="rId1"/>
          <a:stretch/>
        </p:blipFill>
        <p:spPr>
          <a:xfrm>
            <a:off x="7020000" y="476280"/>
            <a:ext cx="1224000" cy="1041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9T13:02:11Z</dcterms:created>
  <dc:creator>Наш домашний компьютер</dc:creator>
  <dc:description/>
  <dc:language>en-US</dc:language>
  <cp:lastModifiedBy>Галина</cp:lastModifiedBy>
  <dcterms:modified xsi:type="dcterms:W3CDTF">2011-11-13T14:18:30Z</dcterms:modified>
  <cp:revision>66</cp:revision>
  <dc:subject/>
  <dc:title>Презентация PowerPoint</dc:title>
</cp:coreProperties>
</file>