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FA2D-E53E-479C-861D-44D051876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07B-791F-4FDE-8C7F-86CA748BD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предложенных выражений(стандартного, нулевые, коэффициентом, дробью, степенью, подобными) учитель просит -вставьте пропущенные слова  в следующие опреде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C17-6D69-49F9-AABE-43EAEA362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еся составляют схему в тетради. Учитель для проверки открывает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C3B9-2FA6-4923-AC8F-75CE86F84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ная работа. Являются ли одночленами следующие выражения 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CDFA-A205-4434-8BA7-6743B85C9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асскажите, как одночл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ести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7D5C-4B63-4C26-B94C-804CA0717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еся выполняют задания самостоятельно, слайды с №14 -№17 подготовлены для быстрой прове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5D6F-0157-48C9-8C95-4840276C1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096-8911-4D67-8441-6D68917D3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256-E805-4003-B531-B754D0085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051-2C04-4208-9B4D-66A97531E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йся ЛМ выбирает понятия с которыми познакомились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E5B-4122-4DB6-ACC1-B54170C35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826-3AB9-49AB-92EC-D501D323D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виз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40CC-B8E5-43C7-AEF6-D2D6A5F30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записать алгебраические выражения под диктовку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йд -озвучен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ждое предложение читается два раза, для учащихся, которые испытывают трудности при слуховом восприятии, на слайде подготовлен текс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5FDC-36D2-4239-BEA4-C40C394E6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верить правильность написания выражений. Один из учащихся (по тетради) ЛМ выбирает алгебраические 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0F01-0D3B-411E-9181-18B14A2F7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выбрать определение одночлена, которые предлагаются с недостаточным или избыточным усло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B770-B9CD-445E-8BCF-7FBA53CF8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слушать флеш - ролик  и убедиться в правильности выбранного определения, далее учащиеся узнают определение одночлена стандартного вида, .степени одночлена и т.д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C5C-6961-49E2-85EA-A8A6C2D3D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простить одночлен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рганизует совмест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ит  одного учащегося комментировать свое решение с ме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7F9-8F1A-4A52-82D8-69BB55B4A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демонстрирует  слайд с одночленами стандартного и нестандартного вида. Организует ситуацию по осмыслению приведения одночлена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роще ли стандартный вид одночлена по сравнению с нестандарт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247-534E-4915-8166-FD1AA3E6A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приводит приме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эффициента одночлена, -буквенной части, - степени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росит  учащихся назвать  коэффициент одночлена, буквенную часть, просит объяснять как найти степень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100-961A-40A8-A3B3-22C8FFA6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DDE-3604-46DC-AC67-30C247A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39-F267-42FD-94B7-F857D5C6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A8C-EE58-401A-A4AC-D72E09BD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475-0576-4B8C-AC86-2432AA7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968-1979-4C4F-8E1D-9901AFE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F08-7355-499B-A013-D85F667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96A-ACED-4265-BDE9-7C8CCA4E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D84-4BBB-4A3F-8FC9-56599CB1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4F5-A01C-43EB-9547-BED6FF3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F0E-95D9-4C3B-9E9A-7E02F6D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E74-7B01-4825-BFE7-5301D45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03A-A98B-43A9-BF68-E011A7145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hyperlink" Target="http://www.bymath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15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6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7.jpe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17.jpe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image" Target="../media/image8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Подпись"/>
          <p:cNvPicPr/>
          <p:nvPr/>
        </p:nvPicPr>
        <p:blipFill>
          <a:blip r:embed="rId3"/>
          <a:stretch/>
        </p:blipFill>
        <p:spPr>
          <a:xfrm>
            <a:off x="5759280" y="4583160"/>
            <a:ext cx="756000" cy="439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AutoShape 8"/>
            <p:cNvSpPr/>
            <p:nvPr/>
          </p:nvSpPr>
          <p:spPr>
            <a:xfrm>
              <a:off x="5759280" y="1270080"/>
              <a:ext cx="3240360" cy="374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спираль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755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0"/>
            <p:cNvSpPr/>
            <p:nvPr/>
          </p:nvSpPr>
          <p:spPr>
            <a:xfrm>
              <a:off x="142920" y="5734080"/>
              <a:ext cx="90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Monotype Corsiva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1" descr="00037952"/>
            <p:cNvPicPr/>
            <p:nvPr/>
          </p:nvPicPr>
          <p:blipFill>
            <a:blip r:embed="rId6"/>
            <a:stretch/>
          </p:blipFill>
          <p:spPr>
            <a:xfrm>
              <a:off x="755640" y="0"/>
              <a:ext cx="8388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2"/>
            <p:cNvSpPr/>
            <p:nvPr/>
          </p:nvSpPr>
          <p:spPr>
            <a:xfrm rot="21225600">
              <a:off x="2485080" y="430200"/>
              <a:ext cx="50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00"/>
                  </a:solidFill>
                  <a:latin typeface="Arial"/>
                </a:rPr>
                <a:t>«В новом веке - с новыми технологиям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5902200" y="1486080"/>
              <a:ext cx="2952720" cy="23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omic Sans MS"/>
                </a:rPr>
                <a:t>Тема уро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i="1" lang="ru-RU" sz="2800" spc="-1" strike="noStrike">
                  <a:solidFill>
                    <a:srgbClr val="ffff00"/>
                  </a:solidFill>
                  <a:latin typeface="Verdana"/>
                </a:rPr>
                <a:t>«Одночлен и его стандартный вид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790560" y="1270080"/>
              <a:ext cx="4105440" cy="48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800" spc="-1" strike="noStrike">
                  <a:solidFill>
                    <a:srgbClr val="000066"/>
                  </a:solidFill>
                  <a:latin typeface="Monotype Corsiva"/>
                </a:rPr>
                <a:t>7 </a:t>
              </a:r>
              <a:r>
                <a:rPr b="0" i="1" lang="ru-RU" sz="8800" spc="-1" strike="noStrike">
                  <a:solidFill>
                    <a:srgbClr val="00007e"/>
                  </a:solidFill>
                  <a:latin typeface="Monotype Corsiva"/>
                </a:rPr>
                <a:t>класс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800" spc="-1" strike="noStrike">
                  <a:solidFill>
                    <a:srgbClr val="000066"/>
                  </a:solidFill>
                  <a:latin typeface="Monotype Corsiva"/>
                </a:rPr>
                <a:t>алгебр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7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6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1036800" y="0"/>
            <a:ext cx="8107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ставьте пропущенны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 следующие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900000" y="2060640"/>
            <a:ext cx="796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Одночлен, в котором единственный числовой множитель стоит на первом месте и степень любой переменной входит множителем только один раз, называется одночленом </a:t>
            </a:r>
            <a:r>
              <a:rPr b="1" lang="en-US" sz="2000" spc="-1" strike="noStrike">
                <a:solidFill>
                  <a:srgbClr val="00007e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 …                              вида.</a:t>
            </a:r>
            <a:r>
              <a:rPr b="0" lang="ru-RU" sz="2000" spc="-1" strike="noStrike">
                <a:solidFill>
                  <a:srgbClr val="00007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826920" y="4076640"/>
            <a:ext cx="78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Сумма   показателей   всех  степеней   переменных называется       …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55640" y="5373720"/>
            <a:ext cx="769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Числовой множитель одночлена стандартного вида называется       … 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2692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82692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дроб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3059280" y="836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степ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3059280" y="404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ну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4"/>
          <p:cNvSpPr/>
          <p:nvPr/>
        </p:nvSpPr>
        <p:spPr>
          <a:xfrm>
            <a:off x="536400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коэффици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5"/>
          <p:cNvSpPr/>
          <p:nvPr/>
        </p:nvSpPr>
        <p:spPr>
          <a:xfrm>
            <a:off x="536400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подоб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20486 0.39375 E">
                                      <p:cBhvr>
                                        <p:cTn id="43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-0.04704 0.53032 E">
                                      <p:cBhvr>
                                        <p:cTn id="43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29913 0.7824 E">
                                      <p:cBhvr>
                                        <p:cTn id="44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2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154560" y="2852640"/>
            <a:ext cx="295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клетка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8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4354560" y="249228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1" descr=""/>
          <p:cNvPicPr/>
          <p:nvPr/>
        </p:nvPicPr>
        <p:blipFill>
          <a:blip r:embed="rId5"/>
          <a:stretch/>
        </p:blipFill>
        <p:spPr>
          <a:xfrm>
            <a:off x="4284720" y="54936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40" name="Freeform 22"/>
          <p:cNvSpPr/>
          <p:nvPr/>
        </p:nvSpPr>
        <p:spPr>
          <a:xfrm>
            <a:off x="4572000" y="404640"/>
            <a:ext cx="1224000" cy="9813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3" descr=""/>
          <p:cNvPicPr/>
          <p:nvPr/>
        </p:nvPicPr>
        <p:blipFill>
          <a:blip r:embed="rId7"/>
          <a:stretch/>
        </p:blipFill>
        <p:spPr>
          <a:xfrm>
            <a:off x="1187280" y="1700280"/>
            <a:ext cx="1100160" cy="2520720"/>
          </a:xfrm>
          <a:prstGeom prst="rect">
            <a:avLst/>
          </a:prstGeom>
          <a:ln w="0">
            <a:noFill/>
          </a:ln>
        </p:spPr>
      </p:pic>
      <p:sp>
        <p:nvSpPr>
          <p:cNvPr id="242" name="Oval 24"/>
          <p:cNvSpPr/>
          <p:nvPr/>
        </p:nvSpPr>
        <p:spPr>
          <a:xfrm>
            <a:off x="3924360" y="1484280"/>
            <a:ext cx="2016000" cy="288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4х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5"/>
          <p:cNvSpPr/>
          <p:nvPr/>
        </p:nvSpPr>
        <p:spPr>
          <a:xfrm>
            <a:off x="755640" y="2133720"/>
            <a:ext cx="2376360" cy="158256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2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2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6443640" y="549360"/>
            <a:ext cx="2303640" cy="14396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7"/>
          <p:cNvSpPr/>
          <p:nvPr/>
        </p:nvSpPr>
        <p:spPr>
          <a:xfrm>
            <a:off x="6588000" y="2565360"/>
            <a:ext cx="2448000" cy="144000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Бук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8"/>
          <p:cNvSpPr/>
          <p:nvPr/>
        </p:nvSpPr>
        <p:spPr>
          <a:xfrm>
            <a:off x="6730920" y="4508640"/>
            <a:ext cx="2376720" cy="144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одноч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3+5+4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9"/>
          <p:cNvSpPr/>
          <p:nvPr/>
        </p:nvSpPr>
        <p:spPr>
          <a:xfrm>
            <a:off x="3130560" y="270828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0"/>
          <p:cNvSpPr/>
          <p:nvPr/>
        </p:nvSpPr>
        <p:spPr>
          <a:xfrm rot="20364600">
            <a:off x="5662080" y="1765080"/>
            <a:ext cx="993960" cy="204480"/>
          </a:xfrm>
          <a:prstGeom prst="rightArrow">
            <a:avLst>
              <a:gd name="adj1" fmla="val 50000"/>
              <a:gd name="adj2" fmla="val 1215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1"/>
          <p:cNvSpPr/>
          <p:nvPr/>
        </p:nvSpPr>
        <p:spPr>
          <a:xfrm rot="715800">
            <a:off x="5941800" y="3089160"/>
            <a:ext cx="650880" cy="187560"/>
          </a:xfrm>
          <a:prstGeom prst="rightArrow">
            <a:avLst>
              <a:gd name="adj1" fmla="val 50000"/>
              <a:gd name="adj2" fmla="val 867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2"/>
          <p:cNvSpPr/>
          <p:nvPr/>
        </p:nvSpPr>
        <p:spPr>
          <a:xfrm rot="2011800">
            <a:off x="5563800" y="4235400"/>
            <a:ext cx="1555920" cy="244440"/>
          </a:xfrm>
          <a:prstGeom prst="rightArrow">
            <a:avLst>
              <a:gd name="adj1" fmla="val 50000"/>
              <a:gd name="adj2" fmla="val 159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3" descr=""/>
          <p:cNvPicPr/>
          <p:nvPr/>
        </p:nvPicPr>
        <p:blipFill>
          <a:blip r:embed="rId8"/>
          <a:stretch/>
        </p:blipFill>
        <p:spPr>
          <a:xfrm>
            <a:off x="1042920" y="119700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34"/>
          <p:cNvSpPr/>
          <p:nvPr/>
        </p:nvSpPr>
        <p:spPr>
          <a:xfrm flipH="1">
            <a:off x="1042200" y="1052640"/>
            <a:ext cx="1081080" cy="98100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7"/>
          <p:cNvSpPr/>
          <p:nvPr/>
        </p:nvSpPr>
        <p:spPr>
          <a:xfrm>
            <a:off x="4211640" y="2924280"/>
            <a:ext cx="1366920" cy="50472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7308720" y="1268280"/>
            <a:ext cx="503280" cy="43200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9"/>
          <p:cNvSpPr/>
          <p:nvPr/>
        </p:nvSpPr>
        <p:spPr>
          <a:xfrm>
            <a:off x="7380360" y="3500280"/>
            <a:ext cx="1008000" cy="36036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0"/>
          <p:cNvSpPr/>
          <p:nvPr/>
        </p:nvSpPr>
        <p:spPr>
          <a:xfrm>
            <a:off x="7093080" y="5445000"/>
            <a:ext cx="1511280" cy="28908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111600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Comic Sans MS"/>
              </a:rPr>
              <a:t>Являются ли одночленами следующие выражения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5"/>
              <p:cNvSpPr txBox="1"/>
              <p:nvPr/>
            </p:nvSpPr>
            <p:spPr>
              <a:xfrm>
                <a:off x="1187280" y="1341360"/>
                <a:ext cx="126540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6"/>
              <p:cNvSpPr txBox="1"/>
              <p:nvPr/>
            </p:nvSpPr>
            <p:spPr>
              <a:xfrm>
                <a:off x="3276720" y="1341360"/>
                <a:ext cx="1800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7"/>
              <p:cNvSpPr txBox="1"/>
              <p:nvPr/>
            </p:nvSpPr>
            <p:spPr>
              <a:xfrm>
                <a:off x="5724360" y="1125360"/>
                <a:ext cx="244800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8"/>
              <p:cNvSpPr txBox="1"/>
              <p:nvPr/>
            </p:nvSpPr>
            <p:spPr>
              <a:xfrm>
                <a:off x="1763640" y="3068640"/>
                <a:ext cx="518472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2124000" y="4673520"/>
                <a:ext cx="5472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1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971640" y="40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Приведите одночлен к стандартному в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32"/>
              <p:cNvSpPr txBox="1"/>
              <p:nvPr/>
            </p:nvSpPr>
            <p:spPr>
              <a:xfrm>
                <a:off x="1908000" y="620640"/>
                <a:ext cx="539460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4"/>
              <p:cNvSpPr txBox="1"/>
              <p:nvPr/>
            </p:nvSpPr>
            <p:spPr>
              <a:xfrm>
                <a:off x="1476360" y="2924280"/>
                <a:ext cx="72723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5"/>
              <p:cNvSpPr txBox="1"/>
              <p:nvPr/>
            </p:nvSpPr>
            <p:spPr>
              <a:xfrm>
                <a:off x="2195640" y="5084640"/>
                <a:ext cx="2879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826920" y="1125360"/>
          <a:ext cx="8064720" cy="5119920"/>
        </p:xfrm>
        <a:graphic>
          <a:graphicData uri="http://schemas.openxmlformats.org/drawingml/2006/table">
            <a:tbl>
              <a:tblPr/>
              <a:tblGrid>
                <a:gridCol w="3530880"/>
                <a:gridCol w="1603440"/>
                <a:gridCol w="2930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в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54ав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са5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-6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а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9)в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10а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-х)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3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хх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3хв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хххху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6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51"/>
          <p:cNvSpPr/>
          <p:nvPr/>
        </p:nvSpPr>
        <p:spPr>
          <a:xfrm>
            <a:off x="0" y="476280"/>
            <a:ext cx="914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0" lang="ru-RU" sz="2400" spc="-1" strike="noStrike">
                <a:solidFill>
                  <a:srgbClr val="00007e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00007e"/>
                </a:solidFill>
                <a:latin typeface="Comic Sans MS"/>
              </a:rPr>
              <a:t>. Для каждого выражения из первого столбца подберите соответствующий стандартный одночлен из второго столб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2"/>
          <p:cNvSpPr/>
          <p:nvPr/>
        </p:nvSpPr>
        <p:spPr>
          <a:xfrm>
            <a:off x="6302520" y="4221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>
            <a:off x="6229440" y="3573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6084720" y="20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615636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>
            <a:off x="6229440" y="4797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6302520" y="5516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9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2556000" y="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5549E-006 L -0.18125 0.2185 E">
                                      <p:cBhvr>
                                        <p:cTn id="71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20312 -0.10695 E">
                                      <p:cBhvr>
                                        <p:cTn id="72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8906 0.19745 E">
                                      <p:cBhvr>
                                        <p:cTn id="72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-0.2191 -0.30625 E">
                                      <p:cBhvr>
                                        <p:cTn id="73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9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2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42920" y="1268280"/>
          <a:ext cx="7199280" cy="4643640"/>
        </p:xfrm>
        <a:graphic>
          <a:graphicData uri="http://schemas.openxmlformats.org/drawingml/2006/table">
            <a:tbl>
              <a:tblPr/>
              <a:tblGrid>
                <a:gridCol w="2087640"/>
                <a:gridCol w="793800"/>
                <a:gridCol w="1441440"/>
                <a:gridCol w="1436760"/>
                <a:gridCol w="143964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Коэф­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Буквен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анд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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(-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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(2,5)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61"/>
          <p:cNvSpPr/>
          <p:nvPr/>
        </p:nvSpPr>
        <p:spPr>
          <a:xfrm>
            <a:off x="3059280" y="26028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.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4"/>
          <p:cNvSpPr/>
          <p:nvPr/>
        </p:nvSpPr>
        <p:spPr>
          <a:xfrm>
            <a:off x="4354560" y="2852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5"/>
          <p:cNvSpPr/>
          <p:nvPr/>
        </p:nvSpPr>
        <p:spPr>
          <a:xfrm>
            <a:off x="3203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6"/>
          <p:cNvSpPr/>
          <p:nvPr/>
        </p:nvSpPr>
        <p:spPr>
          <a:xfrm>
            <a:off x="5797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7"/>
          <p:cNvSpPr/>
          <p:nvPr/>
        </p:nvSpPr>
        <p:spPr>
          <a:xfrm>
            <a:off x="6804000" y="350028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/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8"/>
          <p:cNvSpPr/>
          <p:nvPr/>
        </p:nvSpPr>
        <p:spPr>
          <a:xfrm>
            <a:off x="6875640" y="4076640"/>
            <a:ext cx="129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9"/>
          <p:cNvSpPr/>
          <p:nvPr/>
        </p:nvSpPr>
        <p:spPr>
          <a:xfrm>
            <a:off x="104472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0"/>
          <p:cNvSpPr/>
          <p:nvPr/>
        </p:nvSpPr>
        <p:spPr>
          <a:xfrm>
            <a:off x="413856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694692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1258920" y="4149720"/>
            <a:ext cx="15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3"/>
          <p:cNvSpPr/>
          <p:nvPr/>
        </p:nvSpPr>
        <p:spPr>
          <a:xfrm>
            <a:off x="-2197080" y="184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5"/>
          <p:cNvSpPr/>
          <p:nvPr/>
        </p:nvSpPr>
        <p:spPr>
          <a:xfrm>
            <a:off x="755640" y="189000"/>
            <a:ext cx="7705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Из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 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- 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;  3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;  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0,2)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ы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дночлены нестандартного вида (и приведите их к стандартному вид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6"/>
          <p:cNvSpPr/>
          <p:nvPr/>
        </p:nvSpPr>
        <p:spPr>
          <a:xfrm>
            <a:off x="755640" y="33577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пишите 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ыражений, не являющихся одночле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одночленов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одночленов нестандарт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- 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;  3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b;  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3564000" y="2565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0,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 = 3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0,2)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=0,6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6"/>
          <p:cNvSpPr/>
          <p:nvPr/>
        </p:nvSpPr>
        <p:spPr>
          <a:xfrm>
            <a:off x="684360" y="47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Запишите стандартный вид следующих одн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ууу =                  ;    2)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с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                 ;  3) а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=             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...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                    ;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7"/>
          <p:cNvSpPr/>
          <p:nvPr/>
        </p:nvSpPr>
        <p:spPr>
          <a:xfrm rot="16200000">
            <a:off x="1618920" y="1772640"/>
            <a:ext cx="287640" cy="1440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900000" y="3213000"/>
            <a:ext cx="7561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йдите числовые значения одно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;  2) 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x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; 3)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5) -</a:t>
            </a:r>
            <a:r>
              <a:rPr b="1" lang="en-US" sz="2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- 3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4. Это задание вы выполните быстро, если увидите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0"/>
          <p:cNvSpPr/>
          <p:nvPr/>
        </p:nvSpPr>
        <p:spPr>
          <a:xfrm>
            <a:off x="2050920" y="134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1"/>
          <p:cNvSpPr/>
          <p:nvPr/>
        </p:nvSpPr>
        <p:spPr>
          <a:xfrm>
            <a:off x="4716360" y="134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с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2"/>
          <p:cNvSpPr/>
          <p:nvPr/>
        </p:nvSpPr>
        <p:spPr>
          <a:xfrm>
            <a:off x="7667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3"/>
          <p:cNvSpPr/>
          <p:nvPr/>
        </p:nvSpPr>
        <p:spPr>
          <a:xfrm>
            <a:off x="2843280" y="20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2050920" y="386064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5"/>
          <p:cNvSpPr/>
          <p:nvPr/>
        </p:nvSpPr>
        <p:spPr>
          <a:xfrm>
            <a:off x="1835280" y="378936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6"/>
          <p:cNvSpPr/>
          <p:nvPr/>
        </p:nvSpPr>
        <p:spPr>
          <a:xfrm>
            <a:off x="4788000" y="378936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7"/>
          <p:cNvSpPr/>
          <p:nvPr/>
        </p:nvSpPr>
        <p:spPr>
          <a:xfrm>
            <a:off x="7164360" y="386064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8"/>
          <p:cNvSpPr/>
          <p:nvPr/>
        </p:nvSpPr>
        <p:spPr>
          <a:xfrm>
            <a:off x="2700360" y="4221000"/>
            <a:ext cx="647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9"/>
          <p:cNvSpPr/>
          <p:nvPr/>
        </p:nvSpPr>
        <p:spPr>
          <a:xfrm>
            <a:off x="4788000" y="4221000"/>
            <a:ext cx="57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9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1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4"/>
          <p:cNvSpPr/>
          <p:nvPr/>
        </p:nvSpPr>
        <p:spPr>
          <a:xfrm>
            <a:off x="1337040" y="-360"/>
            <a:ext cx="69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акими новыми понятиями вы познакомились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2928960" y="3866040"/>
            <a:ext cx="1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32000" y="836640"/>
            <a:ext cx="32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258920" y="1628640"/>
            <a:ext cx="33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1258920" y="3933720"/>
            <a:ext cx="32418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1258920" y="3141720"/>
            <a:ext cx="32418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332000" y="551664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258920" y="2349360"/>
            <a:ext cx="32418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1332000" y="465300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1214E-006 L 0.45278 -0.01041 E">
                                      <p:cBhvr>
                                        <p:cTn id="86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2775E-006 L 0.44479 -0.01041 E">
                                      <p:cBhvr>
                                        <p:cTn id="8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6185E-006 L 0.43698 -0.00509 E">
                                      <p:cBhvr>
                                        <p:cTn id="875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5896E-006 L 0.44479 0.00532 E">
                                      <p:cBhvr>
                                        <p:cTn id="91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1724040" cy="3168360"/>
          </a:xfrm>
          <a:prstGeom prst="rect">
            <a:avLst/>
          </a:prstGeom>
          <a:ln w="0">
            <a:noFill/>
          </a:ln>
        </p:spPr>
      </p:pic>
      <p:sp>
        <p:nvSpPr>
          <p:cNvPr id="356" name="WordArt 8"/>
          <p:cNvSpPr txBox="1"/>
          <p:nvPr/>
        </p:nvSpPr>
        <p:spPr>
          <a:xfrm rot="2676600">
            <a:off x="1115640" y="2205000"/>
            <a:ext cx="8780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2700360" y="1916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пасибо, за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2340000" y="3213000"/>
            <a:ext cx="626436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пишите задание на 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19,вопросы 1 – 2 (стр. 111), обязательный уровень № 455, № 458,№4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ю  посетить дома страничку Интернета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ymath.net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40000" y="1484280"/>
            <a:ext cx="6337440" cy="4897440"/>
          </a:xfrm>
          <a:prstGeom prst="wedgeRoundRectCallout">
            <a:avLst>
              <a:gd name="adj1" fmla="val -59546"/>
              <a:gd name="adj2" fmla="val -46467"/>
              <a:gd name="adj3" fmla="val 16667"/>
            </a:avLst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4"/>
          <p:cNvSpPr/>
          <p:nvPr/>
        </p:nvSpPr>
        <p:spPr>
          <a:xfrm>
            <a:off x="3492360" y="907920"/>
            <a:ext cx="5327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Люди, незнакомые с алгеброй, не могут представить себе т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удивительных вещей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которых можно достигну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при помощи названной науки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Г.В.Лейбниц (1646-1716 гг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немецкий матема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5"/>
          <p:cNvGraphicFramePr/>
          <p:nvPr/>
        </p:nvGraphicFramePr>
        <p:xfrm>
          <a:off x="900000" y="549360"/>
          <a:ext cx="232740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549360"/>
                    <a:ext cx="23274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6" descr=""/>
          <p:cNvPicPr/>
          <p:nvPr/>
        </p:nvPicPr>
        <p:blipFill>
          <a:blip r:embed="rId5"/>
          <a:stretch/>
        </p:blipFill>
        <p:spPr>
          <a:xfrm>
            <a:off x="1835280" y="2060640"/>
            <a:ext cx="173340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7"/>
          <p:cNvSpPr txBox="1"/>
          <p:nvPr/>
        </p:nvSpPr>
        <p:spPr>
          <a:xfrm rot="2676600">
            <a:off x="2484360" y="306864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Text Box 38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755640" y="-44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спираль"/>
          <p:cNvPicPr/>
          <p:nvPr/>
        </p:nvPicPr>
        <p:blipFill>
          <a:blip r:embed="rId1"/>
          <a:stretch/>
        </p:blipFill>
        <p:spPr>
          <a:xfrm>
            <a:off x="0" y="-4428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867280" y="280836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летка"/>
          <p:cNvPicPr/>
          <p:nvPr/>
        </p:nvPicPr>
        <p:blipFill>
          <a:blip r:embed="rId2"/>
          <a:stretch/>
        </p:blipFill>
        <p:spPr>
          <a:xfrm>
            <a:off x="755640" y="-4428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9"/>
          <p:cNvSpPr/>
          <p:nvPr/>
        </p:nvSpPr>
        <p:spPr>
          <a:xfrm>
            <a:off x="755640" y="216000"/>
            <a:ext cx="799308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Запишите следующие алгебра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7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лощадь квадрата со сторо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длина окружност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 площадь кр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4) </a:t>
            </a:r>
            <a:r>
              <a:rPr b="1" i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шестикратное произведение пя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четвер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роизведение утроенного произведен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 удвоенное произведение кубов этих же переменных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6) произведение пятой степен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четвертую степень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7)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оловина предыдущего выражения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8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двоенное произведени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9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четверенное предыдущее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 rot="16200000">
            <a:off x="-1951920" y="218664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2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3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53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3300"/>
                                  </p:stCondLst>
                                  <p:iterate type="lt">
                                    <p:tmAbs val="75.7142761230469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11900"/>
                                  </p:stCondLst>
                                  <p:iterate type="lt">
                                    <p:tmAbs val="171.764746093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18300"/>
                                  </p:stCondLst>
                                  <p:iterate type="lt">
                                    <p:tmAbs val="165.7143066406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24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38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27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38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657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80100"/>
                                  </p:stCondLst>
                                  <p:iterate type="lt">
                                    <p:tmAbs val="63.9999877929688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84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296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98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108100"/>
                                  </p:stCondLst>
                                  <p:iterate type="lt">
                                    <p:tmAbs val="79.3939819335938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191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3"/>
          <a:stretch/>
        </p:blipFill>
        <p:spPr>
          <a:xfrm>
            <a:off x="4032360" y="1557360"/>
            <a:ext cx="838080" cy="2303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503280" y="2133720"/>
            <a:ext cx="864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4"/>
          <a:stretch/>
        </p:blipFill>
        <p:spPr>
          <a:xfrm>
            <a:off x="3887640" y="1052640"/>
            <a:ext cx="100044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Freeform 19"/>
          <p:cNvSpPr/>
          <p:nvPr/>
        </p:nvSpPr>
        <p:spPr>
          <a:xfrm>
            <a:off x="4103640" y="981000"/>
            <a:ext cx="936720" cy="7923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9000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Если вы ответили правильно, то все выражения, перечисленные здесь, имеют общее им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5745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51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2411280" y="6021360"/>
            <a:ext cx="97164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5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38292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431964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525636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619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у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712800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80643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ху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0" descr=""/>
          <p:cNvPicPr/>
          <p:nvPr/>
        </p:nvPicPr>
        <p:blipFill>
          <a:blip r:embed="rId6"/>
          <a:stretch/>
        </p:blipFill>
        <p:spPr>
          <a:xfrm>
            <a:off x="3095640" y="1700280"/>
            <a:ext cx="10191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"/>
          <p:cNvPicPr/>
          <p:nvPr/>
        </p:nvPicPr>
        <p:blipFill>
          <a:blip r:embed="rId7"/>
          <a:stretch/>
        </p:blipFill>
        <p:spPr>
          <a:xfrm>
            <a:off x="4680000" y="1700280"/>
            <a:ext cx="101916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2"/>
          <p:cNvSpPr/>
          <p:nvPr/>
        </p:nvSpPr>
        <p:spPr>
          <a:xfrm>
            <a:off x="5745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51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244800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338292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431964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25636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ху2х3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8"/>
          <p:cNvSpPr/>
          <p:nvPr/>
        </p:nvSpPr>
        <p:spPr>
          <a:xfrm>
            <a:off x="619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х5у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712800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80643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3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1387E-006 L -0.10643 -0.48763 E">
                                      <p:cBhvr>
                                        <p:cTn id="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77457E-006 L 0.31112 -0.56116 E">
                                      <p:cBhvr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7457E-006 L -0.00382 -0.56116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21387E-006 L -0.20868 -0.48763 E">
                                      <p:cBhvr>
                                        <p:cTn id="9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457E-006 L -0.40555 -0.56116 E">
                                      <p:cBhvr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7457E-006 L -0.39774 -0.56116 E">
                                      <p:cBhvr>
                                        <p:cTn id="10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1387E-006 L 0.21667 -0.48763 E">
                                      <p:cBhvr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7457E-006 L 0.31094 -0.56116 E">
                                      <p:cBhvr>
                                        <p:cTn id="11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457E-006 L 0.41736 -0.56116 E">
                                      <p:cBhvr>
                                        <p:cTn id="1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7"/>
          <p:cNvSpPr/>
          <p:nvPr/>
        </p:nvSpPr>
        <p:spPr>
          <a:xfrm>
            <a:off x="826920" y="0"/>
            <a:ext cx="831708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1.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Алгебраическое выражение , содержащее произведение чисел, переменных  и их степеней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. Алгебраическое выражение, содержащее произведение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. Алгебраическо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только действия умножения и возведения в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4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перемен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5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 представляющее собой произведение, множителями которого могут являться числа, одно или несколько переменных, каждое из которых взято в некоторо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оизведение чисел переменных и их степеней.wav" descr=""/>
          <p:cNvPicPr/>
          <p:nvPr/>
        </p:nvPicPr>
        <p:blipFill>
          <a:blip r:embed="rId4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алгебраические выражения представоляющие собой произведение.wav" descr=""/>
          <p:cNvPicPr/>
          <p:nvPr/>
        </p:nvPicPr>
        <p:blipFill>
          <a:blip r:embed="rId5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2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4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042920" y="5353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http://school-collection.edu.ru/catalog/search/?text=%EE%E4%ED%EE%F7%EB%E5%ED%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3"/>
          <a:stretch/>
        </p:blipFill>
        <p:spPr>
          <a:xfrm>
            <a:off x="1692360" y="538200"/>
            <a:ext cx="5975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934920" y="26028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7e"/>
                </a:solidFill>
                <a:latin typeface="Comic Sans MS"/>
              </a:rPr>
              <a:t>Упростите одн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c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(0,2)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c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  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</a:t>
            </a:r>
            <a:r>
              <a:rPr b="1" lang="ru-RU" sz="4400" spc="-1" strike="noStrike">
                <a:solidFill>
                  <a:srgbClr val="00007e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1504080" y="3357720"/>
            <a:ext cx="70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Arial"/>
              </a:rPr>
              <a:t>(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0,2) (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сс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1908000" y="479736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51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1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.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= 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2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8" descr="клетка"/>
          <p:cNvPicPr/>
          <p:nvPr/>
        </p:nvPicPr>
        <p:blipFill>
          <a:blip r:embed="rId1"/>
          <a:stretch/>
        </p:blipFill>
        <p:spPr>
          <a:xfrm>
            <a:off x="755640" y="38160"/>
            <a:ext cx="838836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спираль"/>
          <p:cNvPicPr/>
          <p:nvPr/>
        </p:nvPicPr>
        <p:blipFill>
          <a:blip r:embed="rId2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4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93960" y="1619280"/>
            <a:ext cx="1741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5" descr=""/>
          <p:cNvPicPr/>
          <p:nvPr/>
        </p:nvPicPr>
        <p:blipFill>
          <a:blip r:embed="rId3"/>
          <a:stretch/>
        </p:blipFill>
        <p:spPr>
          <a:xfrm>
            <a:off x="1697040" y="42876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"/>
          <p:cNvPicPr/>
          <p:nvPr/>
        </p:nvPicPr>
        <p:blipFill>
          <a:blip r:embed="rId4"/>
          <a:stretch/>
        </p:blipFill>
        <p:spPr>
          <a:xfrm>
            <a:off x="1727280" y="765000"/>
            <a:ext cx="531720" cy="158436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37"/>
          <p:cNvSpPr/>
          <p:nvPr/>
        </p:nvSpPr>
        <p:spPr>
          <a:xfrm flipH="1">
            <a:off x="1653480" y="380880"/>
            <a:ext cx="539640" cy="486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1258920" y="1052640"/>
            <a:ext cx="17413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9" descr=""/>
          <p:cNvPicPr/>
          <p:nvPr/>
        </p:nvPicPr>
        <p:blipFill>
          <a:blip r:embed="rId6"/>
          <a:stretch/>
        </p:blipFill>
        <p:spPr>
          <a:xfrm>
            <a:off x="4289400" y="380880"/>
            <a:ext cx="590400" cy="59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"/>
          <p:cNvPicPr/>
          <p:nvPr/>
        </p:nvPicPr>
        <p:blipFill>
          <a:blip r:embed="rId7"/>
          <a:stretch/>
        </p:blipFill>
        <p:spPr>
          <a:xfrm>
            <a:off x="4375080" y="714240"/>
            <a:ext cx="493920" cy="162108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41"/>
          <p:cNvSpPr/>
          <p:nvPr/>
        </p:nvSpPr>
        <p:spPr>
          <a:xfrm flipH="1">
            <a:off x="4245840" y="333360"/>
            <a:ext cx="539640" cy="4856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3651120" y="1000080"/>
            <a:ext cx="1784520" cy="106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3" descr=""/>
          <p:cNvPicPr/>
          <p:nvPr/>
        </p:nvPicPr>
        <p:blipFill>
          <a:blip r:embed="rId9"/>
          <a:stretch/>
        </p:blipFill>
        <p:spPr>
          <a:xfrm>
            <a:off x="7048440" y="431640"/>
            <a:ext cx="59076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4" descr=""/>
          <p:cNvPicPr/>
          <p:nvPr/>
        </p:nvPicPr>
        <p:blipFill>
          <a:blip r:embed="rId10"/>
          <a:stretch/>
        </p:blipFill>
        <p:spPr>
          <a:xfrm>
            <a:off x="7093080" y="765000"/>
            <a:ext cx="493560" cy="1573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6"/>
          <p:cNvSpPr/>
          <p:nvPr/>
        </p:nvSpPr>
        <p:spPr>
          <a:xfrm>
            <a:off x="6372360" y="1052640"/>
            <a:ext cx="212400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9" descr=""/>
          <p:cNvPicPr/>
          <p:nvPr/>
        </p:nvPicPr>
        <p:blipFill>
          <a:blip r:embed="rId11"/>
          <a:stretch/>
        </p:blipFill>
        <p:spPr>
          <a:xfrm>
            <a:off x="1187280" y="714240"/>
            <a:ext cx="601920" cy="567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0" descr=""/>
          <p:cNvPicPr/>
          <p:nvPr/>
        </p:nvPicPr>
        <p:blipFill>
          <a:blip r:embed="rId12"/>
          <a:stretch/>
        </p:blipFill>
        <p:spPr>
          <a:xfrm>
            <a:off x="3822840" y="714240"/>
            <a:ext cx="599760" cy="56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1" descr=""/>
          <p:cNvPicPr/>
          <p:nvPr/>
        </p:nvPicPr>
        <p:blipFill>
          <a:blip r:embed="rId13"/>
          <a:stretch/>
        </p:blipFill>
        <p:spPr>
          <a:xfrm>
            <a:off x="6541920" y="766800"/>
            <a:ext cx="601920" cy="56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"/>
          <p:cNvPicPr/>
          <p:nvPr/>
        </p:nvPicPr>
        <p:blipFill>
          <a:blip r:embed="rId14"/>
          <a:stretch/>
        </p:blipFill>
        <p:spPr>
          <a:xfrm>
            <a:off x="2397240" y="3114720"/>
            <a:ext cx="84924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"/>
          <p:cNvPicPr/>
          <p:nvPr/>
        </p:nvPicPr>
        <p:blipFill>
          <a:blip r:embed="rId15"/>
          <a:stretch/>
        </p:blipFill>
        <p:spPr>
          <a:xfrm>
            <a:off x="2455920" y="3456000"/>
            <a:ext cx="716040" cy="169704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66"/>
          <p:cNvSpPr/>
          <p:nvPr/>
        </p:nvSpPr>
        <p:spPr>
          <a:xfrm flipH="1">
            <a:off x="2340000" y="2997360"/>
            <a:ext cx="792000" cy="63648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26920" y="3719520"/>
            <a:ext cx="367380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3" descr=""/>
          <p:cNvPicPr/>
          <p:nvPr/>
        </p:nvPicPr>
        <p:blipFill>
          <a:blip r:embed="rId17"/>
          <a:stretch/>
        </p:blipFill>
        <p:spPr>
          <a:xfrm>
            <a:off x="1720800" y="3456000"/>
            <a:ext cx="8701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6" descr=""/>
          <p:cNvPicPr/>
          <p:nvPr/>
        </p:nvPicPr>
        <p:blipFill>
          <a:blip r:embed="rId18"/>
          <a:stretch/>
        </p:blipFill>
        <p:spPr>
          <a:xfrm>
            <a:off x="3008160" y="3503520"/>
            <a:ext cx="86868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1" descr=""/>
          <p:cNvPicPr/>
          <p:nvPr/>
        </p:nvPicPr>
        <p:blipFill>
          <a:blip r:embed="rId19"/>
          <a:stretch/>
        </p:blipFill>
        <p:spPr>
          <a:xfrm>
            <a:off x="7415280" y="3381480"/>
            <a:ext cx="573120" cy="1631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2"/>
          <p:cNvSpPr/>
          <p:nvPr/>
        </p:nvSpPr>
        <p:spPr>
          <a:xfrm>
            <a:off x="5435640" y="3716280"/>
            <a:ext cx="302400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8" descr=""/>
          <p:cNvPicPr/>
          <p:nvPr/>
        </p:nvPicPr>
        <p:blipFill>
          <a:blip r:embed="rId20"/>
          <a:stretch/>
        </p:blipFill>
        <p:spPr>
          <a:xfrm>
            <a:off x="7318440" y="3046320"/>
            <a:ext cx="682560" cy="59544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69"/>
          <p:cNvSpPr/>
          <p:nvPr/>
        </p:nvSpPr>
        <p:spPr>
          <a:xfrm flipH="1">
            <a:off x="7236000" y="2997360"/>
            <a:ext cx="720720" cy="63180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4" descr=""/>
          <p:cNvPicPr/>
          <p:nvPr/>
        </p:nvPicPr>
        <p:blipFill>
          <a:blip r:embed="rId22"/>
          <a:stretch/>
        </p:blipFill>
        <p:spPr>
          <a:xfrm>
            <a:off x="6516720" y="3429000"/>
            <a:ext cx="695160" cy="57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7" descr=""/>
          <p:cNvPicPr/>
          <p:nvPr/>
        </p:nvPicPr>
        <p:blipFill>
          <a:blip r:embed="rId23"/>
          <a:stretch/>
        </p:blipFill>
        <p:spPr>
          <a:xfrm>
            <a:off x="7812000" y="3429000"/>
            <a:ext cx="6969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87"/>
          <p:cNvGrpSpPr/>
          <p:nvPr/>
        </p:nvGrpSpPr>
        <p:grpSpPr>
          <a:xfrm>
            <a:off x="3419640" y="4437000"/>
            <a:ext cx="5482800" cy="1939320"/>
            <a:chOff x="3419640" y="4437000"/>
            <a:chExt cx="5482800" cy="1939320"/>
          </a:xfrm>
        </p:grpSpPr>
        <p:pic>
          <p:nvPicPr>
            <p:cNvPr id="166" name="Picture 60" descr=""/>
            <p:cNvPicPr/>
            <p:nvPr/>
          </p:nvPicPr>
          <p:blipFill>
            <a:blip r:embed="rId24"/>
            <a:stretch/>
          </p:blipFill>
          <p:spPr>
            <a:xfrm>
              <a:off x="3793320" y="4884840"/>
              <a:ext cx="512640" cy="14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63"/>
            <p:cNvSpPr/>
            <p:nvPr/>
          </p:nvSpPr>
          <p:spPr>
            <a:xfrm>
              <a:off x="3541680" y="5104080"/>
              <a:ext cx="5360760" cy="99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70" descr=""/>
            <p:cNvPicPr/>
            <p:nvPr/>
          </p:nvPicPr>
          <p:blipFill>
            <a:blip r:embed="rId25"/>
            <a:stretch/>
          </p:blipFill>
          <p:spPr>
            <a:xfrm>
              <a:off x="3748320" y="4487400"/>
              <a:ext cx="613440" cy="6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71"/>
            <p:cNvSpPr/>
            <p:nvPr/>
          </p:nvSpPr>
          <p:spPr>
            <a:xfrm>
              <a:off x="3880080" y="4437000"/>
              <a:ext cx="573480" cy="53928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75" descr=""/>
            <p:cNvPicPr/>
            <p:nvPr/>
          </p:nvPicPr>
          <p:blipFill>
            <a:blip r:embed="rId27"/>
            <a:stretch/>
          </p:blipFill>
          <p:spPr>
            <a:xfrm>
              <a:off x="3419640" y="4855320"/>
              <a:ext cx="62316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8" descr=""/>
            <p:cNvPicPr/>
            <p:nvPr/>
          </p:nvPicPr>
          <p:blipFill>
            <a:blip r:embed="rId28"/>
            <a:stretch/>
          </p:blipFill>
          <p:spPr>
            <a:xfrm>
              <a:off x="4498560" y="4855320"/>
              <a:ext cx="625320" cy="589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72" name="Object 79"/>
              <p:cNvSpPr txBox="1"/>
              <p:nvPr/>
            </p:nvSpPr>
            <p:spPr>
              <a:xfrm>
                <a:off x="1403280" y="1052640"/>
                <a:ext cx="1657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0"/>
              <p:cNvSpPr txBox="1"/>
              <p:nvPr/>
            </p:nvSpPr>
            <p:spPr>
              <a:xfrm>
                <a:off x="3635280" y="981000"/>
                <a:ext cx="18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1"/>
              <p:cNvSpPr txBox="1"/>
              <p:nvPr/>
            </p:nvSpPr>
            <p:spPr>
              <a:xfrm>
                <a:off x="6443640" y="1125360"/>
                <a:ext cx="19828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2"/>
              <p:cNvSpPr txBox="1"/>
              <p:nvPr/>
            </p:nvSpPr>
            <p:spPr>
              <a:xfrm>
                <a:off x="826920" y="3573360"/>
                <a:ext cx="35895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83"/>
              <p:cNvSpPr txBox="1"/>
              <p:nvPr/>
            </p:nvSpPr>
            <p:spPr>
              <a:xfrm>
                <a:off x="3635280" y="5084640"/>
                <a:ext cx="5040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⋅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4"/>
              <p:cNvSpPr txBox="1"/>
              <p:nvPr/>
            </p:nvSpPr>
            <p:spPr>
              <a:xfrm>
                <a:off x="5508720" y="3789360"/>
                <a:ext cx="273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Freeform 85"/>
          <p:cNvSpPr/>
          <p:nvPr/>
        </p:nvSpPr>
        <p:spPr>
          <a:xfrm flipH="1">
            <a:off x="7019280" y="404640"/>
            <a:ext cx="539640" cy="48600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403280" y="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Одночлены 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0"/>
          <p:cNvSpPr/>
          <p:nvPr/>
        </p:nvSpPr>
        <p:spPr>
          <a:xfrm>
            <a:off x="1187280" y="2421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Одночлены не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16000" y="333360"/>
            <a:ext cx="1944720" cy="2376360"/>
            <a:chOff x="1116000" y="333360"/>
            <a:chExt cx="1944720" cy="2376360"/>
          </a:xfrm>
        </p:grpSpPr>
        <p:sp>
          <p:nvSpPr>
            <p:cNvPr id="186" name="AutoShape 18"/>
            <p:cNvSpPr/>
            <p:nvPr/>
          </p:nvSpPr>
          <p:spPr>
            <a:xfrm>
              <a:off x="1116000" y="333360"/>
              <a:ext cx="1944720" cy="237636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cap="rnd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9" descr=""/>
            <p:cNvPicPr/>
            <p:nvPr/>
          </p:nvPicPr>
          <p:blipFill>
            <a:blip r:embed="rId4"/>
            <a:stretch/>
          </p:blipFill>
          <p:spPr>
            <a:xfrm>
              <a:off x="1886040" y="507960"/>
              <a:ext cx="55728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0" descr=""/>
            <p:cNvPicPr/>
            <p:nvPr/>
          </p:nvPicPr>
          <p:blipFill>
            <a:blip r:embed="rId5"/>
            <a:stretch/>
          </p:blipFill>
          <p:spPr>
            <a:xfrm>
              <a:off x="1979640" y="836640"/>
              <a:ext cx="4366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Freeform 21"/>
            <p:cNvSpPr/>
            <p:nvPr/>
          </p:nvSpPr>
          <p:spPr>
            <a:xfrm>
              <a:off x="2014560" y="507960"/>
              <a:ext cx="550800" cy="43812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1052640"/>
              <a:ext cx="150480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2"/>
          <p:cNvGrpSpPr/>
          <p:nvPr/>
        </p:nvGrpSpPr>
        <p:grpSpPr>
          <a:xfrm>
            <a:off x="6659640" y="404640"/>
            <a:ext cx="2087640" cy="2376720"/>
            <a:chOff x="6659640" y="404640"/>
            <a:chExt cx="2087640" cy="2376720"/>
          </a:xfrm>
        </p:grpSpPr>
        <p:sp>
          <p:nvSpPr>
            <p:cNvPr id="192" name="AutoShape 24"/>
            <p:cNvSpPr/>
            <p:nvPr/>
          </p:nvSpPr>
          <p:spPr>
            <a:xfrm>
              <a:off x="6659640" y="404640"/>
              <a:ext cx="2087640" cy="2376720"/>
            </a:xfrm>
            <a:custGeom>
              <a:avLst/>
              <a:gdLst>
                <a:gd name="textAreaLeft" fmla="*/ 245880 w 2087640"/>
                <a:gd name="textAreaRight" fmla="*/ 1841760 w 2087640"/>
                <a:gd name="textAreaTop" fmla="*/ 245880 h 2376720"/>
                <a:gd name="textAreaBottom" fmla="*/ 2130840 h 2376720"/>
              </a:gdLst>
              <a:ahLst/>
              <a:rect l="textAreaLeft" t="textAreaTop" r="textAreaRight" b="textAreaBottom"/>
              <a:pathLst>
                <a:path w="21600" h="24590">
                  <a:moveTo>
                    <a:pt x="3600" y="0"/>
                  </a:moveTo>
                  <a:arcTo wR="3600" hR="3600" stAng="0" swAng="5400000"/>
                  <a:lnTo>
                    <a:pt x="0" y="20990"/>
                  </a:lnTo>
                  <a:arcTo wR="3600" hR="3600" stAng="16200000" swAng="5400000"/>
                  <a:lnTo>
                    <a:pt x="18000" y="2459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5" descr=""/>
            <p:cNvPicPr/>
            <p:nvPr/>
          </p:nvPicPr>
          <p:blipFill>
            <a:blip r:embed="rId8"/>
            <a:stretch/>
          </p:blipFill>
          <p:spPr>
            <a:xfrm>
              <a:off x="7558200" y="635040"/>
              <a:ext cx="52524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"/>
            <p:cNvPicPr/>
            <p:nvPr/>
          </p:nvPicPr>
          <p:blipFill>
            <a:blip r:embed="rId9"/>
            <a:stretch/>
          </p:blipFill>
          <p:spPr>
            <a:xfrm>
              <a:off x="7596360" y="1052640"/>
              <a:ext cx="41724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reeform 27"/>
            <p:cNvSpPr/>
            <p:nvPr/>
          </p:nvSpPr>
          <p:spPr>
            <a:xfrm flipH="1" rot="575400">
              <a:off x="7442640" y="615600"/>
              <a:ext cx="577800" cy="49824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6732720" y="1268280"/>
              <a:ext cx="2011320" cy="96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</a:rPr>
                <a:t>4х</a:t>
              </a:r>
              <a:r>
                <a:rPr b="1" i="1" lang="ru-RU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6"/>
          <p:cNvGrpSpPr/>
          <p:nvPr/>
        </p:nvGrpSpPr>
        <p:grpSpPr>
          <a:xfrm>
            <a:off x="900000" y="3500280"/>
            <a:ext cx="2519640" cy="2952720"/>
            <a:chOff x="900000" y="3500280"/>
            <a:chExt cx="2519640" cy="2952720"/>
          </a:xfrm>
        </p:grpSpPr>
        <p:sp>
          <p:nvSpPr>
            <p:cNvPr id="198" name="Oval 33"/>
            <p:cNvSpPr/>
            <p:nvPr/>
          </p:nvSpPr>
          <p:spPr>
            <a:xfrm>
              <a:off x="900000" y="3500280"/>
              <a:ext cx="2519640" cy="29527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4" descr=""/>
            <p:cNvPicPr/>
            <p:nvPr/>
          </p:nvPicPr>
          <p:blipFill>
            <a:blip r:embed="rId12"/>
            <a:stretch/>
          </p:blipFill>
          <p:spPr>
            <a:xfrm>
              <a:off x="1818000" y="3747600"/>
              <a:ext cx="754200" cy="6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5" descr=""/>
            <p:cNvPicPr/>
            <p:nvPr/>
          </p:nvPicPr>
          <p:blipFill>
            <a:blip r:embed="rId13"/>
            <a:stretch/>
          </p:blipFill>
          <p:spPr>
            <a:xfrm>
              <a:off x="1909080" y="4116960"/>
              <a:ext cx="55548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Freeform 36"/>
            <p:cNvSpPr/>
            <p:nvPr/>
          </p:nvSpPr>
          <p:spPr>
            <a:xfrm flipH="1">
              <a:off x="1771920" y="3701880"/>
              <a:ext cx="669600" cy="59724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7"/>
            <p:cNvSpPr/>
            <p:nvPr/>
          </p:nvSpPr>
          <p:spPr>
            <a:xfrm>
              <a:off x="992520" y="4468680"/>
              <a:ext cx="232344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-4x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38"/>
          <p:cNvSpPr/>
          <p:nvPr/>
        </p:nvSpPr>
        <p:spPr>
          <a:xfrm>
            <a:off x="6659640" y="3500280"/>
            <a:ext cx="2016000" cy="2808360"/>
          </a:xfrm>
          <a:prstGeom prst="octagon">
            <a:avLst>
              <a:gd name="adj" fmla="val 29287"/>
            </a:avLst>
          </a:prstGeom>
          <a:blipFill rotWithShape="0">
            <a:blip r:embed="rId15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9" descr=""/>
          <p:cNvPicPr/>
          <p:nvPr/>
        </p:nvPicPr>
        <p:blipFill>
          <a:blip r:embed="rId16"/>
          <a:stretch/>
        </p:blipFill>
        <p:spPr>
          <a:xfrm>
            <a:off x="7308720" y="3933720"/>
            <a:ext cx="720720" cy="5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0" descr=""/>
          <p:cNvPicPr/>
          <p:nvPr/>
        </p:nvPicPr>
        <p:blipFill>
          <a:blip r:embed="rId17"/>
          <a:stretch/>
        </p:blipFill>
        <p:spPr>
          <a:xfrm>
            <a:off x="7380360" y="4292640"/>
            <a:ext cx="635040" cy="136836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41"/>
          <p:cNvSpPr/>
          <p:nvPr/>
        </p:nvSpPr>
        <p:spPr>
          <a:xfrm rot="21210000">
            <a:off x="7454880" y="3863520"/>
            <a:ext cx="576360" cy="50508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6753240" y="4626000"/>
            <a:ext cx="181440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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3132000" y="62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3059280" y="119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a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2987640" y="17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+ 1=3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132000" y="184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2987640" y="2349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2556000" y="27813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3+5+4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7"/>
          <p:cNvSpPr/>
          <p:nvPr/>
        </p:nvSpPr>
        <p:spPr>
          <a:xfrm>
            <a:off x="363528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363528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9"/>
          <p:cNvSpPr/>
          <p:nvPr/>
        </p:nvSpPr>
        <p:spPr>
          <a:xfrm>
            <a:off x="3492360" y="5229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8:41:46Z</dcterms:created>
  <dc:creator>Михалева Татьяна Борисовна</dc:creator>
  <dc:description/>
  <dc:language>en-US</dc:language>
  <cp:lastModifiedBy>Tan9i</cp:lastModifiedBy>
  <dcterms:modified xsi:type="dcterms:W3CDTF">2011-12-08T02:12:16Z</dcterms:modified>
  <cp:revision>130</cp:revision>
  <dc:subject/>
  <dc:title>Одночлен и его стандартный вид</dc:title>
</cp:coreProperties>
</file>