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428-17FC-4658-BE92-12E75772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BD3-D369-49F4-AA97-DB64DC5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27D-CB62-4D27-A6D5-80C9BF69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D9B-0778-46AE-AE28-4715BBDC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2F7-8EBA-4C26-8664-A49BD538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C4FE-A0C8-4190-AEF3-A6FBB79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A1DD-1CDC-46F0-9AE4-EDE7C79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93B-A989-4083-8906-1CBBE38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06EB-AE86-4BF2-9302-1F4256B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F62-416B-4B43-932F-C55B442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ECA-5CFC-415E-93EB-CCD5F5F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C0B-5B4A-4A01-9ACA-FEB3EBE4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1D79-8527-44A8-AE54-EAB643B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CD5F-4480-4395-9FBB-6629260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A6F0-51DE-4F5E-BD3A-3F137C4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E23B-659D-4B41-A20A-23A61AFF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AC5-6DA5-483C-96DB-115A6E14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6353-4CC2-4426-9B46-E9FFF60C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4611-F65F-4513-80DB-3ABD6BA1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A417-E193-4332-BB8B-6BFDA68D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BE91-9745-426E-9CE2-AD73CB0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D606-7C8C-4567-A067-5B1E144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C8F-A9A3-4A12-A824-865F983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5E63-4D64-4BD6-8F6F-1F871874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8156-453E-4C72-A64D-8034931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DF46-6C5A-4473-8820-7B75441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132E-535B-4885-BD95-549E7A9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3DC4-CEA6-429C-B039-CD980A0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C4DD-A63F-4CCD-A467-BA7F856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DBAB-9325-472B-8693-E2823F89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CEAE-6126-4368-A34F-9AA842B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4AA6-8A56-4896-8BFE-D7D7F2D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0137-5B04-4ABF-83EA-516AEFF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B4A-98C5-441C-BC30-60FD0B81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4A7A-AE93-45BE-AAB2-D26D736B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76DB-EBFB-4708-8722-DF54467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1FE4-B26B-4D27-9413-9C222D8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49B2-ED33-4DDB-8EAC-847358A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CF3E-3B14-449F-B79C-912BCAE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7979-A4EF-4D85-B376-19FC982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CE59-8890-47B0-88BF-FB13E87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FA66-A70C-40B6-ADF7-91EBE0E2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5EA8-F099-4782-929C-E45700E6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D045-D6E2-458E-80FE-0EDD0C94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28F-29C2-4705-B7BB-8BAE772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8022-4D7F-4D48-BFF9-D708AE9A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05F1-5973-4207-BE8E-A7E3113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CF2E6-554E-4CF4-99C7-25355A66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EAC7-8348-4D7C-9F6D-DEB51E2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5282-59B9-4A00-83D2-DE1D4977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8576-4DAF-454F-AF5B-0167ACF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7AB4-C1DD-4923-BA53-72F180F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1027-DD14-4F94-8FEC-10BD98F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0B804-D452-4029-AE46-6927B53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F9D1-282C-4A2B-85D8-11A534FE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08B-E451-4BFC-9338-485D9994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C26A-C4B9-4BC9-BC4B-256B85AE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974-A59D-4CA6-868B-9D7BF8C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3F3-6C7E-4C00-89EE-474C257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9CA-1473-438B-93BE-B6FFD1B1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AC80-8BEA-4031-9350-AFB52C9E1E4E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D8F-D38F-4A57-A2F3-B8D1C0505C17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8419-364E-4C8D-8FF6-55722C56DF77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BF2B-3E83-4D21-8203-71278AD80484}" type="slidenum">
              <a:rPr b="0" lang="ru-RU" sz="1600" spc="-1" strike="noStrike">
                <a:solidFill>
                  <a:srgbClr val="434342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C4D-5623-4DEF-90FF-9C57AE126DB1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2286000" y="2967120"/>
            <a:ext cx="52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1"/>
          <p:cNvSpPr/>
          <p:nvPr/>
        </p:nvSpPr>
        <p:spPr>
          <a:xfrm>
            <a:off x="4249080" y="3244680"/>
            <a:ext cx="644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12"/>
          <p:cNvSpPr/>
          <p:nvPr/>
        </p:nvSpPr>
        <p:spPr>
          <a:xfrm>
            <a:off x="1979640" y="191628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  <a:ea typeface="Calibri"/>
              </a:rPr>
              <a:t>Устный счёт от 1 до 2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403280" y="404640"/>
            <a:ext cx="5689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сели дом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620120" cy="388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2195640" y="1557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763640" y="23414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3132000" y="2387520"/>
            <a:ext cx="17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826920" y="404640"/>
            <a:ext cx="7587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 числовой ря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539640" y="1989000"/>
            <a:ext cx="8136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,…,3,…,…,6,7,…,9,10,11,…,…,…,15,16,…,18,…,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403280" y="54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ложи числа на слаг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аем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Овал 5"/>
          <p:cNvSpPr/>
          <p:nvPr/>
        </p:nvSpPr>
        <p:spPr>
          <a:xfrm>
            <a:off x="1343160" y="8458200"/>
            <a:ext cx="657000" cy="666720"/>
          </a:xfrm>
          <a:prstGeom prst="ellipse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3333600" y="8458200"/>
            <a:ext cx="648000" cy="619200"/>
          </a:xfrm>
          <a:prstGeom prst="ellipse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5172120" y="8458200"/>
            <a:ext cx="647640" cy="619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676440" y="96393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1714680" y="96105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2800440" y="96393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743280" y="962028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оугольник 12"/>
          <p:cNvSpPr/>
          <p:nvPr/>
        </p:nvSpPr>
        <p:spPr>
          <a:xfrm>
            <a:off x="4705200" y="9610560"/>
            <a:ext cx="66708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3"/>
          <p:cNvSpPr/>
          <p:nvPr/>
        </p:nvSpPr>
        <p:spPr>
          <a:xfrm>
            <a:off x="5715000" y="96105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>
            <a:off x="1895400" y="9124920"/>
            <a:ext cx="295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Прямая соединительная линия 15"/>
          <p:cNvSpPr/>
          <p:nvPr/>
        </p:nvSpPr>
        <p:spPr>
          <a:xfrm>
            <a:off x="3867120" y="9124920"/>
            <a:ext cx="295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рямая соединительная линия 16"/>
          <p:cNvSpPr/>
          <p:nvPr/>
        </p:nvSpPr>
        <p:spPr>
          <a:xfrm>
            <a:off x="5715000" y="9105840"/>
            <a:ext cx="295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Прямая соединительная линия 17"/>
          <p:cNvSpPr/>
          <p:nvPr/>
        </p:nvSpPr>
        <p:spPr>
          <a:xfrm flipH="1">
            <a:off x="1095480" y="9124920"/>
            <a:ext cx="30456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Прямая соединительная линия 18"/>
          <p:cNvSpPr/>
          <p:nvPr/>
        </p:nvSpPr>
        <p:spPr>
          <a:xfrm flipH="1">
            <a:off x="5038200" y="9124920"/>
            <a:ext cx="304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19"/>
          <p:cNvSpPr/>
          <p:nvPr/>
        </p:nvSpPr>
        <p:spPr>
          <a:xfrm flipH="1">
            <a:off x="3133800" y="9153360"/>
            <a:ext cx="30456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2" descr=""/>
          <p:cNvPicPr/>
          <p:nvPr/>
        </p:nvPicPr>
        <p:blipFill>
          <a:blip r:embed="rId1"/>
          <a:stretch/>
        </p:blipFill>
        <p:spPr>
          <a:xfrm>
            <a:off x="345960" y="1195560"/>
            <a:ext cx="8042400" cy="30254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1403280" y="2060640"/>
            <a:ext cx="33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3743280" y="2060640"/>
            <a:ext cx="13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5862600" y="2060640"/>
            <a:ext cx="9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324000" y="260280"/>
            <a:ext cx="9217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читай цепочку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7-конечная звезда 3"/>
          <p:cNvSpPr/>
          <p:nvPr/>
        </p:nvSpPr>
        <p:spPr>
          <a:xfrm>
            <a:off x="847800" y="88869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7-конечная звезда 4"/>
          <p:cNvSpPr/>
          <p:nvPr/>
        </p:nvSpPr>
        <p:spPr>
          <a:xfrm>
            <a:off x="1000080" y="90392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5b5c5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7-конечная звезда 5"/>
          <p:cNvSpPr/>
          <p:nvPr/>
        </p:nvSpPr>
        <p:spPr>
          <a:xfrm>
            <a:off x="1152360" y="91915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7-конечная звезда 6"/>
          <p:cNvSpPr/>
          <p:nvPr/>
        </p:nvSpPr>
        <p:spPr>
          <a:xfrm>
            <a:off x="1305000" y="93441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7-конечная звезда 7"/>
          <p:cNvSpPr/>
          <p:nvPr/>
        </p:nvSpPr>
        <p:spPr>
          <a:xfrm>
            <a:off x="1457280" y="94964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ca4b0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7-конечная звезда 8"/>
          <p:cNvSpPr/>
          <p:nvPr/>
        </p:nvSpPr>
        <p:spPr>
          <a:xfrm>
            <a:off x="1609560" y="96487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8a1d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7-конечная звезда 9"/>
          <p:cNvSpPr/>
          <p:nvPr/>
        </p:nvSpPr>
        <p:spPr>
          <a:xfrm>
            <a:off x="1762200" y="98013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7-конечная звезда 10"/>
          <p:cNvSpPr/>
          <p:nvPr/>
        </p:nvSpPr>
        <p:spPr>
          <a:xfrm>
            <a:off x="1914480" y="99536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3c536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7-конечная звезда 11"/>
          <p:cNvSpPr/>
          <p:nvPr/>
        </p:nvSpPr>
        <p:spPr>
          <a:xfrm>
            <a:off x="2066760" y="101059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7-конечная звезда 12"/>
          <p:cNvSpPr/>
          <p:nvPr/>
        </p:nvSpPr>
        <p:spPr>
          <a:xfrm>
            <a:off x="1971720" y="901080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a20e9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7-конечная звезда 13"/>
          <p:cNvSpPr/>
          <p:nvPr/>
        </p:nvSpPr>
        <p:spPr>
          <a:xfrm>
            <a:off x="2276640" y="9582120"/>
            <a:ext cx="61884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1308a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4024440" y="326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7-конечная звезда 19"/>
          <p:cNvSpPr/>
          <p:nvPr/>
        </p:nvSpPr>
        <p:spPr>
          <a:xfrm>
            <a:off x="1486080" y="965160"/>
            <a:ext cx="1485720" cy="1141560"/>
          </a:xfrm>
          <a:prstGeom prst="pie">
            <a:avLst/>
          </a:prstGeom>
          <a:solidFill>
            <a:srgbClr val="3760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7-конечная звезда 20"/>
          <p:cNvSpPr/>
          <p:nvPr/>
        </p:nvSpPr>
        <p:spPr>
          <a:xfrm>
            <a:off x="341280" y="3257640"/>
            <a:ext cx="1548000" cy="117324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7-конечная звезда 21"/>
          <p:cNvSpPr/>
          <p:nvPr/>
        </p:nvSpPr>
        <p:spPr>
          <a:xfrm>
            <a:off x="3005280" y="1117440"/>
            <a:ext cx="1295280" cy="1278000"/>
          </a:xfrm>
          <a:prstGeom prst="pi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  <a:ea typeface="Vrinda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7-конечная звезда 22"/>
          <p:cNvSpPr/>
          <p:nvPr/>
        </p:nvSpPr>
        <p:spPr>
          <a:xfrm>
            <a:off x="4344840" y="1008000"/>
            <a:ext cx="1656000" cy="1432080"/>
          </a:xfrm>
          <a:prstGeom prst="pie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7-конечная звезда 23"/>
          <p:cNvSpPr/>
          <p:nvPr/>
        </p:nvSpPr>
        <p:spPr>
          <a:xfrm>
            <a:off x="4000680" y="2830680"/>
            <a:ext cx="1698480" cy="1171440"/>
          </a:xfrm>
          <a:prstGeom prst="pie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7-конечная звезда 24"/>
          <p:cNvSpPr/>
          <p:nvPr/>
        </p:nvSpPr>
        <p:spPr>
          <a:xfrm>
            <a:off x="6084720" y="690480"/>
            <a:ext cx="1727280" cy="1687680"/>
          </a:xfrm>
          <a:prstGeom prst="pi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7-конечная звезда 25"/>
          <p:cNvSpPr/>
          <p:nvPr/>
        </p:nvSpPr>
        <p:spPr>
          <a:xfrm>
            <a:off x="5713560" y="3141720"/>
            <a:ext cx="1625400" cy="1270080"/>
          </a:xfrm>
          <a:prstGeom prst="pie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7-конечная звезда 26"/>
          <p:cNvSpPr/>
          <p:nvPr/>
        </p:nvSpPr>
        <p:spPr>
          <a:xfrm>
            <a:off x="826920" y="49417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7-конечная звезда 27"/>
          <p:cNvSpPr/>
          <p:nvPr/>
        </p:nvSpPr>
        <p:spPr>
          <a:xfrm>
            <a:off x="210960" y="1335240"/>
            <a:ext cx="1300320" cy="129384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Vrind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7-конечная звезда 28"/>
          <p:cNvSpPr/>
          <p:nvPr/>
        </p:nvSpPr>
        <p:spPr>
          <a:xfrm>
            <a:off x="2303640" y="2917800"/>
            <a:ext cx="1734840" cy="1368360"/>
          </a:xfrm>
          <a:prstGeom prst="pie">
            <a:avLst/>
          </a:prstGeom>
          <a:solidFill>
            <a:srgbClr val="a20e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7-конечная звезда 29"/>
          <p:cNvSpPr/>
          <p:nvPr/>
        </p:nvSpPr>
        <p:spPr>
          <a:xfrm>
            <a:off x="7236000" y="1841400"/>
            <a:ext cx="1657080" cy="1575000"/>
          </a:xfrm>
          <a:prstGeom prst="pie">
            <a:avLst/>
          </a:prstGeom>
          <a:solidFill>
            <a:srgbClr val="1308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7-конечная звезда 30"/>
          <p:cNvSpPr/>
          <p:nvPr/>
        </p:nvSpPr>
        <p:spPr>
          <a:xfrm>
            <a:off x="2019240" y="4991040"/>
            <a:ext cx="2192400" cy="1638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2:25:14Z</dcterms:created>
  <dc:creator>Кравченко</dc:creator>
  <dc:description/>
  <dc:language>en-US</dc:language>
  <cp:lastModifiedBy>admin</cp:lastModifiedBy>
  <dcterms:modified xsi:type="dcterms:W3CDTF">2016-10-15T05:52:21Z</dcterms:modified>
  <cp:revision>29</cp:revision>
  <dc:subject/>
  <dc:title>Словарная работа на уроках русского языка в начальной школе</dc:title>
</cp:coreProperties>
</file>