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9C1A-3B4F-44B4-91A5-8DBEEB3E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EFC-C51F-4E32-B79E-5FB8DA75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A51-086B-4554-B8D0-2DD2DA3A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49F-277D-476A-95BA-AA90F908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F352-1751-4F0C-BE55-34797ACF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F733-6818-4599-B24C-3B6C99D6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728D-518D-4361-8F71-8FFD3597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6410-07AE-48E5-A3FB-E725AEB7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7D9B-C0A8-473D-908D-3564B719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FADC-F34C-421C-94E3-A8F67592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708B-51D7-479E-8F1B-E9E885A2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DE3-FC3F-42FF-B805-B553C272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B7E3-49FC-400A-8F5E-D1A64B5B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E254-A3A7-4D51-85CF-03FEC78B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D0FC-DEC8-4FA6-BDFA-2B4EF74E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A8CC-DE0B-4A62-A869-A2054F94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1A9B-6415-4973-A630-E2561730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2C58A-F592-474B-931E-5864D481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7F55F-7242-42BB-B591-5AB25800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F5E80-935A-461A-A0EB-3CE20CA9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77345-C1BC-4848-B141-3B91C267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71964-4C6C-498D-B63C-96D8FB2F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5C9D-BA61-4BCF-9A80-8B33E920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2153-6E03-4C9B-99E6-E357817D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E6CA8-3FB9-4693-BD53-A064A1FB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24ECE-7C7B-4C9A-BE3F-33577EED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978A4-38B6-413A-A6D5-524810DA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5A26C-BDD3-4F1E-97E3-3EC55B32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55020-E394-44F6-9EC8-C6784E5C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48E04-8ABE-4D5D-984E-6B5D478F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7F7B8-EA2A-4CAB-A159-CE36747E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97E09-166B-4873-8A25-4BBD487A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970AC-54CD-450D-82E1-9212D62D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C1DA-A69A-495E-B53B-B1B14647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B7AF3-D33C-4585-996F-89368FC5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92974-629F-4D62-9AB2-63CC47F2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68595-991C-4F67-BFEA-061658E4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94128-94D7-4D03-A96B-357C68BE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1FA32-A456-4854-94D8-127EAFE6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A3009-B7D2-43E2-8C37-07EBB60A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42C38-0CF0-4534-A510-36FC303A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D7D4E-8C15-407B-BC2C-AF294610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EEB79-1F4C-4DFF-B89F-EBFDD24E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51CB5-AADF-434C-B109-A61541F7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7ED-E8B4-4C54-8742-FAEC444E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6BD27-F067-4318-9934-D4D90436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2DEDA-EA45-4AE3-AA26-A06ACC56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39BF4-7E8F-4040-B01E-5B13A045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C233E-AC99-40F1-9111-0842BB71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3EF64-5334-41DD-AD91-910FD05D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B251A-93A8-427D-90CF-FAAB3560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E4804-E688-4B21-8CE4-EBDD0CDF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0AE2E-B615-48D1-AD42-FFF64043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5C6B2-90DF-4E4F-8E7D-A9D92006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B65C3-E0FA-481F-AE97-ACA56FED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63D9-516E-44DD-A1CB-9CEAF8ED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08856-5BFD-427F-A619-A200299C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3B18-FB1A-4854-AE8F-949B465E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139E-A8F1-41F0-A594-11729B10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E110-DF3D-417A-8F80-ECF80137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E830-C6BD-4B47-B2E1-EF72ACA9AABC}" type="slidenum">
              <a:rPr b="0" lang="ru-RU" sz="1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3043-0909-4125-9FBF-E863B3993385}" type="slidenum">
              <a:rPr b="0" lang="ru-RU" sz="1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831A-1209-40B9-B10F-1EB8C8970443}" type="slidenum">
              <a:rPr b="0" lang="ru-RU" sz="1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2B6A-E7E7-4327-A989-C98335563FAE}" type="slidenum">
              <a:rPr b="0" lang="ru-RU" sz="1600" spc="-1" strike="noStrike">
                <a:solidFill>
                  <a:srgbClr val="434342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4C85-55B7-4514-AE0A-30F1FA650640}" type="slidenum">
              <a:rPr b="0" lang="ru-RU" sz="1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22240" y="1100160"/>
            <a:ext cx="7521840" cy="357984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9"/>
          <p:cNvSpPr/>
          <p:nvPr/>
        </p:nvSpPr>
        <p:spPr>
          <a:xfrm>
            <a:off x="2286000" y="2967120"/>
            <a:ext cx="523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Прямоугольник 11"/>
          <p:cNvSpPr/>
          <p:nvPr/>
        </p:nvSpPr>
        <p:spPr>
          <a:xfrm>
            <a:off x="4249080" y="3244680"/>
            <a:ext cx="644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Прямоугольник 12"/>
          <p:cNvSpPr/>
          <p:nvPr/>
        </p:nvSpPr>
        <p:spPr>
          <a:xfrm>
            <a:off x="1979640" y="1916280"/>
            <a:ext cx="49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  <a:ea typeface="Calibri"/>
              </a:rPr>
              <a:t>Устный счёт от 1 до 2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1403280" y="404640"/>
            <a:ext cx="5689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сели доми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620120" cy="388944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2"/>
          <p:cNvSpPr/>
          <p:nvPr/>
        </p:nvSpPr>
        <p:spPr>
          <a:xfrm>
            <a:off x="2195640" y="155736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Прямоугольник 3"/>
          <p:cNvSpPr/>
          <p:nvPr/>
        </p:nvSpPr>
        <p:spPr>
          <a:xfrm>
            <a:off x="1763640" y="23414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Прямоугольник 4"/>
          <p:cNvSpPr/>
          <p:nvPr/>
        </p:nvSpPr>
        <p:spPr>
          <a:xfrm>
            <a:off x="3132000" y="2387520"/>
            <a:ext cx="17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826920" y="404640"/>
            <a:ext cx="7587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олни числовой ря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539640" y="1989000"/>
            <a:ext cx="81360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,…,3,…,…,6,7,…,9,10,11,…,…,…,15,16,…,18,…,2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1403280" y="54936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ложи числа на слаг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аемы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Овал 5"/>
          <p:cNvSpPr/>
          <p:nvPr/>
        </p:nvSpPr>
        <p:spPr>
          <a:xfrm>
            <a:off x="1343160" y="8458200"/>
            <a:ext cx="657000" cy="666720"/>
          </a:xfrm>
          <a:prstGeom prst="ellipse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Овал 6"/>
          <p:cNvSpPr/>
          <p:nvPr/>
        </p:nvSpPr>
        <p:spPr>
          <a:xfrm>
            <a:off x="3333600" y="8458200"/>
            <a:ext cx="648000" cy="619200"/>
          </a:xfrm>
          <a:prstGeom prst="ellipse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Овал 7"/>
          <p:cNvSpPr/>
          <p:nvPr/>
        </p:nvSpPr>
        <p:spPr>
          <a:xfrm>
            <a:off x="5172120" y="8458200"/>
            <a:ext cx="647640" cy="619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Прямоугольник 8"/>
          <p:cNvSpPr/>
          <p:nvPr/>
        </p:nvSpPr>
        <p:spPr>
          <a:xfrm>
            <a:off x="676440" y="9639360"/>
            <a:ext cx="666720" cy="581040"/>
          </a:xfrm>
          <a:prstGeom prst="rect">
            <a:avLst/>
          </a:prstGeom>
          <a:solidFill>
            <a:srgbClr val="ffff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Прямоугольник 9"/>
          <p:cNvSpPr/>
          <p:nvPr/>
        </p:nvSpPr>
        <p:spPr>
          <a:xfrm>
            <a:off x="1714680" y="9610560"/>
            <a:ext cx="666720" cy="581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Прямоугольник 10"/>
          <p:cNvSpPr/>
          <p:nvPr/>
        </p:nvSpPr>
        <p:spPr>
          <a:xfrm>
            <a:off x="2800440" y="9639360"/>
            <a:ext cx="666720" cy="581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Прямоугольник 11"/>
          <p:cNvSpPr/>
          <p:nvPr/>
        </p:nvSpPr>
        <p:spPr>
          <a:xfrm>
            <a:off x="3743280" y="9620280"/>
            <a:ext cx="666720" cy="581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Прямоугольник 12"/>
          <p:cNvSpPr/>
          <p:nvPr/>
        </p:nvSpPr>
        <p:spPr>
          <a:xfrm>
            <a:off x="4705200" y="9610560"/>
            <a:ext cx="667080" cy="581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Прямоугольник 13"/>
          <p:cNvSpPr/>
          <p:nvPr/>
        </p:nvSpPr>
        <p:spPr>
          <a:xfrm>
            <a:off x="5715000" y="9610560"/>
            <a:ext cx="666720" cy="581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Прямая соединительная линия 14"/>
          <p:cNvSpPr/>
          <p:nvPr/>
        </p:nvSpPr>
        <p:spPr>
          <a:xfrm>
            <a:off x="1895400" y="9124920"/>
            <a:ext cx="295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Прямая соединительная линия 15"/>
          <p:cNvSpPr/>
          <p:nvPr/>
        </p:nvSpPr>
        <p:spPr>
          <a:xfrm>
            <a:off x="3867120" y="9124920"/>
            <a:ext cx="295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Прямая соединительная линия 16"/>
          <p:cNvSpPr/>
          <p:nvPr/>
        </p:nvSpPr>
        <p:spPr>
          <a:xfrm>
            <a:off x="5715000" y="9105840"/>
            <a:ext cx="295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Прямая соединительная линия 17"/>
          <p:cNvSpPr/>
          <p:nvPr/>
        </p:nvSpPr>
        <p:spPr>
          <a:xfrm flipH="1">
            <a:off x="1095480" y="9124920"/>
            <a:ext cx="30456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Прямая соединительная линия 18"/>
          <p:cNvSpPr/>
          <p:nvPr/>
        </p:nvSpPr>
        <p:spPr>
          <a:xfrm flipH="1">
            <a:off x="5038200" y="9124920"/>
            <a:ext cx="30492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Прямая соединительная линия 19"/>
          <p:cNvSpPr/>
          <p:nvPr/>
        </p:nvSpPr>
        <p:spPr>
          <a:xfrm flipH="1">
            <a:off x="3133800" y="9153360"/>
            <a:ext cx="30456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22" descr=""/>
          <p:cNvPicPr/>
          <p:nvPr/>
        </p:nvPicPr>
        <p:blipFill>
          <a:blip r:embed="rId1"/>
          <a:stretch/>
        </p:blipFill>
        <p:spPr>
          <a:xfrm>
            <a:off x="345960" y="1195560"/>
            <a:ext cx="8042400" cy="302544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1403280" y="2060640"/>
            <a:ext cx="337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3743280" y="2060640"/>
            <a:ext cx="131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Прямоугольник 20"/>
          <p:cNvSpPr/>
          <p:nvPr/>
        </p:nvSpPr>
        <p:spPr>
          <a:xfrm>
            <a:off x="5862600" y="2060640"/>
            <a:ext cx="94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-324000" y="260280"/>
            <a:ext cx="921708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читай цепочку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7-конечная звезда 3"/>
          <p:cNvSpPr/>
          <p:nvPr/>
        </p:nvSpPr>
        <p:spPr>
          <a:xfrm>
            <a:off x="847800" y="8886960"/>
            <a:ext cx="619200" cy="52380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7-конечная звезда 4"/>
          <p:cNvSpPr/>
          <p:nvPr/>
        </p:nvSpPr>
        <p:spPr>
          <a:xfrm>
            <a:off x="1000080" y="9039240"/>
            <a:ext cx="619200" cy="52380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5b5c5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7-конечная звезда 5"/>
          <p:cNvSpPr/>
          <p:nvPr/>
        </p:nvSpPr>
        <p:spPr>
          <a:xfrm>
            <a:off x="1152360" y="9191520"/>
            <a:ext cx="619200" cy="52416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7-конечная звезда 6"/>
          <p:cNvSpPr/>
          <p:nvPr/>
        </p:nvSpPr>
        <p:spPr>
          <a:xfrm>
            <a:off x="1305000" y="9344160"/>
            <a:ext cx="619200" cy="52380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7-конечная звезда 7"/>
          <p:cNvSpPr/>
          <p:nvPr/>
        </p:nvSpPr>
        <p:spPr>
          <a:xfrm>
            <a:off x="1457280" y="9496440"/>
            <a:ext cx="619200" cy="52380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ca4b05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7-конечная звезда 8"/>
          <p:cNvSpPr/>
          <p:nvPr/>
        </p:nvSpPr>
        <p:spPr>
          <a:xfrm>
            <a:off x="1609560" y="9648720"/>
            <a:ext cx="619200" cy="52416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08a1d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7-конечная звезда 9"/>
          <p:cNvSpPr/>
          <p:nvPr/>
        </p:nvSpPr>
        <p:spPr>
          <a:xfrm>
            <a:off x="1762200" y="9801360"/>
            <a:ext cx="619200" cy="52380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7-конечная звезда 10"/>
          <p:cNvSpPr/>
          <p:nvPr/>
        </p:nvSpPr>
        <p:spPr>
          <a:xfrm>
            <a:off x="1914480" y="9953640"/>
            <a:ext cx="619200" cy="52380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3c536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7-конечная звезда 11"/>
          <p:cNvSpPr/>
          <p:nvPr/>
        </p:nvSpPr>
        <p:spPr>
          <a:xfrm>
            <a:off x="2066760" y="10105920"/>
            <a:ext cx="619200" cy="52416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7-конечная звезда 12"/>
          <p:cNvSpPr/>
          <p:nvPr/>
        </p:nvSpPr>
        <p:spPr>
          <a:xfrm>
            <a:off x="1971720" y="9010800"/>
            <a:ext cx="619200" cy="52380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a20e9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7-конечная звезда 13"/>
          <p:cNvSpPr/>
          <p:nvPr/>
        </p:nvSpPr>
        <p:spPr>
          <a:xfrm>
            <a:off x="2276640" y="9582120"/>
            <a:ext cx="618840" cy="52380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1308a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4024440" y="32688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7-конечная звезда 19"/>
          <p:cNvSpPr/>
          <p:nvPr/>
        </p:nvSpPr>
        <p:spPr>
          <a:xfrm>
            <a:off x="1486080" y="965160"/>
            <a:ext cx="1485720" cy="1141560"/>
          </a:xfrm>
          <a:prstGeom prst="pie">
            <a:avLst/>
          </a:prstGeom>
          <a:solidFill>
            <a:srgbClr val="3760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7-конечная звезда 20"/>
          <p:cNvSpPr/>
          <p:nvPr/>
        </p:nvSpPr>
        <p:spPr>
          <a:xfrm>
            <a:off x="341280" y="3257640"/>
            <a:ext cx="1548000" cy="1173240"/>
          </a:xfrm>
          <a:prstGeom prst="pi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7-конечная звезда 21"/>
          <p:cNvSpPr/>
          <p:nvPr/>
        </p:nvSpPr>
        <p:spPr>
          <a:xfrm>
            <a:off x="3005280" y="1117440"/>
            <a:ext cx="1295280" cy="1278000"/>
          </a:xfrm>
          <a:prstGeom prst="pie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Franklin Gothic Book"/>
                <a:ea typeface="Vrinda"/>
              </a:rPr>
              <a:t>-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7-конечная звезда 22"/>
          <p:cNvSpPr/>
          <p:nvPr/>
        </p:nvSpPr>
        <p:spPr>
          <a:xfrm>
            <a:off x="4344840" y="1008000"/>
            <a:ext cx="1656000" cy="1432080"/>
          </a:xfrm>
          <a:prstGeom prst="pie">
            <a:avLst/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7-конечная звезда 23"/>
          <p:cNvSpPr/>
          <p:nvPr/>
        </p:nvSpPr>
        <p:spPr>
          <a:xfrm>
            <a:off x="4000680" y="2830680"/>
            <a:ext cx="1698480" cy="1171440"/>
          </a:xfrm>
          <a:prstGeom prst="pie">
            <a:avLst/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7-конечная звезда 24"/>
          <p:cNvSpPr/>
          <p:nvPr/>
        </p:nvSpPr>
        <p:spPr>
          <a:xfrm>
            <a:off x="6084720" y="690480"/>
            <a:ext cx="1727280" cy="1687680"/>
          </a:xfrm>
          <a:prstGeom prst="pie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-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7-конечная звезда 25"/>
          <p:cNvSpPr/>
          <p:nvPr/>
        </p:nvSpPr>
        <p:spPr>
          <a:xfrm>
            <a:off x="5713560" y="3141720"/>
            <a:ext cx="1625400" cy="1270080"/>
          </a:xfrm>
          <a:prstGeom prst="pie">
            <a:avLst/>
          </a:prstGeom>
          <a:solidFill>
            <a:srgbClr val="95373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+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7-конечная звезда 26"/>
          <p:cNvSpPr/>
          <p:nvPr/>
        </p:nvSpPr>
        <p:spPr>
          <a:xfrm>
            <a:off x="826920" y="4941720"/>
            <a:ext cx="619200" cy="524160"/>
          </a:xfrm>
          <a:custGeom>
            <a:avLst/>
            <a:gdLst/>
            <a:ahLst/>
            <a:rect l="l" t="t" r="r" b="b"/>
            <a:pathLst>
              <a:path w="619125" h="523875">
                <a:moveTo>
                  <a:pt x="-2" y="336907"/>
                </a:moveTo>
                <a:lnTo>
                  <a:pt x="95338" y="233148"/>
                </a:lnTo>
                <a:lnTo>
                  <a:pt x="61312" y="103760"/>
                </a:lnTo>
                <a:lnTo>
                  <a:pt x="214225" y="103761"/>
                </a:lnTo>
                <a:lnTo>
                  <a:pt x="309563" y="0"/>
                </a:lnTo>
                <a:lnTo>
                  <a:pt x="404900" y="103761"/>
                </a:lnTo>
                <a:lnTo>
                  <a:pt x="557813" y="103760"/>
                </a:lnTo>
                <a:lnTo>
                  <a:pt x="523787" y="233148"/>
                </a:lnTo>
                <a:lnTo>
                  <a:pt x="619127" y="336907"/>
                </a:lnTo>
                <a:lnTo>
                  <a:pt x="481357" y="394490"/>
                </a:lnTo>
                <a:lnTo>
                  <a:pt x="447330" y="523878"/>
                </a:lnTo>
                <a:lnTo>
                  <a:pt x="309563" y="466294"/>
                </a:lnTo>
                <a:lnTo>
                  <a:pt x="171795" y="523878"/>
                </a:lnTo>
                <a:lnTo>
                  <a:pt x="137768" y="394490"/>
                </a:lnTo>
                <a:lnTo>
                  <a:pt x="-2" y="336907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7-конечная звезда 27"/>
          <p:cNvSpPr/>
          <p:nvPr/>
        </p:nvSpPr>
        <p:spPr>
          <a:xfrm>
            <a:off x="210960" y="1335240"/>
            <a:ext cx="1300320" cy="1293840"/>
          </a:xfrm>
          <a:prstGeom prst="pi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Vrind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7-конечная звезда 28"/>
          <p:cNvSpPr/>
          <p:nvPr/>
        </p:nvSpPr>
        <p:spPr>
          <a:xfrm>
            <a:off x="2303640" y="2917800"/>
            <a:ext cx="1734840" cy="1368360"/>
          </a:xfrm>
          <a:prstGeom prst="pie">
            <a:avLst/>
          </a:prstGeom>
          <a:solidFill>
            <a:srgbClr val="a20e9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+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7-конечная звезда 29"/>
          <p:cNvSpPr/>
          <p:nvPr/>
        </p:nvSpPr>
        <p:spPr>
          <a:xfrm>
            <a:off x="7236000" y="1841400"/>
            <a:ext cx="1657080" cy="1575000"/>
          </a:xfrm>
          <a:prstGeom prst="pie">
            <a:avLst/>
          </a:prstGeom>
          <a:solidFill>
            <a:srgbClr val="1308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7-конечная звезда 30"/>
          <p:cNvSpPr/>
          <p:nvPr/>
        </p:nvSpPr>
        <p:spPr>
          <a:xfrm>
            <a:off x="2019240" y="4991040"/>
            <a:ext cx="2192400" cy="1638360"/>
          </a:xfrm>
          <a:prstGeom prst="pi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=1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2:25:14Z</dcterms:created>
  <dc:creator>Кравченко</dc:creator>
  <dc:description/>
  <dc:language>en-US</dc:language>
  <cp:lastModifiedBy>admin</cp:lastModifiedBy>
  <dcterms:modified xsi:type="dcterms:W3CDTF">2016-10-15T05:52:21Z</dcterms:modified>
  <cp:revision>29</cp:revision>
  <dc:subject/>
  <dc:title>Словарная работа на уроках русского языка в начальной школе</dc:title>
</cp:coreProperties>
</file>