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EBC-37FC-4D1A-8765-B591AAD9FF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0B18-153F-4154-8D4B-AA337610F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35C-087F-4EEE-9B22-4892D7E63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1D0E-C259-43F4-A464-1C2A61D6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6086-F2E1-4008-A619-94D670D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CF6A-6349-435D-A35C-C55AFF99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9D36-C2CE-47FE-BC2A-22CC179D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DF6B-3272-4670-88C3-B35F1C11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3E5-2716-46FD-AA66-D619A81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295-AF70-4467-A00C-2C22F45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9C4-DAD3-4197-AFEE-036A27D0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D00-A25A-483F-9D56-AA1B361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89F-4502-41A2-8500-D1B6E650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28C5-352E-452D-B903-47E87FF1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889E-DE3D-4ADE-AB5E-617330CD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03D1-0994-4BC7-A6AB-0AFA588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67E-C4C5-4CFD-99CB-515B693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C79-0F08-4FEC-9710-78035623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7EB7-8B5F-407A-8719-A1F104F8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C44-36AC-40A2-B934-63C1CB33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275-7613-4D3F-A4FE-860A6A4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A7F5-F63C-441A-8069-030FDB0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5BAA-2F27-4377-9395-6F48E2E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E7EB-F9CC-462E-99B5-ED8FE10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7C27-EF7F-46CC-A250-59BA38E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A980-A21B-460D-8B41-E5064AA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436A-4C89-4FE8-8EC6-21D7BAA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CDC-1ACE-4DF9-AB3C-A5102C638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961-43C2-42E9-A4AF-6A8DA1DAF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Ребусы со спичкам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932360" y="4365720"/>
            <a:ext cx="4211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ы 6 «А» класса МБОУ «Гимназия № 36» г. Каза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глазова Ма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ева Ок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00" y="999720"/>
            <a:ext cx="80722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рисунке из спичек выложено неверное равенство. Нужно сделать так, чтобы равенство стало верным. При этом нельзя перемещать, передвигать спичк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214280" y="3714840"/>
            <a:ext cx="6929640" cy="18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296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214280" y="2500200"/>
            <a:ext cx="6429600" cy="206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567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с геометрическими фигур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8143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авьте две спички так, чтобы получилось пять одинаковых квадр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Пять квадратов"/>
          <p:cNvPicPr/>
          <p:nvPr/>
        </p:nvPicPr>
        <p:blipFill>
          <a:blip r:embed="rId1"/>
          <a:stretch/>
        </p:blipFill>
        <p:spPr>
          <a:xfrm>
            <a:off x="2714760" y="3357720"/>
            <a:ext cx="387324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48000" y="404640"/>
            <a:ext cx="267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Пять квадратов"/>
          <p:cNvPicPr/>
          <p:nvPr/>
        </p:nvPicPr>
        <p:blipFill>
          <a:blip r:embed="rId1"/>
          <a:stretch/>
        </p:blipFill>
        <p:spPr>
          <a:xfrm>
            <a:off x="2050920" y="2133720"/>
            <a:ext cx="509292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3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ереставьте три спички так, чтобы получилось три квадр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Три квадрата"/>
          <p:cNvPicPr/>
          <p:nvPr/>
        </p:nvPicPr>
        <p:blipFill>
          <a:blip r:embed="rId1"/>
          <a:stretch/>
        </p:blipFill>
        <p:spPr>
          <a:xfrm>
            <a:off x="2643120" y="22860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Три квадрата"/>
          <p:cNvPicPr/>
          <p:nvPr/>
        </p:nvPicPr>
        <p:blipFill>
          <a:blip r:embed="rId1"/>
          <a:stretch/>
        </p:blipFill>
        <p:spPr>
          <a:xfrm>
            <a:off x="2556000" y="1773360"/>
            <a:ext cx="4330440" cy="433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Три квадрата"/>
          <p:cNvPicPr/>
          <p:nvPr/>
        </p:nvPicPr>
        <p:blipFill>
          <a:blip r:embed="rId2"/>
          <a:stretch/>
        </p:blipFill>
        <p:spPr>
          <a:xfrm>
            <a:off x="2571840" y="1785960"/>
            <a:ext cx="4330440" cy="433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785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Уберите две спички так, чтобы получилось два равносторонних треугольника."Свободных концов" при этом оставаться не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Равносторонние треугольники "/>
          <p:cNvPicPr/>
          <p:nvPr/>
        </p:nvPicPr>
        <p:blipFill>
          <a:blip r:embed="rId1"/>
          <a:stretch/>
        </p:blipFill>
        <p:spPr>
          <a:xfrm>
            <a:off x="2786040" y="3000240"/>
            <a:ext cx="3714840" cy="3346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Равносторонние треугольники "/>
          <p:cNvPicPr/>
          <p:nvPr/>
        </p:nvPicPr>
        <p:blipFill>
          <a:blip r:embed="rId1"/>
          <a:stretch/>
        </p:blipFill>
        <p:spPr>
          <a:xfrm>
            <a:off x="2714760" y="2071800"/>
            <a:ext cx="4000320" cy="360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004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ереставьте шесть спичек так, чтобы из двух рюмок получился дом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Домик из рюмок"/>
          <p:cNvPicPr/>
          <p:nvPr/>
        </p:nvPicPr>
        <p:blipFill>
          <a:blip r:embed="rId1"/>
          <a:stretch/>
        </p:blipFill>
        <p:spPr>
          <a:xfrm>
            <a:off x="2071800" y="2357280"/>
            <a:ext cx="46479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Домик из рюмок"/>
          <p:cNvPicPr/>
          <p:nvPr/>
        </p:nvPicPr>
        <p:blipFill>
          <a:blip r:embed="rId1"/>
          <a:stretch/>
        </p:blipFill>
        <p:spPr>
          <a:xfrm>
            <a:off x="2143080" y="2143080"/>
            <a:ext cx="54500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071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тизировать ребусы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етоды решения ребусов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9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004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ереложите 3 спички так, чтобы стрела поменяла своё направление на противопол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Стрела."/>
          <p:cNvPicPr/>
          <p:nvPr/>
        </p:nvPicPr>
        <p:blipFill>
          <a:blip r:embed="rId1"/>
          <a:stretch/>
        </p:blipFill>
        <p:spPr>
          <a:xfrm>
            <a:off x="3214800" y="3000240"/>
            <a:ext cx="348912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Стрела."/>
          <p:cNvPicPr/>
          <p:nvPr/>
        </p:nvPicPr>
        <p:blipFill>
          <a:blip r:embed="rId1"/>
          <a:stretch/>
        </p:blipFill>
        <p:spPr>
          <a:xfrm>
            <a:off x="3429000" y="2158920"/>
            <a:ext cx="297972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кой системы решения головоломок со спичками нет, но есть ряд закономерностей, по которым можно решать похожие головоломки. Если четко разобраться в решение, возможно и составлять свои голово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разгадывания головоломок является эффективным способом развития и воспитания подрастающего поколения, повышает интеллект и сообразительность  в любом возрасте, пробуждает скрытые возмож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92844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5" descr="https://im3-tub-ru.yandex.net/i?id=76dc72d987ae8984ca6a98eb675fbdce&amp;n=33&amp;h=215&amp;w=480"/>
          <p:cNvPicPr/>
          <p:nvPr/>
        </p:nvPicPr>
        <p:blipFill>
          <a:blip r:embed="rId1"/>
          <a:stretch/>
        </p:blipFill>
        <p:spPr>
          <a:xfrm>
            <a:off x="2214720" y="3714840"/>
            <a:ext cx="51433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ель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аль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1468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Ребу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загадка, для решения которой, как правило, требуется сообразительность, а не специальные знания высокого уровня. Разгадать ребус - означает суметь верно прочитать зашифрованное зад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ич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— палочка (черенок, соломка) из горючего материала, снабжённая на конце зажигательной головкой, служащая для получения ог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Решение логических задач со спичка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— прекрасный способ с пользой провести свободное время, тренируя при этом свою логику и смекалку. Для решения этих задач нет конкретных правил, формул, определений. Вариантов решений может быть несколько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оломки со спичками известны очень давно, первые из них появились около 3 тысяч лет назад в Китае, задолго до появления самих спи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ая популярность вернулась к задачам со спичками в конце XIX века — тогда это было популярным развлечением. В это время вышла книга шведского педагога Софуса Тромгольта «Игры со спичками. Задачи и развлечени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6 и 1939 годах вышли две небольшие брошюры Я. И. Перельмана, где содержались некоторые задачи со спичками, связанные с геометрическими фигу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ребусов со спи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рифметическ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дачи с геометрическими фигу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квадратам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треуголь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другими фигурами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 со спи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235728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ует логического мышления или математической сообразительности. А значит люди разного возраста и образования могут легко организовать свой интеллектуальный дос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фметически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075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ужно переложить одну спичку так, чтобы получилось верное равен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403280" y="3141720"/>
            <a:ext cx="648036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476280"/>
            <a:ext cx="259236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042920" y="2421000"/>
            <a:ext cx="7056360" cy="343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Исправить неверное равенство"/>
          <p:cNvPicPr/>
          <p:nvPr/>
        </p:nvPicPr>
        <p:blipFill>
          <a:blip r:embed="rId2"/>
          <a:stretch/>
        </p:blipFill>
        <p:spPr>
          <a:xfrm>
            <a:off x="1071720" y="2428920"/>
            <a:ext cx="705636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8T17:14:58Z</dcterms:created>
  <dc:creator>Admin</dc:creator>
  <dc:description/>
  <dc:language>en-US</dc:language>
  <cp:lastModifiedBy>Администратор</cp:lastModifiedBy>
  <dcterms:modified xsi:type="dcterms:W3CDTF">2016-10-24T12:20:10Z</dcterms:modified>
  <cp:revision>38</cp:revision>
  <dc:subject/>
  <dc:title>Ребусы со спичками</dc:title>
</cp:coreProperties>
</file>