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5466-A9DC-4EFC-A7B4-B87D87AB4D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D066-4B03-4770-BE88-3F567D5BB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BA3A-2149-4E74-86B9-0B54F2CDB0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E842F-5C77-49C7-90D6-1E7E4763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3323-115C-4547-AFD3-DE31910A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3A97-6C2D-4165-936D-E8FE7FBE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3D5C-03F3-4E35-B154-6C1B4575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5E91-9ED0-48AB-825D-F6C0B8BB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6166-FA54-4356-8F89-16699625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6C9C-3C97-4055-87BB-C0210B4A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A58B-FEE7-463F-A718-88B76A35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FF2B-E6F5-454D-8759-3867F345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83EA-75DB-4260-A6CA-36A4050B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EE98-105A-46BD-BFFB-E4FFAF8D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B397-7EF7-4D23-97C0-61583BBC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367B-3F19-4052-B649-A9BD0D35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70DA-10BA-4A51-BBB0-BE1D8A5E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86D2-3186-4734-B345-592DD5F2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D846-5DFE-4F23-A44F-31C82653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CDC8-0749-4F1E-A590-99E2FFF9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07FFA-9C81-4064-B3E6-97D296B9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A5CE-DB0D-4BB3-81BA-1BDC65FF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1838-05C6-41DE-BC2B-EBC7EEA9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5A6D-62D1-4F0C-A1F1-B344B407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648E-2EDB-4A5F-A252-EC3EF024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1347-C6B8-43BF-B41B-F33A9A7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8842D-BC4E-480C-902A-19BCBC5D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AD90-E5A9-4716-A61B-721458998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27D0-1222-4176-9266-187326B003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Ребусы со спичкам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932360" y="4365720"/>
            <a:ext cx="42116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ицы 6 «А» класса МБОУ «Гимназия № 36» г. Каза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оглазова Мар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ева Ок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41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400" y="999720"/>
            <a:ext cx="80722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 рисунке из спичек выложено неверное равенство. Нужно сделать так, чтобы равенство стало верным. При этом нельзя перемещать, передвигать спички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4" descr="Исправить неверное равенство"/>
          <p:cNvPicPr/>
          <p:nvPr/>
        </p:nvPicPr>
        <p:blipFill>
          <a:blip r:embed="rId1"/>
          <a:stretch/>
        </p:blipFill>
        <p:spPr>
          <a:xfrm>
            <a:off x="1214280" y="3714840"/>
            <a:ext cx="6929640" cy="185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296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4" descr="Исправить неверное равенство"/>
          <p:cNvPicPr/>
          <p:nvPr/>
        </p:nvPicPr>
        <p:blipFill>
          <a:blip r:embed="rId1"/>
          <a:stretch/>
        </p:blipFill>
        <p:spPr>
          <a:xfrm>
            <a:off x="1214280" y="2500200"/>
            <a:ext cx="6429600" cy="206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567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 с геометрическими фигур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81435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тавьте две спички так, чтобы получилось пять одинаковых квадра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Пять квадратов"/>
          <p:cNvPicPr/>
          <p:nvPr/>
        </p:nvPicPr>
        <p:blipFill>
          <a:blip r:embed="rId1"/>
          <a:stretch/>
        </p:blipFill>
        <p:spPr>
          <a:xfrm>
            <a:off x="2714760" y="3357720"/>
            <a:ext cx="3873240" cy="3101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48000" y="404640"/>
            <a:ext cx="267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Пять квадратов"/>
          <p:cNvPicPr/>
          <p:nvPr/>
        </p:nvPicPr>
        <p:blipFill>
          <a:blip r:embed="rId1"/>
          <a:stretch/>
        </p:blipFill>
        <p:spPr>
          <a:xfrm>
            <a:off x="2050920" y="2133720"/>
            <a:ext cx="5092920" cy="35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3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ереставьте три спички так, чтобы получилось три квадра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Три квадрата"/>
          <p:cNvPicPr/>
          <p:nvPr/>
        </p:nvPicPr>
        <p:blipFill>
          <a:blip r:embed="rId1"/>
          <a:stretch/>
        </p:blipFill>
        <p:spPr>
          <a:xfrm>
            <a:off x="2643120" y="2286000"/>
            <a:ext cx="388800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Три квадрата"/>
          <p:cNvPicPr/>
          <p:nvPr/>
        </p:nvPicPr>
        <p:blipFill>
          <a:blip r:embed="rId1"/>
          <a:stretch/>
        </p:blipFill>
        <p:spPr>
          <a:xfrm>
            <a:off x="2556000" y="1773360"/>
            <a:ext cx="4330440" cy="4330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Три квадрата"/>
          <p:cNvPicPr/>
          <p:nvPr/>
        </p:nvPicPr>
        <p:blipFill>
          <a:blip r:embed="rId2"/>
          <a:stretch/>
        </p:blipFill>
        <p:spPr>
          <a:xfrm>
            <a:off x="2571840" y="1785960"/>
            <a:ext cx="4330440" cy="4330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7855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Уберите две спички так, чтобы получилось два равносторонних треугольника."Свободных концов" при этом оставаться не дол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Равносторонние треугольники "/>
          <p:cNvPicPr/>
          <p:nvPr/>
        </p:nvPicPr>
        <p:blipFill>
          <a:blip r:embed="rId1"/>
          <a:stretch/>
        </p:blipFill>
        <p:spPr>
          <a:xfrm>
            <a:off x="2786040" y="3000240"/>
            <a:ext cx="3714840" cy="3346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4240" y="457200"/>
            <a:ext cx="7515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Равносторонние треугольники "/>
          <p:cNvPicPr/>
          <p:nvPr/>
        </p:nvPicPr>
        <p:blipFill>
          <a:blip r:embed="rId1"/>
          <a:stretch/>
        </p:blipFill>
        <p:spPr>
          <a:xfrm>
            <a:off x="2714760" y="2071800"/>
            <a:ext cx="4000320" cy="3603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0040" y="9997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Переставьте шесть спичек так, чтобы из двух рюмок получился дом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Домик из рюмок"/>
          <p:cNvPicPr/>
          <p:nvPr/>
        </p:nvPicPr>
        <p:blipFill>
          <a:blip r:embed="rId1"/>
          <a:stretch/>
        </p:blipFill>
        <p:spPr>
          <a:xfrm>
            <a:off x="2071800" y="2357280"/>
            <a:ext cx="464796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4240" y="457200"/>
            <a:ext cx="7515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Домик из рюмок"/>
          <p:cNvPicPr/>
          <p:nvPr/>
        </p:nvPicPr>
        <p:blipFill>
          <a:blip r:embed="rId1"/>
          <a:stretch/>
        </p:blipFill>
        <p:spPr>
          <a:xfrm>
            <a:off x="2143080" y="2143080"/>
            <a:ext cx="545004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0718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тизировать ребусы со спи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методы решения ребусов со спи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9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0040" y="9997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Переложите 3 спички так, чтобы стрела поменяла своё направление на противополож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Стрела."/>
          <p:cNvPicPr/>
          <p:nvPr/>
        </p:nvPicPr>
        <p:blipFill>
          <a:blip r:embed="rId1"/>
          <a:stretch/>
        </p:blipFill>
        <p:spPr>
          <a:xfrm>
            <a:off x="3214800" y="3000240"/>
            <a:ext cx="3489120" cy="308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4240" y="457200"/>
            <a:ext cx="7515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Стрела."/>
          <p:cNvPicPr/>
          <p:nvPr/>
        </p:nvPicPr>
        <p:blipFill>
          <a:blip r:embed="rId1"/>
          <a:stretch/>
        </p:blipFill>
        <p:spPr>
          <a:xfrm>
            <a:off x="3429000" y="2158920"/>
            <a:ext cx="2979720" cy="3913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ткой системы решения головоломок со спичками нет, но есть ряд закономерностей, по которым можно решать похожие головоломки. Если четко разобраться в решение, возможно и составлять свои головоло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с разгадывания головоломок является эффективным способом развития и воспитания подрастающего поколения, повышает интеллект и сообразительность  в любом возрасте, пробуждает скрытые возможност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92844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5" descr="https://im3-tub-ru.yandex.net/i?id=76dc72d987ae8984ca6a98eb675fbdce&amp;n=33&amp;h=215&amp;w=480"/>
          <p:cNvPicPr/>
          <p:nvPr/>
        </p:nvPicPr>
        <p:blipFill>
          <a:blip r:embed="rId1"/>
          <a:stretch/>
        </p:blipFill>
        <p:spPr>
          <a:xfrm>
            <a:off x="2214720" y="3714840"/>
            <a:ext cx="514332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исатель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ерименталь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71468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Ребу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это загадка, для решения которой, как правило, требуется сообразительность, а не специальные знания высокого уровня. Разгадать ребус - означает суметь верно прочитать зашифрованное зад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ич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— палочка (черенок, соломка) из горючего материала, снабжённая на конце зажигательной головкой, служащая для получения ог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Решение логических задач со спичкам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— прекрасный способ с пользой провести свободное время, тренируя при этом свою логику и смекалку. Для решения этих задач нет конкретных правил, формул, определений. Вариантов решений может быть несколько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воломки со спичками известны очень давно, первые из них появились около 3 тысяч лет назад в Китае, задолго до появления самих спич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ая популярность вернулась к задачам со спичками в конце XIX века — тогда это было популярным развлечением. В это время вышла книга шведского педагога Софуса Тромгольта «Игры со спичками. Задачи и развлечени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26 и 1939 годах вышли две небольшие брошюры Я. И. Перельмана, где содержались некоторые задачи со спичками, связанные с геометрическими фигу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6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1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ребусов со спич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Арифметически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Задачи с геометрическими фигур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 с квадратами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 с треуголь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 с другими фигурами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 со спич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235728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ует логического мышления или математической сообразительности. А значит люди разного возраста и образования могут легко организовать свой интеллектуальный досу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ифметически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0755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Нужно переложить одну спичку так, чтобы получилось верное равен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Исправить неверное равенство"/>
          <p:cNvPicPr/>
          <p:nvPr/>
        </p:nvPicPr>
        <p:blipFill>
          <a:blip r:embed="rId1"/>
          <a:stretch/>
        </p:blipFill>
        <p:spPr>
          <a:xfrm>
            <a:off x="1403280" y="3141720"/>
            <a:ext cx="6480360" cy="3152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476280"/>
            <a:ext cx="259236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Исправить неверное равенство"/>
          <p:cNvPicPr/>
          <p:nvPr/>
        </p:nvPicPr>
        <p:blipFill>
          <a:blip r:embed="rId1"/>
          <a:stretch/>
        </p:blipFill>
        <p:spPr>
          <a:xfrm>
            <a:off x="1042920" y="2421000"/>
            <a:ext cx="7056360" cy="343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Исправить неверное равенство"/>
          <p:cNvPicPr/>
          <p:nvPr/>
        </p:nvPicPr>
        <p:blipFill>
          <a:blip r:embed="rId2"/>
          <a:stretch/>
        </p:blipFill>
        <p:spPr>
          <a:xfrm>
            <a:off x="1071720" y="2428920"/>
            <a:ext cx="7056360" cy="3435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8T17:14:58Z</dcterms:created>
  <dc:creator>Admin</dc:creator>
  <dc:description/>
  <dc:language>en-US</dc:language>
  <cp:lastModifiedBy>Администратор</cp:lastModifiedBy>
  <dcterms:modified xsi:type="dcterms:W3CDTF">2016-10-24T12:20:10Z</dcterms:modified>
  <cp:revision>38</cp:revision>
  <dc:subject/>
  <dc:title>Ребусы со спичками</dc:title>
</cp:coreProperties>
</file>