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13.png" ContentType="image/png"/>
  <Override PartName="/ppt/media/image46.jpeg" ContentType="image/jpeg"/>
  <Override PartName="/ppt/media/image48.jpeg" ContentType="image/jpeg"/>
  <Override PartName="/ppt/media/image39.jpeg" ContentType="image/jpeg"/>
  <Override PartName="/ppt/media/image8.png" ContentType="image/png"/>
  <Override PartName="/ppt/media/image31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0.jpeg" ContentType="image/jpeg"/>
  <Override PartName="/ppt/media/image47.jpeg" ContentType="image/jpeg"/>
  <Override PartName="/ppt/media/image6.wmf" ContentType="image/x-wmf"/>
  <Override PartName="/ppt/media/image19.jpeg" ContentType="image/jpe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D8F-3A08-48C4-9626-5FB52D50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1B3-03CF-4685-8AB7-F609DA1F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1B7-3C40-467D-B061-C25CB5B8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6C7-2292-45C1-AFBF-D9C573E5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4D3-8280-4482-AE14-168D1B7F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7A85-0462-4A9E-8C49-1B3B3CD0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E02-C7E4-4ADB-8604-796AE8EB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8A8-04E5-4B45-8160-10F1DFFD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2F5-B7B4-404A-A159-53E542D7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E82-07D1-4F43-945F-0632BF43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E2D2-7DD9-46B2-A1FC-58BFEF6C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EB5-E736-42F4-B206-40A90078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C2CE-2858-4FE1-B817-31F5EC54C7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wmf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67694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f2fff"/>
                </a:solidFill>
                <a:latin typeface="Arial"/>
              </a:rPr>
              <a:t>Самопрезентация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276640"/>
            <a:ext cx="6729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асильева Мар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Ив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БОУ «ЗСОШ №6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рогу осилит идущи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016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Система самоуправле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541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ольшой совет клас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лидеры групп, классный руководитель, родите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7"/>
          <p:cNvSpPr/>
          <p:nvPr/>
        </p:nvSpPr>
        <p:spPr>
          <a:xfrm>
            <a:off x="0" y="2781360"/>
            <a:ext cx="1871640" cy="1008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179280" y="306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Затей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 flipH="1">
            <a:off x="1402920" y="2421000"/>
            <a:ext cx="792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13"/>
          <p:cNvSpPr/>
          <p:nvPr/>
        </p:nvSpPr>
        <p:spPr>
          <a:xfrm>
            <a:off x="2050920" y="3573360"/>
            <a:ext cx="1584360" cy="935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Худож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340000" y="2565360"/>
            <a:ext cx="50328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Oval 17"/>
          <p:cNvSpPr/>
          <p:nvPr/>
        </p:nvSpPr>
        <p:spPr>
          <a:xfrm>
            <a:off x="3203640" y="4581360"/>
            <a:ext cx="244800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Юные эколо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21"/>
          <p:cNvSpPr/>
          <p:nvPr/>
        </p:nvSpPr>
        <p:spPr>
          <a:xfrm>
            <a:off x="4932360" y="3284640"/>
            <a:ext cx="2016000" cy="936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нтеллекту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5508720" y="2708280"/>
            <a:ext cx="215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24"/>
          <p:cNvSpPr/>
          <p:nvPr/>
        </p:nvSpPr>
        <p:spPr>
          <a:xfrm>
            <a:off x="4284720" y="306864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25"/>
          <p:cNvSpPr/>
          <p:nvPr/>
        </p:nvSpPr>
        <p:spPr>
          <a:xfrm>
            <a:off x="7020000" y="4076640"/>
            <a:ext cx="2124000" cy="1152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следоват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6516720" y="2708280"/>
            <a:ext cx="115092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SDC17185"/>
          <p:cNvPicPr/>
          <p:nvPr/>
        </p:nvPicPr>
        <p:blipFill>
          <a:blip r:embed="rId1"/>
          <a:stretch/>
        </p:blipFill>
        <p:spPr>
          <a:xfrm>
            <a:off x="250920" y="1125360"/>
            <a:ext cx="2952720" cy="2078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391680"/>
            <a:ext cx="85107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Вместе мы не знаем скуки…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1 Д… 2011 г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8" name="Picture 11" descr="SDC17187"/>
          <p:cNvPicPr/>
          <p:nvPr/>
        </p:nvPicPr>
        <p:blipFill>
          <a:blip r:embed="rId2"/>
          <a:stretch/>
        </p:blipFill>
        <p:spPr>
          <a:xfrm>
            <a:off x="6048360" y="1413000"/>
            <a:ext cx="3095640" cy="222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DC17197"/>
          <p:cNvPicPr/>
          <p:nvPr/>
        </p:nvPicPr>
        <p:blipFill>
          <a:blip r:embed="rId3"/>
          <a:stretch/>
        </p:blipFill>
        <p:spPr>
          <a:xfrm>
            <a:off x="2195640" y="2276640"/>
            <a:ext cx="3887640" cy="288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Фото0009"/>
          <p:cNvPicPr/>
          <p:nvPr/>
        </p:nvPicPr>
        <p:blipFill>
          <a:blip r:embed="rId4"/>
          <a:stretch/>
        </p:blipFill>
        <p:spPr>
          <a:xfrm>
            <a:off x="5867280" y="4386240"/>
            <a:ext cx="3276720" cy="221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Фото0012"/>
          <p:cNvPicPr/>
          <p:nvPr/>
        </p:nvPicPr>
        <p:blipFill>
          <a:blip r:embed="rId5"/>
          <a:stretch/>
        </p:blipFill>
        <p:spPr>
          <a:xfrm>
            <a:off x="0" y="4221000"/>
            <a:ext cx="2843280" cy="20955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6"/>
          <p:cNvSpPr/>
          <p:nvPr/>
        </p:nvSpPr>
        <p:spPr>
          <a:xfrm>
            <a:off x="0" y="2852640"/>
            <a:ext cx="720720" cy="936720"/>
          </a:xfrm>
          <a:custGeom>
            <a:avLst/>
            <a:gdLst/>
            <a:ahLst/>
            <a:rect l="l" t="t" r="r" b="b"/>
            <a:pathLst>
              <a:path w="720725" h="936625">
                <a:moveTo>
                  <a:pt x="1" y="357758"/>
                </a:moveTo>
                <a:lnTo>
                  <a:pt x="275294" y="357761"/>
                </a:lnTo>
                <a:lnTo>
                  <a:pt x="360363" y="0"/>
                </a:lnTo>
                <a:lnTo>
                  <a:pt x="445431" y="357761"/>
                </a:lnTo>
                <a:lnTo>
                  <a:pt x="720724" y="357758"/>
                </a:lnTo>
                <a:lnTo>
                  <a:pt x="498006" y="578864"/>
                </a:lnTo>
                <a:lnTo>
                  <a:pt x="583078" y="936623"/>
                </a:lnTo>
                <a:lnTo>
                  <a:pt x="360363" y="715513"/>
                </a:lnTo>
                <a:lnTo>
                  <a:pt x="137647" y="936623"/>
                </a:lnTo>
                <a:lnTo>
                  <a:pt x="222719" y="578864"/>
                </a:lnTo>
                <a:lnTo>
                  <a:pt x="1" y="35775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3059280" y="1773360"/>
            <a:ext cx="720720" cy="936360"/>
          </a:xfrm>
          <a:custGeom>
            <a:avLst/>
            <a:gdLst/>
            <a:ahLst/>
            <a:rect l="l" t="t" r="r" b="b"/>
            <a:pathLst>
              <a:path w="720725" h="936625">
                <a:moveTo>
                  <a:pt x="1" y="357758"/>
                </a:moveTo>
                <a:lnTo>
                  <a:pt x="275294" y="357761"/>
                </a:lnTo>
                <a:lnTo>
                  <a:pt x="360363" y="0"/>
                </a:lnTo>
                <a:lnTo>
                  <a:pt x="445431" y="357761"/>
                </a:lnTo>
                <a:lnTo>
                  <a:pt x="720724" y="357758"/>
                </a:lnTo>
                <a:lnTo>
                  <a:pt x="498006" y="578864"/>
                </a:lnTo>
                <a:lnTo>
                  <a:pt x="583078" y="936623"/>
                </a:lnTo>
                <a:lnTo>
                  <a:pt x="360363" y="715513"/>
                </a:lnTo>
                <a:lnTo>
                  <a:pt x="137647" y="936623"/>
                </a:lnTo>
                <a:lnTo>
                  <a:pt x="222719" y="578864"/>
                </a:lnTo>
                <a:lnTo>
                  <a:pt x="1" y="35775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5651640" y="981000"/>
            <a:ext cx="720720" cy="936720"/>
          </a:xfrm>
          <a:custGeom>
            <a:avLst/>
            <a:gdLst/>
            <a:ahLst/>
            <a:rect l="l" t="t" r="r" b="b"/>
            <a:pathLst>
              <a:path w="720725" h="936625">
                <a:moveTo>
                  <a:pt x="1" y="357758"/>
                </a:moveTo>
                <a:lnTo>
                  <a:pt x="275294" y="357761"/>
                </a:lnTo>
                <a:lnTo>
                  <a:pt x="360363" y="0"/>
                </a:lnTo>
                <a:lnTo>
                  <a:pt x="445431" y="357761"/>
                </a:lnTo>
                <a:lnTo>
                  <a:pt x="720724" y="357758"/>
                </a:lnTo>
                <a:lnTo>
                  <a:pt x="498006" y="578864"/>
                </a:lnTo>
                <a:lnTo>
                  <a:pt x="583078" y="936623"/>
                </a:lnTo>
                <a:lnTo>
                  <a:pt x="360363" y="715513"/>
                </a:lnTo>
                <a:lnTo>
                  <a:pt x="137647" y="936623"/>
                </a:lnTo>
                <a:lnTo>
                  <a:pt x="222719" y="578864"/>
                </a:lnTo>
                <a:lnTo>
                  <a:pt x="1" y="35775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2050920" y="3645000"/>
            <a:ext cx="720720" cy="936360"/>
          </a:xfrm>
          <a:custGeom>
            <a:avLst/>
            <a:gdLst/>
            <a:ahLst/>
            <a:rect l="l" t="t" r="r" b="b"/>
            <a:pathLst>
              <a:path w="720725" h="936625">
                <a:moveTo>
                  <a:pt x="1" y="357758"/>
                </a:moveTo>
                <a:lnTo>
                  <a:pt x="275294" y="357761"/>
                </a:lnTo>
                <a:lnTo>
                  <a:pt x="360363" y="0"/>
                </a:lnTo>
                <a:lnTo>
                  <a:pt x="445431" y="357761"/>
                </a:lnTo>
                <a:lnTo>
                  <a:pt x="720724" y="357758"/>
                </a:lnTo>
                <a:lnTo>
                  <a:pt x="498006" y="578864"/>
                </a:lnTo>
                <a:lnTo>
                  <a:pt x="583078" y="936623"/>
                </a:lnTo>
                <a:lnTo>
                  <a:pt x="360363" y="715513"/>
                </a:lnTo>
                <a:lnTo>
                  <a:pt x="137647" y="936623"/>
                </a:lnTo>
                <a:lnTo>
                  <a:pt x="222719" y="578864"/>
                </a:lnTo>
                <a:lnTo>
                  <a:pt x="1" y="35775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5867280" y="3068640"/>
            <a:ext cx="720720" cy="936720"/>
          </a:xfrm>
          <a:custGeom>
            <a:avLst/>
            <a:gdLst/>
            <a:ahLst/>
            <a:rect l="l" t="t" r="r" b="b"/>
            <a:pathLst>
              <a:path w="720725" h="936625">
                <a:moveTo>
                  <a:pt x="1" y="357758"/>
                </a:moveTo>
                <a:lnTo>
                  <a:pt x="275294" y="357761"/>
                </a:lnTo>
                <a:lnTo>
                  <a:pt x="360363" y="0"/>
                </a:lnTo>
                <a:lnTo>
                  <a:pt x="445431" y="357761"/>
                </a:lnTo>
                <a:lnTo>
                  <a:pt x="720724" y="357758"/>
                </a:lnTo>
                <a:lnTo>
                  <a:pt x="498006" y="578864"/>
                </a:lnTo>
                <a:lnTo>
                  <a:pt x="583078" y="936623"/>
                </a:lnTo>
                <a:lnTo>
                  <a:pt x="360363" y="715513"/>
                </a:lnTo>
                <a:lnTo>
                  <a:pt x="137647" y="936623"/>
                </a:lnTo>
                <a:lnTo>
                  <a:pt x="222719" y="578864"/>
                </a:lnTo>
                <a:lnTo>
                  <a:pt x="1" y="35775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>
            <a:off x="5292720" y="4941720"/>
            <a:ext cx="720720" cy="936720"/>
          </a:xfrm>
          <a:custGeom>
            <a:avLst/>
            <a:gdLst/>
            <a:ahLst/>
            <a:rect l="l" t="t" r="r" b="b"/>
            <a:pathLst>
              <a:path w="720725" h="936625">
                <a:moveTo>
                  <a:pt x="1" y="357758"/>
                </a:moveTo>
                <a:lnTo>
                  <a:pt x="275294" y="357761"/>
                </a:lnTo>
                <a:lnTo>
                  <a:pt x="360363" y="0"/>
                </a:lnTo>
                <a:lnTo>
                  <a:pt x="445431" y="357761"/>
                </a:lnTo>
                <a:lnTo>
                  <a:pt x="720724" y="357758"/>
                </a:lnTo>
                <a:lnTo>
                  <a:pt x="498006" y="578864"/>
                </a:lnTo>
                <a:lnTo>
                  <a:pt x="583078" y="936623"/>
                </a:lnTo>
                <a:lnTo>
                  <a:pt x="360363" y="715513"/>
                </a:lnTo>
                <a:lnTo>
                  <a:pt x="137647" y="936623"/>
                </a:lnTo>
                <a:lnTo>
                  <a:pt x="222719" y="578864"/>
                </a:lnTo>
                <a:lnTo>
                  <a:pt x="1" y="35775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Фото0021"/>
          <p:cNvPicPr/>
          <p:nvPr/>
        </p:nvPicPr>
        <p:blipFill>
          <a:blip r:embed="rId1"/>
          <a:stretch/>
        </p:blipFill>
        <p:spPr>
          <a:xfrm>
            <a:off x="61920" y="512640"/>
            <a:ext cx="3262320" cy="244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Фото0103"/>
          <p:cNvPicPr/>
          <p:nvPr/>
        </p:nvPicPr>
        <p:blipFill>
          <a:blip r:embed="rId2"/>
          <a:stretch/>
        </p:blipFill>
        <p:spPr>
          <a:xfrm>
            <a:off x="2987640" y="1844640"/>
            <a:ext cx="3272040" cy="2454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Фото0164"/>
          <p:cNvPicPr/>
          <p:nvPr/>
        </p:nvPicPr>
        <p:blipFill>
          <a:blip r:embed="rId3"/>
          <a:stretch/>
        </p:blipFill>
        <p:spPr>
          <a:xfrm>
            <a:off x="5916600" y="0"/>
            <a:ext cx="3227400" cy="2421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Фото0165"/>
          <p:cNvPicPr/>
          <p:nvPr/>
        </p:nvPicPr>
        <p:blipFill>
          <a:blip r:embed="rId4"/>
          <a:stretch/>
        </p:blipFill>
        <p:spPr>
          <a:xfrm>
            <a:off x="179280" y="4076640"/>
            <a:ext cx="3343320" cy="2508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SDC17195"/>
          <p:cNvPicPr/>
          <p:nvPr/>
        </p:nvPicPr>
        <p:blipFill>
          <a:blip r:embed="rId5"/>
          <a:stretch/>
        </p:blipFill>
        <p:spPr>
          <a:xfrm>
            <a:off x="5443560" y="4149720"/>
            <a:ext cx="3700440" cy="251928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9"/>
          <p:cNvSpPr/>
          <p:nvPr/>
        </p:nvSpPr>
        <p:spPr>
          <a:xfrm>
            <a:off x="3924360" y="5013360"/>
            <a:ext cx="1152360" cy="115236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474840 h 1152360"/>
              <a:gd name="textAreaBottom" fmla="*/ 677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7236000" y="2781360"/>
            <a:ext cx="936360" cy="1008000"/>
          </a:xfrm>
          <a:custGeom>
            <a:avLst/>
            <a:gdLst>
              <a:gd name="textAreaLeft" fmla="*/ 385920 w 936360"/>
              <a:gd name="textAreaRight" fmla="*/ 550440 w 93636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7236000" y="2781360"/>
            <a:ext cx="936360" cy="1008000"/>
          </a:xfrm>
          <a:custGeom>
            <a:avLst/>
            <a:gdLst>
              <a:gd name="textAreaLeft" fmla="*/ 385920 w 936360"/>
              <a:gd name="textAreaRight" fmla="*/ 550440 w 93636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1042920" y="3284640"/>
            <a:ext cx="1008000" cy="647640"/>
          </a:xfrm>
          <a:custGeom>
            <a:avLst/>
            <a:gdLst>
              <a:gd name="textAreaLeft" fmla="*/ 415440 w 1008000"/>
              <a:gd name="textAreaRight" fmla="*/ 592560 w 100800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3348000" y="2206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1 Д… 2011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Фото0073"/>
          <p:cNvPicPr/>
          <p:nvPr/>
        </p:nvPicPr>
        <p:blipFill>
          <a:blip r:embed="rId1"/>
          <a:stretch/>
        </p:blipFill>
        <p:spPr>
          <a:xfrm>
            <a:off x="6012000" y="189000"/>
            <a:ext cx="3132000" cy="2519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Фото0067"/>
          <p:cNvPicPr/>
          <p:nvPr/>
        </p:nvPicPr>
        <p:blipFill>
          <a:blip r:embed="rId2"/>
          <a:stretch/>
        </p:blipFill>
        <p:spPr>
          <a:xfrm>
            <a:off x="0" y="434880"/>
            <a:ext cx="3635280" cy="24894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2520" y="78840"/>
            <a:ext cx="851076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7e7ff"/>
                </a:solidFill>
                <a:latin typeface="Arial"/>
              </a:rPr>
              <a:t>2 Д … 2012 г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Фото0066"/>
          <p:cNvPicPr/>
          <p:nvPr/>
        </p:nvPicPr>
        <p:blipFill>
          <a:blip r:embed="rId3"/>
          <a:stretch/>
        </p:blipFill>
        <p:spPr>
          <a:xfrm>
            <a:off x="6156360" y="3429000"/>
            <a:ext cx="2987640" cy="2581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Фото0079"/>
          <p:cNvPicPr/>
          <p:nvPr/>
        </p:nvPicPr>
        <p:blipFill>
          <a:blip r:embed="rId4"/>
          <a:stretch/>
        </p:blipFill>
        <p:spPr>
          <a:xfrm>
            <a:off x="3059280" y="1197000"/>
            <a:ext cx="2708280" cy="316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Фото0173"/>
          <p:cNvPicPr/>
          <p:nvPr/>
        </p:nvPicPr>
        <p:blipFill>
          <a:blip r:embed="rId5"/>
          <a:stretch/>
        </p:blipFill>
        <p:spPr>
          <a:xfrm>
            <a:off x="179280" y="3500280"/>
            <a:ext cx="3059280" cy="2208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Фото0167"/>
          <p:cNvPicPr/>
          <p:nvPr/>
        </p:nvPicPr>
        <p:blipFill>
          <a:blip r:embed="rId6"/>
          <a:stretch/>
        </p:blipFill>
        <p:spPr>
          <a:xfrm>
            <a:off x="3348000" y="4653000"/>
            <a:ext cx="2664000" cy="1977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0"/>
          <p:cNvSpPr/>
          <p:nvPr/>
        </p:nvSpPr>
        <p:spPr>
          <a:xfrm>
            <a:off x="2700360" y="5373720"/>
            <a:ext cx="863640" cy="934920"/>
          </a:xfrm>
          <a:custGeom>
            <a:avLst/>
            <a:gdLst>
              <a:gd name="textAreaLeft" fmla="*/ 355680 w 863640"/>
              <a:gd name="textAreaRight" fmla="*/ 507960 w 86364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0" y="3213000"/>
            <a:ext cx="1154160" cy="719280"/>
          </a:xfrm>
          <a:custGeom>
            <a:avLst/>
            <a:gdLst>
              <a:gd name="textAreaLeft" fmla="*/ 475560 w 1154160"/>
              <a:gd name="textAreaRight" fmla="*/ 678600 w 1154160"/>
              <a:gd name="textAreaTop" fmla="*/ 296280 h 719280"/>
              <a:gd name="textAreaBottom" fmla="*/ 42300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5724360" y="3933720"/>
            <a:ext cx="935280" cy="1006560"/>
          </a:xfrm>
          <a:custGeom>
            <a:avLst/>
            <a:gdLst>
              <a:gd name="textAreaLeft" fmla="*/ 385200 w 935280"/>
              <a:gd name="textAreaRight" fmla="*/ 550080 w 935280"/>
              <a:gd name="textAreaTop" fmla="*/ 414720 h 1006560"/>
              <a:gd name="textAreaBottom" fmla="*/ 59184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5940360" y="2133720"/>
            <a:ext cx="1008000" cy="863640"/>
          </a:xfrm>
          <a:custGeom>
            <a:avLst/>
            <a:gdLst>
              <a:gd name="textAreaLeft" fmla="*/ 415440 w 1008000"/>
              <a:gd name="textAreaRight" fmla="*/ 592560 w 1008000"/>
              <a:gd name="textAreaTop" fmla="*/ 355680 h 863640"/>
              <a:gd name="textAreaBottom" fmla="*/ 5079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8423280" y="5805360"/>
            <a:ext cx="720720" cy="719280"/>
          </a:xfrm>
          <a:custGeom>
            <a:avLst/>
            <a:gdLst>
              <a:gd name="textAreaLeft" fmla="*/ 297000 w 720720"/>
              <a:gd name="textAreaRight" fmla="*/ 423720 w 720720"/>
              <a:gd name="textAreaTop" fmla="*/ 296280 h 719280"/>
              <a:gd name="textAreaBottom" fmla="*/ 42300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0" y="5516640"/>
            <a:ext cx="720720" cy="718920"/>
          </a:xfrm>
          <a:custGeom>
            <a:avLst/>
            <a:gdLst>
              <a:gd name="textAreaLeft" fmla="*/ 297000 w 720720"/>
              <a:gd name="textAreaRight" fmla="*/ 423720 w 720720"/>
              <a:gd name="textAreaTop" fmla="*/ 296280 h 718920"/>
              <a:gd name="textAreaBottom" fmla="*/ 4226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G:\Фото 1 д\20160412_111212.jpg"/>
          <p:cNvPicPr/>
          <p:nvPr/>
        </p:nvPicPr>
        <p:blipFill>
          <a:blip r:embed="rId1"/>
          <a:stretch/>
        </p:blipFill>
        <p:spPr>
          <a:xfrm>
            <a:off x="3086280" y="4788000"/>
            <a:ext cx="2700000" cy="202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G:\Фото 1 д\гто фото в классе\20160407_133016.jpg"/>
          <p:cNvPicPr/>
          <p:nvPr/>
        </p:nvPicPr>
        <p:blipFill>
          <a:blip r:embed="rId2"/>
          <a:stretch/>
        </p:blipFill>
        <p:spPr>
          <a:xfrm>
            <a:off x="6227640" y="4976640"/>
            <a:ext cx="2521080" cy="1889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G:\Фото 1 д\20160405_110148.jpg"/>
          <p:cNvPicPr/>
          <p:nvPr/>
        </p:nvPicPr>
        <p:blipFill>
          <a:blip r:embed="rId3"/>
          <a:stretch/>
        </p:blipFill>
        <p:spPr>
          <a:xfrm>
            <a:off x="631800" y="1031760"/>
            <a:ext cx="1728720" cy="23050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324000" y="33336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1 «Д»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класс… 2015 – 2016 учебный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G:\Фото 1 д\20160106_101652.jpg"/>
          <p:cNvPicPr/>
          <p:nvPr/>
        </p:nvPicPr>
        <p:blipFill>
          <a:blip r:embed="rId4"/>
          <a:stretch/>
        </p:blipFill>
        <p:spPr>
          <a:xfrm>
            <a:off x="3395520" y="954000"/>
            <a:ext cx="2268720" cy="1700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G:\Фото 1 д\20160122_104613.jpg"/>
          <p:cNvPicPr/>
          <p:nvPr/>
        </p:nvPicPr>
        <p:blipFill>
          <a:blip r:embed="rId5"/>
          <a:stretch/>
        </p:blipFill>
        <p:spPr>
          <a:xfrm>
            <a:off x="92160" y="5084640"/>
            <a:ext cx="2268360" cy="170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G:\Фото 1 д\20160128_102036.jpg"/>
          <p:cNvPicPr/>
          <p:nvPr/>
        </p:nvPicPr>
        <p:blipFill>
          <a:blip r:embed="rId6"/>
          <a:stretch/>
        </p:blipFill>
        <p:spPr>
          <a:xfrm>
            <a:off x="6659640" y="1009800"/>
            <a:ext cx="2197080" cy="164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G:\Фото 1 д\20160211_090802.jpg"/>
          <p:cNvPicPr/>
          <p:nvPr/>
        </p:nvPicPr>
        <p:blipFill>
          <a:blip r:embed="rId7"/>
          <a:stretch/>
        </p:blipFill>
        <p:spPr>
          <a:xfrm>
            <a:off x="295200" y="3191040"/>
            <a:ext cx="2076480" cy="1557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G:\Фото 1 д\20160211_113153.jpg"/>
          <p:cNvPicPr/>
          <p:nvPr/>
        </p:nvPicPr>
        <p:blipFill>
          <a:blip r:embed="rId8"/>
          <a:stretch/>
        </p:blipFill>
        <p:spPr>
          <a:xfrm>
            <a:off x="6510240" y="2981160"/>
            <a:ext cx="2633760" cy="197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ttps://pp.vk.me/c629230/v629230166/2179e/U826RVQTjl0.jpg"/>
          <p:cNvPicPr/>
          <p:nvPr/>
        </p:nvPicPr>
        <p:blipFill>
          <a:blip r:embed="rId9"/>
          <a:stretch/>
        </p:blipFill>
        <p:spPr>
          <a:xfrm>
            <a:off x="2400480" y="2549520"/>
            <a:ext cx="42591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2 «Д»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класс… 2016 – 2017 учебный год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2" descr="G:\Фото 1 д\DSC05667.JPG"/>
          <p:cNvPicPr/>
          <p:nvPr/>
        </p:nvPicPr>
        <p:blipFill>
          <a:blip r:embed="rId1"/>
          <a:stretch/>
        </p:blipFill>
        <p:spPr>
          <a:xfrm>
            <a:off x="250920" y="765000"/>
            <a:ext cx="1825560" cy="136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Users\Дом\Desktop\Новая папка\20161028_133644.jpg"/>
          <p:cNvPicPr/>
          <p:nvPr/>
        </p:nvPicPr>
        <p:blipFill>
          <a:blip r:embed="rId2"/>
          <a:stretch/>
        </p:blipFill>
        <p:spPr>
          <a:xfrm>
            <a:off x="2916360" y="692280"/>
            <a:ext cx="2931840" cy="3909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Users\Дом\Desktop\Новая папка\20161028_133959.jpg"/>
          <p:cNvPicPr/>
          <p:nvPr/>
        </p:nvPicPr>
        <p:blipFill>
          <a:blip r:embed="rId3"/>
          <a:stretch/>
        </p:blipFill>
        <p:spPr>
          <a:xfrm>
            <a:off x="108000" y="4640400"/>
            <a:ext cx="2459160" cy="184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Users\Дом\Desktop\Новая папка\20160903_081249.jpg"/>
          <p:cNvPicPr/>
          <p:nvPr/>
        </p:nvPicPr>
        <p:blipFill>
          <a:blip r:embed="rId4"/>
          <a:stretch/>
        </p:blipFill>
        <p:spPr>
          <a:xfrm>
            <a:off x="3203640" y="3645000"/>
            <a:ext cx="2214360" cy="295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Дом\Desktop\Новая папка\20160909_124205.jpg"/>
          <p:cNvPicPr/>
          <p:nvPr/>
        </p:nvPicPr>
        <p:blipFill>
          <a:blip r:embed="rId5"/>
          <a:stretch/>
        </p:blipFill>
        <p:spPr>
          <a:xfrm>
            <a:off x="6300720" y="592200"/>
            <a:ext cx="2309760" cy="3081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Дом\Desktop\Новая папка\20160909_132335.jpg"/>
          <p:cNvPicPr/>
          <p:nvPr/>
        </p:nvPicPr>
        <p:blipFill>
          <a:blip r:embed="rId6"/>
          <a:stretch/>
        </p:blipFill>
        <p:spPr>
          <a:xfrm>
            <a:off x="5985000" y="4278240"/>
            <a:ext cx="2939760" cy="2205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C:\Users\Дом\Desktop\Новая папка\20161020_121638.jpg"/>
          <p:cNvPicPr/>
          <p:nvPr/>
        </p:nvPicPr>
        <p:blipFill>
          <a:blip r:embed="rId7"/>
          <a:stretch/>
        </p:blipFill>
        <p:spPr>
          <a:xfrm>
            <a:off x="77760" y="2421000"/>
            <a:ext cx="2674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Благодарю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за вним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67668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10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Общие сведения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60120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Васильева Марина Ив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Год рождения: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98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Место рождения: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Т г. Лениногор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Образование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редне – профессионально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ижнекамский педагогический колледж. 2010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бережночелнинский институт социально-педагогических технологий и ресурсов. 2014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Знак зодиака: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5950080" y="1557360"/>
            <a:ext cx="30668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3026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Общие сведения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Место работ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БОУ «Заинская средняя общеобразовательная школа №6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Должность: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6 лет (из них 3 года – декретный отпуск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Квалификационная категор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е педагогическое кредо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 имя радостных открытий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м быть в походе до конца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льзя иначе, я - учитель,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мне доверены сердц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горь Дружин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Мой девиз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"БУДЬ РЯДОМ И ВМЕСТЕ С УЧЕНИКОМ!"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510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Мои достиже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Содержимое 3" descr="Отсканировано 25.10.2011 19-55_000.jpg"/>
          <p:cNvPicPr/>
          <p:nvPr/>
        </p:nvPicPr>
        <p:blipFill>
          <a:blip r:embed="rId1"/>
          <a:stretch/>
        </p:blipFill>
        <p:spPr>
          <a:xfrm>
            <a:off x="250920" y="907920"/>
            <a:ext cx="2101680" cy="2737080"/>
          </a:xfrm>
          <a:prstGeom prst="rect">
            <a:avLst/>
          </a:prstGeom>
          <a:ln w="76320">
            <a:solidFill>
              <a:srgbClr val="009973"/>
            </a:solidFill>
            <a:miter/>
          </a:ln>
        </p:spPr>
      </p:pic>
      <p:sp>
        <p:nvSpPr>
          <p:cNvPr id="52" name="Text Box 8"/>
          <p:cNvSpPr/>
          <p:nvPr/>
        </p:nvSpPr>
        <p:spPr>
          <a:xfrm>
            <a:off x="-14400" y="907920"/>
            <a:ext cx="309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Содержимое 3" descr="Отсканировано 25.10.2011 20-04_000.jpg"/>
          <p:cNvPicPr/>
          <p:nvPr/>
        </p:nvPicPr>
        <p:blipFill>
          <a:blip r:embed="rId2"/>
          <a:stretch/>
        </p:blipFill>
        <p:spPr>
          <a:xfrm>
            <a:off x="2195640" y="1092240"/>
            <a:ext cx="2004840" cy="2808360"/>
          </a:xfrm>
          <a:prstGeom prst="rect">
            <a:avLst/>
          </a:prstGeom>
          <a:ln w="76320">
            <a:solidFill>
              <a:srgbClr val="632523"/>
            </a:solidFill>
            <a:miter/>
          </a:ln>
        </p:spPr>
      </p:pic>
      <p:pic>
        <p:nvPicPr>
          <p:cNvPr id="54" name="Picture 10" descr="C:\Users\Дом\Documents\Участники олимпиад МОЙ КЛАСС\2 Д 2016-2017\1 четверть\Учителю\серт и благ пписьмо ВИДЕОУРОК\38786260. Свидетельство о подготовке победителя международной олимпиады проекта videouroki.net.jpg"/>
          <p:cNvPicPr/>
          <p:nvPr/>
        </p:nvPicPr>
        <p:blipFill>
          <a:blip r:embed="rId3"/>
          <a:stretch/>
        </p:blipFill>
        <p:spPr>
          <a:xfrm>
            <a:off x="4067280" y="836640"/>
            <a:ext cx="2017440" cy="2852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4"/>
          <a:stretch/>
        </p:blipFill>
        <p:spPr>
          <a:xfrm>
            <a:off x="34920" y="3610080"/>
            <a:ext cx="2565360" cy="198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G:\Школьная доументация + Воспитательная работа\Мое Портфолио\Мои грамоты дипломы сертификаты благодарности свидетельства\Грамоты дипломы сертификаты\МОИ НАГРАДЫ 2015-2016\2 четверть 2015\svidetelstvo-1994007.png"/>
          <p:cNvPicPr/>
          <p:nvPr/>
        </p:nvPicPr>
        <p:blipFill>
          <a:blip r:embed="rId5"/>
          <a:stretch/>
        </p:blipFill>
        <p:spPr>
          <a:xfrm>
            <a:off x="5796000" y="1042920"/>
            <a:ext cx="2062080" cy="2905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G:\Школьная доументация + Воспитательная работа\Мое Портфолио\Мои грамоты дипломы сертификаты благодарности свидетельства\Грамоты дипломы сертификаты\МОИ НАГРАДЫ 2015-2016\2 четверть 2015\благодарность Уникум.png"/>
          <p:cNvPicPr/>
          <p:nvPr/>
        </p:nvPicPr>
        <p:blipFill>
          <a:blip r:embed="rId6"/>
          <a:stretch/>
        </p:blipFill>
        <p:spPr>
          <a:xfrm>
            <a:off x="7224840" y="1701720"/>
            <a:ext cx="1919160" cy="271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G:\Школьная доументация + Воспитательная работа\Мое Портфолио\Мои грамоты дипломы сертификаты благодарности свидетельства\Грамоты дипломы сертификаты\МОИ НАГРАДЫ 2015-2016\2 четверть 2015\Сертификат проекта infourok.ru № ДВ-179270 (2).jpg"/>
          <p:cNvPicPr/>
          <p:nvPr/>
        </p:nvPicPr>
        <p:blipFill>
          <a:blip r:embed="rId7"/>
          <a:stretch/>
        </p:blipFill>
        <p:spPr>
          <a:xfrm>
            <a:off x="2278080" y="3689280"/>
            <a:ext cx="1782720" cy="250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8"/>
          <a:stretch/>
        </p:blipFill>
        <p:spPr>
          <a:xfrm>
            <a:off x="-14400" y="5157720"/>
            <a:ext cx="2584440" cy="182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G:\Школьная доументация + Воспитательная работа\Мое Портфолио\Мои грамоты дипломы сертификаты благодарности свидетельства\Грамоты дипломы сертификаты\МОИ НАГРАДЫ 2015-2016\2 четверть 2015\сертификат ФГОС - с эффектами.jpg"/>
          <p:cNvPicPr/>
          <p:nvPr/>
        </p:nvPicPr>
        <p:blipFill>
          <a:blip r:embed="rId9"/>
          <a:stretch/>
        </p:blipFill>
        <p:spPr>
          <a:xfrm>
            <a:off x="7311960" y="4394160"/>
            <a:ext cx="1797120" cy="2462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10"/>
          <a:stretch/>
        </p:blipFill>
        <p:spPr>
          <a:xfrm>
            <a:off x="2862360" y="5345280"/>
            <a:ext cx="2217600" cy="155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G:\Школьная доументация + Воспитательная работа\Мое Портфолио\Мои грамоты дипломы сертификаты благодарности свидетельства\Грамоты дипломы сертификаты\МОИ НАГРАДЫ 2015-2016\4 четверть 2016\Нагрыды Васильевой М.И. Видеоуроки\Свид-во.jpg"/>
          <p:cNvPicPr/>
          <p:nvPr/>
        </p:nvPicPr>
        <p:blipFill>
          <a:blip r:embed="rId11"/>
          <a:stretch/>
        </p:blipFill>
        <p:spPr>
          <a:xfrm>
            <a:off x="4067280" y="3438360"/>
            <a:ext cx="1495440" cy="211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G:\Школьная доументация + Воспитательная работа\Мое Портфолио\Мои грамоты дипломы сертификаты благодарности свидетельства\Грамоты дипломы сертификаты\МОИ НАГРАДЫ 2015-2016\4 четверть 2016\Благодарность УНИКУМ МАЙ.png"/>
          <p:cNvPicPr/>
          <p:nvPr/>
        </p:nvPicPr>
        <p:blipFill>
          <a:blip r:embed="rId12"/>
          <a:stretch/>
        </p:blipFill>
        <p:spPr>
          <a:xfrm>
            <a:off x="5562720" y="4290840"/>
            <a:ext cx="17492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033560" y="115920"/>
            <a:ext cx="691344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плом призера муниципального конкурса видеороликов среди молодых педагогов "Космос-школа-человек", посвященного 50-ой годовщине полета Ю.А. Гагарина в Космо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амота за внеклассную работу и развитие волевых качеств воспитан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плом участника муниципального этапа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спубликанского конкурса "Воспитать человека" в номинации "Классный руководитель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агодарственное письмо администрации школы №6 за вклад в развитие инновационных технологий в сфере электронного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тификаты и благодарственные письма за подготовку учащихся к олимпиад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тификаты за участие в вебинар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идетельства и сертификаты о публикации методических разработок на различных образовательных сайт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Характеристика профессиональной деятельности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572436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Владение современными информационными технолог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Работа по програм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«Начальная школа </a:t>
            </a: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XXI </a:t>
            </a: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века» под редакцией Н. Ф. Виноградовой</a:t>
            </a:r>
            <a:r>
              <a:rPr b="0" lang="ru-RU" sz="24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Участие в конкурсах муниципального и регионального масшта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Тема самообразова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витие ИКТ - компетентности младших школьников в условиях внед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ГОС НОО</a:t>
            </a:r>
            <a:r>
              <a:rPr b="1" i="1" lang="ru-RU" sz="1800" spc="-1" strike="noStrike">
                <a:solidFill>
                  <a:srgbClr val="cccc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SDC17185"/>
          <p:cNvPicPr/>
          <p:nvPr/>
        </p:nvPicPr>
        <p:blipFill>
          <a:blip r:embed="rId1"/>
          <a:stretch/>
        </p:blipFill>
        <p:spPr>
          <a:xfrm>
            <a:off x="5478480" y="2421000"/>
            <a:ext cx="36306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33"/>
                </a:solidFill>
                <a:latin typeface="Arial"/>
              </a:rPr>
              <a:t>Банк педагогических находо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76720" y="1267920"/>
            <a:ext cx="5659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Праздник «День Знаний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(для первоклассник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Внеклассное мероприятие «Знай свой лес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Внеклассное мероприятие «В стране мульти-пуль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Внеклассное мероприятие «Путь к доброму здоровь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Внеклассное мероприятие  (видеоролик)  «Космос – Человек –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Городской конкур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«Безопасное Колесо 2011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Внеклассное мероприятие «Давайте жить дружно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И многое, многое другое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058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Цель воспитательной работы</a:t>
            </a: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40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ние условий для развития в младших школьниках качества доброты, дружбы, чувства толерант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Психолого-педагогическое изучение каждого ребенка и его семьи с целью определения его склонностей, способностей и возможностей  в процессе адаптации к школьному обучению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Создание детско-взрослой общности с целью сотрудничества «ученик – учитель- родитель»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Целенаправленное обучение коллективной и групповой деятельности для развития коммуникативных способносте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Приобщение детей к культуре родного края, традициям семьи, школы, города и район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7:29:30Z</dcterms:created>
  <dc:creator>User</dc:creator>
  <dc:description/>
  <dc:language>en-US</dc:language>
  <cp:lastModifiedBy>Дом</cp:lastModifiedBy>
  <dcterms:modified xsi:type="dcterms:W3CDTF">2016-10-29T10:54:40Z</dcterms:modified>
  <cp:revision>34</cp:revision>
  <dc:subject/>
  <dc:title>Слайд 1</dc:title>
</cp:coreProperties>
</file>