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1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30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1.jpeg" ContentType="image/jpeg"/>
  <Override PartName="/ppt/media/image45.jpeg" ContentType="image/jpeg"/>
  <Override PartName="/ppt/media/image13.png" ContentType="image/png"/>
  <Override PartName="/ppt/media/image46.jpeg" ContentType="image/jpeg"/>
  <Override PartName="/ppt/media/image48.jpeg" ContentType="image/jpeg"/>
  <Override PartName="/ppt/media/image39.jpeg" ContentType="image/jpeg"/>
  <Override PartName="/ppt/media/image8.png" ContentType="image/png"/>
  <Override PartName="/ppt/media/image31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20.jpeg" ContentType="image/jpeg"/>
  <Override PartName="/ppt/media/image47.jpeg" ContentType="image/jpeg"/>
  <Override PartName="/ppt/media/image6.wmf" ContentType="image/x-wmf"/>
  <Override PartName="/ppt/media/image19.jpeg" ContentType="image/jpeg"/>
  <Override PartName="/ppt/media/image4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3D0C-0344-4F22-86DC-220F6AA33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9804-BD1A-415F-A775-0DCEC755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074D-883E-4FB0-ACA1-60EDB8916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2A5E-00BB-4DF3-A64A-DB34C5661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83D5-6671-41B0-9E6D-ED2F7B59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96EF-C7C2-4BEE-B80A-341BBBF3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E984-960D-4B91-AF4D-C0205257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08D5-3CDE-4813-BFEF-A63FD405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1BDF-F9BF-4FD3-AA7E-AA63A324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0411-F9CC-42C5-B81C-30E7CDCC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7C5B-7F7B-467C-A2D3-86650DB0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7747-70AC-4A98-B91D-5013BE7D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EC65-7D9E-4220-BFA7-2425FADEE05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image" Target="../media/image41.jpe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wmf"/><Relationship Id="rId9" Type="http://schemas.openxmlformats.org/officeDocument/2006/relationships/image" Target="../media/image11.jpe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676944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f2fff"/>
                </a:solidFill>
                <a:latin typeface="Arial"/>
              </a:rPr>
              <a:t>Самопрезентация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5640" y="2276640"/>
            <a:ext cx="6729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Васильева Мари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Ивано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БОУ «ЗСОШ №6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Дорогу осилит идущий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2016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Система самоуправления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54100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Большой совет класс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лидеры групп, классный руководитель, родител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Oval 7"/>
          <p:cNvSpPr/>
          <p:nvPr/>
        </p:nvSpPr>
        <p:spPr>
          <a:xfrm>
            <a:off x="0" y="2781360"/>
            <a:ext cx="1871640" cy="1008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179280" y="30686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Затейн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11"/>
          <p:cNvSpPr/>
          <p:nvPr/>
        </p:nvSpPr>
        <p:spPr>
          <a:xfrm flipH="1">
            <a:off x="1402920" y="2421000"/>
            <a:ext cx="79236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Oval 13"/>
          <p:cNvSpPr/>
          <p:nvPr/>
        </p:nvSpPr>
        <p:spPr>
          <a:xfrm>
            <a:off x="2050920" y="3573360"/>
            <a:ext cx="1584360" cy="935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Художн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15"/>
          <p:cNvSpPr/>
          <p:nvPr/>
        </p:nvSpPr>
        <p:spPr>
          <a:xfrm>
            <a:off x="2340000" y="2565360"/>
            <a:ext cx="50328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Oval 17"/>
          <p:cNvSpPr/>
          <p:nvPr/>
        </p:nvSpPr>
        <p:spPr>
          <a:xfrm>
            <a:off x="3203640" y="4581360"/>
            <a:ext cx="2448000" cy="719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Юные эколог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Oval 21"/>
          <p:cNvSpPr/>
          <p:nvPr/>
        </p:nvSpPr>
        <p:spPr>
          <a:xfrm>
            <a:off x="4932360" y="3284640"/>
            <a:ext cx="2016000" cy="936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Интеллектуал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Line 23"/>
          <p:cNvSpPr/>
          <p:nvPr/>
        </p:nvSpPr>
        <p:spPr>
          <a:xfrm>
            <a:off x="5508720" y="2708280"/>
            <a:ext cx="215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Line 24"/>
          <p:cNvSpPr/>
          <p:nvPr/>
        </p:nvSpPr>
        <p:spPr>
          <a:xfrm>
            <a:off x="4284720" y="3068640"/>
            <a:ext cx="0" cy="151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Oval 25"/>
          <p:cNvSpPr/>
          <p:nvPr/>
        </p:nvSpPr>
        <p:spPr>
          <a:xfrm>
            <a:off x="7020000" y="4076640"/>
            <a:ext cx="2124000" cy="1152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Исследовате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27"/>
          <p:cNvSpPr/>
          <p:nvPr/>
        </p:nvSpPr>
        <p:spPr>
          <a:xfrm>
            <a:off x="6516720" y="2708280"/>
            <a:ext cx="1150920" cy="136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SDC17185"/>
          <p:cNvPicPr/>
          <p:nvPr/>
        </p:nvPicPr>
        <p:blipFill>
          <a:blip r:embed="rId1"/>
          <a:stretch/>
        </p:blipFill>
        <p:spPr>
          <a:xfrm>
            <a:off x="250920" y="1125360"/>
            <a:ext cx="2952720" cy="20782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391680"/>
            <a:ext cx="851076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Вместе мы не знаем скуки…</a:t>
            </a:r>
            <a:br>
              <a:rPr sz="4000"/>
            </a:b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1 Д… 2011 г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8" name="Picture 11" descr="SDC17187"/>
          <p:cNvPicPr/>
          <p:nvPr/>
        </p:nvPicPr>
        <p:blipFill>
          <a:blip r:embed="rId2"/>
          <a:stretch/>
        </p:blipFill>
        <p:spPr>
          <a:xfrm>
            <a:off x="6048360" y="1413000"/>
            <a:ext cx="3095640" cy="2220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SDC17197"/>
          <p:cNvPicPr/>
          <p:nvPr/>
        </p:nvPicPr>
        <p:blipFill>
          <a:blip r:embed="rId3"/>
          <a:stretch/>
        </p:blipFill>
        <p:spPr>
          <a:xfrm>
            <a:off x="2195640" y="2276640"/>
            <a:ext cx="3887640" cy="2881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Фото0009"/>
          <p:cNvPicPr/>
          <p:nvPr/>
        </p:nvPicPr>
        <p:blipFill>
          <a:blip r:embed="rId4"/>
          <a:stretch/>
        </p:blipFill>
        <p:spPr>
          <a:xfrm>
            <a:off x="5867280" y="4386240"/>
            <a:ext cx="3276720" cy="2214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5" descr="Фото0012"/>
          <p:cNvPicPr/>
          <p:nvPr/>
        </p:nvPicPr>
        <p:blipFill>
          <a:blip r:embed="rId5"/>
          <a:stretch/>
        </p:blipFill>
        <p:spPr>
          <a:xfrm>
            <a:off x="0" y="4221000"/>
            <a:ext cx="2843280" cy="209556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16"/>
          <p:cNvSpPr/>
          <p:nvPr/>
        </p:nvSpPr>
        <p:spPr>
          <a:xfrm>
            <a:off x="0" y="2852640"/>
            <a:ext cx="720720" cy="936720"/>
          </a:xfrm>
          <a:custGeom>
            <a:avLst/>
            <a:gdLst/>
            <a:ahLst/>
            <a:rect l="l" t="t" r="r" b="b"/>
            <a:pathLst>
              <a:path w="720725" h="936625">
                <a:moveTo>
                  <a:pt x="1" y="357758"/>
                </a:moveTo>
                <a:lnTo>
                  <a:pt x="275294" y="357761"/>
                </a:lnTo>
                <a:lnTo>
                  <a:pt x="360363" y="0"/>
                </a:lnTo>
                <a:lnTo>
                  <a:pt x="445431" y="357761"/>
                </a:lnTo>
                <a:lnTo>
                  <a:pt x="720724" y="357758"/>
                </a:lnTo>
                <a:lnTo>
                  <a:pt x="498006" y="578864"/>
                </a:lnTo>
                <a:lnTo>
                  <a:pt x="583078" y="936623"/>
                </a:lnTo>
                <a:lnTo>
                  <a:pt x="360363" y="715513"/>
                </a:lnTo>
                <a:lnTo>
                  <a:pt x="137647" y="936623"/>
                </a:lnTo>
                <a:lnTo>
                  <a:pt x="222719" y="578864"/>
                </a:lnTo>
                <a:lnTo>
                  <a:pt x="1" y="357758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7"/>
          <p:cNvSpPr/>
          <p:nvPr/>
        </p:nvSpPr>
        <p:spPr>
          <a:xfrm>
            <a:off x="3059280" y="1773360"/>
            <a:ext cx="720720" cy="936360"/>
          </a:xfrm>
          <a:custGeom>
            <a:avLst/>
            <a:gdLst/>
            <a:ahLst/>
            <a:rect l="l" t="t" r="r" b="b"/>
            <a:pathLst>
              <a:path w="720725" h="936625">
                <a:moveTo>
                  <a:pt x="1" y="357758"/>
                </a:moveTo>
                <a:lnTo>
                  <a:pt x="275294" y="357761"/>
                </a:lnTo>
                <a:lnTo>
                  <a:pt x="360363" y="0"/>
                </a:lnTo>
                <a:lnTo>
                  <a:pt x="445431" y="357761"/>
                </a:lnTo>
                <a:lnTo>
                  <a:pt x="720724" y="357758"/>
                </a:lnTo>
                <a:lnTo>
                  <a:pt x="498006" y="578864"/>
                </a:lnTo>
                <a:lnTo>
                  <a:pt x="583078" y="936623"/>
                </a:lnTo>
                <a:lnTo>
                  <a:pt x="360363" y="715513"/>
                </a:lnTo>
                <a:lnTo>
                  <a:pt x="137647" y="936623"/>
                </a:lnTo>
                <a:lnTo>
                  <a:pt x="222719" y="578864"/>
                </a:lnTo>
                <a:lnTo>
                  <a:pt x="1" y="357758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8"/>
          <p:cNvSpPr/>
          <p:nvPr/>
        </p:nvSpPr>
        <p:spPr>
          <a:xfrm>
            <a:off x="5651640" y="981000"/>
            <a:ext cx="720720" cy="936720"/>
          </a:xfrm>
          <a:custGeom>
            <a:avLst/>
            <a:gdLst/>
            <a:ahLst/>
            <a:rect l="l" t="t" r="r" b="b"/>
            <a:pathLst>
              <a:path w="720725" h="936625">
                <a:moveTo>
                  <a:pt x="1" y="357758"/>
                </a:moveTo>
                <a:lnTo>
                  <a:pt x="275294" y="357761"/>
                </a:lnTo>
                <a:lnTo>
                  <a:pt x="360363" y="0"/>
                </a:lnTo>
                <a:lnTo>
                  <a:pt x="445431" y="357761"/>
                </a:lnTo>
                <a:lnTo>
                  <a:pt x="720724" y="357758"/>
                </a:lnTo>
                <a:lnTo>
                  <a:pt x="498006" y="578864"/>
                </a:lnTo>
                <a:lnTo>
                  <a:pt x="583078" y="936623"/>
                </a:lnTo>
                <a:lnTo>
                  <a:pt x="360363" y="715513"/>
                </a:lnTo>
                <a:lnTo>
                  <a:pt x="137647" y="936623"/>
                </a:lnTo>
                <a:lnTo>
                  <a:pt x="222719" y="578864"/>
                </a:lnTo>
                <a:lnTo>
                  <a:pt x="1" y="357758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9"/>
          <p:cNvSpPr/>
          <p:nvPr/>
        </p:nvSpPr>
        <p:spPr>
          <a:xfrm>
            <a:off x="2050920" y="3645000"/>
            <a:ext cx="720720" cy="936360"/>
          </a:xfrm>
          <a:custGeom>
            <a:avLst/>
            <a:gdLst/>
            <a:ahLst/>
            <a:rect l="l" t="t" r="r" b="b"/>
            <a:pathLst>
              <a:path w="720725" h="936625">
                <a:moveTo>
                  <a:pt x="1" y="357758"/>
                </a:moveTo>
                <a:lnTo>
                  <a:pt x="275294" y="357761"/>
                </a:lnTo>
                <a:lnTo>
                  <a:pt x="360363" y="0"/>
                </a:lnTo>
                <a:lnTo>
                  <a:pt x="445431" y="357761"/>
                </a:lnTo>
                <a:lnTo>
                  <a:pt x="720724" y="357758"/>
                </a:lnTo>
                <a:lnTo>
                  <a:pt x="498006" y="578864"/>
                </a:lnTo>
                <a:lnTo>
                  <a:pt x="583078" y="936623"/>
                </a:lnTo>
                <a:lnTo>
                  <a:pt x="360363" y="715513"/>
                </a:lnTo>
                <a:lnTo>
                  <a:pt x="137647" y="936623"/>
                </a:lnTo>
                <a:lnTo>
                  <a:pt x="222719" y="578864"/>
                </a:lnTo>
                <a:lnTo>
                  <a:pt x="1" y="357758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20"/>
          <p:cNvSpPr/>
          <p:nvPr/>
        </p:nvSpPr>
        <p:spPr>
          <a:xfrm>
            <a:off x="5867280" y="3068640"/>
            <a:ext cx="720720" cy="936720"/>
          </a:xfrm>
          <a:custGeom>
            <a:avLst/>
            <a:gdLst/>
            <a:ahLst/>
            <a:rect l="l" t="t" r="r" b="b"/>
            <a:pathLst>
              <a:path w="720725" h="936625">
                <a:moveTo>
                  <a:pt x="1" y="357758"/>
                </a:moveTo>
                <a:lnTo>
                  <a:pt x="275294" y="357761"/>
                </a:lnTo>
                <a:lnTo>
                  <a:pt x="360363" y="0"/>
                </a:lnTo>
                <a:lnTo>
                  <a:pt x="445431" y="357761"/>
                </a:lnTo>
                <a:lnTo>
                  <a:pt x="720724" y="357758"/>
                </a:lnTo>
                <a:lnTo>
                  <a:pt x="498006" y="578864"/>
                </a:lnTo>
                <a:lnTo>
                  <a:pt x="583078" y="936623"/>
                </a:lnTo>
                <a:lnTo>
                  <a:pt x="360363" y="715513"/>
                </a:lnTo>
                <a:lnTo>
                  <a:pt x="137647" y="936623"/>
                </a:lnTo>
                <a:lnTo>
                  <a:pt x="222719" y="578864"/>
                </a:lnTo>
                <a:lnTo>
                  <a:pt x="1" y="357758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21"/>
          <p:cNvSpPr/>
          <p:nvPr/>
        </p:nvSpPr>
        <p:spPr>
          <a:xfrm>
            <a:off x="5292720" y="4941720"/>
            <a:ext cx="720720" cy="936720"/>
          </a:xfrm>
          <a:custGeom>
            <a:avLst/>
            <a:gdLst/>
            <a:ahLst/>
            <a:rect l="l" t="t" r="r" b="b"/>
            <a:pathLst>
              <a:path w="720725" h="936625">
                <a:moveTo>
                  <a:pt x="1" y="357758"/>
                </a:moveTo>
                <a:lnTo>
                  <a:pt x="275294" y="357761"/>
                </a:lnTo>
                <a:lnTo>
                  <a:pt x="360363" y="0"/>
                </a:lnTo>
                <a:lnTo>
                  <a:pt x="445431" y="357761"/>
                </a:lnTo>
                <a:lnTo>
                  <a:pt x="720724" y="357758"/>
                </a:lnTo>
                <a:lnTo>
                  <a:pt x="498006" y="578864"/>
                </a:lnTo>
                <a:lnTo>
                  <a:pt x="583078" y="936623"/>
                </a:lnTo>
                <a:lnTo>
                  <a:pt x="360363" y="715513"/>
                </a:lnTo>
                <a:lnTo>
                  <a:pt x="137647" y="936623"/>
                </a:lnTo>
                <a:lnTo>
                  <a:pt x="222719" y="578864"/>
                </a:lnTo>
                <a:lnTo>
                  <a:pt x="1" y="357758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Фото0021"/>
          <p:cNvPicPr/>
          <p:nvPr/>
        </p:nvPicPr>
        <p:blipFill>
          <a:blip r:embed="rId1"/>
          <a:stretch/>
        </p:blipFill>
        <p:spPr>
          <a:xfrm>
            <a:off x="61920" y="512640"/>
            <a:ext cx="3262320" cy="244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Фото0103"/>
          <p:cNvPicPr/>
          <p:nvPr/>
        </p:nvPicPr>
        <p:blipFill>
          <a:blip r:embed="rId2"/>
          <a:stretch/>
        </p:blipFill>
        <p:spPr>
          <a:xfrm>
            <a:off x="2987640" y="1844640"/>
            <a:ext cx="3272040" cy="2454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Фото0164"/>
          <p:cNvPicPr/>
          <p:nvPr/>
        </p:nvPicPr>
        <p:blipFill>
          <a:blip r:embed="rId3"/>
          <a:stretch/>
        </p:blipFill>
        <p:spPr>
          <a:xfrm>
            <a:off x="5916600" y="0"/>
            <a:ext cx="3227400" cy="2421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Фото0165"/>
          <p:cNvPicPr/>
          <p:nvPr/>
        </p:nvPicPr>
        <p:blipFill>
          <a:blip r:embed="rId4"/>
          <a:stretch/>
        </p:blipFill>
        <p:spPr>
          <a:xfrm>
            <a:off x="179280" y="4076640"/>
            <a:ext cx="3343320" cy="2508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SDC17195"/>
          <p:cNvPicPr/>
          <p:nvPr/>
        </p:nvPicPr>
        <p:blipFill>
          <a:blip r:embed="rId5"/>
          <a:stretch/>
        </p:blipFill>
        <p:spPr>
          <a:xfrm>
            <a:off x="5443560" y="4149720"/>
            <a:ext cx="3700440" cy="251928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9"/>
          <p:cNvSpPr/>
          <p:nvPr/>
        </p:nvSpPr>
        <p:spPr>
          <a:xfrm>
            <a:off x="3924360" y="5013360"/>
            <a:ext cx="1152360" cy="1152360"/>
          </a:xfrm>
          <a:custGeom>
            <a:avLst/>
            <a:gdLst>
              <a:gd name="textAreaLeft" fmla="*/ 474840 w 1152360"/>
              <a:gd name="textAreaRight" fmla="*/ 677520 w 1152360"/>
              <a:gd name="textAreaTop" fmla="*/ 474840 h 1152360"/>
              <a:gd name="textAreaBottom" fmla="*/ 6775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1"/>
          <p:cNvSpPr/>
          <p:nvPr/>
        </p:nvSpPr>
        <p:spPr>
          <a:xfrm>
            <a:off x="7236000" y="2781360"/>
            <a:ext cx="936360" cy="1008000"/>
          </a:xfrm>
          <a:custGeom>
            <a:avLst/>
            <a:gdLst>
              <a:gd name="textAreaLeft" fmla="*/ 385920 w 936360"/>
              <a:gd name="textAreaRight" fmla="*/ 550440 w 936360"/>
              <a:gd name="textAreaTop" fmla="*/ 415440 h 1008000"/>
              <a:gd name="textAreaBottom" fmla="*/ 5925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3"/>
          <p:cNvSpPr/>
          <p:nvPr/>
        </p:nvSpPr>
        <p:spPr>
          <a:xfrm>
            <a:off x="7236000" y="2781360"/>
            <a:ext cx="936360" cy="1008000"/>
          </a:xfrm>
          <a:custGeom>
            <a:avLst/>
            <a:gdLst>
              <a:gd name="textAreaLeft" fmla="*/ 385920 w 936360"/>
              <a:gd name="textAreaRight" fmla="*/ 550440 w 936360"/>
              <a:gd name="textAreaTop" fmla="*/ 415440 h 1008000"/>
              <a:gd name="textAreaBottom" fmla="*/ 5925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4"/>
          <p:cNvSpPr/>
          <p:nvPr/>
        </p:nvSpPr>
        <p:spPr>
          <a:xfrm>
            <a:off x="1042920" y="3284640"/>
            <a:ext cx="1008000" cy="647640"/>
          </a:xfrm>
          <a:custGeom>
            <a:avLst/>
            <a:gdLst>
              <a:gd name="textAreaLeft" fmla="*/ 415440 w 1008000"/>
              <a:gd name="textAreaRight" fmla="*/ 592560 w 1008000"/>
              <a:gd name="textAreaTop" fmla="*/ 266760 h 647640"/>
              <a:gd name="textAreaBottom" fmla="*/ 38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"/>
          <p:cNvSpPr/>
          <p:nvPr/>
        </p:nvSpPr>
        <p:spPr>
          <a:xfrm>
            <a:off x="3348000" y="22068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1 Д… 2011 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7" descr="Фото0073"/>
          <p:cNvPicPr/>
          <p:nvPr/>
        </p:nvPicPr>
        <p:blipFill>
          <a:blip r:embed="rId1"/>
          <a:stretch/>
        </p:blipFill>
        <p:spPr>
          <a:xfrm>
            <a:off x="6012000" y="189000"/>
            <a:ext cx="3132000" cy="2519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Фото0067"/>
          <p:cNvPicPr/>
          <p:nvPr/>
        </p:nvPicPr>
        <p:blipFill>
          <a:blip r:embed="rId2"/>
          <a:stretch/>
        </p:blipFill>
        <p:spPr>
          <a:xfrm>
            <a:off x="0" y="434880"/>
            <a:ext cx="3635280" cy="24894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2520" y="78840"/>
            <a:ext cx="851076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b7e7ff"/>
                </a:solidFill>
                <a:latin typeface="Arial"/>
              </a:rPr>
              <a:t>2 Д … 2012 г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Фото0066"/>
          <p:cNvPicPr/>
          <p:nvPr/>
        </p:nvPicPr>
        <p:blipFill>
          <a:blip r:embed="rId3"/>
          <a:stretch/>
        </p:blipFill>
        <p:spPr>
          <a:xfrm>
            <a:off x="6156360" y="3429000"/>
            <a:ext cx="2987640" cy="2581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Фото0079"/>
          <p:cNvPicPr/>
          <p:nvPr/>
        </p:nvPicPr>
        <p:blipFill>
          <a:blip r:embed="rId4"/>
          <a:stretch/>
        </p:blipFill>
        <p:spPr>
          <a:xfrm>
            <a:off x="3059280" y="1197000"/>
            <a:ext cx="2708280" cy="3168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Фото0173"/>
          <p:cNvPicPr/>
          <p:nvPr/>
        </p:nvPicPr>
        <p:blipFill>
          <a:blip r:embed="rId5"/>
          <a:stretch/>
        </p:blipFill>
        <p:spPr>
          <a:xfrm>
            <a:off x="179280" y="3500280"/>
            <a:ext cx="3059280" cy="2208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Фото0167"/>
          <p:cNvPicPr/>
          <p:nvPr/>
        </p:nvPicPr>
        <p:blipFill>
          <a:blip r:embed="rId6"/>
          <a:stretch/>
        </p:blipFill>
        <p:spPr>
          <a:xfrm>
            <a:off x="3348000" y="4653000"/>
            <a:ext cx="2664000" cy="197784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10"/>
          <p:cNvSpPr/>
          <p:nvPr/>
        </p:nvSpPr>
        <p:spPr>
          <a:xfrm>
            <a:off x="2700360" y="5373720"/>
            <a:ext cx="863640" cy="934920"/>
          </a:xfrm>
          <a:custGeom>
            <a:avLst/>
            <a:gdLst>
              <a:gd name="textAreaLeft" fmla="*/ 355680 w 863640"/>
              <a:gd name="textAreaRight" fmla="*/ 507960 w 863640"/>
              <a:gd name="textAreaTop" fmla="*/ 385200 h 934920"/>
              <a:gd name="textAreaBottom" fmla="*/ 549720 h 93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1"/>
          <p:cNvSpPr/>
          <p:nvPr/>
        </p:nvSpPr>
        <p:spPr>
          <a:xfrm>
            <a:off x="0" y="3213000"/>
            <a:ext cx="1154160" cy="719280"/>
          </a:xfrm>
          <a:custGeom>
            <a:avLst/>
            <a:gdLst>
              <a:gd name="textAreaLeft" fmla="*/ 475560 w 1154160"/>
              <a:gd name="textAreaRight" fmla="*/ 678600 w 1154160"/>
              <a:gd name="textAreaTop" fmla="*/ 296280 h 719280"/>
              <a:gd name="textAreaBottom" fmla="*/ 42300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3"/>
          <p:cNvSpPr/>
          <p:nvPr/>
        </p:nvSpPr>
        <p:spPr>
          <a:xfrm>
            <a:off x="5724360" y="3933720"/>
            <a:ext cx="935280" cy="1006560"/>
          </a:xfrm>
          <a:custGeom>
            <a:avLst/>
            <a:gdLst>
              <a:gd name="textAreaLeft" fmla="*/ 385200 w 935280"/>
              <a:gd name="textAreaRight" fmla="*/ 550080 w 935280"/>
              <a:gd name="textAreaTop" fmla="*/ 414720 h 1006560"/>
              <a:gd name="textAreaBottom" fmla="*/ 591840 h 1006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4"/>
          <p:cNvSpPr/>
          <p:nvPr/>
        </p:nvSpPr>
        <p:spPr>
          <a:xfrm>
            <a:off x="5940360" y="2133720"/>
            <a:ext cx="1008000" cy="863640"/>
          </a:xfrm>
          <a:custGeom>
            <a:avLst/>
            <a:gdLst>
              <a:gd name="textAreaLeft" fmla="*/ 415440 w 1008000"/>
              <a:gd name="textAreaRight" fmla="*/ 592560 w 1008000"/>
              <a:gd name="textAreaTop" fmla="*/ 355680 h 863640"/>
              <a:gd name="textAreaBottom" fmla="*/ 50796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15"/>
          <p:cNvSpPr/>
          <p:nvPr/>
        </p:nvSpPr>
        <p:spPr>
          <a:xfrm>
            <a:off x="8423280" y="5805360"/>
            <a:ext cx="720720" cy="719280"/>
          </a:xfrm>
          <a:custGeom>
            <a:avLst/>
            <a:gdLst>
              <a:gd name="textAreaLeft" fmla="*/ 297000 w 720720"/>
              <a:gd name="textAreaRight" fmla="*/ 423720 w 720720"/>
              <a:gd name="textAreaTop" fmla="*/ 296280 h 719280"/>
              <a:gd name="textAreaBottom" fmla="*/ 42300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16"/>
          <p:cNvSpPr/>
          <p:nvPr/>
        </p:nvSpPr>
        <p:spPr>
          <a:xfrm>
            <a:off x="0" y="5516640"/>
            <a:ext cx="720720" cy="718920"/>
          </a:xfrm>
          <a:custGeom>
            <a:avLst/>
            <a:gdLst>
              <a:gd name="textAreaLeft" fmla="*/ 297000 w 720720"/>
              <a:gd name="textAreaRight" fmla="*/ 423720 w 720720"/>
              <a:gd name="textAreaTop" fmla="*/ 296280 h 718920"/>
              <a:gd name="textAreaBottom" fmla="*/ 422640 h 71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3" descr="G:\Фото 1 д\20160412_111212.jpg"/>
          <p:cNvPicPr/>
          <p:nvPr/>
        </p:nvPicPr>
        <p:blipFill>
          <a:blip r:embed="rId1"/>
          <a:stretch/>
        </p:blipFill>
        <p:spPr>
          <a:xfrm>
            <a:off x="3086280" y="4788000"/>
            <a:ext cx="2700000" cy="2023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G:\Фото 1 д\гто фото в классе\20160407_133016.jpg"/>
          <p:cNvPicPr/>
          <p:nvPr/>
        </p:nvPicPr>
        <p:blipFill>
          <a:blip r:embed="rId2"/>
          <a:stretch/>
        </p:blipFill>
        <p:spPr>
          <a:xfrm>
            <a:off x="6227640" y="4976640"/>
            <a:ext cx="2521080" cy="1889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G:\Фото 1 д\20160405_110148.jpg"/>
          <p:cNvPicPr/>
          <p:nvPr/>
        </p:nvPicPr>
        <p:blipFill>
          <a:blip r:embed="rId3"/>
          <a:stretch/>
        </p:blipFill>
        <p:spPr>
          <a:xfrm>
            <a:off x="631800" y="1031760"/>
            <a:ext cx="1728720" cy="2305080"/>
          </a:xfrm>
          <a:prstGeom prst="rect">
            <a:avLst/>
          </a:prstGeom>
          <a:ln w="0">
            <a:noFill/>
          </a:ln>
        </p:spPr>
      </p:pic>
      <p:sp>
        <p:nvSpPr>
          <p:cNvPr id="125" name="TextBox 3"/>
          <p:cNvSpPr/>
          <p:nvPr/>
        </p:nvSpPr>
        <p:spPr>
          <a:xfrm>
            <a:off x="324000" y="333360"/>
            <a:ext cx="86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1 «Д»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 класс… 2015 – 2016 учебный г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G:\Фото 1 д\20160106_101652.jpg"/>
          <p:cNvPicPr/>
          <p:nvPr/>
        </p:nvPicPr>
        <p:blipFill>
          <a:blip r:embed="rId4"/>
          <a:stretch/>
        </p:blipFill>
        <p:spPr>
          <a:xfrm>
            <a:off x="3395520" y="954000"/>
            <a:ext cx="2268720" cy="1700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G:\Фото 1 д\20160122_104613.jpg"/>
          <p:cNvPicPr/>
          <p:nvPr/>
        </p:nvPicPr>
        <p:blipFill>
          <a:blip r:embed="rId5"/>
          <a:stretch/>
        </p:blipFill>
        <p:spPr>
          <a:xfrm>
            <a:off x="92160" y="5084640"/>
            <a:ext cx="2268360" cy="1702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G:\Фото 1 д\20160128_102036.jpg"/>
          <p:cNvPicPr/>
          <p:nvPr/>
        </p:nvPicPr>
        <p:blipFill>
          <a:blip r:embed="rId6"/>
          <a:stretch/>
        </p:blipFill>
        <p:spPr>
          <a:xfrm>
            <a:off x="6659640" y="1009800"/>
            <a:ext cx="2197080" cy="1645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G:\Фото 1 д\20160211_090802.jpg"/>
          <p:cNvPicPr/>
          <p:nvPr/>
        </p:nvPicPr>
        <p:blipFill>
          <a:blip r:embed="rId7"/>
          <a:stretch/>
        </p:blipFill>
        <p:spPr>
          <a:xfrm>
            <a:off x="295200" y="3191040"/>
            <a:ext cx="2076480" cy="1557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G:\Фото 1 д\20160211_113153.jpg"/>
          <p:cNvPicPr/>
          <p:nvPr/>
        </p:nvPicPr>
        <p:blipFill>
          <a:blip r:embed="rId8"/>
          <a:stretch/>
        </p:blipFill>
        <p:spPr>
          <a:xfrm>
            <a:off x="6510240" y="2981160"/>
            <a:ext cx="2633760" cy="1974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https://pp.vk.me/c629230/v629230166/2179e/U826RVQTjl0.jpg"/>
          <p:cNvPicPr/>
          <p:nvPr/>
        </p:nvPicPr>
        <p:blipFill>
          <a:blip r:embed="rId9"/>
          <a:stretch/>
        </p:blipFill>
        <p:spPr>
          <a:xfrm>
            <a:off x="2400480" y="2549520"/>
            <a:ext cx="425916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10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2 «Д»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 класс… 2016 – 2017 учебный год</a:t>
            </a: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3" name="Picture 2" descr="G:\Фото 1 д\DSC05667.JPG"/>
          <p:cNvPicPr/>
          <p:nvPr/>
        </p:nvPicPr>
        <p:blipFill>
          <a:blip r:embed="rId1"/>
          <a:stretch/>
        </p:blipFill>
        <p:spPr>
          <a:xfrm>
            <a:off x="250920" y="765000"/>
            <a:ext cx="1825560" cy="136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C:\Users\Дом\Desktop\Новая папка\20161028_133644.jpg"/>
          <p:cNvPicPr/>
          <p:nvPr/>
        </p:nvPicPr>
        <p:blipFill>
          <a:blip r:embed="rId2"/>
          <a:stretch/>
        </p:blipFill>
        <p:spPr>
          <a:xfrm>
            <a:off x="2916360" y="692280"/>
            <a:ext cx="2931840" cy="3909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C:\Users\Дом\Desktop\Новая папка\20161028_133959.jpg"/>
          <p:cNvPicPr/>
          <p:nvPr/>
        </p:nvPicPr>
        <p:blipFill>
          <a:blip r:embed="rId3"/>
          <a:stretch/>
        </p:blipFill>
        <p:spPr>
          <a:xfrm>
            <a:off x="108000" y="4640400"/>
            <a:ext cx="2459160" cy="1844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C:\Users\Дом\Desktop\Новая папка\20160903_081249.jpg"/>
          <p:cNvPicPr/>
          <p:nvPr/>
        </p:nvPicPr>
        <p:blipFill>
          <a:blip r:embed="rId4"/>
          <a:stretch/>
        </p:blipFill>
        <p:spPr>
          <a:xfrm>
            <a:off x="3203640" y="3645000"/>
            <a:ext cx="2214360" cy="2952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C:\Users\Дом\Desktop\Новая папка\20160909_124205.jpg"/>
          <p:cNvPicPr/>
          <p:nvPr/>
        </p:nvPicPr>
        <p:blipFill>
          <a:blip r:embed="rId5"/>
          <a:stretch/>
        </p:blipFill>
        <p:spPr>
          <a:xfrm>
            <a:off x="6300720" y="592200"/>
            <a:ext cx="2309760" cy="3081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C:\Users\Дом\Desktop\Новая папка\20160909_132335.jpg"/>
          <p:cNvPicPr/>
          <p:nvPr/>
        </p:nvPicPr>
        <p:blipFill>
          <a:blip r:embed="rId6"/>
          <a:stretch/>
        </p:blipFill>
        <p:spPr>
          <a:xfrm>
            <a:off x="5985000" y="4278240"/>
            <a:ext cx="2939760" cy="2205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C:\Users\Дом\Desktop\Новая папка\20161020_121638.jpg"/>
          <p:cNvPicPr/>
          <p:nvPr/>
        </p:nvPicPr>
        <p:blipFill>
          <a:blip r:embed="rId7"/>
          <a:stretch/>
        </p:blipFill>
        <p:spPr>
          <a:xfrm>
            <a:off x="77760" y="2421000"/>
            <a:ext cx="267480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Arial"/>
              </a:rPr>
              <a:t>Благодарю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Arial"/>
              </a:rPr>
              <a:t>за внимани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5292720" y="692280"/>
            <a:ext cx="367668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510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Общие сведения 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60120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Васильева Марина Ивано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Год рождения: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1988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Место рождения: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РТ г. Лениногорс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Образование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редне – профессиональное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ижнекамский педагогический колледж. 2010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бережночелнинский институт социально-педагогических технологий и ресурсов. 2014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Знак зодиака: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Ра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5950080" y="1557360"/>
            <a:ext cx="306684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30268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Общие сведения 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50920" y="162864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Место работы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МБОУ «Заинская средняя общеобразовательная школа №6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Должность: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Стаж работ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6 лет (из них 3 года – декретный отпуск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Квалификационная категория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ое педагогическое кредо…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540640" cy="47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о имя радостных открытий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ам быть в походе до конца.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ельзя иначе, я - учитель,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 мне доверены сердц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Игорь Дружин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Мой девиз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"БУДЬ РЯДОМ И ВМЕСТЕ С УЧЕНИКОМ!"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44280"/>
            <a:ext cx="8510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Мои достижения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1" name="Содержимое 3" descr="Отсканировано 25.10.2011 19-55_000.jpg"/>
          <p:cNvPicPr/>
          <p:nvPr/>
        </p:nvPicPr>
        <p:blipFill>
          <a:blip r:embed="rId1"/>
          <a:stretch/>
        </p:blipFill>
        <p:spPr>
          <a:xfrm>
            <a:off x="250920" y="907920"/>
            <a:ext cx="2101680" cy="2737080"/>
          </a:xfrm>
          <a:prstGeom prst="rect">
            <a:avLst/>
          </a:prstGeom>
          <a:ln w="76320">
            <a:solidFill>
              <a:srgbClr val="009973"/>
            </a:solidFill>
            <a:miter/>
          </a:ln>
        </p:spPr>
      </p:pic>
      <p:sp>
        <p:nvSpPr>
          <p:cNvPr id="52" name="Text Box 8"/>
          <p:cNvSpPr/>
          <p:nvPr/>
        </p:nvSpPr>
        <p:spPr>
          <a:xfrm>
            <a:off x="-14400" y="907920"/>
            <a:ext cx="3097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Содержимое 3" descr="Отсканировано 25.10.2011 20-04_000.jpg"/>
          <p:cNvPicPr/>
          <p:nvPr/>
        </p:nvPicPr>
        <p:blipFill>
          <a:blip r:embed="rId2"/>
          <a:stretch/>
        </p:blipFill>
        <p:spPr>
          <a:xfrm>
            <a:off x="2195640" y="1092240"/>
            <a:ext cx="2004840" cy="2808360"/>
          </a:xfrm>
          <a:prstGeom prst="rect">
            <a:avLst/>
          </a:prstGeom>
          <a:ln w="76320">
            <a:solidFill>
              <a:srgbClr val="632523"/>
            </a:solidFill>
            <a:miter/>
          </a:ln>
        </p:spPr>
      </p:pic>
      <p:pic>
        <p:nvPicPr>
          <p:cNvPr id="54" name="Picture 10" descr="C:\Users\Дом\Documents\Участники олимпиад МОЙ КЛАСС\2 Д 2016-2017\1 четверть\Учителю\серт и благ пписьмо ВИДЕОУРОК\38786260. Свидетельство о подготовке победителя международной олимпиады проекта videouroki.net.jpg"/>
          <p:cNvPicPr/>
          <p:nvPr/>
        </p:nvPicPr>
        <p:blipFill>
          <a:blip r:embed="rId3"/>
          <a:stretch/>
        </p:blipFill>
        <p:spPr>
          <a:xfrm>
            <a:off x="4067280" y="836640"/>
            <a:ext cx="2017440" cy="2852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4"/>
          <a:stretch/>
        </p:blipFill>
        <p:spPr>
          <a:xfrm>
            <a:off x="34920" y="3610080"/>
            <a:ext cx="2565360" cy="1982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G:\Школьная доументация + Воспитательная работа\Мое Портфолио\Мои грамоты дипломы сертификаты благодарности свидетельства\Грамоты дипломы сертификаты\МОИ НАГРАДЫ 2015-2016\2 четверть 2015\svidetelstvo-1994007.png"/>
          <p:cNvPicPr/>
          <p:nvPr/>
        </p:nvPicPr>
        <p:blipFill>
          <a:blip r:embed="rId5"/>
          <a:stretch/>
        </p:blipFill>
        <p:spPr>
          <a:xfrm>
            <a:off x="5796000" y="1042920"/>
            <a:ext cx="2062080" cy="2905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G:\Школьная доументация + Воспитательная работа\Мое Портфолио\Мои грамоты дипломы сертификаты благодарности свидетельства\Грамоты дипломы сертификаты\МОИ НАГРАДЫ 2015-2016\2 четверть 2015\благодарность Уникум.png"/>
          <p:cNvPicPr/>
          <p:nvPr/>
        </p:nvPicPr>
        <p:blipFill>
          <a:blip r:embed="rId6"/>
          <a:stretch/>
        </p:blipFill>
        <p:spPr>
          <a:xfrm>
            <a:off x="7224840" y="1701720"/>
            <a:ext cx="1919160" cy="2716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G:\Школьная доументация + Воспитательная работа\Мое Портфолио\Мои грамоты дипломы сертификаты благодарности свидетельства\Грамоты дипломы сертификаты\МОИ НАГРАДЫ 2015-2016\2 четверть 2015\Сертификат проекта infourok.ru № ДВ-179270 (2).jpg"/>
          <p:cNvPicPr/>
          <p:nvPr/>
        </p:nvPicPr>
        <p:blipFill>
          <a:blip r:embed="rId7"/>
          <a:stretch/>
        </p:blipFill>
        <p:spPr>
          <a:xfrm>
            <a:off x="2278080" y="3689280"/>
            <a:ext cx="1782720" cy="2503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"/>
          <p:cNvPicPr/>
          <p:nvPr/>
        </p:nvPicPr>
        <p:blipFill>
          <a:blip r:embed="rId8"/>
          <a:stretch/>
        </p:blipFill>
        <p:spPr>
          <a:xfrm>
            <a:off x="-14400" y="5157720"/>
            <a:ext cx="2584440" cy="1825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G:\Школьная доументация + Воспитательная работа\Мое Портфолио\Мои грамоты дипломы сертификаты благодарности свидетельства\Грамоты дипломы сертификаты\МОИ НАГРАДЫ 2015-2016\2 четверть 2015\сертификат ФГОС - с эффектами.jpg"/>
          <p:cNvPicPr/>
          <p:nvPr/>
        </p:nvPicPr>
        <p:blipFill>
          <a:blip r:embed="rId9"/>
          <a:stretch/>
        </p:blipFill>
        <p:spPr>
          <a:xfrm>
            <a:off x="7311960" y="4394160"/>
            <a:ext cx="1797120" cy="2462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"/>
          <p:cNvPicPr/>
          <p:nvPr/>
        </p:nvPicPr>
        <p:blipFill>
          <a:blip r:embed="rId10"/>
          <a:stretch/>
        </p:blipFill>
        <p:spPr>
          <a:xfrm>
            <a:off x="2862360" y="5345280"/>
            <a:ext cx="2217600" cy="1552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" descr="G:\Школьная доументация + Воспитательная работа\Мое Портфолио\Мои грамоты дипломы сертификаты благодарности свидетельства\Грамоты дипломы сертификаты\МОИ НАГРАДЫ 2015-2016\4 четверть 2016\Нагрыды Васильевой М.И. Видеоуроки\Свид-во.jpg"/>
          <p:cNvPicPr/>
          <p:nvPr/>
        </p:nvPicPr>
        <p:blipFill>
          <a:blip r:embed="rId11"/>
          <a:stretch/>
        </p:blipFill>
        <p:spPr>
          <a:xfrm>
            <a:off x="4067280" y="3438360"/>
            <a:ext cx="1495440" cy="2114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9" descr="G:\Школьная доументация + Воспитательная работа\Мое Портфолио\Мои грамоты дипломы сертификаты благодарности свидетельства\Грамоты дипломы сертификаты\МОИ НАГРАДЫ 2015-2016\4 четверть 2016\Благодарность УНИКУМ МАЙ.png"/>
          <p:cNvPicPr/>
          <p:nvPr/>
        </p:nvPicPr>
        <p:blipFill>
          <a:blip r:embed="rId12"/>
          <a:stretch/>
        </p:blipFill>
        <p:spPr>
          <a:xfrm>
            <a:off x="5562720" y="4290840"/>
            <a:ext cx="17492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1033560" y="115920"/>
            <a:ext cx="691344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иплом призера муниципального конкурса видеороликов среди молодых педагогов "Космос-школа-человек", посвященного 50-ой годовщине полета Ю.А. Гагарина в Космо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амота за внеклассную работу и развитие волевых качеств воспитанни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иплом участника муниципального этапа 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спубликанского конкурса "Воспитать человека" в номинации "Классный руководитель го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лагодарственное письмо администрации школы №6 за вклад в развитие инновационных технологий в сфере электронного образо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ртификаты и благодарственные письма за подготовку учащихся к олимпиад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ртификаты за участие в вебинара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видетельства и сертификаты о публикации методических разработок на различных образовательных сайт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Характеристика профессиональной деятельности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572436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cc00"/>
                </a:solidFill>
                <a:latin typeface="Arial"/>
              </a:rPr>
              <a:t>Владение современными информационными технология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cc00"/>
                </a:solidFill>
                <a:latin typeface="Arial"/>
              </a:rPr>
              <a:t>Работа по програм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cc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cccc00"/>
                </a:solidFill>
                <a:latin typeface="Arial"/>
              </a:rPr>
              <a:t>«Начальная школа </a:t>
            </a: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XXI </a:t>
            </a:r>
            <a:r>
              <a:rPr b="1" i="1" lang="ru-RU" sz="2400" spc="-1" strike="noStrike">
                <a:solidFill>
                  <a:srgbClr val="cccc00"/>
                </a:solidFill>
                <a:latin typeface="Arial"/>
              </a:rPr>
              <a:t>века» под редакцией Н. Ф. Виноградовой</a:t>
            </a:r>
            <a:r>
              <a:rPr b="0" lang="ru-RU" sz="2400" spc="-1" strike="noStrike">
                <a:solidFill>
                  <a:srgbClr val="cc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cc00"/>
                </a:solidFill>
                <a:latin typeface="Arial"/>
              </a:rPr>
              <a:t>Участие в конкурсах муниципального и регионального масштаб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cc00"/>
                </a:solidFill>
                <a:latin typeface="Arial"/>
              </a:rPr>
              <a:t>Тема самообразования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cc00"/>
                </a:solidFill>
                <a:latin typeface="Arial"/>
              </a:rPr>
              <a:t>«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витие ИКТ - компетентности младших школьников в условиях внедрени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ГОС НОО</a:t>
            </a:r>
            <a:r>
              <a:rPr b="1" i="1" lang="ru-RU" sz="1800" spc="-1" strike="noStrike">
                <a:solidFill>
                  <a:srgbClr val="cccc00"/>
                </a:solidFill>
                <a:latin typeface="Arial"/>
              </a:rPr>
              <a:t>»</a:t>
            </a:r>
            <a:r>
              <a:rPr b="0" lang="ru-RU" sz="1800" spc="-1" strike="noStrike">
                <a:solidFill>
                  <a:srgbClr val="cc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4" descr="SDC17185"/>
          <p:cNvPicPr/>
          <p:nvPr/>
        </p:nvPicPr>
        <p:blipFill>
          <a:blip r:embed="rId1"/>
          <a:stretch/>
        </p:blipFill>
        <p:spPr>
          <a:xfrm>
            <a:off x="5478480" y="2421000"/>
            <a:ext cx="36306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0033"/>
                </a:solidFill>
                <a:latin typeface="Arial"/>
              </a:rPr>
              <a:t>Банк педагогических находок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76720" y="1267920"/>
            <a:ext cx="56592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Arial"/>
              </a:rPr>
              <a:t>Праздник «День Знаний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Arial"/>
              </a:rPr>
              <a:t>(для первоклассников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Arial"/>
              </a:rPr>
              <a:t>Внеклассное мероприятие «Знай свой лес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Arial"/>
              </a:rPr>
              <a:t>Внеклассное мероприятие «В стране мульти-пульт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Arial"/>
              </a:rPr>
              <a:t>Внеклассное мероприятие «Путь к доброму здоровью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Arial"/>
              </a:rPr>
              <a:t>Внеклассное мероприятие  (видеоролик)  «Космос – Человек – Школ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Arial"/>
              </a:rPr>
              <a:t>Городской конкурс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33cc"/>
                </a:solidFill>
                <a:latin typeface="Arial"/>
              </a:rPr>
              <a:t>«Безопасное Колесо 2011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Arial"/>
              </a:rPr>
              <a:t>Внеклассное мероприятие «Давайте жить дружно!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Arial"/>
              </a:rPr>
              <a:t>И многое, многое другое…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0589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Цель воспитательной работы</a:t>
            </a:r>
            <a:r>
              <a:rPr b="0" lang="ru-RU" sz="48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5406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здание условий для развития в младших школьниках качества доброты, дружбы, чувства толерант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Задач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Психолого-педагогическое изучение каждого ребенка и его семьи с целью определения его склонностей, способностей и возможностей  в процессе адаптации к школьному обучению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Создание детско-взрослой общности с целью сотрудничества «ученик – учитель- родитель»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Целенаправленное обучение коллективной и групповой деятельности для развития коммуникативных способностей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Приобщение детей к культуре родного края, традициям семьи, школы, города и района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7:29:30Z</dcterms:created>
  <dc:creator>User</dc:creator>
  <dc:description/>
  <dc:language>en-US</dc:language>
  <cp:lastModifiedBy>Дом</cp:lastModifiedBy>
  <dcterms:modified xsi:type="dcterms:W3CDTF">2016-10-29T10:54:40Z</dcterms:modified>
  <cp:revision>34</cp:revision>
  <dc:subject/>
  <dc:title>Слайд 1</dc:title>
</cp:coreProperties>
</file>