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B4D-77B8-4865-B578-186257D2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9E9-56F5-4A68-AD52-61F747AB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2D0-1557-48CF-AD05-431D0AA0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40A-56A5-4C1B-8CC4-464E51C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D28-7CE2-45DC-89A4-A4BA3596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2D9-0747-4A98-BAAC-7466331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CD9-BB5C-475B-99D0-2F1FD02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55E-080A-4C1A-90A4-FAFF49C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049-4A9F-4FCC-8287-E685482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064-874C-4D47-B43B-0071AA9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C15-8A9F-45E7-BEE3-CC84E94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1D8-9A34-4212-98EF-2DAFE2A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5041-3B72-46C9-BAC9-F53B6E7AE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4140360" y="476280"/>
            <a:ext cx="446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4356000" y="1916280"/>
            <a:ext cx="396108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монць палать эзда 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http://foto-zverey.ru/images/ptica-88_small1.jpg"/>
          <p:cNvPicPr/>
          <p:nvPr/>
        </p:nvPicPr>
        <p:blipFill>
          <a:blip r:embed="rId1"/>
          <a:stretch/>
        </p:blipFill>
        <p:spPr>
          <a:xfrm>
            <a:off x="2155680" y="1633680"/>
            <a:ext cx="4249800" cy="450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манть пяльде сась пожар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79311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мбе ворьгодих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16400" cy="513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vgorbatov.ru/wp-content/uploads/2011/03/news-zguravl-pozgar1.jpg"/>
          <p:cNvPicPr/>
          <p:nvPr/>
        </p:nvPicPr>
        <p:blipFill>
          <a:blip r:embed="rId2"/>
          <a:stretch/>
        </p:blipFill>
        <p:spPr>
          <a:xfrm>
            <a:off x="96840" y="1690560"/>
            <a:ext cx="439740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рды, шаш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75564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62502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62502"/>
              </a:solidFill>
              <a:latin typeface="Arial"/>
              <a:ea typeface="Arial"/>
            </a:endParaRPr>
          </a:p>
        </p:txBody>
      </p:sp>
      <p:pic>
        <p:nvPicPr>
          <p:cNvPr id="87" name="Picture 5" descr="http://ludoedoff.ru/site/food/18/Muravei.jpg"/>
          <p:cNvPicPr/>
          <p:nvPr/>
        </p:nvPicPr>
        <p:blipFill>
          <a:blip r:embed="rId1"/>
          <a:stretch/>
        </p:blipFill>
        <p:spPr>
          <a:xfrm>
            <a:off x="900000" y="1139760"/>
            <a:ext cx="705672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нь шуфттама, ковга вастстонк аф ту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Объект 5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47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моттне аф тиихть пиз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822960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5" descr=""/>
          <p:cNvPicPr/>
          <p:nvPr/>
        </p:nvPicPr>
        <p:blipFill>
          <a:blip r:embed="rId2"/>
          <a:stretch/>
        </p:blipFill>
        <p:spPr>
          <a:xfrm>
            <a:off x="4648320" y="1700280"/>
            <a:ext cx="4387680" cy="4968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 касы ксты и па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евсь вирень калмола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5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362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дихть байдек, синдихть 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2460600" y="1111320"/>
            <a:ext cx="42213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250920" y="1417680"/>
            <a:ext cx="3994200" cy="5106960"/>
          </a:xfrm>
          <a:prstGeom prst="rect">
            <a:avLst/>
          </a:prstGeom>
          <a:ln w="0">
            <a:noFill/>
          </a:ln>
        </p:spPr>
      </p:pic>
      <p:pic>
        <p:nvPicPr>
          <p:cNvPr id="102" name="Объект 5" descr=""/>
          <p:cNvPicPr/>
          <p:nvPr/>
        </p:nvPicPr>
        <p:blipFill>
          <a:blip r:embed="rId2"/>
          <a:stretch/>
        </p:blipFill>
        <p:spPr>
          <a:xfrm>
            <a:off x="4967280" y="1417680"/>
            <a:ext cx="3925800" cy="5324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уфттке шуди сельмове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276720" y="189000"/>
            <a:ext cx="5867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d0c9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50971"/>
                </a:solidFill>
                <a:latin typeface="Monotype Corsiv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нфтсазь салмоксонза сеель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1" descr="http://foto-zverey.ru/ezhi/ezh4.jpg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8"/>
          <p:cNvSpPr txBox="1"/>
          <p:nvPr/>
        </p:nvSpPr>
        <p:spPr>
          <a:xfrm>
            <a:off x="5580000" y="5734080"/>
            <a:ext cx="2737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426960"/>
            <a:ext cx="55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1" descr="http://russiantourism.ru/uploads/Message504/8811/0_12915c_9ad96a9_orig.jpg"/>
          <p:cNvPicPr/>
          <p:nvPr/>
        </p:nvPicPr>
        <p:blipFill>
          <a:blip r:embed="rId1"/>
          <a:stretch/>
        </p:blipFill>
        <p:spPr>
          <a:xfrm>
            <a:off x="155520" y="1060560"/>
            <a:ext cx="8161560" cy="5537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нксне андсамазь-симдьсама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5160" y="1089000"/>
            <a:ext cx="8161560" cy="538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4"/>
          <p:cNvSpPr txBox="1"/>
          <p:nvPr/>
        </p:nvSpPr>
        <p:spPr>
          <a:xfrm>
            <a:off x="324000" y="260280"/>
            <a:ext cx="201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4356000" y="2349360"/>
            <a:ext cx="10080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унжа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http://livt.net/info/wp-content/uploads/2015/10/%D0%91%D0%BE%D0%B6%D1%8C%D0%B8-%D0%BA%D0%BE%D1%80%D0%BE%D0%B2%D0%BA%D0%B81.jpg"/>
          <p:cNvPicPr/>
          <p:nvPr/>
        </p:nvPicPr>
        <p:blipFill>
          <a:blip r:embed="rId1"/>
          <a:stretch/>
        </p:blipFill>
        <p:spPr>
          <a:xfrm>
            <a:off x="684360" y="1066680"/>
            <a:ext cx="76327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9"/>
          <p:cNvSpPr txBox="1"/>
          <p:nvPr/>
        </p:nvSpPr>
        <p:spPr>
          <a:xfrm>
            <a:off x="2484360" y="692280"/>
            <a:ext cx="3745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692360" y="2611440"/>
            <a:ext cx="55530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аф меш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http://www.zolotovsky.ru/images/bee/2.jpg"/>
          <p:cNvPicPr/>
          <p:nvPr/>
        </p:nvPicPr>
        <p:blipFill>
          <a:blip r:embed="rId1"/>
          <a:stretch/>
        </p:blipFill>
        <p:spPr>
          <a:xfrm>
            <a:off x="755640" y="1273320"/>
            <a:ext cx="79311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2195640" y="2349360"/>
            <a:ext cx="511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10" descr="Картинки по запросу волки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5111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врьгас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12"/>
          <p:cNvSpPr txBox="1"/>
          <p:nvPr/>
        </p:nvSpPr>
        <p:spPr>
          <a:xfrm>
            <a:off x="5940360" y="1052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 уча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/fermus.ru/wp-content/uploads/2015/07/shutterstock_104360954.jpg"/>
          <p:cNvPicPr/>
          <p:nvPr/>
        </p:nvPicPr>
        <p:blipFill>
          <a:blip r:embed="rId1"/>
          <a:stretch/>
        </p:blipFill>
        <p:spPr>
          <a:xfrm>
            <a:off x="539640" y="1052640"/>
            <a:ext cx="8147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50920" y="260280"/>
            <a:ext cx="792000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68360" y="2592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c9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324000" y="3645000"/>
            <a:ext cx="82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аф кельме цярахматт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rulim.org/uploads/posts/2013-04/1366921805_1220373669_grad_02.jpg"/>
          <p:cNvPicPr/>
          <p:nvPr/>
        </p:nvPicPr>
        <p:blipFill>
          <a:blip r:embed="rId1"/>
          <a:stretch/>
        </p:blipFill>
        <p:spPr>
          <a:xfrm>
            <a:off x="755640" y="1052640"/>
            <a:ext cx="777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6"/>
          <p:cNvSpPr txBox="1"/>
          <p:nvPr/>
        </p:nvSpPr>
        <p:spPr>
          <a:xfrm>
            <a:off x="684360" y="476280"/>
            <a:ext cx="273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 тувось          Аф сярд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www.9ptiz.ru/zveri/kaban/kaban1_300.jpg"/>
          <p:cNvPicPr/>
          <p:nvPr/>
        </p:nvPicPr>
        <p:blipFill>
          <a:blip r:embed="rId1"/>
          <a:stretch/>
        </p:blipFill>
        <p:spPr>
          <a:xfrm>
            <a:off x="108000" y="1700280"/>
            <a:ext cx="4176720" cy="41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start-hunting.by/sites/starthunting/img/article/19639/760x570/image-162367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8:21:18Z</dcterms:created>
  <dc:creator>Кубасовы</dc:creator>
  <dc:description/>
  <dc:language>en-US</dc:language>
  <cp:lastModifiedBy>Пользователь</cp:lastModifiedBy>
  <dcterms:modified xsi:type="dcterms:W3CDTF">2016-11-01T16:48:13Z</dcterms:modified>
  <cp:revision>178</cp:revision>
  <dc:subject/>
  <dc:title>Слайд 1</dc:title>
</cp:coreProperties>
</file>