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7.gif" ContentType="image/gif"/>
  <Override PartName="/ppt/media/image12.gif" ContentType="image/gif"/>
  <Override PartName="/ppt/media/image8.jpeg" ContentType="image/jpe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4995-79D7-46AB-A45B-F66DFFDF59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E565-5032-4F83-941F-1ECF751F8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9A4D-7EA1-4A15-8672-F2566EE5D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1B1E-5E77-4E97-9FE2-1DDB057D0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E4AE-8A54-4434-AB38-82F8578A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E12B3-711C-463B-80A3-372BF222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F85-FCAC-4F22-97A3-8939EB9D4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65F1-4BBC-480B-A47F-529D8187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FF4-4ADC-4C7D-8C45-2E24446C7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7B64-4A3F-446F-BAF3-580796ADF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5A3C-E22C-4C21-AAFE-4C5808D64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74A2-5C68-424F-A138-6865F344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D225-5B3F-480E-B2E4-62579129515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1.xml"/><Relationship Id="rId3" Type="http://schemas.openxmlformats.org/officeDocument/2006/relationships/image" Target="../media/image7.gif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900000" y="692280"/>
            <a:ext cx="74962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ра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395280" y="1695600"/>
            <a:ext cx="7934400" cy="490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Gungsuh"/>
              </a:rPr>
              <a:t>«Счастливый </a:t>
            </a:r>
            <a:endParaRPr b="0" i="1" lang="en-US" sz="66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Gungsuh"/>
              <a:ea typeface="Gungsu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Gungsuh"/>
              </a:rPr>
              <a:t>случай»</a:t>
            </a:r>
            <a:endParaRPr b="0" i="1" lang="en-US" sz="66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Gungsuh"/>
              <a:ea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.Дом, где молятся православные – эт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987640" y="3645000"/>
            <a:ext cx="3024360" cy="689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ЦЕРКОВ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22320" y="1301760"/>
            <a:ext cx="9144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3.Главная религия христиан – эт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03640" y="4076640"/>
            <a:ext cx="302400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ПРАВОСЛАВ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042920" y="549360"/>
            <a:ext cx="7777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4.Посланники - ближайшие ученики Иисуса, которые могли бы повторять   его наставления другим людям - эт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859280" y="5745240"/>
            <a:ext cx="30258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45"/>
                </a:solidFill>
                <a:latin typeface="Arial"/>
              </a:rPr>
              <a:t>апост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95280" y="1700280"/>
            <a:ext cx="87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5.Злой поступок человека,  совершенный в нарушение заповедей  Бога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5292720" y="5013360"/>
            <a:ext cx="302436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ГРЕ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684360" y="69228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6. Большой корабль,  который помог спастись семье Ноя во время всемирного   потопа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5692680" y="443700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КОВЧЕ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Книга, где написано о рождении, жизни, смерти и воскресении  из мертвых Иисуса   Христа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4859280" y="479736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ЕВАНГЕЛ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.Сад, где произрастали деревья с разными плодами, которые человек мог употреблять в пищу –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5292720" y="508464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Р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.Мудрецы, которые пришли вручить свои дары новорожденному  Иисусу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4859280" y="494172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ВОЛХ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Изображение лика святых - 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Дом, где молятся православные –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Главная религия христиан –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Посланники - ближайшие ученики Иисуса, которые могли бы повторять   его наставления другим людям -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5230800" y="592200"/>
            <a:ext cx="302436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К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489640" y="5877000"/>
            <a:ext cx="30258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апост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5468760" y="3235320"/>
            <a:ext cx="302436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православ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5338800" y="1959120"/>
            <a:ext cx="3024000" cy="688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церков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Злой поступок человека,  совершенный в нарушение заповедей  Бога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Большой корабль,  который помог спастись семье Ноя во время всемирного   потопа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5662440" y="1700280"/>
            <a:ext cx="302436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ГРЕ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5692680" y="443700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КОВЧЕ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ай честно!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идно, когда проигрываешь, но не злись!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лорадствуй, когда проигрывают другие!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играл – радуйся, но не зазнавайся!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 стойким, не унывай при неудач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.Книга, где написано о рождении, жизни, смерти и воскресении  из мертвых Иисуса   Христа -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.Сад, где произрастали деревья с разными плодами, которые человек мог употреблять в пищу –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.Мудрецы, которые пришли вручить свои дары новорожденному  Иисусу -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5435640" y="1916280"/>
            <a:ext cx="30240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ЕВАНГЕЛ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435640" y="4149720"/>
            <a:ext cx="30240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Р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5435640" y="6037200"/>
            <a:ext cx="302400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ВОЛХ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5435640" y="1868400"/>
            <a:ext cx="302400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ЕВАНГЕЛ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5435640" y="1897200"/>
            <a:ext cx="30240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ЕВАНГЕЛ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514680" y="627120"/>
            <a:ext cx="31734000" cy="141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Смотреть мультфильмы кот леопольд онлайн - анимашки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929480"/>
          </a:xfrm>
          <a:prstGeom prst="rect">
            <a:avLst/>
          </a:prstGeom>
          <a:ln w="0">
            <a:noFill/>
          </a:ln>
        </p:spPr>
      </p:pic>
      <p:pic>
        <p:nvPicPr>
          <p:cNvPr id="112" name="Pesnya-kota-Leopol_da-esli-dobryy-ty-to-vsegda-legko(muzofon.co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ейм 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179280" y="1413000"/>
            <a:ext cx="896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Тёмная лошадка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5" name="Picture 5" descr="129"/>
          <p:cNvPicPr/>
          <p:nvPr/>
        </p:nvPicPr>
        <p:blipFill>
          <a:blip r:embed="rId1"/>
          <a:stretch/>
        </p:blipFill>
        <p:spPr>
          <a:xfrm>
            <a:off x="3995640" y="3789360"/>
            <a:ext cx="46339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324000" y="1341360"/>
            <a:ext cx="842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 из конверта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33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ейм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539640" y="765000"/>
            <a:ext cx="8209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сем удачи! До новых встреч!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6" descr="352"/>
          <p:cNvPicPr/>
          <p:nvPr/>
        </p:nvPicPr>
        <p:blipFill>
          <a:blip r:embed="rId1"/>
          <a:stretch/>
        </p:blipFill>
        <p:spPr>
          <a:xfrm>
            <a:off x="468360" y="3213000"/>
            <a:ext cx="4427640" cy="3100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89"/>
          <p:cNvPicPr/>
          <p:nvPr/>
        </p:nvPicPr>
        <p:blipFill>
          <a:blip r:embed="rId2"/>
          <a:stretch/>
        </p:blipFill>
        <p:spPr>
          <a:xfrm>
            <a:off x="5940360" y="3213000"/>
            <a:ext cx="26938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611280" y="1268280"/>
            <a:ext cx="80643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«Разминка»</a:t>
            </a:r>
            <a:endParaRPr b="1" lang="en-US" sz="66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ейм 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38"/>
          <p:cNvPicPr/>
          <p:nvPr/>
        </p:nvPicPr>
        <p:blipFill>
          <a:blip r:embed="rId1"/>
          <a:stretch/>
        </p:blipFill>
        <p:spPr>
          <a:xfrm>
            <a:off x="684360" y="4437000"/>
            <a:ext cx="1672920" cy="200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medved98"/>
          <p:cNvPicPr/>
          <p:nvPr/>
        </p:nvPicPr>
        <p:blipFill>
          <a:blip r:embed="rId2"/>
          <a:stretch/>
        </p:blipFill>
        <p:spPr>
          <a:xfrm>
            <a:off x="7020000" y="4508640"/>
            <a:ext cx="17319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0"/>
            <a:ext cx="8209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9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опросы к команде 1: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Picture 5" descr="194"/>
          <p:cNvPicPr/>
          <p:nvPr/>
        </p:nvPicPr>
        <p:blipFill>
          <a:blip r:embed="rId1"/>
          <a:stretch/>
        </p:blipFill>
        <p:spPr>
          <a:xfrm>
            <a:off x="2843280" y="2781360"/>
            <a:ext cx="315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 какое время Бог создал ми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Как звали первого человека на Земл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Сколько заповедей дал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исею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Кого христиане считают сыном Божием и Спасителем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2771640" y="836640"/>
            <a:ext cx="396108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771640" y="2133720"/>
            <a:ext cx="3932280" cy="574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924280" y="3573360"/>
            <a:ext cx="3932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2924280" y="5589720"/>
            <a:ext cx="393228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исуса Хр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6"/>
          <p:cNvSpPr txBox="1"/>
          <p:nvPr/>
        </p:nvSpPr>
        <p:spPr>
          <a:xfrm>
            <a:off x="539640" y="0"/>
            <a:ext cx="8209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Вопросы к команде 2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7" descr="fairy20"/>
          <p:cNvPicPr/>
          <p:nvPr/>
        </p:nvPicPr>
        <p:blipFill>
          <a:blip r:embed="rId1"/>
          <a:stretch/>
        </p:blipFill>
        <p:spPr>
          <a:xfrm>
            <a:off x="3276720" y="3141720"/>
            <a:ext cx="27525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Как звали жену первого человека на Земл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В каком городе люди хотели построить башню до небе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Во сколько лет  Иисус начал проповедовать свое уч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Какой церковный праздник не имеет постоянной даты праздн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3564000" y="665280"/>
            <a:ext cx="43210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573360" y="4327560"/>
            <a:ext cx="434664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564000" y="2624040"/>
            <a:ext cx="4346640" cy="52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3594240" y="6138720"/>
            <a:ext cx="43462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ейм 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dArt 5" descr=""/>
          <p:cNvPicPr/>
          <p:nvPr/>
        </p:nvPicPr>
        <p:blipFill>
          <a:blip r:embed="rId1"/>
          <a:stretch/>
        </p:blipFill>
        <p:spPr>
          <a:xfrm>
            <a:off x="324000" y="1163520"/>
            <a:ext cx="8570880" cy="298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7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45480" y="3884760"/>
            <a:ext cx="2273040" cy="2727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3">
            <a:hlinkClick r:id="rId4" action="ppaction://hlinksldjump"/>
          </p:cNvPr>
          <p:cNvSpPr/>
          <p:nvPr/>
        </p:nvSpPr>
        <p:spPr>
          <a:xfrm>
            <a:off x="2219400" y="4338720"/>
            <a:ext cx="90648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4">
            <a:hlinkClick r:id="rId5" action="ppaction://hlinksldjump"/>
          </p:cNvPr>
          <p:cNvSpPr/>
          <p:nvPr/>
        </p:nvSpPr>
        <p:spPr>
          <a:xfrm>
            <a:off x="3475080" y="4338720"/>
            <a:ext cx="90792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5">
            <a:hlinkClick r:id="rId6" action="ppaction://hlinksldjump"/>
          </p:cNvPr>
          <p:cNvSpPr/>
          <p:nvPr/>
        </p:nvSpPr>
        <p:spPr>
          <a:xfrm>
            <a:off x="4648320" y="4338720"/>
            <a:ext cx="90648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7">
            <a:hlinkClick r:id="rId7" action="ppaction://hlinksldjump"/>
          </p:cNvPr>
          <p:cNvSpPr/>
          <p:nvPr/>
        </p:nvSpPr>
        <p:spPr>
          <a:xfrm>
            <a:off x="1633680" y="5481720"/>
            <a:ext cx="90792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18">
            <a:hlinkClick r:id="rId8" action="ppaction://hlinksldjump"/>
          </p:cNvPr>
          <p:cNvSpPr/>
          <p:nvPr/>
        </p:nvSpPr>
        <p:spPr>
          <a:xfrm>
            <a:off x="2781360" y="5481720"/>
            <a:ext cx="90792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19">
            <a:hlinkClick r:id="rId9" action="ppaction://hlinksldjump"/>
          </p:cNvPr>
          <p:cNvSpPr/>
          <p:nvPr/>
        </p:nvSpPr>
        <p:spPr>
          <a:xfrm>
            <a:off x="3929040" y="5481720"/>
            <a:ext cx="90648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20">
            <a:hlinkClick r:id="rId10" action="ppaction://hlinksldjump"/>
          </p:cNvPr>
          <p:cNvSpPr/>
          <p:nvPr/>
        </p:nvSpPr>
        <p:spPr>
          <a:xfrm>
            <a:off x="5184720" y="5481720"/>
            <a:ext cx="90828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21"/>
          <p:cNvSpPr/>
          <p:nvPr/>
        </p:nvSpPr>
        <p:spPr>
          <a:xfrm>
            <a:off x="6357960" y="5481720"/>
            <a:ext cx="90792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22"/>
          <p:cNvSpPr/>
          <p:nvPr/>
        </p:nvSpPr>
        <p:spPr>
          <a:xfrm>
            <a:off x="568440" y="5494320"/>
            <a:ext cx="90648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1341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.Изображение лика святых -  эт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276720" y="4221000"/>
            <a:ext cx="302400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К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04:19Z</dcterms:created>
  <dc:creator>Яна</dc:creator>
  <dc:description/>
  <dc:language>en-US</dc:language>
  <cp:lastModifiedBy>user-4</cp:lastModifiedBy>
  <dcterms:modified xsi:type="dcterms:W3CDTF">2014-12-05T08:27:29Z</dcterms:modified>
  <cp:revision>37</cp:revision>
  <dc:subject/>
  <dc:title>Слайд 1</dc:title>
</cp:coreProperties>
</file>