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DAF-801F-432B-B0E2-F2CD2EAF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4B6-2BF5-44AC-BC2E-1E17860A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85A-63E5-4220-80AC-6BE6A626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4624-2ECD-4B3C-B5AD-64D12CE6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91B5-6C8B-4704-A0A7-CDC55DEA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9958-A119-414B-AFEF-712A193C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1409-DC02-4AC2-896A-B88BA948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03CA-8905-431F-A8F9-4DF82475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8BDC-13FB-49D1-8A49-993D9563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62CD-F12C-4226-977E-3BFA50B7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A555-3480-45F5-8DAA-7EDDCD1C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DAAA-870A-41DE-93EF-FF29633B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BC39-5366-4914-A626-8B1F4F64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BCF0-A968-4A30-ACAE-F0BD8E7C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39C4-A318-4A2D-BE5C-05BBBADE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2417-6F97-4082-B075-EB454B91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461B-30B2-4676-B20B-BDA987F8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3C2-596E-4592-AC1E-8F5F27B4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8FE-179C-4229-8932-CF0A9172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D6A-4B40-406A-9269-844F1CE7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4CD-0444-4AC7-858A-C94D7062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E43-0065-480A-BD48-8BD489DD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560E-2966-4253-867C-F0C7D62C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D9D-A2ED-4B14-A560-DF2EFF88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AA21-796C-4C80-A5A0-395B15AF1A0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6CD9-ECBA-48BB-B6C5-1349CEF6850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Инструменты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графического редактора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5368320" y="5732640"/>
            <a:ext cx="319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удрявцева София, 8 клас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4"/>
          <p:cNvSpPr txBox="1"/>
          <p:nvPr/>
        </p:nvSpPr>
        <p:spPr>
          <a:xfrm>
            <a:off x="324000" y="189000"/>
            <a:ext cx="7993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4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3f3f3"/>
                    </a:gs>
                    <a:gs pos="100000">
                      <a:srgbClr val="8e8e8e"/>
                    </a:gs>
                  </a:gsLst>
                  <a:lin ang="5400000"/>
                </a:gradFill>
                <a:effectLst>
                  <a:outerShdw dist="37996" dir="7023035" blurRad="0" rotWithShape="0">
                    <a:srgbClr val="000000">
                      <a:alpha val="35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24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3f3f3"/>
                    </a:gs>
                    <a:gs pos="100000">
                      <a:srgbClr val="8e8e8e"/>
                    </a:gs>
                  </a:gsLst>
                  <a:lin ang="5400000"/>
                </a:gradFill>
                <a:effectLst>
                  <a:outerShdw dist="37996" dir="7023035" blurRad="0" rotWithShape="0">
                    <a:srgbClr val="000000">
                      <a:alpha val="35000"/>
                    </a:srgbClr>
                  </a:outerShdw>
                </a:effectLst>
                <a:latin typeface="Impact"/>
              </a:rPr>
              <a:t>_____ _____</a:t>
            </a:r>
            <a:endParaRPr b="1" lang="en-US" sz="1800" spc="1" strike="noStrike">
              <a:ln w="24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3f3f3"/>
                  </a:gs>
                  <a:gs pos="100000">
                    <a:srgbClr val="8e8e8e"/>
                  </a:gs>
                </a:gsLst>
                <a:lin ang="5400000"/>
              </a:gradFill>
              <a:effectLst>
                <a:outerShdw dist="37996" dir="7023035" blurRad="0" rotWithShape="0">
                  <a:srgbClr val="000000">
                    <a:alpha val="3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3062520" cy="3027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2"/>
          <a:stretch/>
        </p:blipFill>
        <p:spPr>
          <a:xfrm>
            <a:off x="5076720" y="2349360"/>
            <a:ext cx="24051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3059280" y="1447920"/>
            <a:ext cx="4076640" cy="541008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3" descr=""/>
          <p:cNvPicPr/>
          <p:nvPr/>
        </p:nvPicPr>
        <p:blipFill>
          <a:blip r:embed="rId2"/>
          <a:stretch/>
        </p:blipFill>
        <p:spPr>
          <a:xfrm>
            <a:off x="1768320" y="85680"/>
            <a:ext cx="620568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2411280" y="260280"/>
            <a:ext cx="54136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ногоуголь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2524320" cy="4438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8890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5"/>
          <p:cNvSpPr txBox="1"/>
          <p:nvPr/>
        </p:nvSpPr>
        <p:spPr>
          <a:xfrm>
            <a:off x="1042920" y="620640"/>
            <a:ext cx="72741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4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3f3f3"/>
                    </a:gs>
                    <a:gs pos="100000">
                      <a:srgbClr val="8e8e8e"/>
                    </a:gs>
                  </a:gsLst>
                  <a:lin ang="5400000"/>
                </a:gradFill>
                <a:effectLst>
                  <a:outerShdw dist="37996" dir="7023035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24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3f3f3"/>
                    </a:gs>
                    <a:gs pos="100000">
                      <a:srgbClr val="8e8e8e"/>
                    </a:gs>
                  </a:gsLst>
                  <a:lin ang="5400000"/>
                </a:gradFill>
                <a:effectLst>
                  <a:outerShdw dist="37996" dir="7023035" blurRad="0" rotWithShape="0">
                    <a:srgbClr val="000000">
                      <a:alpha val="35000"/>
                    </a:srgbClr>
                  </a:outerShdw>
                </a:effectLst>
                <a:latin typeface="Arial"/>
              </a:rPr>
              <a:t>_____</a:t>
            </a:r>
            <a:endParaRPr b="1" lang="en-US" sz="1800" spc="1" strike="noStrike">
              <a:ln w="24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3f3f3"/>
                  </a:gs>
                  <a:gs pos="100000">
                    <a:srgbClr val="8e8e8e"/>
                  </a:gs>
                </a:gsLst>
                <a:lin ang="5400000"/>
              </a:gradFill>
              <a:effectLst>
                <a:outerShdw dist="37996" dir="7023035" blurRad="0" rotWithShape="0">
                  <a:srgbClr val="000000">
                    <a:alpha val="35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3240000" cy="3889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2"/>
          <a:stretch/>
        </p:blipFill>
        <p:spPr>
          <a:xfrm>
            <a:off x="5867280" y="2997360"/>
            <a:ext cx="2664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611280" y="3141720"/>
            <a:ext cx="8064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4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3f3f3"/>
                    </a:gs>
                    <a:gs pos="100000">
                      <a:srgbClr val="8e8e8e"/>
                    </a:gs>
                  </a:gsLst>
                  <a:lin ang="5400000"/>
                </a:gradFill>
                <a:effectLst>
                  <a:outerShdw dist="37996" dir="7023035" blurRad="0" rotWithShape="0">
                    <a:srgbClr val="000000">
                      <a:alpha val="35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24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3f3f3"/>
                    </a:gs>
                    <a:gs pos="100000">
                      <a:srgbClr val="8e8e8e"/>
                    </a:gs>
                  </a:gsLst>
                  <a:lin ang="5400000"/>
                </a:gradFill>
                <a:effectLst>
                  <a:outerShdw dist="37996" dir="7023035" blurRad="0" rotWithShape="0">
                    <a:srgbClr val="000000">
                      <a:alpha val="35000"/>
                    </a:srgbClr>
                  </a:outerShdw>
                </a:effectLst>
                <a:latin typeface="Times New Roman"/>
              </a:rPr>
              <a:t>__________ _____________</a:t>
            </a:r>
            <a:endParaRPr b="1" lang="en-US" sz="1800" spc="1" strike="noStrike">
              <a:ln w="24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3f3f3"/>
                  </a:gs>
                  <a:gs pos="100000">
                    <a:srgbClr val="8e8e8e"/>
                  </a:gs>
                </a:gsLst>
                <a:lin ang="5400000"/>
              </a:gradFill>
              <a:effectLst>
                <a:outerShdw dist="37996" dir="7023035" blurRad="0" rotWithShape="0">
                  <a:srgbClr val="000000">
                    <a:alpha val="3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2411280" y="0"/>
            <a:ext cx="36385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48000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менять для рисования произвольно «краски» и «кисти»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234324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величивать фрагмент изображения проработки мелких детал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4248000" cy="434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6516720" y="2708280"/>
            <a:ext cx="1440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кла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63072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2340000" y="549360"/>
            <a:ext cx="3960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аспылител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2340000" y="2276640"/>
            <a:ext cx="4319640" cy="43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>
            <a:off x="900000" y="549360"/>
            <a:ext cx="7128000" cy="48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ирательная рези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2195640" y="2205000"/>
            <a:ext cx="2016000" cy="3529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4716360" y="2205000"/>
            <a:ext cx="2087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1403280" y="404640"/>
            <a:ext cx="6337440" cy="17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ливк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5651640" y="2492280"/>
            <a:ext cx="2376360" cy="3600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2340000" y="2492280"/>
            <a:ext cx="2376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1908000" y="0"/>
            <a:ext cx="56898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аранда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2376360" cy="2808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4788000" y="3141720"/>
            <a:ext cx="302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2556000" y="2349360"/>
            <a:ext cx="2867040" cy="4105440"/>
          </a:xfrm>
          <a:prstGeom prst="rect">
            <a:avLst/>
          </a:prstGeom>
          <a:ln w="0">
            <a:noFill/>
          </a:ln>
        </p:spPr>
      </p:pic>
      <p:sp>
        <p:nvSpPr>
          <p:cNvPr id="172" name="WordArt 6"/>
          <p:cNvSpPr txBox="1"/>
          <p:nvPr/>
        </p:nvSpPr>
        <p:spPr>
          <a:xfrm>
            <a:off x="1979640" y="404640"/>
            <a:ext cx="55148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7:34:51Z</dcterms:created>
  <dc:creator>teacher</dc:creator>
  <dc:description/>
  <dc:language>en-US</dc:language>
  <cp:lastModifiedBy>kompik</cp:lastModifiedBy>
  <dcterms:modified xsi:type="dcterms:W3CDTF">2016-11-20T19:25:48Z</dcterms:modified>
  <cp:revision>8</cp:revision>
  <dc:subject/>
  <dc:title>Режим работы с графическим редактором.</dc:title>
</cp:coreProperties>
</file>