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403-BEBD-438D-A0F4-D83D7D42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F2A-4A6F-4A1C-892F-F6124405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4AD-1E6A-4BB4-952C-BF22A8C9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586-1078-4BE4-9D3E-102C6418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D84-8B3F-4D63-BD89-61912CB3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2D3-C62D-4062-8085-7E585A5D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6E2-7722-413E-8E69-0922EB2E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1BE-DEBC-4ADA-910B-543404D9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653-8C35-4676-9275-6ACCAA3C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29C-EC54-48F5-A925-5A6F744C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9EE-1255-4257-96B9-50AD2266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E4E-B5AF-4998-9807-2114A8D7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2129-1423-4976-9D6E-F45AC10914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gannibal_m_a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pushkin.niv.ru/images/people/pushkina_m_a_2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_a_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pushkin.niv.ru/images/people/pushkin_a_a_2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_g_a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a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leksandrpushkin.net.ru/lib/sb/book/2603" TargetMode="External"/><Relationship Id="rId2" Type="http://schemas.openxmlformats.org/officeDocument/2006/relationships/hyperlink" Target="http://www.aleksandrpushkin.net.ru/lib/sb/book/2602" TargetMode="External"/><Relationship Id="rId3" Type="http://schemas.openxmlformats.org/officeDocument/2006/relationships/hyperlink" Target="http://www.aleksandrpushkin.net.ru/lib/sb/book/2604" TargetMode="External"/><Relationship Id="rId4" Type="http://schemas.openxmlformats.org/officeDocument/2006/relationships/hyperlink" Target="http://www.aleksandrpushkin.net.ru/lib/sb/book/2601" TargetMode="Externa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aleksandrpushkin.net.ru/lib/sb/book/136" TargetMode="External"/><Relationship Id="rId2" Type="http://schemas.openxmlformats.org/officeDocument/2006/relationships/hyperlink" Target="http://www.aleksandrpushkin.net.ru/lib/sb/book/134" TargetMode="External"/><Relationship Id="rId3" Type="http://schemas.openxmlformats.org/officeDocument/2006/relationships/hyperlink" Target="http://www.aleksandrpushkin.net.ru/lib/sb/book/2632" TargetMode="External"/><Relationship Id="rId4" Type="http://schemas.openxmlformats.org/officeDocument/2006/relationships/hyperlink" Target="http://www.aleksandrpushkin.net.ru/lib/sb/book/2628" TargetMode="External"/><Relationship Id="rId5" Type="http://schemas.openxmlformats.org/officeDocument/2006/relationships/hyperlink" Target="http://www.aleksandrpushkin.net.ru/lib/sb/book/2631" TargetMode="External"/><Relationship Id="rId6" Type="http://schemas.openxmlformats.org/officeDocument/2006/relationships/hyperlink" Target="http://www.aleksandrpushkin.net.ru/lib/sb/book/2630" TargetMode="External"/><Relationship Id="rId7" Type="http://schemas.openxmlformats.org/officeDocument/2006/relationships/hyperlink" Target="http://www.aleksandrpushkin.net.ru/lib/sb/book/2629" TargetMode="Externa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leksandrpushkin.net.ru/lib/sb/book/141" TargetMode="External"/><Relationship Id="rId2" Type="http://schemas.openxmlformats.org/officeDocument/2006/relationships/hyperlink" Target="http://www.aleksandrpushkin.net.ru/lib/sb/book/143" TargetMode="External"/><Relationship Id="rId3" Type="http://schemas.openxmlformats.org/officeDocument/2006/relationships/hyperlink" Target="http://www.aleksandrpushkin.net.ru/lib/sb/book/142" TargetMode="External"/><Relationship Id="rId4" Type="http://schemas.openxmlformats.org/officeDocument/2006/relationships/hyperlink" Target="http://www.aleksandrpushkin.net.ru/lib/sb/book/2655" TargetMode="External"/><Relationship Id="rId5" Type="http://schemas.openxmlformats.org/officeDocument/2006/relationships/hyperlink" Target="http://www.aleksandrpushkin.net.ru/lib/sb/book/2662" TargetMode="External"/><Relationship Id="rId6" Type="http://schemas.openxmlformats.org/officeDocument/2006/relationships/hyperlink" Target="http://www.aleksandrpushkin.net.ru/lib/sb/book/2665" TargetMode="External"/><Relationship Id="rId7" Type="http://schemas.openxmlformats.org/officeDocument/2006/relationships/hyperlink" Target="http://www.aleksandrpushkin.net.ru/lib/sb/book/2661" TargetMode="External"/><Relationship Id="rId8" Type="http://schemas.openxmlformats.org/officeDocument/2006/relationships/hyperlink" Target="http://www.aleksandrpushkin.net.ru/lib/sb/book/2666" TargetMode="External"/><Relationship Id="rId9" Type="http://schemas.openxmlformats.org/officeDocument/2006/relationships/hyperlink" Target="http://www.aleksandrpushkin.net.ru/lib/sb/book/2664" TargetMode="External"/><Relationship Id="rId10" Type="http://schemas.openxmlformats.org/officeDocument/2006/relationships/hyperlink" Target="http://www.aleksandrpushkin.net.ru/lib/sb/book/2663" TargetMode="External"/><Relationship Id="rId11" Type="http://schemas.openxmlformats.org/officeDocument/2006/relationships/hyperlink" Target="http://www.aleksandrpushkin.net.ru/lib/sb/book/2667" TargetMode="External"/><Relationship Id="rId12" Type="http://schemas.openxmlformats.org/officeDocument/2006/relationships/hyperlink" Target="http://www.aleksandrpushkin.net.ru/lib/sb/book/3151" TargetMode="External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leksandrpushkin.net.ru/lib/sb/book/2626" TargetMode="External"/><Relationship Id="rId2" Type="http://schemas.openxmlformats.org/officeDocument/2006/relationships/hyperlink" Target="http://www.aleksandrpushkin.net.ru/lib/sb/book/2619" TargetMode="External"/><Relationship Id="rId3" Type="http://schemas.openxmlformats.org/officeDocument/2006/relationships/hyperlink" Target="http://www.aleksandrpushkin.net.ru/lib/sb/book/2618" TargetMode="External"/><Relationship Id="rId4" Type="http://schemas.openxmlformats.org/officeDocument/2006/relationships/hyperlink" Target="http://www.aleksandrpushkin.net.ru/lib/sb/book/2617" TargetMode="External"/><Relationship Id="rId5" Type="http://schemas.openxmlformats.org/officeDocument/2006/relationships/hyperlink" Target="http://www.aleksandrpushkin.net.ru/lib/sb/book/2622" TargetMode="Externa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ushkin.niv.ru/images/bio/bio_11_1.jpg" TargetMode="External"/><Relationship Id="rId2" Type="http://schemas.openxmlformats.org/officeDocument/2006/relationships/hyperlink" Target="http://pushkin.niv.ru/images/bio/bio_11_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ок по литературному чтению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«Жизнь и творчество А.С.Пушк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естра, Ольга Сергеевна Павлищева (1797-1868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5" descr="pavlischeva_o_s_h172"/>
          <p:cNvPicPr/>
          <p:nvPr/>
        </p:nvPicPr>
        <p:blipFill>
          <a:blip r:embed="rId1"/>
          <a:stretch/>
        </p:blipFill>
        <p:spPr>
          <a:xfrm>
            <a:off x="1835280" y="1773360"/>
            <a:ext cx="5976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Брат, Лев Сергеевич Пушкин (1805-1852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5" descr="pushkin_l_s"/>
          <p:cNvPicPr/>
          <p:nvPr/>
        </p:nvPicPr>
        <p:blipFill>
          <a:blip r:embed="rId1"/>
          <a:stretch/>
        </p:blipFill>
        <p:spPr>
          <a:xfrm>
            <a:off x="1476360" y="1773360"/>
            <a:ext cx="547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Бабушка, Мария Алексеевна Ганнибал (1745-1818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5" descr="М.А. Ганниба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916280"/>
            <a:ext cx="45356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Прадедушка, Абрам Петрович Ганнибал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5" descr="лошщ"/>
          <p:cNvPicPr/>
          <p:nvPr/>
        </p:nvPicPr>
        <p:blipFill>
          <a:blip r:embed="rId1"/>
          <a:stretch/>
        </p:blipFill>
        <p:spPr>
          <a:xfrm>
            <a:off x="1979640" y="1844640"/>
            <a:ext cx="4897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арское Село. Лицей. 1822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8" descr="bio_11_2"/>
          <p:cNvPicPr/>
          <p:nvPr/>
        </p:nvPicPr>
        <p:blipFill>
          <a:blip r:embed="rId1"/>
          <a:stretch/>
        </p:blipFill>
        <p:spPr>
          <a:xfrm>
            <a:off x="900000" y="2119320"/>
            <a:ext cx="7488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хайловское. Вид усадьбы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8" descr="bio_11_3"/>
          <p:cNvPicPr/>
          <p:nvPr/>
        </p:nvPicPr>
        <p:blipFill>
          <a:blip r:embed="rId1"/>
          <a:stretch/>
        </p:blipFill>
        <p:spPr>
          <a:xfrm>
            <a:off x="1042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Дом наместника Бессарабии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.Н. Инзова в Кишиневе.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 этом доме Пушкин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ожил почти три года.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Литография. 20-е года XIX век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6" descr="bio_11_4"/>
          <p:cNvPicPr/>
          <p:nvPr/>
        </p:nvPicPr>
        <p:blipFill>
          <a:blip r:embed="rId1"/>
          <a:stretch/>
        </p:blipFill>
        <p:spPr>
          <a:xfrm>
            <a:off x="971640" y="2276640"/>
            <a:ext cx="712944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Жена, Наталья Николаевна Пушкина (1812-1863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6" descr="Н.Н. Пушк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37000"/>
            <a:ext cx="3311640" cy="388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pushkin_03"/>
          <p:cNvPicPr/>
          <p:nvPr/>
        </p:nvPicPr>
        <p:blipFill>
          <a:blip r:embed="rId3"/>
          <a:stretch/>
        </p:blipFill>
        <p:spPr>
          <a:xfrm>
            <a:off x="4427640" y="2565360"/>
            <a:ext cx="403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таршая дочь, Мария Александровна Пушкина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(1832-1919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5" descr="pushkina_m_a"/>
          <p:cNvPicPr/>
          <p:nvPr/>
        </p:nvPicPr>
        <p:blipFill>
          <a:blip r:embed="rId1"/>
          <a:stretch/>
        </p:blipFill>
        <p:spPr>
          <a:xfrm>
            <a:off x="468360" y="2781360"/>
            <a:ext cx="2879640" cy="3527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М.А. Пушки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565360"/>
            <a:ext cx="295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тарший сын, Александр Александрович Пушкин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(1833-1914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5" descr="А.А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421000"/>
            <a:ext cx="3240000" cy="374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А.А. Пушкин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2421000"/>
            <a:ext cx="280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Жизнь и творчество А.С. Пушкин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3" name="Picture 5" descr="опн"/>
          <p:cNvPicPr/>
          <p:nvPr/>
        </p:nvPicPr>
        <p:blipFill>
          <a:blip r:embed="rId1"/>
          <a:stretch/>
        </p:blipFill>
        <p:spPr>
          <a:xfrm>
            <a:off x="0" y="295272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2124000" y="5877000"/>
            <a:ext cx="5256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06.06.1799 - 10.02.1837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ладший сын, Григорий Александрович Пушкин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(1835-1913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5" descr="Г.А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421000"/>
            <a:ext cx="3816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ладшая дочь, Наталья Александровна Пушкина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(1836-1913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5" descr="Н.А. Пушк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133720"/>
            <a:ext cx="4103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. Дантес-Геккерн. 1830-е гг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5" descr="Ж. Дантес-Геккерн"/>
          <p:cNvPicPr/>
          <p:nvPr/>
        </p:nvPicPr>
        <p:blipFill>
          <a:blip r:embed="rId1"/>
          <a:stretch/>
        </p:blipFill>
        <p:spPr>
          <a:xfrm>
            <a:off x="2268360" y="2276640"/>
            <a:ext cx="424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ушкин скончался </a:t>
            </a: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29 январ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1837 г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в квартире, которую он снимал в доме Волконской на набережной реки Мойки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гила Александра Сергеевича Пушкин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5" descr="Могила Александра Сергеевича Пушкина"/>
          <p:cNvPicPr/>
          <p:nvPr/>
        </p:nvPicPr>
        <p:blipFill>
          <a:blip r:embed="rId1"/>
          <a:stretch/>
        </p:blipFill>
        <p:spPr>
          <a:xfrm>
            <a:off x="2340000" y="1989000"/>
            <a:ext cx="5400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извед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икл «Маленькие трагедии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Каменный гость</a:t>
            </a:r>
            <a:br>
              <a:rPr sz="3200"/>
            </a:b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оцарт и Сальери</a:t>
            </a:r>
            <a:br>
              <a:rPr sz="3200"/>
            </a:b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Русалка</a:t>
            </a:r>
            <a:br>
              <a:rPr sz="3200"/>
            </a:b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Скупой рыцарь</a:t>
            </a: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казки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6400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Жени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Сказка о попе и о работнике его Балд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Сказка о золотом петуш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Сказка о медведих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Сказка о мертвой царевне и семи богатыря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Сказка о рыбаке и рыб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Сказка о царе Салтане, о сыне его славном и могучем богатыре князе Гвидоне Салтановиче и о прекрасной царевне Лебе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з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1"/>
              </a:rPr>
              <a:t>Дубровский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2"/>
              </a:rPr>
              <a:t>Капитанская дочка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3"/>
              </a:rPr>
              <a:t>Моцарт и Сальери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4"/>
              </a:rPr>
              <a:t>Арап Петра Великого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5"/>
              </a:rPr>
              <a:t>Дубровский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6"/>
              </a:rPr>
              <a:t>Египетские ночи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7"/>
              </a:rPr>
              <a:t>История села Горюхина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8"/>
              </a:rPr>
              <a:t>Капитанская дочка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9"/>
              </a:rPr>
              <a:t>Кирджали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10"/>
              </a:rPr>
              <a:t>Пиковая дама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11"/>
              </a:rPr>
              <a:t>Путешествие в Арзрум во время похода 1829 года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12"/>
              </a:rPr>
              <a:t>Станционный смотритель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эм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1"/>
              </a:rPr>
              <a:t>Анджело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2"/>
              </a:rPr>
              <a:t>Бахчисарайский фонтан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3"/>
              </a:rPr>
              <a:t>Братья разбойники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4"/>
              </a:rPr>
              <a:t>Гавриилиада</a:t>
            </a:r>
            <a:br>
              <a:rPr sz="2000"/>
            </a:b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5"/>
              </a:rPr>
              <a:t>Граф Нулин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Домик в Коломн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Евгений Онегин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Кавказский пленни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дный всадни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лтав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услан и Людмил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ази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Цыганы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Драматические произведения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ис Годун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цены из рыцарских времен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лександр Сергеевич Пушкин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8" descr="pushkin_03"/>
          <p:cNvPicPr/>
          <p:nvPr/>
        </p:nvPicPr>
        <p:blipFill>
          <a:blip r:embed="rId1"/>
          <a:stretch/>
        </p:blipFill>
        <p:spPr>
          <a:xfrm>
            <a:off x="2340000" y="1962000"/>
            <a:ext cx="468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ихотвор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Повести покойного Ивана Петровича Белкина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рышня-крестьян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тре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обовщи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ционный смотритель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лександр Сергеевич Пушкин с гордостью относился к своей родословной, как по линии отца, так и по линии матери. Хроника жизни предков поэта тесно переплеталась с героическим прошлым государства Российского. В одном из стихотворений Пушкин написал: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"Не торговал мой дед блинами,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 Не ваксил царских сапогов,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           Не пел с придворными дьячками,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        В князья не прыгал из хохлов..."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5" descr="pushkin_12"/>
          <p:cNvPicPr/>
          <p:nvPr/>
        </p:nvPicPr>
        <p:blipFill>
          <a:blip r:embed="rId1"/>
          <a:stretch/>
        </p:blipFill>
        <p:spPr>
          <a:xfrm>
            <a:off x="179280" y="3068640"/>
            <a:ext cx="2448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ерб Пушкин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ит разделен горизонталью на две части, из коих в верхней в горностаевом поле на Пурпурной подушке с золочеными кистями положена Княжеская Шапка. В нижней части в правом голубом поле изображена в серебряных латах правая Рука с мечем, вверх подъятым; в левом золотом поле голубой Орел с распростертыми Крыльями, имеющий в когтях Меч и Державу голубого ж цвета. Щит увенчан обыкновенным Дворянским Шлемом с дворянской на нем Короною и тремя Страусовыми перья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gerb"/>
          <p:cNvPicPr/>
          <p:nvPr/>
        </p:nvPicPr>
        <p:blipFill>
          <a:blip r:embed="rId1"/>
          <a:stretch/>
        </p:blipFill>
        <p:spPr>
          <a:xfrm>
            <a:off x="539640" y="1989000"/>
            <a:ext cx="39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ом на Немецкой улице в Москве,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де родился А.С.Пушкин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 фотографии конца XIX век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814716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Дом на Немецкой улице в Москве, где родился А.С.Пушки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637000"/>
            <a:ext cx="7345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ото 1800-1802гг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 Сергеевич Пушкин родился 26 мая 1799 года в Москве в дворянской помещичьей семье в день праздника Вознесени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7" descr="pushkin_04"/>
          <p:cNvPicPr/>
          <p:nvPr/>
        </p:nvPicPr>
        <p:blipFill>
          <a:blip r:embed="rId1"/>
          <a:stretch/>
        </p:blipFill>
        <p:spPr>
          <a:xfrm>
            <a:off x="468360" y="1844640"/>
            <a:ext cx="40449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тец, Сергей Львович Пушкин (1770-1838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Майор в отставке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pushkin_s_l"/>
          <p:cNvPicPr/>
          <p:nvPr/>
        </p:nvPicPr>
        <p:blipFill>
          <a:blip r:embed="rId1"/>
          <a:stretch/>
        </p:blipFill>
        <p:spPr>
          <a:xfrm>
            <a:off x="1908000" y="1700280"/>
            <a:ext cx="5185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ать, Надежда Осиповна Пушкина (1775-1836г.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8" descr="pushkina_n_o"/>
          <p:cNvPicPr/>
          <p:nvPr/>
        </p:nvPicPr>
        <p:blipFill>
          <a:blip r:embed="rId1"/>
          <a:stretch/>
        </p:blipFill>
        <p:spPr>
          <a:xfrm>
            <a:off x="2050920" y="1666800"/>
            <a:ext cx="54007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04:50Z</dcterms:created>
  <dc:creator>Comp</dc:creator>
  <dc:description/>
  <dc:language>en-US</dc:language>
  <cp:lastModifiedBy>ден</cp:lastModifiedBy>
  <dcterms:modified xsi:type="dcterms:W3CDTF">2016-11-20T06:21:19Z</dcterms:modified>
  <cp:revision>6</cp:revision>
  <dc:subject/>
  <dc:title>Александр Сергее</dc:title>
</cp:coreProperties>
</file>