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04F-3115-4286-A076-26F9905B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019-C2F9-40FD-B2F6-9918E22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0E7-82F2-4F20-B0E0-60DE5213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F8D-E11D-40AD-BD5D-BF25F062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CC6-D762-4BE6-A5D8-53B2308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4E7-07BC-4BA6-BB54-6AADAD08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3AE-99F2-4819-ADC7-CF27785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DA2-211C-4001-B296-16E9C39A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4B6-836D-4E16-AB5E-56922D5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4E1-4E22-4C92-806C-64AE3B0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999-85DB-4BBD-BF31-6AF7CFF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F5B-D523-4E59-8C94-93EBF3B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671-D5E9-48D7-AABB-CB157AA702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АЛГОРИТМОВ В НАЧАЛЬНОЙ ШКОЛЕ НА УРОКАХ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503520" y="5157720"/>
            <a:ext cx="54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алко Елена Ивановна, учитель начальных клас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КЛИЧЕСКИ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3179880" y="1916280"/>
            <a:ext cx="2184120" cy="46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4"/>
          <p:cNvCxnSpPr>
            <a:stCxn id="63" idx="4"/>
            <a:endCxn id="65" idx="0"/>
          </p:cNvCxnSpPr>
          <p:nvPr/>
        </p:nvCxnSpPr>
        <p:spPr>
          <a:xfrm flipH="1">
            <a:off x="4211280" y="2384280"/>
            <a:ext cx="61200" cy="1850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5" name="Овал 10"/>
          <p:cNvSpPr/>
          <p:nvPr/>
        </p:nvSpPr>
        <p:spPr>
          <a:xfrm>
            <a:off x="2719440" y="2568600"/>
            <a:ext cx="2982960" cy="816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л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1332000" y="2852640"/>
            <a:ext cx="1008000" cy="64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9"/>
          <p:cNvSpPr/>
          <p:nvPr/>
        </p:nvSpPr>
        <p:spPr>
          <a:xfrm>
            <a:off x="5508720" y="3693960"/>
            <a:ext cx="1199880" cy="64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0"/>
          <p:cNvSpPr/>
          <p:nvPr/>
        </p:nvSpPr>
        <p:spPr>
          <a:xfrm>
            <a:off x="468360" y="4149720"/>
            <a:ext cx="2735280" cy="92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шь гу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1264"/>
          <p:cNvCxnSpPr/>
          <p:nvPr/>
        </p:nvCxnSpPr>
        <p:spPr>
          <a:xfrm>
            <a:off x="4911840" y="3368160"/>
            <a:ext cx="597600" cy="6375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70" name="Прямая со стрелкой 11283"/>
          <p:cNvCxnSpPr/>
          <p:nvPr/>
        </p:nvCxnSpPr>
        <p:spPr>
          <a:xfrm>
            <a:off x="1834920" y="3575160"/>
            <a:ext cx="1080" cy="5752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71" name="Прямая со стрелкой 11289"/>
          <p:cNvCxnSpPr>
            <a:stCxn id="65" idx="3"/>
            <a:endCxn id="66" idx="5"/>
          </p:cNvCxnSpPr>
          <p:nvPr/>
        </p:nvCxnSpPr>
        <p:spPr>
          <a:xfrm flipH="1">
            <a:off x="2191680" y="3265560"/>
            <a:ext cx="965880" cy="1418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72" name="Прямая со стрелкой 11295"/>
          <p:cNvCxnSpPr>
            <a:stCxn id="68" idx="4"/>
            <a:endCxn id="73" idx="1"/>
          </p:cNvCxnSpPr>
          <p:nvPr/>
        </p:nvCxnSpPr>
        <p:spPr>
          <a:xfrm>
            <a:off x="1835280" y="5073480"/>
            <a:ext cx="1010160" cy="3708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73" name="Овал 11297"/>
          <p:cNvSpPr/>
          <p:nvPr/>
        </p:nvSpPr>
        <p:spPr>
          <a:xfrm>
            <a:off x="2548080" y="5297400"/>
            <a:ext cx="2028600" cy="100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11322"/>
          <p:cNvSpPr/>
          <p:nvPr/>
        </p:nvSpPr>
        <p:spPr>
          <a:xfrm>
            <a:off x="4576680" y="2060640"/>
            <a:ext cx="2443320" cy="1957320"/>
          </a:xfrm>
          <a:custGeom>
            <a:avLst/>
            <a:gdLst/>
            <a:ahLst/>
            <a:rect l="l" t="t" r="r" b="b"/>
            <a:pathLst>
              <a:path stroke="0" w="2443907" h="1957103">
                <a:moveTo>
                  <a:pt x="831494" y="51302"/>
                </a:moveTo>
                <a:cubicBezTo>
                  <a:pt x="1305735" y="-76765"/>
                  <a:pt x="1829554" y="39700"/>
                  <a:pt x="2153467" y="345227"/>
                </a:cubicBezTo>
                <a:cubicBezTo>
                  <a:pt x="2596019" y="762659"/>
                  <a:pt x="2524720" y="1389655"/>
                  <a:pt x="1995290" y="1736204"/>
                </a:cubicBezTo>
                <a:lnTo>
                  <a:pt x="1221954" y="978552"/>
                </a:lnTo>
                <a:lnTo>
                  <a:pt x="831494" y="51302"/>
                </a:lnTo>
                <a:close/>
              </a:path>
              <a:path fill="none" w="2443907" h="1957103">
                <a:moveTo>
                  <a:pt x="831494" y="51302"/>
                </a:moveTo>
                <a:cubicBezTo>
                  <a:pt x="1305735" y="-76765"/>
                  <a:pt x="1829554" y="39700"/>
                  <a:pt x="2153467" y="345227"/>
                </a:cubicBezTo>
                <a:cubicBezTo>
                  <a:pt x="2596019" y="762659"/>
                  <a:pt x="2524720" y="1389655"/>
                  <a:pt x="1995290" y="17362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ОС НАЧ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хема 3" descr=""/>
          <p:cNvPicPr/>
          <p:nvPr/>
        </p:nvPicPr>
        <p:blipFill>
          <a:blip r:embed="rId1"/>
          <a:stretch/>
        </p:blipFill>
        <p:spPr>
          <a:xfrm>
            <a:off x="371520" y="1852560"/>
            <a:ext cx="83707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– это набор инструкций, описывающих порядок действий исполнителя для достижения некоторого результ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5"/>
          <p:cNvSpPr/>
          <p:nvPr/>
        </p:nvSpPr>
        <p:spPr>
          <a:xfrm>
            <a:off x="420840" y="2276640"/>
            <a:ext cx="817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ически мыслить –понимается как умение решать задачи различного происхождения, требующие составления плана действий для достижения желаемого результа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АЛГОРИТ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4" descr=""/>
          <p:cNvPicPr/>
          <p:nvPr/>
        </p:nvPicPr>
        <p:blipFill>
          <a:blip r:embed="rId1"/>
          <a:stretch/>
        </p:blipFill>
        <p:spPr>
          <a:xfrm>
            <a:off x="1463760" y="1773360"/>
            <a:ext cx="6119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НЫЕ 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Users\admin\Desktop\лена\1.PNG"/>
          <p:cNvPicPr/>
          <p:nvPr/>
        </p:nvPicPr>
        <p:blipFill>
          <a:blip r:embed="rId1"/>
          <a:srcRect l="6891" t="17688" r="0" b="0"/>
          <a:stretch/>
        </p:blipFill>
        <p:spPr>
          <a:xfrm>
            <a:off x="92160" y="2349360"/>
            <a:ext cx="8858160" cy="3961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2566080" y="1844640"/>
            <a:ext cx="37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елогон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ВОЛШЕБНОЕ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7" descr=""/>
          <p:cNvPicPr/>
          <p:nvPr/>
        </p:nvPicPr>
        <p:blipFill>
          <a:blip r:embed="rId2"/>
          <a:stretch/>
        </p:blipFill>
        <p:spPr>
          <a:xfrm>
            <a:off x="633240" y="1590840"/>
            <a:ext cx="8193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 ВЫПОЛНЕНИЯ ПИСЬМЕННОГО   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C:\Users\admin\Desktop\лена\4.PNG"/>
          <p:cNvPicPr/>
          <p:nvPr/>
        </p:nvPicPr>
        <p:blipFill>
          <a:blip r:embed="rId1"/>
          <a:stretch/>
        </p:blipFill>
        <p:spPr>
          <a:xfrm>
            <a:off x="539640" y="2205000"/>
            <a:ext cx="806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ЕТВЛЯЮЩИЙСЯ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C:\Users\admin\Desktop\лена\2.PNG"/>
          <p:cNvPicPr/>
          <p:nvPr/>
        </p:nvPicPr>
        <p:blipFill>
          <a:blip r:embed="rId1"/>
          <a:srcRect l="0" t="6671" r="0" b="0"/>
          <a:stretch/>
        </p:blipFill>
        <p:spPr>
          <a:xfrm>
            <a:off x="1835280" y="2133720"/>
            <a:ext cx="5473440" cy="25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372360" y="2781360"/>
            <a:ext cx="865080" cy="1673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7237440" y="3618000"/>
            <a:ext cx="790560" cy="836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6-03-31T18:41:24Z</dcterms:modified>
  <cp:revision>732</cp:revision>
  <dc:subject/>
  <dc:title>Diapositiva 1</dc:title>
</cp:coreProperties>
</file>