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gif" ContentType="image/gif"/>
  <Override PartName="/ppt/media/image13.png" ContentType="image/png"/>
  <Override PartName="/ppt/media/image9.gif" ContentType="image/gif"/>
  <Override PartName="/ppt/media/image17.png" ContentType="image/png"/>
  <Override PartName="/ppt/media/image8.gif" ContentType="image/gif"/>
  <Override PartName="/ppt/media/image16.gif" ContentType="image/gif"/>
  <Override PartName="/ppt/media/image2.png" ContentType="image/png"/>
  <Override PartName="/ppt/media/image15.jpeg" ContentType="image/jpeg"/>
  <Override PartName="/ppt/media/image14.png" ContentType="image/png"/>
  <Override PartName="/ppt/media/image5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11.jpeg" ContentType="image/jpeg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217E-06DE-4266-8C1C-594BA0D5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26E6-567D-4FE9-85AD-6DBB5ADD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7D67-D894-4407-9B35-EE8B2C019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478A-5342-42FF-8233-4E593E15C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AC0C-FA99-4B83-8A84-898516C0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ED80-5993-4621-B59B-27C74456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06E0-1DAA-4673-8457-775718FC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6194-8523-4E99-B8F2-3556D0E6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EB43-E40B-4831-8670-9973583E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F9EB-E7B7-4632-8527-43CB4CB4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E879-F16B-4A12-B666-ADE54D1D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CDBB-04E1-4552-8844-4C5D80BC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6BAE-DA21-4962-95F4-48D30E918A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3.xml"/><Relationship Id="rId9" Type="http://schemas.openxmlformats.org/officeDocument/2006/relationships/slide" Target="slide4.xml"/><Relationship Id="rId10" Type="http://schemas.openxmlformats.org/officeDocument/2006/relationships/image" Target="../media/image3.gi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4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Брейн-ринг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9-10къл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42560" y="2133720"/>
            <a:ext cx="6913800" cy="39924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«Къостайы фӕдонтӕ»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1" lang="ru-RU" sz="1800" spc="-1" strike="noStrike">
                <a:solidFill>
                  <a:srgbClr val="d7f58b"/>
                </a:solidFill>
                <a:latin typeface="Monotype Corsiva"/>
              </a:rPr>
              <a:t>Малиева Сафят Агубее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7f58b"/>
                </a:solidFill>
                <a:latin typeface="Arial"/>
              </a:rPr>
              <a:t>                                    </a:t>
            </a:r>
            <a:r>
              <a:rPr b="0" lang="ru-RU" sz="1800" spc="-1" strike="noStrike">
                <a:solidFill>
                  <a:srgbClr val="d7f58b"/>
                </a:solidFill>
                <a:latin typeface="Monotype Corsiva"/>
              </a:rPr>
              <a:t>учитель  осетин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Похожее изображение"/>
          <p:cNvPicPr/>
          <p:nvPr/>
        </p:nvPicPr>
        <p:blipFill>
          <a:blip r:embed="rId2"/>
          <a:stretch/>
        </p:blipFill>
        <p:spPr>
          <a:xfrm>
            <a:off x="0" y="0"/>
            <a:ext cx="161928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4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КӔМӔЙ ДЗЫРДТА ПОЭ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920" y="1916280"/>
            <a:ext cx="68421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ӔН ИУ УС ФӔХАСТ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ЫВӔЛЛОН АХУЫР,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ЙӔ ДЗИДЗИ НӔ ЛА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Ӕ ДЗЫХӔЙ , МӔГУЫ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2856240" y="5300640"/>
            <a:ext cx="492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уаты-Дзаппарты Чендзей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3" descr=""/>
          <p:cNvPicPr/>
          <p:nvPr/>
        </p:nvPicPr>
        <p:blipFill>
          <a:blip r:embed="rId2"/>
          <a:stretch/>
        </p:blipFill>
        <p:spPr>
          <a:xfrm>
            <a:off x="6875640" y="3141720"/>
            <a:ext cx="1885680" cy="1905120"/>
          </a:xfrm>
          <a:prstGeom prst="rect">
            <a:avLst/>
          </a:prstGeom>
          <a:ln w="0">
            <a:noFill/>
          </a:ln>
        </p:spPr>
      </p:pic>
      <p:sp>
        <p:nvSpPr>
          <p:cNvPr id="98" name="Улыбающееся лицо 5"/>
          <p:cNvSpPr/>
          <p:nvPr/>
        </p:nvSpPr>
        <p:spPr>
          <a:xfrm flipH="1">
            <a:off x="8317080" y="6021360"/>
            <a:ext cx="576000" cy="5493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4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5699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ЪОСТАЙЫ ЦАВӔР ЦАРДЫ ХАБӔРТТИМӔ БАСТ СТЫ АЦЫ РӔНХЪЫТӔ, СТӔЙ КӔМӔ ДЗУР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79280" y="1916280"/>
            <a:ext cx="48974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ЫЗМӔГӔЙ МӔМ МА КӔ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Ӕ ФЫДЫ ЗӔРОН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Ӕ ЗӔРДӔМӔ МА ХӔ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Ӕ ЗӔРДӔЙЫ КОНД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ЙӔ ФЫДЫ ФӔНДИА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ӔМ ВӔЙЙЫ ФЫРТ ДӔР? 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ӔППУЙӔ РӔДИА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Ӕ ВӔЙЙЫ  ӔВЗӔР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3276720" y="5084640"/>
            <a:ext cx="4248000" cy="1618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ЗУРЫ ЙӔ ФЫД ЛЕУАНМӔ. БЕТЪЫРБУХЫ АИВӔДТЫ АКАДЕМИМӔ КУЫ ЦЫД, УӔД ӔЙ НЫФФЫСТА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Улыбающееся лицо 5"/>
          <p:cNvSpPr/>
          <p:nvPr/>
        </p:nvSpPr>
        <p:spPr>
          <a:xfrm flipH="1">
            <a:off x="8317080" y="6021360"/>
            <a:ext cx="576000" cy="5493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" descr="Картинки по запросу анимации движущиеся для презентации"/>
          <p:cNvPicPr/>
          <p:nvPr/>
        </p:nvPicPr>
        <p:blipFill>
          <a:blip r:embed="rId4"/>
          <a:stretch/>
        </p:blipFill>
        <p:spPr>
          <a:xfrm>
            <a:off x="6227640" y="1989000"/>
            <a:ext cx="270360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4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ӔМӔ ЗДӔХТ СТЫ АЦЫ АЛӔМӔТЫ РӔНХЪЫТӔ: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50920" y="1628640"/>
            <a:ext cx="8642160" cy="2448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 – ИУ ФӔТӔРС, ЧЫЗГАЙ! АХӔМ ФЫДФЫНТ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РДӔЙ ДЫН АМОНД ХӔСДЗЫСТЫ УӔДДӔР,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ЧИ ТА ИСЫ ЙӔХИМӔ ДӔ РЫНТӔ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ЧИ ДЫН ХЪАРЫ НЫВОНДӔН ЙӔ СӔР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355320" y="5805360"/>
            <a:ext cx="759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« ХӔРЗБОН » , ЦӔЛЫККАТЫ  АННӔЙӔ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Улыбающееся лицо 5"/>
          <p:cNvSpPr/>
          <p:nvPr/>
        </p:nvSpPr>
        <p:spPr>
          <a:xfrm flipH="1">
            <a:off x="8317080" y="6021360"/>
            <a:ext cx="576000" cy="5493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3" descr="Картинки по запросу анимации движущиеся для презентации"/>
          <p:cNvPicPr/>
          <p:nvPr/>
        </p:nvPicPr>
        <p:blipFill>
          <a:blip r:embed="rId3"/>
          <a:stretch/>
        </p:blipFill>
        <p:spPr>
          <a:xfrm>
            <a:off x="3276720" y="4005360"/>
            <a:ext cx="21384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4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872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ӔЙ НОМ АРЫ КЪОСТА ЙӔ ПОЭМӔ « ФАТИМӔ » - йы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0920" y="1628640"/>
            <a:ext cx="86421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2987640" y="4797360"/>
            <a:ext cx="369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ННӔ ПОПОВӔ-й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3" descr=""/>
          <p:cNvPicPr/>
          <p:nvPr/>
        </p:nvPicPr>
        <p:blipFill>
          <a:blip r:embed="rId3"/>
          <a:stretch/>
        </p:blipFill>
        <p:spPr>
          <a:xfrm>
            <a:off x="6875640" y="3141720"/>
            <a:ext cx="1885680" cy="1905120"/>
          </a:xfrm>
          <a:prstGeom prst="rect">
            <a:avLst/>
          </a:prstGeom>
          <a:ln w="0">
            <a:noFill/>
          </a:ln>
        </p:spPr>
      </p:pic>
      <p:sp>
        <p:nvSpPr>
          <p:cNvPr id="116" name="Улыбающееся лицо 5"/>
          <p:cNvSpPr/>
          <p:nvPr/>
        </p:nvSpPr>
        <p:spPr>
          <a:xfrm flipH="1">
            <a:off x="8317080" y="6021360"/>
            <a:ext cx="576000" cy="5493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4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440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КЪОСТАЙЫ ЦАВӔР ЦАРДЫ ПЕРИОДИМӔ БАСТ СТЫ АЦЫ РӔНХЪЫТӔ?</a:t>
            </a:r>
            <a:br>
              <a:rPr sz="3600"/>
            </a:b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920" y="1628640"/>
            <a:ext cx="86421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, если это так, то все мои страдан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перь, о родина, признаньем искупл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 помыслы мои и все мои желань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у имели цель – снискать любовь тв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468360" y="4941720"/>
            <a:ext cx="772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897 АЗ  КЪОСТА  РАХАСТА  ДЫУУ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ПЕРАЦИЙЫ. УЫД  РЫНЧЫН  СТДЖЫТЫ ТУБЕРКУЛЁЗӔ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одержимое 2"/>
          <p:cNvSpPr/>
          <p:nvPr/>
        </p:nvSpPr>
        <p:spPr>
          <a:xfrm>
            <a:off x="250920" y="1628640"/>
            <a:ext cx="86421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2" descr=""/>
          <p:cNvPicPr/>
          <p:nvPr/>
        </p:nvPicPr>
        <p:blipFill>
          <a:blip r:embed="rId3"/>
          <a:stretch/>
        </p:blipFill>
        <p:spPr>
          <a:xfrm>
            <a:off x="7648560" y="3716280"/>
            <a:ext cx="149544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2" descr="Картинки по запросу фон для презента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8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0920" y="1341360"/>
            <a:ext cx="86421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800080"/>
                </a:solidFill>
                <a:latin typeface="Arial"/>
              </a:rPr>
              <a:t>Стыр бузныг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1" descr=""/>
          <p:cNvPicPr/>
          <p:nvPr/>
        </p:nvPicPr>
        <p:blipFill>
          <a:blip r:embed="rId2"/>
          <a:stretch/>
        </p:blipFill>
        <p:spPr>
          <a:xfrm>
            <a:off x="7596360" y="404640"/>
            <a:ext cx="790560" cy="562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"/>
          <p:cNvPicPr/>
          <p:nvPr/>
        </p:nvPicPr>
        <p:blipFill>
          <a:blip r:embed="rId3"/>
          <a:stretch/>
        </p:blipFill>
        <p:spPr>
          <a:xfrm>
            <a:off x="2771640" y="3213000"/>
            <a:ext cx="3079800" cy="2189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Похожее изображение"/>
          <p:cNvPicPr/>
          <p:nvPr/>
        </p:nvPicPr>
        <p:blipFill>
          <a:blip r:embed="rId4"/>
          <a:stretch/>
        </p:blipFill>
        <p:spPr>
          <a:xfrm>
            <a:off x="6659640" y="4503600"/>
            <a:ext cx="2484360" cy="2354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8" descr="Похожее изображение"/>
          <p:cNvPicPr/>
          <p:nvPr/>
        </p:nvPicPr>
        <p:blipFill>
          <a:blip r:embed="rId5"/>
          <a:stretch/>
        </p:blipFill>
        <p:spPr>
          <a:xfrm>
            <a:off x="0" y="4503600"/>
            <a:ext cx="2484360" cy="2354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"/>
          <p:cNvPicPr/>
          <p:nvPr/>
        </p:nvPicPr>
        <p:blipFill>
          <a:blip r:embed="rId6"/>
          <a:stretch/>
        </p:blipFill>
        <p:spPr>
          <a:xfrm>
            <a:off x="611280" y="476280"/>
            <a:ext cx="7905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4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5761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Выбираем сек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7"/>
          <p:cNvSpPr/>
          <p:nvPr/>
        </p:nvSpPr>
        <p:spPr>
          <a:xfrm>
            <a:off x="2843280" y="1844640"/>
            <a:ext cx="4105080" cy="194472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«Къостайы цар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хабӕртт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ӕ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9"/>
          <p:cNvSpPr/>
          <p:nvPr/>
        </p:nvSpPr>
        <p:spPr>
          <a:xfrm>
            <a:off x="3995640" y="4149720"/>
            <a:ext cx="4032360" cy="20178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«Къостай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сф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ӕ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лдыстад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1" descr=""/>
          <p:cNvPicPr/>
          <p:nvPr/>
        </p:nvPicPr>
        <p:blipFill>
          <a:blip r:embed="rId10"/>
          <a:stretch/>
        </p:blipFill>
        <p:spPr>
          <a:xfrm>
            <a:off x="0" y="189000"/>
            <a:ext cx="2367000" cy="2531880"/>
          </a:xfrm>
          <a:prstGeom prst="rect">
            <a:avLst/>
          </a:prstGeom>
          <a:ln w="0">
            <a:noFill/>
          </a:ln>
        </p:spPr>
      </p:pic>
      <p:sp>
        <p:nvSpPr>
          <p:cNvPr id="50" name="Улыбающееся лицо 9"/>
          <p:cNvSpPr/>
          <p:nvPr/>
        </p:nvSpPr>
        <p:spPr>
          <a:xfrm flipH="1">
            <a:off x="8317080" y="6021360"/>
            <a:ext cx="576000" cy="5493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4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55640" y="189000"/>
            <a:ext cx="4259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Рӕстӕг фӕцӕуы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95280" y="2421000"/>
          <a:ext cx="8424720" cy="2590560"/>
        </p:xfrm>
        <a:graphic>
          <a:graphicData uri="http://schemas.openxmlformats.org/drawingml/2006/table">
            <a:tbl>
              <a:tblPr/>
              <a:tblGrid>
                <a:gridCol w="3816360"/>
                <a:gridCol w="863640"/>
                <a:gridCol w="863640"/>
                <a:gridCol w="1009440"/>
                <a:gridCol w="935280"/>
                <a:gridCol w="9363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(балл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«</a:t>
                      </a:r>
                      <a:r>
                        <a:rPr b="1" lang="ru-RU" sz="30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Къостайы царды хабӕрттӕ»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3</a:t>
                      </a: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4" descr="18m5-1"/>
          <p:cNvPicPr/>
          <p:nvPr/>
        </p:nvPicPr>
        <p:blipFill>
          <a:blip r:embed="rId8"/>
          <a:stretch/>
        </p:blipFill>
        <p:spPr>
          <a:xfrm>
            <a:off x="0" y="0"/>
            <a:ext cx="17780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55640" y="189000"/>
            <a:ext cx="4259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Рӕстӕг фӕцӕуы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95280" y="2421000"/>
          <a:ext cx="8424720" cy="2327040"/>
        </p:xfrm>
        <a:graphic>
          <a:graphicData uri="http://schemas.openxmlformats.org/drawingml/2006/table">
            <a:tbl>
              <a:tblPr/>
              <a:tblGrid>
                <a:gridCol w="3816360"/>
                <a:gridCol w="863640"/>
                <a:gridCol w="863640"/>
                <a:gridCol w="1009440"/>
                <a:gridCol w="935280"/>
                <a:gridCol w="9363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(балл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«Къостайы сфӕлдыстад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</a:rPr>
                        <a:t>3</a:t>
                      </a:r>
                      <a:r>
                        <a:rPr b="1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pic>
        <p:nvPicPr>
          <p:cNvPr id="58" name="Picture 4" descr="18m5-1"/>
          <p:cNvPicPr/>
          <p:nvPr/>
        </p:nvPicPr>
        <p:blipFill>
          <a:blip r:embed="rId4"/>
          <a:stretch/>
        </p:blipFill>
        <p:spPr>
          <a:xfrm>
            <a:off x="0" y="0"/>
            <a:ext cx="17780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4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УЫД ХУЫДТОЙ ХЕТӔГКАТЫ КЪОСТАЙЫ ЧЫСЫЛ ЛӔППУЙӔ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162828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2471040" y="4508640"/>
            <a:ext cx="204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Гот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одержимое 2"/>
          <p:cNvSpPr/>
          <p:nvPr/>
        </p:nvSpPr>
        <p:spPr>
          <a:xfrm>
            <a:off x="468360" y="1628640"/>
            <a:ext cx="822960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сми"/>
          <p:cNvPicPr/>
          <p:nvPr/>
        </p:nvPicPr>
        <p:blipFill>
          <a:blip r:embed="rId2"/>
          <a:stretch/>
        </p:blipFill>
        <p:spPr>
          <a:xfrm>
            <a:off x="6300720" y="3357720"/>
            <a:ext cx="1157400" cy="2065320"/>
          </a:xfrm>
          <a:prstGeom prst="rect">
            <a:avLst/>
          </a:prstGeom>
          <a:ln w="0">
            <a:noFill/>
          </a:ln>
        </p:spPr>
      </p:pic>
      <p:sp>
        <p:nvSpPr>
          <p:cNvPr id="65" name="Улыбающееся лицо 9"/>
          <p:cNvSpPr/>
          <p:nvPr/>
        </p:nvSpPr>
        <p:spPr>
          <a:xfrm flipH="1">
            <a:off x="8317080" y="6021360"/>
            <a:ext cx="576000" cy="5493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Улыбающееся лицо 9"/>
          <p:cNvSpPr/>
          <p:nvPr/>
        </p:nvSpPr>
        <p:spPr>
          <a:xfrm flipH="1">
            <a:off x="8317080" y="6021360"/>
            <a:ext cx="576000" cy="5493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Улыбающееся лицо 9"/>
          <p:cNvSpPr/>
          <p:nvPr/>
        </p:nvSpPr>
        <p:spPr>
          <a:xfrm flipH="1">
            <a:off x="8317080" y="6021360"/>
            <a:ext cx="576000" cy="5493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4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ЪОСТАЙЫ ХОНӔМ : ДРАМАТУРГ, ПУБЛИЦИСТ, ӔХСӔНАДОН АРХАЙӔГ   ӔМӔ  МА? 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1700280"/>
            <a:ext cx="8229600" cy="29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180720" y="4437000"/>
            <a:ext cx="614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РОН  ЛИТЕРАТУРОН  ӔВЗАДЖ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ЫНДУРӔВӔРӔ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одержимое 2"/>
          <p:cNvSpPr/>
          <p:nvPr/>
        </p:nvSpPr>
        <p:spPr>
          <a:xfrm>
            <a:off x="395280" y="1700280"/>
            <a:ext cx="822960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Улыбающееся лицо 9"/>
          <p:cNvSpPr/>
          <p:nvPr/>
        </p:nvSpPr>
        <p:spPr>
          <a:xfrm flipH="1">
            <a:off x="8317080" y="6021360"/>
            <a:ext cx="576000" cy="5493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affe5"/>
          <p:cNvPicPr/>
          <p:nvPr/>
        </p:nvPicPr>
        <p:blipFill>
          <a:blip r:embed="rId2"/>
          <a:stretch/>
        </p:blipFill>
        <p:spPr>
          <a:xfrm flipH="1">
            <a:off x="7451640" y="3500280"/>
            <a:ext cx="141624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4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94920" y="836640"/>
            <a:ext cx="84358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ӔМ  НЫГӔД  ИС  НӔ  ПОЭТ?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Улыбающееся лицо 6"/>
          <p:cNvSpPr/>
          <p:nvPr/>
        </p:nvSpPr>
        <p:spPr>
          <a:xfrm flipH="1">
            <a:off x="8317080" y="6021360"/>
            <a:ext cx="576000" cy="5493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6"/>
          <p:cNvSpPr/>
          <p:nvPr/>
        </p:nvSpPr>
        <p:spPr>
          <a:xfrm>
            <a:off x="2916000" y="3860640"/>
            <a:ext cx="56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РОН  АРГЪУАНЫ  КӔ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2" descr=""/>
          <p:cNvPicPr/>
          <p:nvPr/>
        </p:nvPicPr>
        <p:blipFill>
          <a:blip r:embed="rId2"/>
          <a:stretch/>
        </p:blipFill>
        <p:spPr>
          <a:xfrm>
            <a:off x="250920" y="4941720"/>
            <a:ext cx="149544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4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1197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И УЫДИС КЪОСТАЙЫ САБИБОНТЫ ХӔЛАР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000" y="1196640"/>
            <a:ext cx="84358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Улыбающееся лицо 6"/>
          <p:cNvSpPr/>
          <p:nvPr/>
        </p:nvSpPr>
        <p:spPr>
          <a:xfrm flipH="1">
            <a:off x="8317080" y="6021360"/>
            <a:ext cx="576000" cy="5493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Улыбающееся лицо 6"/>
          <p:cNvSpPr/>
          <p:nvPr/>
        </p:nvSpPr>
        <p:spPr>
          <a:xfrm flipH="1">
            <a:off x="8317080" y="6021360"/>
            <a:ext cx="576000" cy="5493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5"/>
          <p:cNvSpPr/>
          <p:nvPr/>
        </p:nvSpPr>
        <p:spPr>
          <a:xfrm>
            <a:off x="539640" y="4797360"/>
            <a:ext cx="6264360" cy="57636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ХЕТӔГКАТЫ АНДУХЪАП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9" descr="Картинки по запросу анимации движущиеся смайлики"/>
          <p:cNvPicPr/>
          <p:nvPr/>
        </p:nvPicPr>
        <p:blipFill>
          <a:blip r:embed="rId2"/>
          <a:stretch/>
        </p:blipFill>
        <p:spPr>
          <a:xfrm>
            <a:off x="6588000" y="2349360"/>
            <a:ext cx="24148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4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ЪОСТАЙӔН УЫДИС ЗАКАЗ СНЫВ КӔНЫН ЗӔД. УЫЙ СНЫВ КОДТА 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САГЪӔСГӔНӔГ ЗӔДЫ », ФӔЛӔ ЙЫН ӔЙ ДИНЫ КУСДЖЫТӔ НАЛ БАЛХӔДТОЙ. ЦӔЙ АХХОСӔЙ?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900000" y="4365720"/>
            <a:ext cx="4896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ӔДӔН  УЫДИС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АННӔ ПОПОВӔЙЫ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ЦӔСГ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Улыбающееся лицо 6"/>
          <p:cNvSpPr/>
          <p:nvPr/>
        </p:nvSpPr>
        <p:spPr>
          <a:xfrm flipH="1">
            <a:off x="8317080" y="6021360"/>
            <a:ext cx="576000" cy="5493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1" descr="Картинки по запросу анимации движущиеся смайлики"/>
          <p:cNvPicPr/>
          <p:nvPr/>
        </p:nvPicPr>
        <p:blipFill>
          <a:blip r:embed="rId2"/>
          <a:stretch/>
        </p:blipFill>
        <p:spPr>
          <a:xfrm>
            <a:off x="6084720" y="3573360"/>
            <a:ext cx="285768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3:47Z</dcterms:created>
  <dc:creator>Admin</dc:creator>
  <dc:description/>
  <dc:language>en-US</dc:language>
  <cp:lastModifiedBy>Сафят</cp:lastModifiedBy>
  <dcterms:modified xsi:type="dcterms:W3CDTF">2016-11-16T20:32:46Z</dcterms:modified>
  <cp:revision>54</cp:revision>
  <dc:subject/>
  <dc:title>«Своя игр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563356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D5.0.3</vt:lpwstr>
  </property>
</Properties>
</file>