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E37C-CA95-46BE-B3DB-9D5652B6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BE7-A6B0-4EF0-A25B-E45E9837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248-DEDB-4FD1-91F5-0229F029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CF1-0B2A-44E1-BAAC-271D9BB4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E92C-B6D4-4178-8F41-792E5A25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5751-08FC-475F-98E6-5249EA41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8A80-72DA-4427-83F9-1E2F1DE4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10E0-C0C0-4E29-98AB-D5BE4EAB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736E-CDDE-4899-9F90-DD81C23A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12DD-06EE-4AF3-9168-618233C3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4A29-B0CD-4B6A-81BE-07BE8261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661-197F-4EFD-BF09-CA924C41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D612-794B-441A-B4E0-849CB80C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9004-F79C-40E2-BB04-0E62A811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D4AA-70E2-4AD4-8397-D0664F2F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75C3-D9B4-4F41-B5E1-EEF7AB9C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954B-B22F-45D5-B9D8-CEB66B1E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D4503-8760-478E-9962-FEA7F2AE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C7F4B-493C-41E1-BEB8-4C0B6E47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323D-CDB4-48F3-AEBD-F06E7742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90CFF-8F51-4822-B71C-3ECE304B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38D35-0632-4730-86DA-33CBEE45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0DA-7C5D-45B2-80A7-6EBFAA8F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ADED-0C8F-47C7-B015-B8233521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10374-F4AB-498C-8D6D-FF3C621F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E3E59-64EC-474A-B0B3-C871B7EB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064D8-2C08-4FC1-B87C-C200ACCB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6E16-6675-49B0-87E6-C8F42718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AA64A-1B8E-4F6F-82E4-ECB5F484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D6A25-24DE-41EE-9867-ED88013E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94D9-9610-434E-B763-34CC8704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0459A-CE5B-4900-ADC3-E32558E6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BF4C4-81FF-4CA5-B081-BC8D79B8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3E5-A956-4AFD-A6FE-ABA6BC32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FCC10-3DF3-4DBB-AEAB-AC70F25D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6A0F7-A0D7-4463-8857-ADAF1C2F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D437C-E988-49EC-AC75-8291E3AB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F1408-C4B2-4AE9-96FD-44A1ACF7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062CF-9DDB-49FA-84C0-976482B3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53ED-4C94-4400-A114-ACD70A68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A712-87D6-42A6-B2A4-4820A728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90F50-A19A-4190-BD74-9C8046B7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4C3B3-60FE-41D3-BE41-B45584C8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86F8B-A460-41D7-9974-7CAF8064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C57-EC40-449C-A1DB-432F1A8E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EA169-DB72-4A75-8C2C-F9441845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BB22F-87B6-4B3E-88E0-0280AF6B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57436-6DDA-4FF2-BDC6-5556A1D8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DD585-3E36-4A95-9813-702CA7A0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910A4-15DE-42A5-BF4B-64A1C1ED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07341-AFE4-4475-80E0-E5EAF0A8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7181C-6EC2-4737-9196-7A4E6FD7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20B0B-5540-4EA8-B48B-159E227C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AA44A-3DA1-4854-9C4C-EB4E608F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34558-09E9-4217-A0AB-FFB55BBC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22E-5B54-4EA6-A130-BA97DDC3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4E444-0499-4CCA-8B3C-3D888249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D5CCB-3E11-476B-91C6-DA09BFE8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0B307-0890-43DB-83AE-D342CB3A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B7A95-B7A1-4AF2-A726-E38AC1B4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FDA28-EA15-4444-9E37-C0379E82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08300-3C97-43E4-BF8E-45A4CD14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4CC30-7A38-476D-841E-108380D3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CEFC2-9234-419D-B322-655154CB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C9E08-4D11-4ECA-A8CB-99FB4903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A6DB9-8DC8-46C1-AEA0-49702029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F2F-1FB5-4D5D-B0A1-7CF3D39C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EA23A-09B4-467B-B532-E4F9D204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7ECFD-4633-472A-84E2-F1DDF709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D322F-8328-42CC-87DF-11150D67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4CB3A-78CC-40C6-8C6A-A6E751B1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E7C2D-9A5D-4B40-A371-2BF324D0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113AC-D273-456D-9AE0-8CEBADF4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39A17-6632-4E1D-9235-AC311F92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819DD-03EF-4288-9C07-746BD94B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54B67-C060-4D13-8A29-EF0CDA76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18073-DBAA-4421-9F03-45FC74C3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E0D-1E0B-45EA-8A1C-9E2D6C4E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909D9-100B-47BC-AE91-0F043AFE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79D62-1284-4D20-BBA5-3F7F7B0E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5D36F-F1C7-4EC8-B79A-C4C7D9E9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BF9DD-A2B7-4C22-8E66-D97C88F0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D8E57-CB60-4030-9330-EA99744F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C0D-9A17-42DB-BC3F-E61D617D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E8FC-B8CD-4F83-BB7E-AE4670B96A1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3C01-952D-48C0-AEA3-83CDB3077F5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5054-E6E1-479A-B98F-E5A9ED644D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DD6D-8FC3-43E5-A19A-60A30595F96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3B40-3E17-45B7-A3E9-B5A87191194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62DA-F70D-4C17-9CF8-44C83025427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B6D1-5730-4710-A85D-3D3537E21C0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22160" y="475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I can swim! –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Я умею плавать!</a:t>
            </a:r>
            <a:br>
              <a:rPr sz="2600"/>
            </a:b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I can fly!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– Я умею летать!</a:t>
            </a:r>
            <a:br>
              <a:rPr sz="2600"/>
            </a:b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I can climb tree!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– Я могу карабкаться на дерево!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836280"/>
            <a:ext cx="7499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ля того чтобы рассказать, что мы умеем или не умеем делать, мы используем глагол 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989000"/>
            <a:ext cx="749952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ill Sans MT"/>
              </a:rPr>
              <a:t>CAN</a:t>
            </a: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 –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Могу, умею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Глагол </a:t>
            </a:r>
            <a:r>
              <a:rPr b="1" lang="en-US" sz="3900" spc="-1" strike="noStrike">
                <a:solidFill>
                  <a:srgbClr val="ff0000"/>
                </a:solidFill>
                <a:latin typeface="Gill Sans MT"/>
              </a:rPr>
              <a:t>can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 не изменяется в зависимости от лица или числа подлежащего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2205000"/>
            <a:ext cx="749952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can fl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can fl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/she/it can fl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/you/they can fly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19:57:58Z</dcterms:created>
  <dc:creator>User</dc:creator>
  <dc:description/>
  <dc:language>en-US</dc:language>
  <cp:lastModifiedBy>User</cp:lastModifiedBy>
  <dcterms:modified xsi:type="dcterms:W3CDTF">2015-03-02T20:27:42Z</dcterms:modified>
  <cp:revision>3</cp:revision>
  <dc:subject/>
  <dc:title>Слайд 1</dc:title>
</cp:coreProperties>
</file>