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177-D87E-4BBB-8548-AB459E09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0D9-437A-4424-96FC-1A233C5C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CA3-1059-4356-AF15-049A6F48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06C-0AAB-4A0C-B5AE-B8D64654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F7D-B249-4545-9940-96E49A31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2C85-421E-4E02-BEAF-CB9D0C7B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2321-0E82-4158-A984-F8060D30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9EB2-27A1-4488-B9FE-49BE62C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4C0B-5B1A-456C-ACD8-8A0EE6D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8E4-A986-4E62-BE1F-1408F1AD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ECBA-713B-4149-91CD-2011187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83A-8DFB-4382-9C56-5114CE2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6FA9-3B71-413B-B9E1-6D1E257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F4CB-8B38-431D-8233-819A203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827-D616-4013-9C3E-7A8027D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0DC8-36C7-4160-8FE5-B230ADC7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D04-6C68-4C1F-8383-F6B3D069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3FA-182A-4E47-8A8C-8118B0EA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760-6C54-4AF4-8B70-92098453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0E7-7CB0-4F2C-A933-545C9DA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7ED-099F-4308-A68C-D906CA07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7BA-EF92-4E76-AC00-A83A45B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121-BB29-4D24-98F7-AF10789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9C6-BB8D-47A8-85EE-B65236E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98F8-5B69-4104-BC8A-7729DF4BD7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8E3-44D6-4B48-BC94-E62B463219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hyperlink" Target="http://www.mail.ru/" TargetMode="External"/><Relationship Id="rId3" Type="http://schemas.openxmlformats.org/officeDocument/2006/relationships/hyperlink" Target="http://www.mail.ru/" TargetMode="External"/><Relationship Id="rId4" Type="http://schemas.openxmlformats.org/officeDocument/2006/relationships/hyperlink" Target="http://www.mail.ru/" TargetMode="External"/><Relationship Id="rId5" Type="http://schemas.openxmlformats.org/officeDocument/2006/relationships/hyperlink" Target="http://www.mail.ru/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МА ПРОЕК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ОГУЩИЙ  ИНТЕРНЕТ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ФЫ И РЕАЛЬ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 С ЭЛЕКТРОН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ПОЧТ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устроено электронное письм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составление текста письма — содержание зависит только от вас и, в отличие от остальных этапов, не формализовано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вложение в электронное письмо файла, который вы хотите отправи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жатие на кнопку Отправить приводит к перекладыванию вашего письма с Рабочего стола в папку с очередью на отправк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lk5"/>
          <p:cNvPicPr/>
          <p:nvPr/>
        </p:nvPicPr>
        <p:blipFill>
          <a:blip r:embed="rId1"/>
          <a:srcRect l="0" t="47657" r="0" b="0"/>
          <a:stretch/>
        </p:blipFill>
        <p:spPr>
          <a:xfrm>
            <a:off x="1116000" y="3500280"/>
            <a:ext cx="70246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ИМУЩЕСТВА ЭЛЕКТРОННОЙ ПОЧ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рость пересылки сообщ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лектронное письмо может содержать не только текстовое сообщение, но и вложенные файлы (программы, графику, звук и пр.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посылать сообщение сразу нескольким абонентам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включить автоответчик, на все приходящие письма будет автоматически отсылаться отв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ДОСТАТКИ ЭЛЕКТРОННОЙ ПОЧ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бование наличия компьютера и Интерне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чность в написании адре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РАВНИТЕЛЬНАЯ ХАРАКТЕРИСТИКА ВИДОВ ПОЧТ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95640" y="1628640"/>
          <a:ext cx="6516720" cy="5229360"/>
        </p:xfrm>
        <a:graphic>
          <a:graphicData uri="http://schemas.openxmlformats.org/drawingml/2006/table">
            <a:tbl>
              <a:tblPr/>
              <a:tblGrid>
                <a:gridCol w="1618920"/>
                <a:gridCol w="1761480"/>
                <a:gridCol w="1839240"/>
                <a:gridCol w="216000"/>
                <a:gridCol w="1081080"/>
              </a:tblGrid>
              <a:tr h="173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ид поч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ремя доста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тоимость пись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чта Ро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д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 рублей 50 копе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оло 2 рубл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Школьный 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1547640" y="1465200"/>
          <a:ext cx="633744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65200"/>
                    <a:ext cx="6337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стории глобальных сетей электронная почта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-mai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 появилась как самая первая информационная услуга. Эта услуга остается основной и важнейшей в компьютерных телекоммуникациях. </a:t>
            </a:r>
            <a:r>
              <a:rPr b="0" lang="ru-RU" sz="2800" spc="-1" strike="noStrike">
                <a:solidFill>
                  <a:srgbClr val="00cc00"/>
                </a:solidFill>
                <a:latin typeface="Verdana"/>
              </a:rPr>
              <a:t>В ходе исследований, проведенных мной, установлено: гипотеза подтвердилась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жно сказать, что происходит процесс вытеснения традиционной бумажной почты электронной почтой. Преимущества последней очевид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  <a:ea typeface="Times New Roman"/>
              </a:rPr>
              <a:t>Першиков В.И., Савинков В.М. Толковый словарь по информатике. М., Финансы и статистика, 1991г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  <a:ea typeface="Times New Roman"/>
              </a:rPr>
              <a:t>Фридланд А.Я., Ханамирова Л.С., Фридланд И.А. Информатика. Толковый словарь основных терминов. Серия «Родничок». Тула: Арктоус, 1996г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Verdana"/>
                <a:ea typeface="Times New Roman"/>
              </a:rPr>
              <a:t>Энциклопедический словарь юного техника. Сост. Зубков Б.В., Чумаков С.В., М., Педагогика, 1987г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  <a:ea typeface="Times New Roman"/>
              </a:rPr>
              <a:t>Ланина И.Я., Лаптев В.В., Готская И.Б. Мир компьютера. Занимательные рассказы о компьютере. Серия «Хочу все знать», СПб: ИКФ «МиМ Экспресс», 1996г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  <a:ea typeface="Times New Roman"/>
              </a:rPr>
              <a:t>Свириденко С.С. Информация и информационные технологии в современном обществе. М., Международный независимый эколого-политологический университет, 1993г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is.ru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- э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ронная почта как инструмент маркетинга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referat.ru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и  про коммуникационные технологии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ttp://dweb.ru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орка анимированных картинок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3366ff"/>
                </a:solidFill>
                <a:uFillTx/>
                <a:latin typeface="Tahoma"/>
              </a:rPr>
              <a:t>Цель исследования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снить значимость электронной почты в жизни современного челове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ся с историей создания электронной поч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вести почтовый ящик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строено электронное письм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ить преимущества и недостатки электронной поч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3366ff"/>
                </a:solidFill>
                <a:uFillTx/>
                <a:latin typeface="Arial"/>
              </a:rPr>
              <a:t>Гипотеза исследования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е время электронная почта стала удобным средством обмена информацией и просто человеческого общ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07"/>
          <p:cNvPicPr/>
          <p:nvPr/>
        </p:nvPicPr>
        <p:blipFill>
          <a:blip r:embed="rId1"/>
          <a:stretch/>
        </p:blipFill>
        <p:spPr>
          <a:xfrm>
            <a:off x="5580000" y="4365720"/>
            <a:ext cx="236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ен письмами в компьютерных сетях называется электронной почт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e-mai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923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СТОРИЧЕСКАЯ СТРАНИЧ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лектронная почта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уществует более 25 лет. В 1971 г. сотрудником компании Bolt Beranek and Newman, Inc. Рэем Томлинсоном была разработана первая почтовая программа, позволяющая пересылать сообщения по распределенной сети. В адресах электронной почты стал использовать хорошо знакомый большинству интернет-пользователей знак @. Уже к 1973 г. 75% пересылаемой по сети ARPANET информации приходилось на электронную поч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 середине 80-х годов ЭП получила широкое распространение в мире бизнеса, науки, образования.  Согласно исследованию, проведенному Ассоциацией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onic Messaging Associatio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в 1994 г. было 23 млн. пользователей электронной почты. К 2000 г. это число возросло до 72 мл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26"/>
          <p:cNvPicPr/>
          <p:nvPr/>
        </p:nvPicPr>
        <p:blipFill>
          <a:blip r:embed="rId1"/>
          <a:stretch/>
        </p:blipFill>
        <p:spPr>
          <a:xfrm>
            <a:off x="7812000" y="404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завести почтовый ящ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некоторых серверах 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Yandex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mbler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il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u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t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u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 т. д.) предлагают завести свой собственный бесплатный электронный адрес. Он дается в обмен на то, что вы постоянно будете просматривать рекламу сервера. Чтобы получить такой адрес, необходимо зарегистрироваться в системе и выбрать имя пользователя и парол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mail"/>
          <p:cNvPicPr/>
          <p:nvPr/>
        </p:nvPicPr>
        <p:blipFill>
          <a:blip r:embed="rId1"/>
          <a:stretch/>
        </p:blipFill>
        <p:spPr>
          <a:xfrm>
            <a:off x="1523880" y="3019320"/>
            <a:ext cx="6096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тобы начать работу с почтой, перейдите по адресу 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mail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ru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lk8"/>
          <p:cNvPicPr/>
          <p:nvPr/>
        </p:nvPicPr>
        <p:blipFill>
          <a:blip r:embed="rId6"/>
          <a:stretch/>
        </p:blipFill>
        <p:spPr>
          <a:xfrm>
            <a:off x="324000" y="1125360"/>
            <a:ext cx="8351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устроено электронное письм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Весь процесс создания электронного письма разбивается на несколько этапов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указание электронного адреса получателя или группы получателе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указание электронного адреса отправител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lk5"/>
          <p:cNvPicPr/>
          <p:nvPr/>
        </p:nvPicPr>
        <p:blipFill>
          <a:blip r:embed="rId1"/>
          <a:srcRect l="0" t="0" r="0" b="52349"/>
          <a:stretch/>
        </p:blipFill>
        <p:spPr>
          <a:xfrm>
            <a:off x="395280" y="3213000"/>
            <a:ext cx="8229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8:47:46Z</dcterms:created>
  <dc:creator>Admin</dc:creator>
  <dc:description/>
  <dc:language>en-US</dc:language>
  <cp:lastModifiedBy>USER</cp:lastModifiedBy>
  <dcterms:modified xsi:type="dcterms:W3CDTF">2009-03-19T08:44:44Z</dcterms:modified>
  <cp:revision>6</cp:revision>
  <dc:subject/>
  <dc:title>ТЕМА ПРОЕКТА</dc:title>
</cp:coreProperties>
</file>