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7D1-6DB4-4BC0-A681-EFEA9FFF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939-8ED9-4A1C-81A2-633EE6FF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5AB-08D9-4D8E-A27F-B2324924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FFE-29B1-46D4-8094-72B16691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4E9FC-BC99-4402-8FA5-F1426669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B34F7-1DCF-4CEA-B27E-F9950F24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3936A-646D-4425-A9D2-41D6F0AC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19865-4654-4818-995E-7A9BE38D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51452-4D87-4FB2-A6F2-081E4D80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22CC7-1572-476C-9864-82463C9E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A04A2-7B80-49DF-9427-FF970AC3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3AA-D0F9-44EF-B166-D3D598A7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B162D-CB2B-45DE-BA1E-974D981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70ACC-BD27-4697-ACA2-16320776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EFF5E-9DDE-4891-9CD3-E36262BC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72EA0-18AE-4F96-A841-F58B38CD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C4F00-5830-4562-9E34-A9FB3ED9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91C-E83F-484B-9E2B-0601F4D4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355-CBC0-4785-A389-F6894283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DB2-5476-449E-A30B-15EFB8DB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660-A402-4679-9C69-CB645960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7B1-5BA1-41F6-ADE3-302F332F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3E0-F31E-46D0-9CA4-6FB5CAB1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C7B-8C2A-4471-B862-D4D5F95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FD9E-3A56-4EDA-AF3F-6A0AEAC22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0CD8-D1ED-4A24-BA6A-1825902F9C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Мировой океан – основная часть гидросфер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7"/>
          <p:cNvSpPr/>
          <p:nvPr/>
        </p:nvSpPr>
        <p:spPr>
          <a:xfrm>
            <a:off x="762120" y="914400"/>
            <a:ext cx="228600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рхипелаг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3276720" y="152280"/>
            <a:ext cx="24382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е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6172200" y="762120"/>
            <a:ext cx="2360520" cy="1446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р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0" y="2666880"/>
            <a:ext cx="23623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лив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6781680" y="2666880"/>
            <a:ext cx="236232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тр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1371600" y="5029200"/>
            <a:ext cx="25146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лив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Oval 17"/>
          <p:cNvSpPr/>
          <p:nvPr/>
        </p:nvSpPr>
        <p:spPr>
          <a:xfrm>
            <a:off x="5334120" y="4952880"/>
            <a:ext cx="266688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луост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3200400" y="2362320"/>
            <a:ext cx="27432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иров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ке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21"/>
          <p:cNvSpPr/>
          <p:nvPr/>
        </p:nvSpPr>
        <p:spPr>
          <a:xfrm flipH="1" flipV="1">
            <a:off x="2971800" y="1828800"/>
            <a:ext cx="533520" cy="457200"/>
          </a:xfrm>
          <a:prstGeom prst="line">
            <a:avLst/>
          </a:prstGeom>
          <a:ln w="69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22"/>
          <p:cNvSpPr/>
          <p:nvPr/>
        </p:nvSpPr>
        <p:spPr>
          <a:xfrm flipV="1">
            <a:off x="4495680" y="1599840"/>
            <a:ext cx="0" cy="6858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23"/>
          <p:cNvSpPr/>
          <p:nvPr/>
        </p:nvSpPr>
        <p:spPr>
          <a:xfrm flipV="1">
            <a:off x="5638680" y="1905120"/>
            <a:ext cx="609840" cy="3808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25"/>
          <p:cNvSpPr/>
          <p:nvPr/>
        </p:nvSpPr>
        <p:spPr>
          <a:xfrm>
            <a:off x="5334120" y="4495680"/>
            <a:ext cx="380880" cy="5335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27"/>
          <p:cNvSpPr/>
          <p:nvPr/>
        </p:nvSpPr>
        <p:spPr>
          <a:xfrm flipH="1">
            <a:off x="3428640" y="4495680"/>
            <a:ext cx="609480" cy="6098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29"/>
          <p:cNvSpPr/>
          <p:nvPr/>
        </p:nvSpPr>
        <p:spPr>
          <a:xfrm flipH="1">
            <a:off x="2514240" y="3352680"/>
            <a:ext cx="6094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6019920" y="3352680"/>
            <a:ext cx="60948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ихий 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.Магелл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3a"/>
          <p:cNvPicPr/>
          <p:nvPr/>
        </p:nvPicPr>
        <p:blipFill>
          <a:blip r:embed="rId1"/>
          <a:stretch/>
        </p:blipFill>
        <p:spPr>
          <a:xfrm>
            <a:off x="152280" y="2438280"/>
            <a:ext cx="3227400" cy="4110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4038480" y="464832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хий океан - самый большой океан по площади поверхности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F:\презентации\hqdefault.jpg"/>
          <p:cNvPicPr/>
          <p:nvPr/>
        </p:nvPicPr>
        <p:blipFill>
          <a:blip r:embed="rId2"/>
          <a:stretch/>
        </p:blipFill>
        <p:spPr>
          <a:xfrm>
            <a:off x="4114800" y="14479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тлантический 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1c9dbba20039"/>
          <p:cNvPicPr/>
          <p:nvPr/>
        </p:nvPicPr>
        <p:blipFill>
          <a:blip r:embed="rId1"/>
          <a:stretch/>
        </p:blipFill>
        <p:spPr>
          <a:xfrm>
            <a:off x="609480" y="2057400"/>
            <a:ext cx="541044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248520" y="335268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тлантический океан был назван в честь Бога Атла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дийский 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karta-indokean"/>
          <p:cNvPicPr/>
          <p:nvPr/>
        </p:nvPicPr>
        <p:blipFill>
          <a:blip r:embed="rId1"/>
          <a:stretch/>
        </p:blipFill>
        <p:spPr>
          <a:xfrm>
            <a:off x="152280" y="137160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019920" y="4876920"/>
            <a:ext cx="275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ий по величине оке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1401718374_D09CD0B0D0B4D0B0D0B3D0B0D181D0BAD0B0D180-6"/>
          <p:cNvPicPr/>
          <p:nvPr/>
        </p:nvPicPr>
        <p:blipFill>
          <a:blip r:embed="rId2"/>
          <a:stretch/>
        </p:blipFill>
        <p:spPr>
          <a:xfrm>
            <a:off x="5562720" y="182880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еверный Ледовитый океа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0_121711_c937b0dd_orig"/>
          <p:cNvPicPr/>
          <p:nvPr/>
        </p:nvPicPr>
        <p:blipFill>
          <a:blip r:embed="rId1"/>
          <a:stretch/>
        </p:blipFill>
        <p:spPr>
          <a:xfrm>
            <a:off x="304920" y="2514600"/>
            <a:ext cx="510516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5715000" y="3505320"/>
            <a:ext cx="313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верный Ледовитый океан – самый маленький по площа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арактеристика океан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1981080"/>
            <a:ext cx="18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лан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ке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733920" y="198108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дий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ке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248520" y="1905120"/>
            <a:ext cx="21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верный   Ледовитый оке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04920" y="2743200"/>
            <a:ext cx="2514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нимает второе место по площади воды. Омывает матер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верную Америку, Южную Америку, Евразию, Африку, Антарктиду. Граничит с Северным Ледовитым океаном, Индийским океаном, Тихим океаном. Максимальная глубина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74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етр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429000" y="2743200"/>
            <a:ext cx="23623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нимает третье место по площади поверхности воды. Омывает материки: Африку, Евразию, Австралию и Антарктиду. Граничит с Атлантическим океаном и Тихим океаном. Максимальная глубина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7209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етров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943600" y="2819520"/>
            <a:ext cx="266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ый маленький океан. Омывает материки: Евразию, Северную Америку. Граничит с Тихим океаном, Атлантическим океаном. Максимальная глубина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522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етр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1329549307_7292c8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38080" y="2286000"/>
            <a:ext cx="198144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краин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657600" y="22860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нутренн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6629400" y="2286000"/>
            <a:ext cx="213372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жконт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нталь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8"/>
          <p:cNvSpPr/>
          <p:nvPr/>
        </p:nvSpPr>
        <p:spPr>
          <a:xfrm flipH="1">
            <a:off x="2285640" y="1219320"/>
            <a:ext cx="1676520" cy="914400"/>
          </a:xfrm>
          <a:prstGeom prst="line">
            <a:avLst/>
          </a:prstGeom>
          <a:ln w="69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4648320" y="1219320"/>
            <a:ext cx="0" cy="990360"/>
          </a:xfrm>
          <a:prstGeom prst="line">
            <a:avLst/>
          </a:prstGeom>
          <a:ln w="69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5105520" y="1143000"/>
            <a:ext cx="1752480" cy="1066680"/>
          </a:xfrm>
          <a:prstGeom prst="line">
            <a:avLst/>
          </a:prstGeom>
          <a:ln w="69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1" descr="26247"/>
          <p:cNvPicPr/>
          <p:nvPr/>
        </p:nvPicPr>
        <p:blipFill>
          <a:blip r:embed="rId1"/>
          <a:stretch/>
        </p:blipFill>
        <p:spPr>
          <a:xfrm>
            <a:off x="0" y="3200400"/>
            <a:ext cx="3352680" cy="2895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"/>
          <p:cNvSpPr/>
          <p:nvPr/>
        </p:nvSpPr>
        <p:spPr>
          <a:xfrm>
            <a:off x="228600" y="6324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вежское м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3" descr="plyazhi_azovskogo_morya_9"/>
          <p:cNvPicPr/>
          <p:nvPr/>
        </p:nvPicPr>
        <p:blipFill>
          <a:blip r:embed="rId2"/>
          <a:stretch/>
        </p:blipFill>
        <p:spPr>
          <a:xfrm>
            <a:off x="3429000" y="3276720"/>
            <a:ext cx="2895480" cy="2666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4"/>
          <p:cNvSpPr/>
          <p:nvPr/>
        </p:nvSpPr>
        <p:spPr>
          <a:xfrm>
            <a:off x="3718080" y="6203880"/>
            <a:ext cx="24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зовское м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5" descr="Depositphotos_63327803_s-2015"/>
          <p:cNvPicPr/>
          <p:nvPr/>
        </p:nvPicPr>
        <p:blipFill>
          <a:blip r:embed="rId3"/>
          <a:stretch/>
        </p:blipFill>
        <p:spPr>
          <a:xfrm>
            <a:off x="6400800" y="320040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6"/>
          <p:cNvSpPr/>
          <p:nvPr/>
        </p:nvSpPr>
        <p:spPr>
          <a:xfrm>
            <a:off x="6765840" y="63565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сное м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6:05:40Z</dcterms:created>
  <dc:creator>АЛЛА</dc:creator>
  <dc:description/>
  <dc:language>en-US</dc:language>
  <cp:lastModifiedBy>111</cp:lastModifiedBy>
  <dcterms:modified xsi:type="dcterms:W3CDTF">2016-11-20T16:06:5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