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125-9235-476E-8669-205ED693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13A-E61C-401F-8820-FA7AAB6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59A-D24E-408F-B0F1-7EF9507C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B6-E9D2-4860-83CB-34037F7A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97D6-64E5-40A3-A936-B951984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2EE4-8452-4A3E-B5C1-A21D6C9F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003-4830-4A39-BF65-3028759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F87D-65B7-4056-9B83-AA3B91E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70B9-3DA7-4BFD-B9AC-6E135FB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D40-3DAE-4F65-93B7-90F8EF69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B55B-2563-4AC2-9B3B-BE68DF1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877-6BB3-4E67-98C2-54FDACF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BF2D-375E-4166-991F-41D42F6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B5F-2286-431D-9A0C-E8BD2BE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55E6-2B3D-41F0-835A-AE74B121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9324-19CE-4825-81F5-1644E5D1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8FCD-3D6D-4D83-A225-8C800571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D06C-7F81-4B1C-90C4-A861C2C6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E358-540B-48EE-8751-A13B137A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E2C3-575A-4BD9-B1F2-0E00CCB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5FBC-3CDA-4AAF-B1CE-29234EB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0665-8EDE-4125-B30A-87B8048B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16A-450C-4EC7-93C6-AA1E335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BBD8-6777-4FAC-89C5-550C6CF3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34B0-C0C7-47EA-B9C4-6EDBA5E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E810-148E-425B-9F72-9C29752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3A81-5D98-418C-9861-C1DE156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ACFC-1768-4775-B250-651428B5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234D-FCBC-4510-A598-11EF4D99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D901-49EF-4220-813B-172FE297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9D65-AF0A-49AF-AD1B-BF09D0C3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B1F8-3296-476E-A354-540AAB5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2E69-148A-48FD-A2AA-6858A87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FF2-14AD-4342-8AE0-2E026D12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F545-8147-4740-A3FE-21023883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A8F8-8D33-41C1-8787-E8E4B73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509F-C386-4AEA-A674-B131B29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8BD2-D1A3-4823-A572-B775602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D8CC-F459-4DD3-AEBD-B2A083C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A05E-2930-42C2-BF33-8C4231A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359B-3B9A-42DA-9B90-19C8FE64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22A9-BB9F-4715-BCB7-45A8F932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30EB-6114-45AF-B734-92035E5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8552-BF0E-43DA-BCD6-1F5BC87C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527-B739-4DBB-BC10-4854062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E2FA9-233E-4F93-8256-F961B686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DC11-4FAE-4DD0-826F-BA194DB0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680C-08E9-4D88-9589-D7D359CB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E2AB-DAD6-4A7F-8257-96D16B2C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3A44-6BC2-4CFE-A7BE-54946E9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CFEF-2D9F-4F5E-8FCC-F0049F18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D2C0-0C21-4025-A13D-23713F9A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4646-A6B4-472C-B9BF-5801338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C5FA-183F-4E77-BD76-90F9732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1B42-76D0-4EDD-A2C0-1ADB5F83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3B9-6D3E-4188-99E4-0AE64E40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4AAD-B70F-4B95-BEDD-561C39C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FB83-A7F9-4428-B824-BD0DF6D0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2C41-3394-4DC5-B9C8-62730C2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9238-DFFF-46C9-B382-CCD9C01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1F05-7104-4047-8C3D-4EE79C9F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985F-D492-46F2-8E4C-96F1242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57C5-C449-443A-9419-1862894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9E1EC-2A9B-4CB5-8925-D27D14D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5541-8554-4A2F-8EF5-6874C65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6531F-27C1-466F-9E01-6F2A944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8B7-63D4-4462-9C3C-65D6B7F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C063-8B34-46B2-8857-02DA231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71F4-0F95-4925-8A3A-9C31370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63E2-E335-495B-AE3F-8FDE169F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02E7-4DF8-4F01-99A3-063D3D6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6662-9326-4576-B346-31C51C3A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7E5F-AE81-49A1-AFC6-6764BAD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E97CF-7094-4075-91DA-8BA86947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D1D4-B51B-449F-9CBC-63CAA2C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19CA-484F-4FC8-85F0-A9F63094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96E9-C247-4E4F-9A3B-BD1809A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071-41E8-4980-B9E6-034E698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2D27-930A-492E-8E9F-D674565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B5C9-4C72-4433-A117-D1437D4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4BC9-4A25-4DDF-A703-69EF91C9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B221-5BBF-46EC-BFFE-1E96EC34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60FA-CF4B-4A45-A43C-C727EDD6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4D7-152C-4558-A412-8411EBC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82B-9322-4808-9382-922056DDBD1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4EA-56F5-4888-BA77-C174294A99B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D116-3F3D-4CA1-BA87-0F033D66881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1B1-3C7F-460B-8A58-9577460D95F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3B2A-5C43-456A-9299-54DE31B89F2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EBC-BB88-4B89-9B19-89E453B19ED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953F-4676-4AF7-ABB0-5C3E736AA18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озитивный имидж образовательного учреждения как фактор повышения качества образов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4280" y="407196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Анпилогова Ирина Олег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Лицей « Престиж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Комфортность школьной сре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5" descr="C:\Users\User\Desktop\YXtgmYze0uc.jpg"/>
          <p:cNvPicPr/>
          <p:nvPr/>
        </p:nvPicPr>
        <p:blipFill>
          <a:blip r:embed="rId1"/>
          <a:stretch/>
        </p:blipFill>
        <p:spPr>
          <a:xfrm>
            <a:off x="676440" y="3129120"/>
            <a:ext cx="3822480" cy="2547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Users\User\Desktop\4iPr-aJiNoI.jpg"/>
          <p:cNvPicPr/>
          <p:nvPr/>
        </p:nvPicPr>
        <p:blipFill>
          <a:blip r:embed="rId2"/>
          <a:stretch/>
        </p:blipFill>
        <p:spPr>
          <a:xfrm>
            <a:off x="4643280" y="3214800"/>
            <a:ext cx="41119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ы за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7" descr="C:\Users\User\Desktop\dJ4xrqpEgqk.jpg"/>
          <p:cNvPicPr/>
          <p:nvPr/>
        </p:nvPicPr>
        <p:blipFill>
          <a:blip r:embed="rId1"/>
          <a:stretch/>
        </p:blipFill>
        <p:spPr>
          <a:xfrm>
            <a:off x="714240" y="2571840"/>
            <a:ext cx="3822840" cy="2782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User\Desktop\aIhzNj6JGmE.jpg"/>
          <p:cNvPicPr/>
          <p:nvPr/>
        </p:nvPicPr>
        <p:blipFill>
          <a:blip r:embed="rId2"/>
          <a:stretch/>
        </p:blipFill>
        <p:spPr>
          <a:xfrm>
            <a:off x="4643280" y="2571840"/>
            <a:ext cx="3822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C:\Users\User\Desktop\5g3SiSjPRQs.jpg"/>
          <p:cNvPicPr/>
          <p:nvPr/>
        </p:nvPicPr>
        <p:blipFill>
          <a:blip r:embed="rId1"/>
          <a:stretch/>
        </p:blipFill>
        <p:spPr>
          <a:xfrm>
            <a:off x="1000080" y="1785960"/>
            <a:ext cx="74502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бщешкольный конкурс профессионального мастерств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4" descr="C:\Users\User\Desktop\ttt_TZ_g3tQ.jpg"/>
          <p:cNvPicPr/>
          <p:nvPr/>
        </p:nvPicPr>
        <p:blipFill>
          <a:blip r:embed="rId1"/>
          <a:stretch/>
        </p:blipFill>
        <p:spPr>
          <a:xfrm>
            <a:off x="652320" y="1785960"/>
            <a:ext cx="76345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9725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лицее сложился творческий коллектив учителей, которым по плечу самые сложные задачи: 81% педагогов имеют высшую и первую квалификационные категории. Два педагога отмечены знаком "Отличник народного просвещения РФ", двое награждены знаком "Почетный работник общего образования РФ", в 2012 году учителю математики Письменной Светлане Анатольевне присуждено звание Заслуженный учитель РФ. Четверо учителей лицея являются победителями конкурса лучших учителей Российской Федерации в рамках приоритетного национального проекта "Образование"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Наработки, опыт, программы и методики сотрудников лицея широко распространяются в городе (издание учебных пособий, выпуск статей, проведение консультации и семинаров для учителей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содержание миссии и приоритеты образовательного учрежд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иды образовательных услуг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материальная база шко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еременный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4"/>
          <p:cNvSpPr/>
          <p:nvPr/>
        </p:nvSpPr>
        <p:spPr>
          <a:xfrm>
            <a:off x="428760" y="928800"/>
            <a:ext cx="7929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й представляет учащимся возможность получить образование физико-математической и социально- экономической  направленности по программам повышенного уровня сложности, выявляет наиболее одаренных детей и создает условия для развития их творческих способностей. Приоритетом является организация деятельности, способствующей самореализации как личности учащихся на I, II и III ступеней образования, так и личности учителя в процессе их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пяти лет лицей входит в десятку лучших учреждений города по результативности учебного процесса, что подтверждается 100% успеваемостью и высоким уровнем подготовки учащихся к итоговой аттестации. Средний балл ЕГЭ по математике, русскому языку, обществознанию, биологии выше 70%. Средняя оценка по математике, русскому языку, обществознанию у выпускников 9 классов - 4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 лет деятельности лицей выпустил более 1600 учащихся, 166 человек (13,5%)  окончили лицей с медалью, 97% продолжили обучение в ВУЗ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Мудрость и опыт в словах ветеранов…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C:\Users\User\Desktop\oXBz8_oTUpQ (1).jpg"/>
          <p:cNvPicPr/>
          <p:nvPr/>
        </p:nvPicPr>
        <p:blipFill>
          <a:blip r:embed="rId1"/>
          <a:stretch/>
        </p:blipFill>
        <p:spPr>
          <a:xfrm>
            <a:off x="785880" y="1874880"/>
            <a:ext cx="7429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205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учащихся начальной школы и их родителей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 классного руководителя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старшеклассников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 учителя-предметника и образ администрации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родителей с высшим образованием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ставление о качестве образования и стиле работы школ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родителей детей с ослабленным здоровьем —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фортность школьной сре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мпоненты имиджа ОУ</a:t>
            </a:r>
            <a:br>
              <a:rPr sz="4400"/>
            </a:b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(по </a:t>
            </a:r>
            <a:r>
              <a:rPr b="1" i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искунову М.С.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276280"/>
            <a:ext cx="7408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ведение  учащихся  ВНЕ лице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тзывы родителей и ВЫПУСКНИКОВ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заимоотношения со СМИ (особенно местными)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ественная деятельность ОУ,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21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Формирование имиджа ОУ в глазах общественно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 – то, что о вас говорят</a:t>
            </a:r>
            <a:br>
              <a:rPr sz="4800"/>
            </a:br>
            <a:r>
              <a:rPr b="0" lang="ru-RU" sz="4400" spc="-1" strike="noStrike">
                <a:solidFill>
                  <a:srgbClr val="06436b"/>
                </a:solidFill>
                <a:latin typeface="Candara"/>
              </a:rPr>
              <a:t>                </a:t>
            </a:r>
            <a:r>
              <a:rPr b="1" i="1" lang="ru-RU" sz="3600" spc="-1" strike="noStrike">
                <a:solidFill>
                  <a:srgbClr val="06436b"/>
                </a:solidFill>
                <a:latin typeface="Times New Roman"/>
                <a:ea typeface="Times New Roman"/>
              </a:rPr>
              <a:t>Эрвин Гоффманн, социолог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15" descr="семья"/>
          <p:cNvPicPr/>
          <p:nvPr/>
        </p:nvPicPr>
        <p:blipFill>
          <a:blip r:embed="rId1"/>
          <a:stretch/>
        </p:blipFill>
        <p:spPr>
          <a:xfrm>
            <a:off x="3492360" y="3645000"/>
            <a:ext cx="17575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1628280"/>
            <a:ext cx="740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идж и репутация – самое ценное имущество школ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юбой аспект вашей деятельности влияет на имидж ОУ, даже если вы этого и не осознае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мидж нельзя купить. Его можно только СОЗДА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чала вы работаете на имидж, а потом он работает на вас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мните! 83% решений принимаются на основе ВИЗУАЛЬНОЙ информации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4" descr="j0283618"/>
          <p:cNvPicPr/>
          <p:nvPr/>
        </p:nvPicPr>
        <p:blipFill>
          <a:blip r:embed="rId1"/>
          <a:stretch/>
        </p:blipFill>
        <p:spPr>
          <a:xfrm>
            <a:off x="152280" y="152280"/>
            <a:ext cx="1476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ешний вид учителей и учеников крайне важен – по нему судят о школе в цел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нктуальность и обязательность  - показатели позитивного имиджа (уважайте чужое время!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истота – залог здоровья! А так же залог хорошего впечатления от школ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жливость - лучшая политика! Чаще говорите «спасибо» родителям, это позволит им чувствовать свою значим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храняя «лицо» своего коллеги, ты сохраняешь сво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4" descr="j0283618"/>
          <p:cNvPicPr/>
          <p:nvPr/>
        </p:nvPicPr>
        <p:blipFill>
          <a:blip r:embed="rId1"/>
          <a:stretch/>
        </p:blipFill>
        <p:spPr>
          <a:xfrm>
            <a:off x="152280" y="152280"/>
            <a:ext cx="1476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иходите к нам учиться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357120" y="5715000"/>
            <a:ext cx="990720" cy="72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5857920" y="2071800"/>
            <a:ext cx="990720" cy="728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3"/>
          <a:stretch/>
        </p:blipFill>
        <p:spPr>
          <a:xfrm>
            <a:off x="7143840" y="5715000"/>
            <a:ext cx="990360" cy="7286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C:\Users\User\Desktop\z_9d3f08f3.jpg"/>
          <p:cNvPicPr/>
          <p:nvPr/>
        </p:nvPicPr>
        <p:blipFill>
          <a:blip r:embed="rId4"/>
          <a:stretch/>
        </p:blipFill>
        <p:spPr>
          <a:xfrm>
            <a:off x="1000080" y="2017800"/>
            <a:ext cx="7072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28800" y="2071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от лат. </a:t>
            </a:r>
            <a:r>
              <a:rPr b="1" i="1" lang="en-US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imago</a:t>
            </a:r>
            <a:r>
              <a:rPr b="1" lang="ru-RU" sz="2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– изображение, образ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73e87"/>
                </a:solidFill>
                <a:uFillTx/>
                <a:latin typeface="Candara"/>
              </a:rPr>
              <a:t>   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целенаправленно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уемый образ (какого-либо лица, предмета), призванный оказать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эмоционально-психологическое воздействие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на кого-либо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целях популяризации, рекламы и т.п.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30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мидж –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ставляющая, это образ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уша, это внутренний мир лице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C:\Users\User\Desktop\загруженное.png"/>
          <p:cNvPicPr/>
          <p:nvPr/>
        </p:nvPicPr>
        <p:blipFill>
          <a:blip r:embed="rId1"/>
          <a:stretch/>
        </p:blipFill>
        <p:spPr>
          <a:xfrm>
            <a:off x="1643040" y="2674800"/>
            <a:ext cx="73580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6"/>
          <p:cNvSpPr/>
          <p:nvPr/>
        </p:nvSpPr>
        <p:spPr>
          <a:xfrm>
            <a:off x="3419640" y="6308640"/>
            <a:ext cx="331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Схема 13" descr=""/>
          <p:cNvPicPr/>
          <p:nvPr/>
        </p:nvPicPr>
        <p:blipFill>
          <a:blip r:embed="rId1"/>
          <a:stretch/>
        </p:blipFill>
        <p:spPr>
          <a:xfrm>
            <a:off x="5688000" y="3395520"/>
            <a:ext cx="3290760" cy="1603440"/>
          </a:xfrm>
          <a:prstGeom prst="rect">
            <a:avLst/>
          </a:prstGeom>
          <a:ln w="0">
            <a:noFill/>
          </a:ln>
        </p:spPr>
      </p:pic>
      <p:grpSp>
        <p:nvGrpSpPr>
          <p:cNvPr id="347" name="AutoShape 7"/>
          <p:cNvGrpSpPr/>
          <p:nvPr/>
        </p:nvGrpSpPr>
        <p:grpSpPr>
          <a:xfrm>
            <a:off x="2816280" y="3700440"/>
            <a:ext cx="3365280" cy="1084320"/>
            <a:chOff x="2816280" y="3700440"/>
            <a:chExt cx="3365280" cy="1084320"/>
          </a:xfrm>
        </p:grpSpPr>
        <p:pic>
          <p:nvPicPr>
            <p:cNvPr id="348" name="AutoShape 7" descr=""/>
            <p:cNvPicPr/>
            <p:nvPr/>
          </p:nvPicPr>
          <p:blipFill>
            <a:blip r:embed="rId2"/>
            <a:stretch/>
          </p:blipFill>
          <p:spPr>
            <a:xfrm>
              <a:off x="2816280" y="3700440"/>
              <a:ext cx="336528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059280" y="3914640"/>
              <a:ext cx="2958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Схема 12" descr=""/>
          <p:cNvPicPr/>
          <p:nvPr/>
        </p:nvPicPr>
        <p:blipFill>
          <a:blip r:embed="rId3"/>
          <a:stretch/>
        </p:blipFill>
        <p:spPr>
          <a:xfrm>
            <a:off x="-19080" y="3548160"/>
            <a:ext cx="3457440" cy="158436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9" descr=""/>
          <p:cNvPicPr/>
          <p:nvPr/>
        </p:nvPicPr>
        <p:blipFill>
          <a:blip r:embed="rId4"/>
          <a:stretch/>
        </p:blipFill>
        <p:spPr>
          <a:xfrm>
            <a:off x="463680" y="360360"/>
            <a:ext cx="8448480" cy="1925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Doctor\Desktop\2019da004ce6874f61461de50dc242c6.gif"/>
          <p:cNvPicPr/>
          <p:nvPr/>
        </p:nvPicPr>
        <p:blipFill>
          <a:blip r:embed="rId5"/>
          <a:stretch/>
        </p:blipFill>
        <p:spPr>
          <a:xfrm>
            <a:off x="3541680" y="3187800"/>
            <a:ext cx="1847880" cy="363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133720"/>
            <a:ext cx="7408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ая чистота на всей территории лицея;  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щий стиль помещений лице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атрибутика лицея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езультатативность (призовые места, победы на конкурсах, олимпиадах, социальная адаптация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нутренний ИЛ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Лицейский  сайт в Интернете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использование возможностей СМИ для пропаганды достижений лице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начало связей с общественностью, проведение РR-мероприятий: организация дней открытых дверей, презентаций и др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нешний ИШ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оброжелательный микроклимат в  коллектив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рофессионализм сотрудни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образ руководителя-профессионала, лидер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детские общественные организации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развитие творческих способностей, формирование здорового образа жизн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забота администрации об оказании помощи отдельным участникам образовательного процесс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стоянный И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Комфортность школьной сред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2811240" cy="3446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Users\User\Desktop\VtnMTphJT8A (1).jpg"/>
          <p:cNvPicPr/>
          <p:nvPr/>
        </p:nvPicPr>
        <p:blipFill>
          <a:blip r:embed="rId2"/>
          <a:stretch/>
        </p:blipFill>
        <p:spPr>
          <a:xfrm>
            <a:off x="4572000" y="2496960"/>
            <a:ext cx="358776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0:44:16Z</dcterms:created>
  <dc:creator>Пользователь</dc:creator>
  <dc:description/>
  <dc:language>en-US</dc:language>
  <cp:lastModifiedBy>User</cp:lastModifiedBy>
  <dcterms:modified xsi:type="dcterms:W3CDTF">2016-11-20T12:10:18Z</dcterms:modified>
  <cp:revision>290</cp:revision>
  <dc:subject/>
  <dc:title>труд учителя</dc:title>
</cp:coreProperties>
</file>