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57C-BD2B-411B-A744-AC193B59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E79-EFAA-4DEA-9282-9F858822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41F-61A8-467B-9797-C5D7A6E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251-BA4B-4F70-8452-9DF3520A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4CD7-2F02-4979-AE7E-C63BFF56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493-F34D-4559-A8B1-5861C20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546B-A1FA-4F82-9C5C-E181A86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7C69-BFAE-4605-9D2E-9B7E26CA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B2E2-DE1C-437F-BD42-BD96740C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1860-F589-4D65-B85C-D2F99E34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12C3-E6C3-4DEA-AA4A-73ED25F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931-2A15-4F30-92CF-9E0B4A47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2E52-5E10-457D-BAAC-A004CA1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8AE3-EB54-49D7-A01E-09322F0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ACD7-F253-4ECE-A3F3-7680465C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4B7B-953D-4B4D-9F6E-15895799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4E4-E48D-41EF-AD15-32AEE24C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1DF7-4039-49E7-8825-9E896E24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80B3-A039-4E7E-8314-C453126D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90DC-3B10-420A-A685-6A50B2F7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9DF5-E33B-462D-B6DC-A9F6F228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7D79-27CA-4C6C-8FE7-2A605637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7C1-AA2D-49E9-A51B-9893B7A0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E9C5-C75B-41FF-917D-2A8ECF28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1027-A3AA-48E7-B996-1A31287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BF9E-17BA-4A0E-BB6E-02C136E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E4A9-3165-41CC-AB2A-075856FA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FEAB-BAFC-4064-AEE1-67498822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0BA8-5407-4D17-92C6-318311C9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B53B-09EC-4A90-86E6-CF6E4E9E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8115-F46C-4D16-BB90-D2EDD8F9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DD3F-EDCE-40AE-B599-2B082054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2551-A715-4CFB-9DD9-13E9F39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32F-21E0-4EBC-ABCB-E2A8B27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1550-AD75-478D-B94A-D4A7227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1CEA-C99D-46B1-9FD2-95BC860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1FB5-33D9-4146-A5A9-F34762B1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BCBF-690F-4FA8-B1A1-B541C1B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3556-3E54-4D7B-B094-AC104A5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73ED-32FE-4CC1-B27A-4CE6D8D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F7E2-44F5-4A80-A629-0AB097EB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63A78-FB78-43FA-BEBD-EE2282E9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77FB-A874-48F8-8558-04443BB7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24C44-5490-4411-8095-DD466F81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3BD-F332-4EF9-8635-02C649C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20EDC-6C11-463F-AF52-3FF9F822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CECB-7A2B-4A65-B600-D6DFBCDE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8576F-421D-4666-B2F2-445DC08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52542-6E2D-411E-89AA-5FF7C544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7AB21-410F-4CB2-B541-D1EE7C7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9F8D3-F7DD-4286-8130-6BA6165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DE32-C97B-4CA6-A107-BD682A4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54A8-77DE-410F-9B8D-47092C6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0A37A-5DD2-4585-84BE-6038FC31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CB5F9-DA38-4DBA-A626-9A89EDEF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FD7-3037-4DDD-BBD1-CFF6B78B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FDB1-1A8B-445C-9978-32C5441B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E0CE-6A94-492E-B1F8-14C3DE92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41CF3-1415-461E-B5DE-1E3DF5E8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21D8E-12D9-4A3C-958C-E8601C16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13D8-7C7F-4CF5-9127-5DDA5334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BA671-CE31-4B9A-A005-06C6F144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35A39-0AE3-4CD7-8B1F-D2730B04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5E42-AF45-4BB4-B081-A9CBA8C1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7372D-9CE9-4F32-B1FB-AF26408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E325-3AF3-4A77-A7A1-8CFA2FA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795-174B-4E1F-9E42-081C6BB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94028-58D5-48BF-B3C7-439533A9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0A00-6A81-46B9-B016-87D8A4A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68B7-23DA-45D7-BCFF-CCFEFF90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206B0-8697-48EF-91D5-D53B7F8F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24698-B0EC-4B01-AA46-BEB59051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1029-FE6A-4703-BC19-18FD7D70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2CA32-AC8B-4239-8CBD-61A60901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98DB2-07BD-4135-927F-E49EF18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8AFB-0A70-453C-920C-3C38D0F4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D075B-0031-4017-86CC-A7D1DEA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14E-ED12-46D3-9DB4-3F511CB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27A46-E915-48B6-96D7-B571295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C694-4C4F-4076-A796-4AFAF00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CFB0-71AB-472F-B425-2C64696E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AA42F-9DE6-4877-9295-F1A9A9F8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2F4F8-26C3-44A5-8E2C-FF9BB23D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CA3-EFEF-42A7-89A5-8216CEF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8EB2-D041-473C-A1AD-8233C2BE4CA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AE0-FCA5-4BE1-AFB7-290588F2F7C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850A-79F1-42EA-BBC5-6AA9684A2DF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9F21-7A4C-4C1C-9915-B510DB145CF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DE0-4589-4BBF-B031-6A3F5DB9BCE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673-0614-43C6-94F2-883C2FD5AD3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5E8-4D83-4FD4-A41A-B16E32DD115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озитивный имидж образовательного учреждения как фактор повышения качества образо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14280" y="407196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Анпилогова Ирина Олег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Лицей « Престиж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Комфортность школьной сре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Picture 5" descr="C:\Users\User\Desktop\YXtgmYze0uc.jpg"/>
          <p:cNvPicPr/>
          <p:nvPr/>
        </p:nvPicPr>
        <p:blipFill>
          <a:blip r:embed="rId1"/>
          <a:stretch/>
        </p:blipFill>
        <p:spPr>
          <a:xfrm>
            <a:off x="676440" y="3129120"/>
            <a:ext cx="3822480" cy="2547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:\Users\User\Desktop\4iPr-aJiNoI.jpg"/>
          <p:cNvPicPr/>
          <p:nvPr/>
        </p:nvPicPr>
        <p:blipFill>
          <a:blip r:embed="rId2"/>
          <a:stretch/>
        </p:blipFill>
        <p:spPr>
          <a:xfrm>
            <a:off x="4643280" y="3214800"/>
            <a:ext cx="41119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Мы за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7" descr="C:\Users\User\Desktop\dJ4xrqpEgqk.jpg"/>
          <p:cNvPicPr/>
          <p:nvPr/>
        </p:nvPicPr>
        <p:blipFill>
          <a:blip r:embed="rId1"/>
          <a:stretch/>
        </p:blipFill>
        <p:spPr>
          <a:xfrm>
            <a:off x="714240" y="2571840"/>
            <a:ext cx="3822840" cy="2782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C:\Users\User\Desktop\aIhzNj6JGmE.jpg"/>
          <p:cNvPicPr/>
          <p:nvPr/>
        </p:nvPicPr>
        <p:blipFill>
          <a:blip r:embed="rId2"/>
          <a:stretch/>
        </p:blipFill>
        <p:spPr>
          <a:xfrm>
            <a:off x="4643280" y="2571840"/>
            <a:ext cx="3822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C:\Users\User\Desktop\5g3SiSjPRQs.jpg"/>
          <p:cNvPicPr/>
          <p:nvPr/>
        </p:nvPicPr>
        <p:blipFill>
          <a:blip r:embed="rId1"/>
          <a:stretch/>
        </p:blipFill>
        <p:spPr>
          <a:xfrm>
            <a:off x="1000080" y="1785960"/>
            <a:ext cx="74502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бщешкольный конкурс профессионального мастерств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4" descr="C:\Users\User\Desktop\ttt_TZ_g3tQ.jpg"/>
          <p:cNvPicPr/>
          <p:nvPr/>
        </p:nvPicPr>
        <p:blipFill>
          <a:blip r:embed="rId1"/>
          <a:stretch/>
        </p:blipFill>
        <p:spPr>
          <a:xfrm>
            <a:off x="652320" y="1785960"/>
            <a:ext cx="76345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9725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лицее сложился творческий коллектив учителей, которым по плечу самые сложные задачи: 81% педагогов имеют высшую и первую квалификационные категории. Два педагога отмечены знаком "Отличник народного просвещения РФ", двое награждены знаком "Почетный работник общего образования РФ", в 2012 году учителю математики Письменной Светлане Анатольевне присуждено звание Заслуженный учитель РФ. Четверо учителей лицея являются победителями конкурса лучших учителей Российской Федерации в рамках приоритетного национального проекта "Образование"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Наработки, опыт, программы и методики сотрудников лицея широко распространяются в городе (издание учебных пособий, выпуск статей, проведение консультации и семинаров для учителей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234900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одержание миссии и приоритеты образовательного учрежде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иды образовательных услуг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атериальная база шко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еременный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мидж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4"/>
          <p:cNvSpPr/>
          <p:nvPr/>
        </p:nvSpPr>
        <p:spPr>
          <a:xfrm>
            <a:off x="428760" y="928800"/>
            <a:ext cx="7929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й представляет учащимся возможность получить образование физико-математической и социально- экономической  направленности по программам повышенного уровня сложности, выявляет наиболее одаренных детей и создает условия для развития их творческих способностей. Приоритетом является организация деятельности, способствующей самореализации как личности учащихся на I, II и III ступеней образования, так и личности учителя в процессе их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пяти лет лицей входит в десятку лучших учреждений города по результативности учебного процесса, что подтверждается 100% успеваемостью и высоким уровнем подготовки учащихся к итоговой аттестации. Средний балл ЕГЭ по математике, русскому языку, обществознанию, биологии выше 70%. Средняя оценка по математике, русскому языку, обществознанию у выпускников 9 классов - 4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0 лет деятельности лицей выпустил более 1600 учащихся, 166 человек (13,5%)  окончили лицей с медалью, 97% продолжили обучение в ВУЗ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Мудрость и опыт в словах ветеранов…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4" descr="C:\Users\User\Desktop\oXBz8_oTUpQ (1).jpg"/>
          <p:cNvPicPr/>
          <p:nvPr/>
        </p:nvPicPr>
        <p:blipFill>
          <a:blip r:embed="rId1"/>
          <a:stretch/>
        </p:blipFill>
        <p:spPr>
          <a:xfrm>
            <a:off x="785880" y="1874880"/>
            <a:ext cx="7429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205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учащихся начальной школы и их родителей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 классного руководителя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старшеклассников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 учителя-предметника и образ администрации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родителей с высшим образованием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ставление о качестве образования и стиле работы школы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родителей детей с ослабленным здоровьем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фортность школьной сре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компоненты имиджа ОУ</a:t>
            </a:r>
            <a:br>
              <a:rPr sz="4400"/>
            </a:b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(по </a:t>
            </a:r>
            <a:r>
              <a:rPr b="1" i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искунову М.С.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71560" y="2276280"/>
            <a:ext cx="7408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ведение  учащихся  ВНЕ лице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тзывы родителей и ВЫПУСКНИКОВ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заимоотношения со СМИ (особенно местными)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щественная деятельность ОУ, благотворительност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21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Формирование имиджа ОУ в глазах общественнос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мидж – то, что о вас говорят</a:t>
            </a:r>
            <a:br>
              <a:rPr sz="4800"/>
            </a:br>
            <a:r>
              <a:rPr b="0" lang="ru-RU" sz="4400" spc="-1" strike="noStrike">
                <a:solidFill>
                  <a:srgbClr val="06436b"/>
                </a:solidFill>
                <a:latin typeface="Candara"/>
              </a:rPr>
              <a:t>                </a:t>
            </a:r>
            <a:r>
              <a:rPr b="1" i="1" lang="ru-RU" sz="36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Эрвин Гоффманн, социолог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15" descr="семья"/>
          <p:cNvPicPr/>
          <p:nvPr/>
        </p:nvPicPr>
        <p:blipFill>
          <a:blip r:embed="rId1"/>
          <a:stretch/>
        </p:blipFill>
        <p:spPr>
          <a:xfrm>
            <a:off x="3492360" y="3645000"/>
            <a:ext cx="17575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71560" y="1628280"/>
            <a:ext cx="7408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мидж и репутация – самое ценное имущество школ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юбой аспект вашей деятельности влияет на имидж ОУ, даже если вы этого и не осознае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мидж нельзя купить. Его можно только СОЗДА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чала вы работаете на имидж, а потом он работает на вас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мните! 83% решений принимаются на основе ВИЗУАЛЬНОЙ информации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амя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Picture 4" descr="j0283618"/>
          <p:cNvPicPr/>
          <p:nvPr/>
        </p:nvPicPr>
        <p:blipFill>
          <a:blip r:embed="rId1"/>
          <a:stretch/>
        </p:blipFill>
        <p:spPr>
          <a:xfrm>
            <a:off x="152280" y="152280"/>
            <a:ext cx="1476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ешний вид учителей и учеников крайне важен – по нему судят о школе в цел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унктуальность и обязательность  - показатели позитивного имиджа (уважайте чужое время!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истота – залог здоровья! А так же залог хорошего впечатления от школ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жливость - лучшая политика! Чаще говорите «спасибо» родителям, это позволит им чувствовать свою значим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храняя «лицо» своего коллеги, ты сохраняешь сво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амя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8" name="Picture 4" descr="j0283618"/>
          <p:cNvPicPr/>
          <p:nvPr/>
        </p:nvPicPr>
        <p:blipFill>
          <a:blip r:embed="rId1"/>
          <a:stretch/>
        </p:blipFill>
        <p:spPr>
          <a:xfrm>
            <a:off x="152280" y="152280"/>
            <a:ext cx="1476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ходите к нам учиться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357120" y="5715000"/>
            <a:ext cx="990720" cy="728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5857920" y="2071800"/>
            <a:ext cx="990720" cy="728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3"/>
          <a:stretch/>
        </p:blipFill>
        <p:spPr>
          <a:xfrm>
            <a:off x="7143840" y="5715000"/>
            <a:ext cx="990360" cy="728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C:\Users\User\Desktop\z_9d3f08f3.jpg"/>
          <p:cNvPicPr/>
          <p:nvPr/>
        </p:nvPicPr>
        <p:blipFill>
          <a:blip r:embed="rId4"/>
          <a:stretch/>
        </p:blipFill>
        <p:spPr>
          <a:xfrm>
            <a:off x="1000080" y="2017800"/>
            <a:ext cx="7072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28800" y="2071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от лат. </a:t>
            </a:r>
            <a:r>
              <a:rPr b="1" i="1" lang="en-US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imago</a:t>
            </a:r>
            <a:r>
              <a:rPr b="1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– изображение, образ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73e87"/>
                </a:solidFill>
                <a:uFillTx/>
                <a:latin typeface="Candara"/>
              </a:rPr>
              <a:t>    </a:t>
            </a:r>
            <a:r>
              <a:rPr b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целенаправленно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уемый образ (какого-либо лица, предмета), призванный оказать </a:t>
            </a:r>
            <a:r>
              <a:rPr b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эмоционально-психологическое воздействие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на кого-либо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целях популяризации, рекламы и т.п.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Имидж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30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мидж –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ставляющая, это образ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уша, это внутренний мир лице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C:\Users\User\Desktop\загруженное.png"/>
          <p:cNvPicPr/>
          <p:nvPr/>
        </p:nvPicPr>
        <p:blipFill>
          <a:blip r:embed="rId1"/>
          <a:stretch/>
        </p:blipFill>
        <p:spPr>
          <a:xfrm>
            <a:off x="1643040" y="2674800"/>
            <a:ext cx="73580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ижний колонтитул 6"/>
          <p:cNvSpPr/>
          <p:nvPr/>
        </p:nvSpPr>
        <p:spPr>
          <a:xfrm>
            <a:off x="3419640" y="6308640"/>
            <a:ext cx="331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Схема 13" descr=""/>
          <p:cNvPicPr/>
          <p:nvPr/>
        </p:nvPicPr>
        <p:blipFill>
          <a:blip r:embed="rId1"/>
          <a:stretch/>
        </p:blipFill>
        <p:spPr>
          <a:xfrm>
            <a:off x="5688000" y="3395520"/>
            <a:ext cx="3290760" cy="1603440"/>
          </a:xfrm>
          <a:prstGeom prst="rect">
            <a:avLst/>
          </a:prstGeom>
          <a:ln w="0">
            <a:noFill/>
          </a:ln>
        </p:spPr>
      </p:pic>
      <p:grpSp>
        <p:nvGrpSpPr>
          <p:cNvPr id="347" name="AutoShape 7"/>
          <p:cNvGrpSpPr/>
          <p:nvPr/>
        </p:nvGrpSpPr>
        <p:grpSpPr>
          <a:xfrm>
            <a:off x="2816280" y="3700440"/>
            <a:ext cx="3365280" cy="1084320"/>
            <a:chOff x="2816280" y="3700440"/>
            <a:chExt cx="3365280" cy="1084320"/>
          </a:xfrm>
        </p:grpSpPr>
        <p:pic>
          <p:nvPicPr>
            <p:cNvPr id="348" name="AutoShape 7" descr=""/>
            <p:cNvPicPr/>
            <p:nvPr/>
          </p:nvPicPr>
          <p:blipFill>
            <a:blip r:embed="rId2"/>
            <a:stretch/>
          </p:blipFill>
          <p:spPr>
            <a:xfrm>
              <a:off x="2816280" y="3700440"/>
              <a:ext cx="336528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059280" y="3914640"/>
              <a:ext cx="2958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Схема 12" descr=""/>
          <p:cNvPicPr/>
          <p:nvPr/>
        </p:nvPicPr>
        <p:blipFill>
          <a:blip r:embed="rId3"/>
          <a:stretch/>
        </p:blipFill>
        <p:spPr>
          <a:xfrm>
            <a:off x="-19080" y="3548160"/>
            <a:ext cx="3457440" cy="158436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9" descr=""/>
          <p:cNvPicPr/>
          <p:nvPr/>
        </p:nvPicPr>
        <p:blipFill>
          <a:blip r:embed="rId4"/>
          <a:stretch/>
        </p:blipFill>
        <p:spPr>
          <a:xfrm>
            <a:off x="463680" y="360360"/>
            <a:ext cx="8448480" cy="1925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C:\Users\Doctor\Desktop\2019da004ce6874f61461de50dc242c6.gif"/>
          <p:cNvPicPr/>
          <p:nvPr/>
        </p:nvPicPr>
        <p:blipFill>
          <a:blip r:embed="rId5"/>
          <a:stretch/>
        </p:blipFill>
        <p:spPr>
          <a:xfrm>
            <a:off x="3541680" y="3187800"/>
            <a:ext cx="1847880" cy="363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133720"/>
            <a:ext cx="7408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щая чистота на всей территории лицея;  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щий стиль помещений лице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атрибутика лице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результатативность (призовые места, победы на конкурсах, олимпиадах, социальная адаптация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нутренний ИЛ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Лицейский  сайт в Интернет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спользование возможностей СМИ для пропаганды достижений лицея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начало связей с общественностью, проведение РR-мероприятий: организация дней открытых дверей, презентаций и др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нешний ИШ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доброжелательный микроклимат в  коллектив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офессионализм сотрудни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раз руководителя-профессионала, лидер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детские общественные организации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развитие творческих способностей, формирование здорового образа жизн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абота администрации об оказании помощи отдельным участникам образовательного процесс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стоянный И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Комфортность школьной сре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2811240" cy="3446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C:\Users\User\Desktop\VtnMTphJT8A (1).jpg"/>
          <p:cNvPicPr/>
          <p:nvPr/>
        </p:nvPicPr>
        <p:blipFill>
          <a:blip r:embed="rId2"/>
          <a:stretch/>
        </p:blipFill>
        <p:spPr>
          <a:xfrm>
            <a:off x="4572000" y="2496960"/>
            <a:ext cx="358776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0:44:16Z</dcterms:created>
  <dc:creator>Пользователь</dc:creator>
  <dc:description/>
  <dc:language>en-US</dc:language>
  <cp:lastModifiedBy>User</cp:lastModifiedBy>
  <dcterms:modified xsi:type="dcterms:W3CDTF">2016-11-20T12:10:18Z</dcterms:modified>
  <cp:revision>290</cp:revision>
  <dc:subject/>
  <dc:title>труд учителя</dc:title>
</cp:coreProperties>
</file>