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55EB0-786D-4729-A10A-E3D8E992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13DE6-1B76-47AA-A5DC-B8D6456B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91460-2663-4618-A7DE-A5914172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C86E9-C95E-438B-BFD8-31D6F34A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7A067-3E67-4307-9BAA-8F85777C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69A5A-665B-42FF-A7EE-08F8AD0E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A5F1C-B3F8-45AB-B3FC-0EF90CDC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471CA-4436-40CA-8BB4-12AEA680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B40DC-3916-4D16-99AA-F3727F0F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04255-991D-465D-86F4-FDCB9B23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9EFC9-1A75-49E8-AEA0-0C0ED9C7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8071D-CF44-4738-B672-0E6F8733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Admin\Рабочий стол\для шаблонов\Копия луг.gif"/>
          <p:cNvPicPr/>
          <p:nvPr/>
        </p:nvPicPr>
        <p:blipFill>
          <a:blip r:embed="rId3"/>
          <a:stretch/>
        </p:blipFill>
        <p:spPr>
          <a:xfrm>
            <a:off x="0" y="0"/>
            <a:ext cx="9143640" cy="1428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Admin\Рабочий стол\для шаблонов\луг.gif"/>
          <p:cNvPicPr/>
          <p:nvPr/>
        </p:nvPicPr>
        <p:blipFill>
          <a:blip r:embed="rId4"/>
          <a:stretch/>
        </p:blipFill>
        <p:spPr>
          <a:xfrm>
            <a:off x="0" y="285840"/>
            <a:ext cx="9126000" cy="65718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C:\Documents and Settings\Admin\Рабочий стол\угадай\Синий.gif"/>
          <p:cNvPicPr/>
          <p:nvPr/>
        </p:nvPicPr>
        <p:blipFill>
          <a:blip r:embed="rId5"/>
          <a:stretch/>
        </p:blipFill>
        <p:spPr>
          <a:xfrm>
            <a:off x="7715160" y="6429240"/>
            <a:ext cx="1213920" cy="25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Admin\Рабочий стол\для шаблонов\Копия луг.gif"/>
          <p:cNvPicPr/>
          <p:nvPr/>
        </p:nvPicPr>
        <p:blipFill>
          <a:blip r:embed="rId3"/>
          <a:stretch/>
        </p:blipFill>
        <p:spPr>
          <a:xfrm>
            <a:off x="0" y="0"/>
            <a:ext cx="9143640" cy="1428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9AC25F-8044-4B0D-8981-0407185500A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 проектов в ДОУ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Обучение педагогов технологии проект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мят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составлению плана – схемы  реализации проект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I этап подготовительный (разработка проекта)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ём игровую мотивацию. Основой мотивации должен стать продукт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ходим в проблемную ситуацию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улируем проблемы, цели, определяем продукт проект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улируем задачи, позволяющие достичь желаемой цели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ируем деятельность и возможные мероприятия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ираем участников проекта, и тех, к кому обратиться за помощью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бираем средства реализации проект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яемся, чему научиться для достижения цел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ступаем к непосредственным действиям и приобретаем необходимые навыки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мятка 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 мероприятия по созданию исходного продукта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щем необходимую информацию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живаем взаимодействие между участниками проект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м поисковую, творческую деятельность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лючительны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родукта деятельност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(Что получилось или не получилось? Почему?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мятка 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дел Практические материалы может включать собранную информацию по теме, разнообразные рабочие материалы, ис¬пользуемые в ходе реализации основных направлений проекта (схемы, планы, конспекты проведения бесед, наблюдений, занятий, игр, игровых упражнений с детьми; продукты детской деятельности; фотоматериалы и др.).  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зделе Выводы могут быть отражены особенности непосредственной реализации проекта; анализ успехов и неудач; значимость достигнутых результатов и т.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 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проект и что такое метод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ект – это специально организованный взрослым и выполняемый детьми комплекс действий, завершающийся созданием творческих работ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тод проектов - система обучения, при которой дети приобретают знания в процессе планирования и выполнения постоянно усложняющихся практических заданий – проектов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ово «метод» (греч. methodos): meta - вне, за пределами и hodos - путь. Потому метод - это путь в определенной деятельности, следование которому приводит к получению необходимого результата.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тод проектов всегда предполагает решение воспитанниками какой-то проблемы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 методом проектов мы подразумеваем технологию организации образовательных                ситуаций, в которых воспитанник ставит и решает собственные проблемы, и технологию сопровождения самостоятельной деятельности ребенка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ссификация проектов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ы классифицируют по следующим признакам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тематике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ворческие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ционные, игровые, исследовательские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составу участников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упповые, индивидуальные, фронтальные), (в контакте с другой возрастной группой, внутри Доу, в контакте с семьей, с учреждением культуры и т.д.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срокам реализации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аткосрочные, долгосрочные, средней продолжительности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проектов 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ие 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площения проекта в жизнь проводится оформление результата в виде  детского праздни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тельск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дети проводят опыты, после чего результаты оформляют в виде газет, книг, альбомов, выставок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гровы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это проекты с элементами творческих игр, когда ребята  входят в образ персонажей сказки, по-своему решая поставленные задачи и проблемы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онны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дети собирают информацию и реализуют ее, ориентируясь на собственные социальные интересы (оформление группы, отдельных уголков и т.д.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 процесса планировани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авить цель, исходя из интересов и потребностей детей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влечь дошкольников в решение проблемы (обозначение детской цели через беседу)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метить план движения к цели (поддержание интереса детей и родителей)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удить план с семьями воспитанников (устные беседы, информационные стенды, сайт (форум))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титься за рекомендациями к специалистам детского сада музыкальный руководитель, руководитель физкультуры и др. (творческий поиск)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уществить поиск возможных парнеров (школа, библиотека, театр и др.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рисовать вместе с родителями и детьми план-схему проведения проекта (можно использовать модель трех вопросов), вывесить ее на видном месте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 планирования 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7640" y="1600200"/>
            <a:ext cx="8218800" cy="4708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брать информацию, материал (изучение плана-схемы с детьми)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сти совместную деятельность, игры, наблюдения, поездки-экскурсии — все мероприятия основной части проекта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ложить домашние задания родителям и детям (при желании семьи)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йти к самостоятельным творческим работам (поиск материала, информации; поделки, рисунки, альбомы, предложения) родителей и детей, партнеров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овать презентацию проекта (праздник, открытое мероприятие, акция, КВН); составляем книгу, альбом, коллекцию и т. п.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3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овать рефлексию (самоанализ, сравнение результата с целями, оценка перспектив развития проекта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 планировани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7640" y="1600200"/>
            <a:ext cx="8218800" cy="4708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ить портфолио проекта вместе с детьми (фото-, видеоматериалы, продукты проекта, смешные истории, «зарисовки» процесса работы над проектом)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вести итоги: выступление на педсовете, семинаре, круглом столе, провести обобщение опыт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пределение деятельности педагога и детей в проекте 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7640" y="1628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Таблица 3"/>
          <p:cNvGraphicFramePr/>
          <p:nvPr/>
        </p:nvGraphicFramePr>
        <p:xfrm>
          <a:off x="2267640" y="1556640"/>
          <a:ext cx="4608000" cy="5048640"/>
        </p:xfrm>
        <a:graphic>
          <a:graphicData uri="http://schemas.openxmlformats.org/drawingml/2006/table">
            <a:tbl>
              <a:tblPr/>
              <a:tblGrid>
                <a:gridCol w="788040"/>
                <a:gridCol w="1659960"/>
                <a:gridCol w="2160000"/>
              </a:tblGrid>
              <a:tr h="501120">
                <a:tc>
                  <a:txBody>
                    <a:bodyPr lIns="16560" rIns="16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апы проек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 педаго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 дет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1760"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эта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Формулирует проблему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ь, определяет продук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а (см. структуру проекта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Вводит в игровую (сюжетную ситуацию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Формулирует задачи (нежестко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Вхождение в проблему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Вживание в игровую ситуацию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Принятие задачи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Дополнение задач проект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6320"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эта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Помогает в решении задач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омогает спланироват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Организует деятельность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Объединение детей в рабочие группы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Распределение ролей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9040"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эта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Практическая помощь (по необходимости, в зависимости от возраста детей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Направляет и контролирует осуществление проек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ирование специфических ЗУН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3760"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эта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Подготовка к презентации проект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резентаци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Продукт деятельности готовят к презентаци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редставляют (зрителям или экспертам) продукт деятель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560" marR="165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– схема реализации проекта(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оформить проект на бумаге)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Объект 3"/>
          <p:cNvGraphicFramePr/>
          <p:nvPr/>
        </p:nvGraphicFramePr>
        <p:xfrm>
          <a:off x="1394640" y="3232080"/>
          <a:ext cx="6777720" cy="2619360"/>
        </p:xfrm>
        <a:graphic>
          <a:graphicData uri="http://schemas.openxmlformats.org/drawingml/2006/table">
            <a:tbl>
              <a:tblPr/>
              <a:tblGrid>
                <a:gridCol w="754200"/>
                <a:gridCol w="2228760"/>
                <a:gridCol w="2228760"/>
                <a:gridCol w="1565640"/>
              </a:tblGrid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(сро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направления реализации проекта (мероприят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ы и средства реализаци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уг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уг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Луг</Template>
  <TotalTime>70</TotalTime>
  <Application>LibreOffice/7.4.7.2$Linux_X86_64 LibreOffice_project/40$Build-2</Application>
  <AppVersion>15.0000</AppVersion>
  <Words>661</Words>
  <Paragraphs>11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6:59:30Z</dcterms:created>
  <dc:creator>саша</dc:creator>
  <dc:description/>
  <dc:language>en-US</dc:language>
  <cp:lastModifiedBy>саша</cp:lastModifiedBy>
  <cp:lastPrinted>2013-01-26T18:07:58Z</cp:lastPrinted>
  <dcterms:modified xsi:type="dcterms:W3CDTF">2013-01-26T18:11:07Z</dcterms:modified>
  <cp:revision>7</cp:revision>
  <dc:subject/>
  <dc:title>Метод проектов в ДО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