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gif" ContentType="image/gif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F7DF-73B0-4AE6-A4B0-400F25712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F5D0-C597-49C7-B807-564525189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EE18-B187-4398-B665-49D794DEB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773F-6DF3-4384-BF54-882397EF1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BC58-7F02-4FCA-829E-93F101FEE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7D6A-F408-4147-8D97-9BF43C8B7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28B7-2A1F-4A8B-AF06-CAEF2242A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8ADD-3D88-4F2F-B156-A8907BA9E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7F4B-8AAF-4984-9F16-950749D47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E3E8-B79C-4392-964D-FD80C9A6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755D-3ED0-4EFF-9007-B83C25462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6F0C-6B75-4A60-A5A9-ADF1420E6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3674B-919D-4948-B6DF-7F4CFF3195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755640" y="2205000"/>
            <a:ext cx="74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  <a:ea typeface="Arial"/>
              </a:rPr>
              <a:t>«Память пылающих лет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4356000" y="3573360"/>
            <a:ext cx="45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  <a:ea typeface="Arial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  <a:ea typeface="Arial"/>
              </a:rPr>
              <a:t>Воспитатели:   Штанкова Е. С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  <a:ea typeface="Arial"/>
              </a:rPr>
              <a:t>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  <a:ea typeface="Arial"/>
              </a:rPr>
              <a:t>Кабанова А. 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9"/>
          <p:cNvSpPr/>
          <p:nvPr/>
        </p:nvSpPr>
        <p:spPr>
          <a:xfrm>
            <a:off x="3565440" y="6308640"/>
            <a:ext cx="166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  <a:ea typeface="Arial"/>
              </a:rPr>
              <a:t>Самара 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539640" y="1125360"/>
            <a:ext cx="813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нкур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етских творческих исследовательских проекто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«Хочу все знать!»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2319480" y="216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15"/>
          <p:cNvSpPr/>
          <p:nvPr/>
        </p:nvSpPr>
        <p:spPr>
          <a:xfrm>
            <a:off x="324000" y="33336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  <a:ea typeface="Arial"/>
              </a:rPr>
              <a:t>Муниципальное бюджетное дошкольное образовательное учреждение «Детский сад № 281» г.о. Самар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16" descr="112408237_100706687_9d6204d8c63d (1)"/>
          <p:cNvPicPr/>
          <p:nvPr/>
        </p:nvPicPr>
        <p:blipFill>
          <a:blip r:embed="rId1"/>
          <a:stretch/>
        </p:blipFill>
        <p:spPr>
          <a:xfrm>
            <a:off x="0" y="4869000"/>
            <a:ext cx="914400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112408237_100706687_9d6204d8c63d (1)"/>
          <p:cNvPicPr/>
          <p:nvPr/>
        </p:nvPicPr>
        <p:blipFill>
          <a:blip r:embed="rId1"/>
          <a:stretch/>
        </p:blipFill>
        <p:spPr>
          <a:xfrm>
            <a:off x="0" y="5516640"/>
            <a:ext cx="9144000" cy="13413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6"/>
          <p:cNvSpPr/>
          <p:nvPr/>
        </p:nvSpPr>
        <p:spPr>
          <a:xfrm>
            <a:off x="395280" y="765000"/>
            <a:ext cx="741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креплять умение участвовать в разнообразных подвижных играх, способствовать развитию ловкости, силы, быстроты, выносливости, координации движений, умение ориентироваться в пространств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1979640" y="189000"/>
            <a:ext cx="518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ФИЗИЧЕСКОЕ РАЗВИТИ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112408237_100706687_9d6204d8c63d (1)"/>
          <p:cNvPicPr/>
          <p:nvPr/>
        </p:nvPicPr>
        <p:blipFill>
          <a:blip r:embed="rId1"/>
          <a:stretch/>
        </p:blipFill>
        <p:spPr>
          <a:xfrm>
            <a:off x="0" y="5516640"/>
            <a:ext cx="9144000" cy="134136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6"/>
          <p:cNvSpPr/>
          <p:nvPr/>
        </p:nvSpPr>
        <p:spPr>
          <a:xfrm>
            <a:off x="395280" y="1628640"/>
            <a:ext cx="8353440" cy="33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нцип поисково – исследовательской деятельности.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нцип личностно – ориентированного обучения.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нцип дифференциации и интеграции всех видов образовательных областей.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нцип непрерывности.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0" y="4046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едагогические принципы  реализации                                проек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112408237_100706687_9d6204d8c63d (1)"/>
          <p:cNvPicPr/>
          <p:nvPr/>
        </p:nvPicPr>
        <p:blipFill>
          <a:blip r:embed="rId1"/>
          <a:stretch/>
        </p:blipFill>
        <p:spPr>
          <a:xfrm>
            <a:off x="250920" y="5661000"/>
            <a:ext cx="8893080" cy="11970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5"/>
          <p:cNvSpPr/>
          <p:nvPr/>
        </p:nvSpPr>
        <p:spPr>
          <a:xfrm>
            <a:off x="468360" y="-171360"/>
            <a:ext cx="8229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знавате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льная деятельн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468360" y="549360"/>
            <a:ext cx="837396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Чтение произведений: Л. Кассиль «Главное войско»,  С. Михалков «Служу советскому союзу»,  «Таинственная шкатулка», «Галина мама», «Соловушка», С. Алексеев «Орлович-воронович», «Рассказ танкист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азучивание стихотворений: «Навек запомни», С.Михалков «Быль для детей», «Родина», А.Штанкова «Прадеды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ассказы и беседы: «22 июня – День памяти и скорби», «Дети-герои ВОВ», «Тыл для фронта», «Рассказы из семейного архив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ассматривание иллюстраций: «Рода войск», «Памятники боевой славы Самарской области»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ассматривание награ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нятия: «Отступать некуда- позади Москва», «В небесах, на земле и на море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Экскурсии:  к памятнику Защитнику Отечества; В музей боевой славы МБОУ сош№12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осмотр фильмов: «Маленький сержант», «Юнбат Иванов», «Парад в Москве7 ноября 1941год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лушание в аудиозаписи песен военных ле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112408237_100706687_9d6204d8c63d (1)"/>
          <p:cNvPicPr/>
          <p:nvPr/>
        </p:nvPicPr>
        <p:blipFill>
          <a:blip r:embed="rId1"/>
          <a:stretch/>
        </p:blipFill>
        <p:spPr>
          <a:xfrm>
            <a:off x="0" y="5516640"/>
            <a:ext cx="9144000" cy="13413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1475640" y="260280"/>
            <a:ext cx="592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родуктивная  деятельн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539640" y="1052640"/>
            <a:ext cx="7777440" cy="20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нструирование: «Памятник шоферам погибшим в ВОВ», «Эсминец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учной труд: «Танк», «Пилотка», «Блиндаж и окопы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зготовление макета «Битва за Москву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811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112408237_100706687_9d6204d8c63d (1)"/>
          <p:cNvPicPr/>
          <p:nvPr/>
        </p:nvPicPr>
        <p:blipFill>
          <a:blip r:embed="rId1"/>
          <a:stretch/>
        </p:blipFill>
        <p:spPr>
          <a:xfrm>
            <a:off x="0" y="5516640"/>
            <a:ext cx="9144000" cy="13413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1909800" y="189000"/>
            <a:ext cx="509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Игровая деятельнос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468360" y="1197000"/>
            <a:ext cx="82296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идактические игры: «Посылка на фронт», «Узнай по форме», «Сложи правильно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южетно-ролевые игры: «На поле танки грохотали», «На заставе», «Морской патруль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движные игры и упражнения:  «Переправа», «Добрось гранату», «Попади в цель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нсценировка произведений: С. Михалков «Мы тоже воины»,М. Твардовский «Василий Теркин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112408237_100706687_9d6204d8c63d (1)"/>
          <p:cNvPicPr/>
          <p:nvPr/>
        </p:nvPicPr>
        <p:blipFill>
          <a:blip r:embed="rId1"/>
          <a:stretch/>
        </p:blipFill>
        <p:spPr>
          <a:xfrm>
            <a:off x="0" y="5516640"/>
            <a:ext cx="9144000" cy="13413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2054520" y="260280"/>
            <a:ext cx="487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Работа с родителям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468360" y="1125360"/>
            <a:ext cx="82296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зготовление альбомов: «Дети фронта», «Города-герои», «Ордена и медали», «Военная форма», «Памятники боевой славы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нкурс рисунков «Никто не забыт, ничто не забыто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смотр передачи  посвященной параду 7 ноября 1941 г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узыкально-литературный вечер: «Листая памяти страницы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ыставка: «Этих дней не смолкнет слав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зготовление книги «Память пылающих лет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112408237_100706687_9d6204d8c63d (1)"/>
          <p:cNvPicPr/>
          <p:nvPr/>
        </p:nvPicPr>
        <p:blipFill>
          <a:blip r:embed="rId1"/>
          <a:stretch/>
        </p:blipFill>
        <p:spPr>
          <a:xfrm>
            <a:off x="0" y="5516640"/>
            <a:ext cx="9144000" cy="13413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"/>
          <p:cNvSpPr/>
          <p:nvPr/>
        </p:nvSpPr>
        <p:spPr>
          <a:xfrm>
            <a:off x="-361800" y="0"/>
            <a:ext cx="95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зменения в предметно – развивающей              сред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395280" y="1125360"/>
            <a:ext cx="835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несение в книжный  уголок книг о Великой Отечественной вой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дбор фотографий и иллюстраций о В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несение атрибутов к сюжетно-ролевым играм (военная техника, матросские бескозырки, бинокли, пилотк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формление патриотического угол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112408237_100706687_9d6204d8c63d (1)"/>
          <p:cNvPicPr/>
          <p:nvPr/>
        </p:nvPicPr>
        <p:blipFill>
          <a:blip r:embed="rId1"/>
          <a:stretch/>
        </p:blipFill>
        <p:spPr>
          <a:xfrm>
            <a:off x="0" y="5516640"/>
            <a:ext cx="9144000" cy="13413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2631240" y="260280"/>
            <a:ext cx="504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езентация  проек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900000" y="1125360"/>
            <a:ext cx="5380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нига «Память пылающих лет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узыкально – литературный вечер «Листая памяти страницы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ыставка «Этих дней не смолкнет слава!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112408237_100706687_9d6204d8c63d (1)"/>
          <p:cNvPicPr/>
          <p:nvPr/>
        </p:nvPicPr>
        <p:blipFill>
          <a:blip r:embed="rId1"/>
          <a:stretch/>
        </p:blipFill>
        <p:spPr>
          <a:xfrm>
            <a:off x="0" y="5516640"/>
            <a:ext cx="9144000" cy="13413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2414520" y="260280"/>
            <a:ext cx="407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Развитие проек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395280" y="1197000"/>
            <a:ext cx="8497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ивлечение детей, педагогов и родителей групп детского сада к сбору  сведений о своих родственниках, участниках Великой Отечественной Вой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спространение опыта работы по детскому сад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сширение проекта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кскурсия в музей МБОУ СОШ  № 14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стреча с военнослужащими в День Защитника Отечеств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аздник, посвященный 70-летию Победы в В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112408237_100706687_9d6204d8c63d (1)"/>
          <p:cNvPicPr/>
          <p:nvPr/>
        </p:nvPicPr>
        <p:blipFill>
          <a:blip r:embed="rId1"/>
          <a:stretch/>
        </p:blipFill>
        <p:spPr>
          <a:xfrm>
            <a:off x="0" y="5516640"/>
            <a:ext cx="9144000" cy="13413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2340000" y="333360"/>
            <a:ext cx="44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Интернет ресурс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6" descr=""/>
          <p:cNvPicPr/>
          <p:nvPr/>
        </p:nvPicPr>
        <p:blipFill>
          <a:blip r:embed="rId2"/>
          <a:stretch/>
        </p:blipFill>
        <p:spPr>
          <a:xfrm>
            <a:off x="324000" y="1052640"/>
            <a:ext cx="3097080" cy="181296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7"/>
          <p:cNvSpPr/>
          <p:nvPr/>
        </p:nvSpPr>
        <p:spPr>
          <a:xfrm>
            <a:off x="401400" y="2924280"/>
            <a:ext cx="286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http://podvignaroda.mil.ru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8" descr=""/>
          <p:cNvPicPr/>
          <p:nvPr/>
        </p:nvPicPr>
        <p:blipFill>
          <a:blip r:embed="rId3"/>
          <a:stretch/>
        </p:blipFill>
        <p:spPr>
          <a:xfrm>
            <a:off x="5435640" y="1125360"/>
            <a:ext cx="2882880" cy="16891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9"/>
          <p:cNvSpPr/>
          <p:nvPr/>
        </p:nvSpPr>
        <p:spPr>
          <a:xfrm>
            <a:off x="5297040" y="2852640"/>
            <a:ext cx="31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http://www.obd-memorial.ru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10" descr=""/>
          <p:cNvPicPr/>
          <p:nvPr/>
        </p:nvPicPr>
        <p:blipFill>
          <a:blip r:embed="rId4"/>
          <a:stretch/>
        </p:blipFill>
        <p:spPr>
          <a:xfrm>
            <a:off x="2987640" y="3284640"/>
            <a:ext cx="2841840" cy="16653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1"/>
          <p:cNvSpPr/>
          <p:nvPr/>
        </p:nvSpPr>
        <p:spPr>
          <a:xfrm>
            <a:off x="3138120" y="5013360"/>
            <a:ext cx="233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http://pobeda.elar.ru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112408237_100706687_9d6204d8c63d (1)"/>
          <p:cNvPicPr/>
          <p:nvPr/>
        </p:nvPicPr>
        <p:blipFill>
          <a:blip r:embed="rId1"/>
          <a:stretch/>
        </p:blipFill>
        <p:spPr>
          <a:xfrm>
            <a:off x="0" y="5516640"/>
            <a:ext cx="9144000" cy="13413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395280" y="1413000"/>
            <a:ext cx="8209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ид проекта: долгосрочный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ип проекта: практико – ориентированный, открытый,  групповой.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частники проекта: дети, педагоги, родител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роки реализации:  май – октябрь 2014 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2195640" y="333360"/>
            <a:ext cx="40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аспорт проек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112408237_100706687_9d6204d8c63d (1)"/>
          <p:cNvPicPr/>
          <p:nvPr/>
        </p:nvPicPr>
        <p:blipFill>
          <a:blip r:embed="rId1"/>
          <a:stretch/>
        </p:blipFill>
        <p:spPr>
          <a:xfrm>
            <a:off x="0" y="5516640"/>
            <a:ext cx="9144000" cy="134136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1262160" y="2276640"/>
            <a:ext cx="6096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611280" y="765000"/>
            <a:ext cx="822960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дной из основных задач дошкольного образования является воспитание патриотизма, чувства любви к Родине.  У нашей страны великое прошлое, которое нас учит, воспитывает, формирует чувство гордости. Совсем мало осталось живых свидетелей событий 1941-1945 годо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 событий Второй мировой войны,  победителем в которой стала наша страна. Победа завоевана непомерным подвигом народа, подвиг  был так велик, что война названа Великой Отечественной.  Война была страшной, унесшей миллионы жизней. В 2015 году наша страна  празднует 70-летний юбилей победы над фашистской Германией.  Именно события ВОВ являются ярким примером для воспитания патриотических чувств дошкольни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7" descr="112408237_100706687_9d6204d8c63d (1)"/>
          <p:cNvPicPr/>
          <p:nvPr/>
        </p:nvPicPr>
        <p:blipFill>
          <a:blip r:embed="rId1"/>
          <a:stretch/>
        </p:blipFill>
        <p:spPr>
          <a:xfrm>
            <a:off x="250920" y="5398920"/>
            <a:ext cx="8569080" cy="14590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8"/>
          <p:cNvSpPr/>
          <p:nvPr/>
        </p:nvSpPr>
        <p:spPr>
          <a:xfrm>
            <a:off x="2050920" y="260280"/>
            <a:ext cx="46087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Актуальнос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112408237_100706687_9d6204d8c63d (1)"/>
          <p:cNvPicPr/>
          <p:nvPr/>
        </p:nvPicPr>
        <p:blipFill>
          <a:blip r:embed="rId1"/>
          <a:stretch/>
        </p:blipFill>
        <p:spPr>
          <a:xfrm>
            <a:off x="0" y="5373720"/>
            <a:ext cx="9144000" cy="148428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7"/>
          <p:cNvSpPr/>
          <p:nvPr/>
        </p:nvSpPr>
        <p:spPr>
          <a:xfrm>
            <a:off x="395280" y="692280"/>
            <a:ext cx="845964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Цель:</a:t>
            </a:r>
            <a:br>
              <a:rPr sz="4400"/>
            </a:br>
            <a:r>
              <a:rPr b="1" lang="ru-RU" sz="4400" spc="-1" strike="noStrike">
                <a:solidFill>
                  <a:srgbClr val="def5fa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ормирование мотивационно-целостного представления об историческом прошлом  России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468360" y="2924280"/>
            <a:ext cx="835164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Цель (детская):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знакомитьс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с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сторие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елико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течественной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ойны,  узнать о своих родственниках участниках  войн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112408237_100706687_9d6204d8c63d (1)"/>
          <p:cNvPicPr/>
          <p:nvPr/>
        </p:nvPicPr>
        <p:blipFill>
          <a:blip r:embed="rId1"/>
          <a:stretch/>
        </p:blipFill>
        <p:spPr>
          <a:xfrm>
            <a:off x="0" y="5516640"/>
            <a:ext cx="9144000" cy="13413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6"/>
          <p:cNvSpPr/>
          <p:nvPr/>
        </p:nvSpPr>
        <p:spPr>
          <a:xfrm>
            <a:off x="179280" y="476280"/>
            <a:ext cx="896472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ahoma"/>
                <a:ea typeface="Arial"/>
              </a:rPr>
              <a:t>Задачи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Arial"/>
              </a:rPr>
              <a:t>Формировать социально значимые качества: гордость за свою Родину, чувство глубокого уважения к участникам войны, воинам-земляка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250920" y="2492280"/>
            <a:ext cx="84834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Arial"/>
              </a:rPr>
              <a:t>Стимулировать потребность детей в поиске сведений о своих родственниках участниках войн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179280" y="3706920"/>
            <a:ext cx="8964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Arial"/>
              </a:rPr>
              <a:t>Приобщать родителей к совместной творческой деятельности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Arial"/>
              </a:rPr>
              <a:t> с детьми, сбору документов и фотографий из семейных архивов об участниках войн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112408237_100706687_9d6204d8c63d (1)"/>
          <p:cNvPicPr/>
          <p:nvPr/>
        </p:nvPicPr>
        <p:blipFill>
          <a:blip r:embed="rId1"/>
          <a:stretch/>
        </p:blipFill>
        <p:spPr>
          <a:xfrm>
            <a:off x="0" y="5516640"/>
            <a:ext cx="9144000" cy="13413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7"/>
          <p:cNvSpPr/>
          <p:nvPr/>
        </p:nvSpPr>
        <p:spPr>
          <a:xfrm>
            <a:off x="395280" y="836640"/>
            <a:ext cx="842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глублять знания об историческом прошлом нашей Родин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оспитывать уважительное отношение к участникам  Великой Отечественной Войны,  к памяти павших бойцов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звивать умение содержательно; эмоционально  рассказывать сверстникам об интересных фактах  и событиях своих родственников, участников Великой Отечественной Войны.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действовать  творческому  использованию в играх представлений об армии, впечатлений о произведениях литератур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611280" y="260280"/>
            <a:ext cx="75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ОЦИАЛЬНО – КОММУНИКАТИВНОЕ РАЗВИТ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112408237_100706687_9d6204d8c63d (1)"/>
          <p:cNvPicPr/>
          <p:nvPr/>
        </p:nvPicPr>
        <p:blipFill>
          <a:blip r:embed="rId1"/>
          <a:stretch/>
        </p:blipFill>
        <p:spPr>
          <a:xfrm>
            <a:off x="0" y="5516640"/>
            <a:ext cx="9144000" cy="13413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324000" y="1125360"/>
            <a:ext cx="828036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сширять знания о героях Великой Отечественной Войны, о сплочённости нашего народа в борьбе против фашизма, о победе нашей страны в войн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знакомить детей с памятниками героям Великой Отечественной  Войны, в том числе и в Самарской обла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ссказать детям о воинских наградах прадедушек и прабабушек.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ормировать представления о военной форме и атрибутике военных лет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1692000" y="404640"/>
            <a:ext cx="540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ЗНАВАТЕЛЬНОЕ РАЗВИТ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112408237_100706687_9d6204d8c63d (1)"/>
          <p:cNvPicPr/>
          <p:nvPr/>
        </p:nvPicPr>
        <p:blipFill>
          <a:blip r:embed="rId1"/>
          <a:stretch/>
        </p:blipFill>
        <p:spPr>
          <a:xfrm>
            <a:off x="0" y="5516640"/>
            <a:ext cx="9144000" cy="13413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2629080" y="333360"/>
            <a:ext cx="411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Речевое развит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611280" y="1341360"/>
            <a:ext cx="7235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огащать речевой запас детей на основе углубления представлений о событиях ВОВ 1941-1945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ктивизировать номинативный словарь воинской темати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звивать способность применять сформированные умения и навыки связной речи для составления рассказов о своих родственник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112408237_100706687_9d6204d8c63d (1)"/>
          <p:cNvPicPr/>
          <p:nvPr/>
        </p:nvPicPr>
        <p:blipFill>
          <a:blip r:embed="rId1"/>
          <a:stretch/>
        </p:blipFill>
        <p:spPr>
          <a:xfrm>
            <a:off x="0" y="5516640"/>
            <a:ext cx="9144000" cy="13413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6"/>
          <p:cNvSpPr/>
          <p:nvPr/>
        </p:nvSpPr>
        <p:spPr>
          <a:xfrm>
            <a:off x="324000" y="836640"/>
            <a:ext cx="8532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являть самостоятельность в выборе темы рисунка, композиционного и цветового решения.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огащать музыкальные впечатления детей, вызывая яркий эмоциональный  отклик при восприятии и исполнении песен военных лет.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оспитывать стремление действовать согласованно, договариваться, кто какую часть работы будет выполнять, как отдельные детали будут объединяться в общую картину макета, развивать коллективное творчеств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905760" y="260280"/>
            <a:ext cx="726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ХУДОЖЕСТВЕННО – ЭСТЕТИЧЕСКОЕ РАЗВИТ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6T14:06:27Z</dcterms:created>
  <dc:creator>Сергей</dc:creator>
  <dc:description/>
  <dc:language>en-US</dc:language>
  <cp:lastModifiedBy>Елена</cp:lastModifiedBy>
  <dcterms:modified xsi:type="dcterms:W3CDTF">2016-11-20T18:09:43Z</dcterms:modified>
  <cp:revision>21</cp:revision>
  <dc:subject/>
  <dc:title>Слайд 1</dc:title>
</cp:coreProperties>
</file>