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DF2-7E16-4EBE-987F-2D9B0C3D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E55-696B-4338-AAF6-43D9F187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C4F-08A0-4DD5-95CC-03EE68D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758-E7DD-4CC4-9F92-15F8F19F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1E3-A2AC-4AF2-B809-0CA226A6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1546-BC84-4DAA-B994-E9A0C80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1FC-0200-48C9-BFE2-9FBB2973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FB8-159F-4DCA-99BA-A9A8320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A29F-C7DF-4AF0-ACD4-7128FE9F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FA7C-B436-4101-91BD-5E56C552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1E60-09F4-455E-9854-E247DF59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A78-E9D5-4D3B-BE00-9A170EA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CB3F-F826-403A-A2D4-9427D0C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A0C7-BC17-495D-8CD4-890A516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3408-3D5E-447D-A2E3-8FEDC73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A3BD-FCBE-4BBD-B8C5-9B087E4F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BCEA-64A8-4E07-8A65-A8DFDBA1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7C6-2345-4FB0-B150-48C91827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0D9-61E0-4CD0-9C21-953AC94C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D16-6357-484B-B5C9-A2124B5F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BF3-FE37-42C2-838E-87D9D28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D93-DC99-483B-B18C-66500C1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9FE-7CB7-4B0D-B1AA-E6117F5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800-F26E-444D-A9C6-9FEE670C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BFB4-FF5D-44B3-9A0C-E85CECEBC7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A90F-60ED-444D-B654-418821D8ED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езударной гласно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 корне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42640" y="4051080"/>
            <a:ext cx="700092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втор – учитель МБОУ СОШ № 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иуккон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754920" y="765000"/>
            <a:ext cx="718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Безударные гласны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в корне слова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проверяютс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 rot="20712600">
            <a:off x="1737000" y="3478320"/>
            <a:ext cx="711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ударением.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5"/>
          <p:cNvSpPr/>
          <p:nvPr/>
        </p:nvSpPr>
        <p:spPr>
          <a:xfrm>
            <a:off x="950760" y="345276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539640" y="1197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ед.ч.        мн. ч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539640" y="220500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.ка – ре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.ва – сов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535120" y="503712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5149080" y="342900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мн.ч.        ед.ч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2751120" y="5326200"/>
            <a:ext cx="22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5292720" y="436572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. сты – м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. ньки - д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1835280" y="1557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6443640" y="378936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2176560" y="165240"/>
            <a:ext cx="52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зменение числа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755280" y="2276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754920" y="28526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5650560" y="4437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5579640" y="48690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348000" y="333360"/>
            <a:ext cx="23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асков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92200" y="13161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кв. рец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843280" y="134136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кворуш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57120" y="13413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747000" y="22273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. ма 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51880" y="220500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имуш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971640" y="2205000"/>
            <a:ext cx="4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403280" y="18900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менем существительным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99400" y="98100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с. лить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86920" y="98100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475640" y="981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489320" y="1700280"/>
            <a:ext cx="60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Именем прилагательным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92200" y="2468520"/>
            <a:ext cx="21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. говик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668680" y="2492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еж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71280" y="24922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627280" y="321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Глаголом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811080" y="393372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в. стунишка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534480" y="393372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васт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258920" y="386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9:29:26Z</dcterms:created>
  <dc:creator>Comp</dc:creator>
  <dc:description/>
  <dc:language>en-US</dc:language>
  <cp:lastModifiedBy>ден</cp:lastModifiedBy>
  <dcterms:modified xsi:type="dcterms:W3CDTF">2016-11-20T07:09:46Z</dcterms:modified>
  <cp:revision>6</cp:revision>
  <dc:subject/>
  <dc:title>Проверка  безударной гласной  в корне слова</dc:title>
</cp:coreProperties>
</file>