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A6083-B4B3-4DC9-9BC2-21850872EF1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E67FE-A323-4FBA-8B6E-6282F8009CE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BAD90-D520-409D-AF62-E1DC123E6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813C7-E69C-41F2-BAAD-9D779A9BD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B00A6-F741-4EB8-9AF4-4BCF50597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CA792-D722-4EF5-AA7A-A02424827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6508B-1F85-4881-A274-34B69A98D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7924B-36A9-4B68-8BF9-6E9A333E1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D942D-9B62-49DA-B19A-B6887B920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9D891-7219-42FA-8251-F75E63EE9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82BAE-2CAC-474F-A287-CF6E5EFFA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DDB20-C4FA-490E-94F6-4FABC73C7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E4E73-1D28-413D-AC0E-C613A0A9D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38D54-F3E2-471B-A8B2-02F4C0853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25327-3809-4EC2-8C76-D75E580FE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D4477-40BF-41E7-A77B-CFA18228F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17324-8F75-45B8-B8EF-69F0C54FB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43DE8-B940-4EEF-AFFD-92CD94884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8CD9B-9EF4-4066-A215-40F08BDF2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8D5AB-DED8-412B-8DF8-6D578EF7F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F87C5-530B-44F8-BCC5-C970EFB41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B5683-50FF-4F6C-9EBC-670ACCAFA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8A6A0-D401-4EE5-A9D5-B1A126F2F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DD14A-7800-4326-923C-6178A5A9C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AFFF0-4C56-4EEE-96F0-A8B80E4CB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38371-5E71-4948-8995-56C67805E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6C4E1-264D-446E-9986-975015E7CC3A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563DC-9165-459C-A56A-38F6604A3F20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"/>
          <p:cNvPicPr/>
          <p:nvPr/>
        </p:nvPicPr>
        <p:blipFill>
          <a:blip r:embed="rId1"/>
          <a:stretch/>
        </p:blipFill>
        <p:spPr>
          <a:xfrm>
            <a:off x="0" y="31680"/>
            <a:ext cx="9144000" cy="682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"/>
          <p:cNvPicPr/>
          <p:nvPr/>
        </p:nvPicPr>
        <p:blipFill>
          <a:blip r:embed="rId1"/>
          <a:stretch/>
        </p:blipFill>
        <p:spPr>
          <a:xfrm>
            <a:off x="250920" y="23760"/>
            <a:ext cx="8893080" cy="754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"/>
          <p:cNvPicPr/>
          <p:nvPr/>
        </p:nvPicPr>
        <p:blipFill>
          <a:blip r:embed="rId1"/>
          <a:stretch/>
        </p:blipFill>
        <p:spPr>
          <a:xfrm>
            <a:off x="0" y="-371520"/>
            <a:ext cx="9482040" cy="80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4" descr="http://www.spb.aif.ru/pictures/201302/image001%20%281%29.jpg"/>
          <p:cNvPicPr/>
          <p:nvPr/>
        </p:nvPicPr>
        <p:blipFill>
          <a:blip r:embed="rId1"/>
          <a:stretch/>
        </p:blipFill>
        <p:spPr>
          <a:xfrm>
            <a:off x="539640" y="297000"/>
            <a:ext cx="7417080" cy="63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"/>
          <p:cNvPicPr/>
          <p:nvPr/>
        </p:nvPicPr>
        <p:blipFill>
          <a:blip r:embed="rId1"/>
          <a:stretch/>
        </p:blipFill>
        <p:spPr>
          <a:xfrm>
            <a:off x="144360" y="144360"/>
            <a:ext cx="8952120" cy="671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http://bibliotekar.ru/muzeumLuvr/40.files/image001.jpg"/>
          <p:cNvPicPr/>
          <p:nvPr/>
        </p:nvPicPr>
        <p:blipFill>
          <a:blip r:embed="rId1"/>
          <a:stretch/>
        </p:blipFill>
        <p:spPr>
          <a:xfrm>
            <a:off x="0" y="-674640"/>
            <a:ext cx="9144000" cy="782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&amp;CHcy;&amp;tcy;&amp;ocy; &amp;mcy;&amp;ocy;&amp;zhcy;&amp;iecy;&amp;tcy; &amp;bcy;&amp;ycy;&amp;tcy;&amp;softcy; &amp;chcy;&amp;ucy;&amp;dcy;&amp;iecy;&amp;scy;&amp;ncy;&amp;iecy;&amp;jcy; &amp;scy;&amp;lcy;&amp;ocy;&amp;vcy;&amp;acy; - &amp;Mcy;&amp;acy;&amp;mcy;&amp;acy;?: Charles West Cope"/>
          <p:cNvPicPr/>
          <p:nvPr/>
        </p:nvPicPr>
        <p:blipFill>
          <a:blip r:embed="rId1"/>
          <a:stretch/>
        </p:blipFill>
        <p:spPr>
          <a:xfrm>
            <a:off x="-1116000" y="0"/>
            <a:ext cx="10972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"/>
          <p:cNvPicPr/>
          <p:nvPr/>
        </p:nvPicPr>
        <p:blipFill>
          <a:blip r:embed="rId1"/>
          <a:stretch/>
        </p:blipFill>
        <p:spPr>
          <a:xfrm>
            <a:off x="95400" y="144360"/>
            <a:ext cx="9048600" cy="671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"/>
          <p:cNvPicPr/>
          <p:nvPr/>
        </p:nvPicPr>
        <p:blipFill>
          <a:blip r:embed="rId1"/>
          <a:stretch/>
        </p:blipFill>
        <p:spPr>
          <a:xfrm>
            <a:off x="684360" y="0"/>
            <a:ext cx="7272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0" y="-41400"/>
            <a:ext cx="8624880" cy="689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250920" y="0"/>
            <a:ext cx="8532720" cy="710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"/>
          <p:cNvPicPr/>
          <p:nvPr/>
        </p:nvPicPr>
        <p:blipFill>
          <a:blip r:embed="rId1"/>
          <a:stretch/>
        </p:blipFill>
        <p:spPr>
          <a:xfrm>
            <a:off x="-1233360" y="-714240"/>
            <a:ext cx="11209320" cy="757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1-15T12:39:50Z</dcterms:created>
  <dc:creator>1</dc:creator>
  <dc:description/>
  <dc:language>en-US</dc:language>
  <cp:lastModifiedBy>1</cp:lastModifiedBy>
  <dcterms:modified xsi:type="dcterms:W3CDTF">2016-11-15T17:06:23Z</dcterms:modified>
  <cp:revision>4</cp:revision>
  <dc:subject/>
  <dc:title>Слайд 1</dc:title>
</cp:coreProperties>
</file>