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590-D58A-4193-9AF0-2C2CEB9C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88D-15B4-47D3-9522-DB9A770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1A0-71B1-4650-8AB3-6013F5A6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8C-D0D5-4630-ABBC-10FD6C35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95F-3F3B-41B5-B2DA-AA496044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399-F5B0-46A8-AFD0-55670E1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F96-9B2F-4933-9051-4FBF1B81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DE3-8F11-4A7B-A2BA-354C4BD1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CDB-2E83-4CAD-93CE-85E57C9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FE0-F65F-4772-976E-4B2DB23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881-6FCB-403E-A9F4-E6F99A1B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D9B-27D6-4B00-913C-9039CB8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D669-9A4E-41CF-97FD-F228F6EBC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233047"/>
          <p:cNvPicPr/>
          <p:nvPr/>
        </p:nvPicPr>
        <p:blipFill>
          <a:blip r:embed="rId1"/>
          <a:stretch/>
        </p:blipFill>
        <p:spPr>
          <a:xfrm>
            <a:off x="611280" y="189000"/>
            <a:ext cx="8137440" cy="638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zakat15"/>
          <p:cNvPicPr/>
          <p:nvPr/>
        </p:nvPicPr>
        <p:blipFill>
          <a:blip r:embed="rId2"/>
          <a:stretch/>
        </p:blipFill>
        <p:spPr>
          <a:xfrm>
            <a:off x="250920" y="189000"/>
            <a:ext cx="8497800" cy="637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awn3"/>
          <p:cNvPicPr/>
          <p:nvPr/>
        </p:nvPicPr>
        <p:blipFill>
          <a:blip r:embed="rId3"/>
          <a:stretch/>
        </p:blipFill>
        <p:spPr>
          <a:xfrm>
            <a:off x="250920" y="189000"/>
            <a:ext cx="8640720" cy="648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49_sm1"/>
          <p:cNvPicPr/>
          <p:nvPr/>
        </p:nvPicPr>
        <p:blipFill>
          <a:blip r:embed="rId4"/>
          <a:stretch/>
        </p:blipFill>
        <p:spPr>
          <a:xfrm>
            <a:off x="250920" y="177840"/>
            <a:ext cx="8642160" cy="641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IMG08082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639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dsc_3750_ss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686607503"/>
          <p:cNvPicPr/>
          <p:nvPr/>
        </p:nvPicPr>
        <p:blipFill>
          <a:blip r:embed="rId7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p26"/>
          <p:cNvPicPr/>
          <p:nvPr/>
        </p:nvPicPr>
        <p:blipFill>
          <a:blip r:embed="rId8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Utrennjaja_rosa"/>
          <p:cNvPicPr/>
          <p:nvPr/>
        </p:nvPicPr>
        <p:blipFill>
          <a:blip r:embed="rId9"/>
          <a:stretch/>
        </p:blipFill>
        <p:spPr>
          <a:xfrm>
            <a:off x="250920" y="189000"/>
            <a:ext cx="8642160" cy="648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09426_600"/>
          <p:cNvPicPr/>
          <p:nvPr/>
        </p:nvPicPr>
        <p:blipFill>
          <a:blip r:embed="rId10"/>
          <a:stretch/>
        </p:blipFill>
        <p:spPr>
          <a:xfrm>
            <a:off x="250920" y="187200"/>
            <a:ext cx="8642160" cy="648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467_56"/>
          <p:cNvPicPr/>
          <p:nvPr/>
        </p:nvPicPr>
        <p:blipFill>
          <a:blip r:embed="rId11"/>
          <a:stretch/>
        </p:blipFill>
        <p:spPr>
          <a:xfrm>
            <a:off x="250920" y="115920"/>
            <a:ext cx="8713800" cy="6567480"/>
          </a:xfrm>
          <a:prstGeom prst="rect">
            <a:avLst/>
          </a:prstGeom>
          <a:ln w="0">
            <a:noFill/>
          </a:ln>
        </p:spPr>
      </p:pic>
      <p:pic>
        <p:nvPicPr>
          <p:cNvPr id="52" name="grieg-beecham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7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30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7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648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64000" y="134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гей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219640" y="2205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добрым ут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754440" cy="5072040"/>
          </a:xfrm>
          <a:prstGeom prst="rect">
            <a:avLst/>
          </a:prstGeom>
          <a:ln w="22320">
            <a:solidFill>
              <a:srgbClr val="80808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4788000" y="378936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эт – человек, наблюдательный, обладающий фантазией, глядя на одинаковое, способен видеть разное и особенное, глядя на незаметное, привычное, обнаруживать замеча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87280" y="3500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подготовлена учителем начальных классов ГБОУ Гимназия №1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ебенюк Людмилой Игор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835280" y="476280"/>
            <a:ext cx="532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бинированный урок литературного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класс (1 –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ргей Есенин «С добрым утро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zakat15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5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G08082"/>
          <p:cNvPicPr/>
          <p:nvPr/>
        </p:nvPicPr>
        <p:blipFill>
          <a:blip r:embed="rId2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11280" y="836640"/>
            <a:ext cx="1800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4360" y="2421000"/>
            <a:ext cx="1150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4149720"/>
            <a:ext cx="172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8366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, а также место появления све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д горизонтом. На восходе солнца (рано утром). Восход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411280" y="242100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яркое освещение  горизонта  перед  восходом или  после захода солнца. 3аря занимается (утренняя).  Вечерняя  заря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556000" y="414972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время перед восходом солнца, начало утра. Встать на рассв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780000" y="5877000"/>
            <a:ext cx="460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лковы словарь русского языка. С.И.Ожегов, Н.Ю.Шве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95280" y="907920"/>
            <a:ext cx="3672000" cy="581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зари до з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4581360"/>
            <a:ext cx="3600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 свет ни з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332000" y="2708280"/>
            <a:ext cx="3384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тать с з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284720" y="105264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ую  ночь и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лый 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859280" y="278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  очень р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932360" y="472428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  очень рано у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64000" y="134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гей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21964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добрым ут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3754440" cy="5072400"/>
          </a:xfrm>
          <a:prstGeom prst="rect">
            <a:avLst/>
          </a:prstGeom>
          <a:ln w="22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6882"/>
          <p:cNvPicPr/>
          <p:nvPr/>
        </p:nvPicPr>
        <p:blipFill>
          <a:blip r:embed="rId1"/>
          <a:stretch/>
        </p:blipFill>
        <p:spPr>
          <a:xfrm>
            <a:off x="395280" y="260280"/>
            <a:ext cx="7777080" cy="6313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24"/>
          <p:cNvSpPr/>
          <p:nvPr/>
        </p:nvSpPr>
        <p:spPr>
          <a:xfrm>
            <a:off x="4788000" y="907920"/>
            <a:ext cx="4176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то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давшийся в берег речной залив, заво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826920" y="115920"/>
            <a:ext cx="73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лицетворе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несение свойств одушевлённых предметов на неодушевлённые. Весьма часто олицетворение применяется при изображении природы, которая наделяется теми или иными человеческими чер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68360" y="1773360"/>
            <a:ext cx="403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емали звезды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ожало зеркало за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езжит свет на заводи р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румянит сетку небоск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ыбнулись сонные берез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трепали шелковые к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елестят зеленые сере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горят серебряные 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плетня заросшая 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ядилась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, качаясь, шепчет шаловл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С добрым утром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68360" y="17733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емали звез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66560" y="32925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ыбнулись сонные бере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8360" y="3598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трепали шелковые к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41760" y="482112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68360" y="51274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яд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787400" y="54291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епчет шалов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9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774E-007 L 0.48837 0.00255 E"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47657 0.00139 E">
                                      <p:cBhvr>
                                        <p:cTn id="23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2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L 0.46459 -0.00115 E">
                                      <p:cBhvr>
                                        <p:cTn id="24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4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5" dur="indefinite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0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1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33802 -0.00092 E">
                                      <p:cBhvr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50782 -0.0037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38715 0.00486 E">
                                      <p:cBhvr>
                                        <p:cTn id="27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395280" y="1125360"/>
            <a:ext cx="42480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емали звезды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ожало зеркало за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езжит свет на заводи р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румянит сетку небоск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ыбнулись сонные берез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трепали шелковые к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елестят зеленые сере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горят серебряные 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плетня заросшая 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ядилась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, качаясь, шепчет шаловл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С добрым утром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58920" y="404640"/>
            <a:ext cx="1728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95280" y="447660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ядилась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687680" y="1125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везды золо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57360" y="20397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мян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608120" y="3259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еленые сере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366920" y="3562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еребряные 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8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9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40591 0.00254 E">
                                      <p:cBhvr>
                                        <p:cTn id="29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0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1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50694 0.00555 E">
                                      <p:cBhvr>
                                        <p:cTn id="30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39896 -0.00417 E">
                                      <p:cBhvr>
                                        <p:cTn id="31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4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5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L 0.36632 0.01458 E">
                                      <p:cBhvr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0.46858 -0.00324 E">
                                      <p:cBhvr>
                                        <p:cTn id="3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2920" y="476280"/>
            <a:ext cx="129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1413000"/>
            <a:ext cx="42480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емали звезды золот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рожало зеркало за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езжит свет на заводи ре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румянит сетку небоск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лыбнулись сонные берез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трепали шелковые к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елестят зеленые сере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горят серебряные 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плетня заросшая 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ядилась ярким перламу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, качаясь, шепчет шаловли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"С добрым утром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940360" y="134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93236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364000" y="1773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93236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16436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932360" y="177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93236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227640" y="364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003640" y="486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227640" y="486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932360" y="2133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5364000" y="21337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08472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164360" y="1773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7:16:24Z</dcterms:created>
  <dc:creator>kean</dc:creator>
  <dc:description/>
  <dc:language>en-US</dc:language>
  <cp:lastModifiedBy>1</cp:lastModifiedBy>
  <dcterms:modified xsi:type="dcterms:W3CDTF">2016-11-20T19:39:45Z</dcterms:modified>
  <cp:revision>23</cp:revision>
  <dc:subject/>
  <dc:title>Слайд 1</dc:title>
</cp:coreProperties>
</file>