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418-5805-46E5-B143-FAC52452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613-8B6B-4C05-AB86-23800DDA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69C-696A-4F46-8629-BBF04AF3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225-9F23-41C5-ACBE-97C87BE8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8AAF-3D8B-4D79-9C9E-D4BF461D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6858-ABC7-4ED8-B309-AF427F73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9F17-66DD-4B49-961A-34BCBD8D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4D08-349D-4151-8BD3-F25BC39A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86DE-0929-4E12-B8C6-67D7AA65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0B3F-6EED-4409-A467-1765F9EC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EC3B-8726-4FC3-9A84-AC300615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69D-9F4A-48F9-A0DD-24FD99FB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BE29-5943-419B-89DD-B923C286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EABA-B063-4598-B93F-57C2188F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D0CA-6BDE-4C7A-B3C7-2898A39B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DFA4-8AE3-401C-92AD-2BE070C8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ABA1-D8DE-4ACE-B64E-B81D10CA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D0638-D3A9-493B-8384-8976E750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E5A90-3832-47F9-A09F-80934A33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EC972-3BDE-4AE1-9A5C-7ED2B7D6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E4D09-8CFA-4FDD-A509-8EAD90B8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7AF54-53B7-4FE1-9D11-E219E239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E1CA-7F05-4DCC-8A6A-F0CAD1E1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DB4D3-9EDD-4A64-86A3-24C92B69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101C3-B11C-494E-9D08-B3CF5628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2DAD3-AE24-4536-AB53-425044A3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4690F-D068-4854-BBC7-9A591614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716F-D3EB-46FD-BB6B-AC52C310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3EA93-FA34-4A7B-A538-45359264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03D5E-AE6A-48B2-A5CA-65EF0A2C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497AA-C9B6-4CCF-A82F-C7D78CDF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E58F5-1AFE-46BD-9855-051DF856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84693-1288-49BB-920F-D9DC58EB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8EB6-7EF9-4E8D-8158-1C26DAC3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1FD49-278D-4922-BD52-73A9B6DA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7EECD-63D8-46F0-9F8C-A1461C92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318BD-D7CB-4A78-89BF-D1B32ABF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B9726-6286-4226-955B-BDE0442D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DA1F9-21C3-45BB-8568-B142B386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94F21-1A3A-4216-98A6-9B758A90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48EBE-1552-4953-A3DE-DAF08385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82CF4-412F-476A-9B6E-B67FB861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30FAA-A8FC-49A5-9C05-3FFD899C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25E7D-2B13-43D3-8BD4-7F49C0F0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A6D-EFB8-43F5-82B7-6B33C98B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759B2-A70C-4FD3-8EF4-5E808576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FA92E-04EB-47F1-A820-07DFD362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8FD55-AEF9-462C-8993-EC1A7BC4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F2C05-4002-4E4B-A528-C07220BE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C2D99-7DA4-4E56-8D0D-E8638CEF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A6D19-2549-46CB-A226-922C7523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6EFD4-7369-4195-BBDC-298A10A7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668F5-0DCE-47B1-BC5F-8D9A3CA6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99E97-5ADC-4341-B476-4E62E5A8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3D5E9-0F42-4D0A-859D-53D9F04C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A39-B674-4001-B352-A19D442D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FDF9F-0690-4115-899C-51A90DB9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C8ECA-0BD7-48AF-B4AE-EDAC67B7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39FE7-FE3F-4621-AF52-B35E9738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4A040-AAFF-4EE4-9891-823920D7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56E5B-8264-47A3-80B4-8D831072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9099C-01FC-474D-90B0-A5A05A8E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4E41D-E5B4-4DEB-BDB8-E9474ECC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53D12-F5BA-450E-89AE-0F60AE74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572A0-5F86-4AF9-B29A-84EE6164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DE1DA-0DCB-4A9A-9EF7-4188543B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32F-4D93-4AAA-B788-D0F0CE83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FDF70-E775-41A0-94AF-E1383F08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6AE8F-0EB0-47AB-A139-E24EA89F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521DD-890A-4297-B743-AC0C5C5C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ADE07-C980-4002-A6DC-92B62251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7209C-8B32-46B5-96C3-25522355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193F3-B0F8-4CE0-9E5D-AF5AF910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8FE17-1EEE-4D34-9663-A75A743F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4FFA3-BB21-4868-B3DE-2A2B1C93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50294-3F7A-43FE-8F7A-CF92F05B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DAEC2-C69E-4673-97F5-ED469A9D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460-34D8-4F58-BB85-44873D6E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FA4EA-080D-4BA2-95EA-D3A79614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BE7C5-356E-494C-8CDA-F52B10A7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6D2CE-256F-4759-BA7A-2BE56ABB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09321-352A-48EE-8E90-598DCAC0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6A750-1714-4185-AF80-69214B83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221-33A5-4FBA-90DC-63FE37BA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CDE8-759E-4BE1-9082-39F3F93BADE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981D-1A7B-4268-AD98-C3040E51D15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AD9F-BAFB-4099-9DB8-C9AEA362E50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A56E-359E-49CB-85BE-FC7B2204B9E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8BFB-25A9-4CD9-8843-7DD953AE66F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4B06-9B0F-4557-8F37-F60DCBFF841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991C-9704-412B-8D37-F2350778D87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85920" y="2214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572314"/>
                </a:solidFill>
                <a:latin typeface="Curlz MT"/>
              </a:rPr>
              <a:t>СИФИЛИС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1234035753_med"/>
          <p:cNvPicPr/>
          <p:nvPr/>
        </p:nvPicPr>
        <p:blipFill>
          <a:blip r:embed="rId1"/>
          <a:stretch/>
        </p:blipFill>
        <p:spPr>
          <a:xfrm>
            <a:off x="6323040" y="4857840"/>
            <a:ext cx="2392200" cy="1842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8556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 u="sng">
                <a:solidFill>
                  <a:srgbClr val="572314"/>
                </a:solidFill>
                <a:uFillTx/>
                <a:latin typeface="Corbel"/>
              </a:rPr>
              <a:t>Механизм передачи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71320" y="928800"/>
            <a:ext cx="814356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большинстве случаев заражение сифилисом происходит при половых контактах во влагалище, рот или прямую кишку. Наиболее заразны больные первичным сифилисом (с язвами на половых органах, во рту или в прямой кишке). Кроме того, возможна передача инфекции от больной матери плоду во время беременности, а также заражение при переливании кров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Бытовое заражение встречается крайне редко. Большинство случаев, которые связывают с бытовым заражением, на самом деле являются недоказанными случаями полового заражения. Это обусловлено тем, что бледная трепонема (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Treponema pallidum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) быстро погибает вне организма челове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ctr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Picture 4" descr="14798"/>
          <p:cNvPicPr/>
          <p:nvPr/>
        </p:nvPicPr>
        <p:blipFill>
          <a:blip r:embed="rId2"/>
          <a:stretch/>
        </p:blipFill>
        <p:spPr>
          <a:xfrm>
            <a:off x="1714680" y="4765680"/>
            <a:ext cx="1714320" cy="1992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 u="sng">
                <a:solidFill>
                  <a:srgbClr val="572314"/>
                </a:solidFill>
                <a:uFillTx/>
                <a:latin typeface="Corbel"/>
              </a:rPr>
              <a:t>Иммунитет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риимчивость человека к сифилису высок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енесенное заболевание не оставляет невосприимчивости. После излечения возможно повторное заболевание при реинфекци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39640" y="189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Corbel"/>
              </a:rPr>
              <a:t>Проституция, гомосексуализм, случайные половые связи, неблагополучные социально-экономические условия жизни способствуют распространению сифилис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Picture 4" descr="itf150073BG"/>
          <p:cNvPicPr/>
          <p:nvPr/>
        </p:nvPicPr>
        <p:blipFill>
          <a:blip r:embed="rId1"/>
          <a:stretch/>
        </p:blipFill>
        <p:spPr>
          <a:xfrm>
            <a:off x="611280" y="3933720"/>
            <a:ext cx="3822480" cy="2679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62" name="Picture 5" descr="syphilis_gay2006"/>
          <p:cNvPicPr/>
          <p:nvPr/>
        </p:nvPicPr>
        <p:blipFill>
          <a:blip r:embed="rId2"/>
          <a:stretch/>
        </p:blipFill>
        <p:spPr>
          <a:xfrm>
            <a:off x="5508720" y="3933720"/>
            <a:ext cx="2735280" cy="2691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28480" y="70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 u="sng">
                <a:solidFill>
                  <a:srgbClr val="572314"/>
                </a:solidFill>
                <a:uFillTx/>
                <a:latin typeface="Corbel"/>
              </a:rPr>
              <a:t>Диагностика сифилис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7142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иагностика основана на анализах крови на сифилис. Существует множество видов анализов крови на сифилис. Их делят на две группы – нетрепонемные (RPR, RW с кардиолипиновым антигеном) и трепонемные (РИФ, РИБТ, RW c трепонемным антигеном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ля массовых обследований (в больницах, поликлиниках) используют нетрепонемные анализы крови. В ряде случаев они могут быть ложноположительными, то есть быть положительными в отсутствие сифилиса. Поэтому положительный результат нетрепонемных анализов крови обязательно подтверждают трепонемными анализами кров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ля оценки эффективности лечения применяют нетрепонемные анализы крови в количественном исполнении (например, RW с кардиолипиновым антигеном). Трепонемные анализы крови остаются положительными после перенесенного сифилиса пожизненно. Поэтому для оценки эффективности лечения трепонемные анализы крови (такие как РИФ, РИБТ, РПГА) НЕ применяю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4" descr="1523"/>
          <p:cNvPicPr/>
          <p:nvPr/>
        </p:nvPicPr>
        <p:blipFill>
          <a:blip r:embed="rId1"/>
          <a:stretch/>
        </p:blipFill>
        <p:spPr>
          <a:xfrm>
            <a:off x="1403280" y="4797360"/>
            <a:ext cx="2540160" cy="190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66" name="Picture 5" descr="265534-47227-2"/>
          <p:cNvPicPr/>
          <p:nvPr/>
        </p:nvPicPr>
        <p:blipFill>
          <a:blip r:embed="rId2"/>
          <a:stretch/>
        </p:blipFill>
        <p:spPr>
          <a:xfrm>
            <a:off x="5076720" y="4724280"/>
            <a:ext cx="2951280" cy="1973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 u="sng">
                <a:solidFill>
                  <a:srgbClr val="572314"/>
                </a:solidFill>
                <a:uFillTx/>
                <a:latin typeface="Corbel"/>
              </a:rPr>
              <a:t>Лечение сифилис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35684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чало современной химиотерапии сифилиса было положено немецким бактериологом П.Эрлихом, который в 1909 открыл «чудодейственное средство» – сальварсан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1943 врачи начали лечить сифилис пенициллином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сновным видом лечения является антибактериальная терап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7" descr="C:\Users\Bad-Girl\Desktop\L_54af55070e.jpg"/>
          <p:cNvPicPr/>
          <p:nvPr/>
        </p:nvPicPr>
        <p:blipFill>
          <a:blip r:embed="rId1"/>
          <a:stretch/>
        </p:blipFill>
        <p:spPr>
          <a:xfrm>
            <a:off x="5214960" y="4143240"/>
            <a:ext cx="339264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9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 u="sng">
                <a:solidFill>
                  <a:srgbClr val="572314"/>
                </a:solidFill>
                <a:uFillTx/>
                <a:latin typeface="Corbel"/>
              </a:rPr>
              <a:t>Профилактика сифилис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35684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есплатное лечение у квалифицированных специалистов кожно-венерологических диспансеров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сключение использования крови больных сифилисом в клинике и производстве препаратов кров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сключение случайных половых связей и ведения беспорядочной половой жизн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спользовании презервативов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Человек, знающий о своём заболевании обязан сказать об этом своему партнёр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2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2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2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2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 u="sng">
                <a:solidFill>
                  <a:srgbClr val="572314"/>
                </a:solidFill>
                <a:uFillTx/>
                <a:latin typeface="Corbel"/>
              </a:rPr>
              <a:t>Исторический аспек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571400"/>
            <a:ext cx="82296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ифилис впервые привлек к себе внимание в конце XV.в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олезнь названа именем Сифилиса, пастуха, воспетого в мифологической поэме «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ифилис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Picture 5" descr="i"/>
          <p:cNvPicPr/>
          <p:nvPr/>
        </p:nvPicPr>
        <p:blipFill>
          <a:blip r:embed="rId1"/>
          <a:stretch/>
        </p:blipFill>
        <p:spPr>
          <a:xfrm>
            <a:off x="1187280" y="3573360"/>
            <a:ext cx="1897200" cy="287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75" name="Picture 6" descr="D0009084BG"/>
          <p:cNvPicPr/>
          <p:nvPr/>
        </p:nvPicPr>
        <p:blipFill>
          <a:blip r:embed="rId2"/>
          <a:stretch/>
        </p:blipFill>
        <p:spPr>
          <a:xfrm>
            <a:off x="3995640" y="3573360"/>
            <a:ext cx="4321440" cy="281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9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29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3900" spc="-1" strike="noStrike" u="sng">
                <a:solidFill>
                  <a:srgbClr val="572314"/>
                </a:solidFill>
                <a:uFillTx/>
                <a:latin typeface="Corbel"/>
              </a:rPr>
              <a:t>Сифилис</a:t>
            </a: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- классическое венерическое заболевание. Сифилис характеризуется поражением кожи, слизистых оболочек, внутренних органов (сердечно - сосудистой системы, желудка, печени), костно-суставной и нервной систем. </a:t>
            </a:r>
            <a:br>
              <a:rPr sz="3900"/>
            </a:b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0" name="Picture 2" descr="C:\Users\Bad-Girl\Desktop\sif.jpg"/>
          <p:cNvPicPr/>
          <p:nvPr/>
        </p:nvPicPr>
        <p:blipFill>
          <a:blip r:embed="rId1"/>
          <a:stretch/>
        </p:blipFill>
        <p:spPr>
          <a:xfrm>
            <a:off x="1071720" y="5000760"/>
            <a:ext cx="2143080" cy="1562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C:\Users\Bad-Girl\Desktop\misc_12_08.jpg"/>
          <p:cNvPicPr/>
          <p:nvPr/>
        </p:nvPicPr>
        <p:blipFill>
          <a:blip r:embed="rId2"/>
          <a:stretch/>
        </p:blipFill>
        <p:spPr>
          <a:xfrm>
            <a:off x="5786280" y="5000760"/>
            <a:ext cx="19717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Corbel"/>
              </a:rPr>
              <a:t>Чем опасен сифилис ?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429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В первичном периоде твердый шанкр у мужчин может осложниться баланитом , баланопоститом , воспалительным фимозом, парафимозом, гангренизацией и фагеденизмом. Во вторичном периоде может наблюдаться сифилитическое облысение (на 3-5 месяце заболевания), поражение костей, суставов и надкостницы. В третичном периоде происходит необратимое деструктивное поражение внутренних органов (поражение мягкого и твердого неба, дужек, языка, глотки с образованием отверстий, воспаление кости, надкостницы, остеомиелиты, гидрартрозы и остеоартрозы , поражение нервной системы, аорты, сердца и других органов)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857320" y="142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 u="sng">
                <a:solidFill>
                  <a:srgbClr val="572314"/>
                </a:solidFill>
                <a:uFillTx/>
                <a:latin typeface="Corbel"/>
              </a:rPr>
              <a:t>Различаю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Line 4"/>
          <p:cNvSpPr/>
          <p:nvPr/>
        </p:nvSpPr>
        <p:spPr>
          <a:xfrm flipH="1">
            <a:off x="2484360" y="1143000"/>
            <a:ext cx="101592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5"/>
          <p:cNvSpPr/>
          <p:nvPr/>
        </p:nvSpPr>
        <p:spPr>
          <a:xfrm>
            <a:off x="5214960" y="1143000"/>
            <a:ext cx="869760" cy="12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596880" y="2313000"/>
            <a:ext cx="314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рождё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4572000" y="2325600"/>
            <a:ext cx="35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обрет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8"/>
          <p:cNvSpPr/>
          <p:nvPr/>
        </p:nvSpPr>
        <p:spPr>
          <a:xfrm>
            <a:off x="684360" y="2997360"/>
            <a:ext cx="29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9"/>
          <p:cNvSpPr/>
          <p:nvPr/>
        </p:nvSpPr>
        <p:spPr>
          <a:xfrm>
            <a:off x="4643280" y="2924280"/>
            <a:ext cx="34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755640" y="3286080"/>
            <a:ext cx="81280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озбудит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ижный спиралевидный микроорганизм Treponema pallidum (бледная трепонем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1" descr="Pages-190-sifilis"/>
          <p:cNvPicPr/>
          <p:nvPr/>
        </p:nvPicPr>
        <p:blipFill>
          <a:blip r:embed="rId1"/>
          <a:stretch/>
        </p:blipFill>
        <p:spPr>
          <a:xfrm>
            <a:off x="2771640" y="4869000"/>
            <a:ext cx="3441960" cy="1728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 u="sng">
                <a:solidFill>
                  <a:srgbClr val="572314"/>
                </a:solidFill>
                <a:uFillTx/>
                <a:latin typeface="Corbel"/>
              </a:rPr>
              <a:t>Симпто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35684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деляют 4 период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кубационны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вичны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торичн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етичн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500200" y="185724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5" descr="1385"/>
          <p:cNvPicPr/>
          <p:nvPr/>
        </p:nvPicPr>
        <p:blipFill>
          <a:blip r:embed="rId1"/>
          <a:stretch/>
        </p:blipFill>
        <p:spPr>
          <a:xfrm>
            <a:off x="5929200" y="2143080"/>
            <a:ext cx="2914920" cy="215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37" name="Picture 6" descr="chancrehand"/>
          <p:cNvPicPr/>
          <p:nvPr/>
        </p:nvPicPr>
        <p:blipFill>
          <a:blip r:embed="rId2"/>
          <a:stretch/>
        </p:blipFill>
        <p:spPr>
          <a:xfrm>
            <a:off x="3643200" y="3000240"/>
            <a:ext cx="294660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38" name="Picture 7" descr="44985600_1244699403_sifilis6"/>
          <p:cNvPicPr/>
          <p:nvPr/>
        </p:nvPicPr>
        <p:blipFill>
          <a:blip r:embed="rId3"/>
          <a:srcRect l="0" t="0" r="2221" b="0"/>
          <a:stretch/>
        </p:blipFill>
        <p:spPr>
          <a:xfrm>
            <a:off x="6143760" y="3643200"/>
            <a:ext cx="1785960" cy="256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 u="sng">
                <a:solidFill>
                  <a:srgbClr val="572314"/>
                </a:solidFill>
                <a:uFillTx/>
                <a:latin typeface="Corbel"/>
              </a:rPr>
              <a:t>Протяжённость период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2855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кубационный – от 0 до 3-4 неде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вичный – от 3-4 недель до 6-10 неде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торичный – от 6-10 недель до 5-10 л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етичный – от 5-10 л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4" descr="__picture"/>
          <p:cNvPicPr/>
          <p:nvPr/>
        </p:nvPicPr>
        <p:blipFill>
          <a:blip r:embed="rId1"/>
          <a:srcRect l="0" t="0" r="0" b="3204"/>
          <a:stretch/>
        </p:blipFill>
        <p:spPr>
          <a:xfrm>
            <a:off x="324000" y="4437000"/>
            <a:ext cx="1717560" cy="230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42" name="Picture 5" descr="congenitalsyphilisteeth"/>
          <p:cNvPicPr/>
          <p:nvPr/>
        </p:nvPicPr>
        <p:blipFill>
          <a:blip r:embed="rId2"/>
          <a:stretch/>
        </p:blipFill>
        <p:spPr>
          <a:xfrm>
            <a:off x="2556000" y="4365720"/>
            <a:ext cx="3671640" cy="235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43" name="Picture 6" descr="sifilis6"/>
          <p:cNvPicPr/>
          <p:nvPr/>
        </p:nvPicPr>
        <p:blipFill>
          <a:blip r:embed="rId3"/>
          <a:stretch/>
        </p:blipFill>
        <p:spPr>
          <a:xfrm>
            <a:off x="6659640" y="4076640"/>
            <a:ext cx="1925640" cy="2568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85840" y="3567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Corbel"/>
              </a:rPr>
              <a:t> </a:t>
            </a:r>
            <a:r>
              <a:rPr b="1" lang="ru-RU" sz="3200" spc="-1" strike="noStrike" u="sng">
                <a:solidFill>
                  <a:srgbClr val="835e01"/>
                </a:solidFill>
                <a:uFillTx/>
                <a:latin typeface="Corbel"/>
              </a:rPr>
              <a:t>Первичный сифилис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возникает после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окончания инкубационного периода. В месте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роникновения возбудителя в организм (половые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органы, слизистая рта или прямой кишки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возникает безболезненная язва с плотным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основанием (твердый шанкр). Через 1-2 нед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осле возникновения язвы увеличиваютс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ближайшие лимфатические узлы (при локализаци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язвы во рту увеличиваются подчелюстные, пр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оражении половых органов – паховые). Язв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(твердый шанкр) самостоятельно заживает в течение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3-6 нед. после возникновения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" descr="C:\Users\Bad-Girl\Desktop\sifilis.jpg"/>
          <p:cNvPicPr/>
          <p:nvPr/>
        </p:nvPicPr>
        <p:blipFill>
          <a:blip r:embed="rId1"/>
          <a:stretch/>
        </p:blipFill>
        <p:spPr>
          <a:xfrm>
            <a:off x="7072200" y="19288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C:\Users\Bad-Girl\Desktop\2388.jpg"/>
          <p:cNvPicPr/>
          <p:nvPr/>
        </p:nvPicPr>
        <p:blipFill>
          <a:blip r:embed="rId2"/>
          <a:stretch/>
        </p:blipFill>
        <p:spPr>
          <a:xfrm>
            <a:off x="5143680" y="5143680"/>
            <a:ext cx="211752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3200" spc="-1" strike="noStrike" u="sng">
                <a:solidFill>
                  <a:srgbClr val="835e01"/>
                </a:solidFill>
                <a:uFillTx/>
                <a:latin typeface="Corbel"/>
              </a:rPr>
              <a:t>Вторичный сифилис</a:t>
            </a:r>
            <a:r>
              <a:rPr b="0" lang="ru-RU" sz="3200" spc="-1" strike="noStrike">
                <a:solidFill>
                  <a:srgbClr val="835e01"/>
                </a:solidFill>
                <a:latin typeface="Corbe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начинается через 4-10 нед. после появления язвы (2-4 мес. после заражения). Он характеризуется симметричной бледной сыпью по всему телу, включая ладони и подошвы. Возникновение сыпи нередко сопровождается головной болью, недомоганием, повышением температуры тела (как при гриппе). Увеличиваются лимфатические узлы по всему телу. Вторичный сифилис протекает в виде чередования обострений и ремиссий (бессимптомных периодов). При этом возможно выпадение волос на голове, а также появление разрастаний телесного цвета на половых органах и в области заднего прохода (широкие кондиломы)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2" descr="C:\Users\Bad-Girl\Desktop\ebcd4f55a3ebc717da9ab970b95081d4.jpg.gif"/>
          <p:cNvPicPr/>
          <p:nvPr/>
        </p:nvPicPr>
        <p:blipFill>
          <a:blip r:embed="rId1"/>
          <a:stretch/>
        </p:blipFill>
        <p:spPr>
          <a:xfrm>
            <a:off x="642960" y="4714920"/>
            <a:ext cx="20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C:\Users\Bad-Girl\Desktop\OM15a.jpg"/>
          <p:cNvPicPr/>
          <p:nvPr/>
        </p:nvPicPr>
        <p:blipFill>
          <a:blip r:embed="rId2"/>
          <a:stretch/>
        </p:blipFill>
        <p:spPr>
          <a:xfrm>
            <a:off x="3214800" y="4714920"/>
            <a:ext cx="2176200" cy="1928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C:\Users\Bad-Girl\Desktop\PHIL_3508_lores.jpg"/>
          <p:cNvPicPr/>
          <p:nvPr/>
        </p:nvPicPr>
        <p:blipFill>
          <a:blip r:embed="rId3"/>
          <a:stretch/>
        </p:blipFill>
        <p:spPr>
          <a:xfrm>
            <a:off x="6000840" y="4714920"/>
            <a:ext cx="2270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0004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5e01"/>
                </a:solidFill>
                <a:latin typeface="Corbel"/>
              </a:rPr>
              <a:t>   </a:t>
            </a:r>
            <a:r>
              <a:rPr b="1" lang="ru-RU" sz="3200" spc="-1" strike="noStrike" u="sng">
                <a:solidFill>
                  <a:srgbClr val="835e01"/>
                </a:solidFill>
                <a:uFillTx/>
                <a:latin typeface="Corbel"/>
              </a:rPr>
              <a:t>Третичный сифилис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зникает в отсутствие лечения через много лет после заражения. При этом поражается нервная система (включая головной и спинной мозг), кости и внутренние органы (включая сердце, печень и т. д.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7" descr="44985600_1244699403_sifilis6"/>
          <p:cNvPicPr/>
          <p:nvPr/>
        </p:nvPicPr>
        <p:blipFill>
          <a:blip r:embed="rId1"/>
          <a:srcRect l="0" t="0" r="2221" b="0"/>
          <a:stretch/>
        </p:blipFill>
        <p:spPr>
          <a:xfrm>
            <a:off x="6143760" y="3786120"/>
            <a:ext cx="214308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3" name="Picture 3" descr="C:\Users\Bad-Girl\Desktop\misc_12_08.jpg"/>
          <p:cNvPicPr/>
          <p:nvPr/>
        </p:nvPicPr>
        <p:blipFill>
          <a:blip r:embed="rId2"/>
          <a:stretch/>
        </p:blipFill>
        <p:spPr>
          <a:xfrm>
            <a:off x="2071800" y="3786120"/>
            <a:ext cx="300024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5:01:05Z</dcterms:created>
  <dc:creator>Надежда Беляева_2009</dc:creator>
  <dc:description/>
  <dc:language>en-US</dc:language>
  <cp:lastModifiedBy>Bad-Girl</cp:lastModifiedBy>
  <dcterms:modified xsi:type="dcterms:W3CDTF">2011-12-13T14:17:56Z</dcterms:modified>
  <cp:revision>15</cp:revision>
  <dc:subject>Инфекции передающиеся половым путём</dc:subject>
  <dc:title>Сифилис</dc:title>
</cp:coreProperties>
</file>