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E2B-9308-4E87-843F-F90C197A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AE1-F021-4B78-A690-064E17A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C9F-56E6-4570-BF0C-87405B11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253-DD91-40BB-B947-25606D2E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CDA8-9281-416A-89B7-873EBE64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1707-F4C7-4E86-9579-07002BB1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C9A8-A9C4-4C1B-9AC9-C1368660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D196-3633-4CE6-8691-824C67B9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7DAA-9CA7-423B-B67E-25CD0B95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7246-165E-4274-BDDC-5DD6E96A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063C-75D1-4E38-A55B-91305702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B14-A28B-41EE-B1F3-F1FD32E4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9BD2-A0F6-441F-B152-8CD1B4A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8C97-37C9-42FA-9A66-AC70381E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AD4D-12B1-4241-8C15-ADF3F430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9CCA-C9CD-4546-8F63-6E5ECEF5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FDEF-1D00-4951-9E56-133D7A4D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E7E-D735-4A23-9F63-9EE1512F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946-F750-41A2-AFBA-5D23C8EB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C06-5E72-4476-A0C1-55E2E72E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C0E-E5CA-4C00-9B00-F6D149D7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1D6-CC7B-4C39-9067-759D327C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812-973D-4736-8567-ECC7B71A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7B2-FB09-45A9-AB6E-2A5DA3DF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CFB4-89BC-47F7-B066-DB0E38B5F6D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F1C-557B-42DA-949C-E6024CB473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87280" y="580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Dec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94920" y="1125360"/>
            <a:ext cx="8496360" cy="33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1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11100" spc="-1" strike="noStrike">
                <a:solidFill>
                  <a:srgbClr val="ff3300"/>
                </a:solidFill>
                <a:latin typeface="Comic Sans MS"/>
              </a:rPr>
              <a:t>Star Hour”</a:t>
            </a:r>
            <a:endParaRPr b="0" lang="en-US" sz="11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8900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96360" y="551664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429264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92428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299736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58972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12000" y="18900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4936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0360" y="292428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429264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Прочитайте текст и ответьте на вопросы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Arial"/>
              </a:rPr>
              <a:t>Helen’s room is the smallest in the flat. It is full of interesting things. She has got many wonderful books with pictures, a computer, a TV set with a video and collections of stamps and soft to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9900cc"/>
                </a:solidFill>
                <a:latin typeface="Arial"/>
              </a:rPr>
              <a:t>There is a big sofa in the corner of the room. You can see a small desk near the window and a nice green carpet on the floor. She’s got some photographs on the wa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01080" y="566100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3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1. Helen is interested in …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893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) sports and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3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b) photography and trave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3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c) collecting different things and    computer g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860640"/>
            <a:ext cx="6048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2. Helen’s room is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) very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)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) very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14972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28000" y="580536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3.Helen can … in her room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) play computer games and watch T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b) play the piano and sing so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c) read and listen to the ra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Arial"/>
              </a:rPr>
              <a:t>4 There is …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) a big blue carpet on the w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b) a small red carpet on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c) a big green carpet on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5080" y="573408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77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3" dur="77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77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2" dur="77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2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Сгруппируйте слова по соответствующим разделам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3357720"/>
            <a:ext cx="80758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Fridge, sofa, shower, cooker, wardrobe, street, microwave, bookcase, toothbrush, cinema, TV set, bed, armchair, garden, wall unit, pillow, balcony, cupboard, spoon, shampoo, sheet, blanket, soap, bath, ben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989000"/>
          <a:ext cx="8362800" cy="863640"/>
        </p:xfrm>
        <a:graphic>
          <a:graphicData uri="http://schemas.openxmlformats.org/drawingml/2006/table">
            <a:tbl>
              <a:tblPr/>
              <a:tblGrid>
                <a:gridCol w="1439640"/>
                <a:gridCol w="1728720"/>
                <a:gridCol w="1656000"/>
                <a:gridCol w="2160360"/>
                <a:gridCol w="13780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itch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thro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edro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iving-ro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utsi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8028000" y="573408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260280"/>
          <a:ext cx="9144000" cy="5905440"/>
        </p:xfrm>
        <a:graphic>
          <a:graphicData uri="http://schemas.openxmlformats.org/drawingml/2006/table">
            <a:tbl>
              <a:tblPr/>
              <a:tblGrid>
                <a:gridCol w="1947960"/>
                <a:gridCol w="1976400"/>
                <a:gridCol w="1727280"/>
                <a:gridCol w="1800000"/>
                <a:gridCol w="1692360"/>
              </a:tblGrid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itch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athro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edro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iving-ro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utsi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g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rob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k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thbrus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ca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wa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mpo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low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s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con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pbo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cha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d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nk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 uni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6633"/>
                </a:solidFill>
                <a:latin typeface="Garamond"/>
              </a:rPr>
              <a:t>Игра «Аукцион»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7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lang="en-US" sz="6800" spc="-1" strike="noStrike">
                <a:solidFill>
                  <a:srgbClr val="990000"/>
                </a:solidFill>
                <a:latin typeface="Garamond"/>
              </a:rPr>
              <a:t>Назовите предметы мебели (на английском языке).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020000" y="3573360"/>
            <a:ext cx="1820880" cy="2525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8000" y="566100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611360" y="1224360"/>
            <a:ext cx="5375880" cy="3760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>
                <a:solidFill>
                  <a:srgbClr val="000000"/>
                </a:solidFill>
                <a:latin typeface="Arial"/>
              </a:rPr>
              <a:t>Thanks for the lesson!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500"/>
                            </p:stCondLst>
                            <p:childTnLst>
                              <p:par>
                                <p:cTn id="7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3300"/>
                </a:solidFill>
                <a:uFillTx/>
                <a:latin typeface="Garamond"/>
              </a:rPr>
              <a:t>Цель: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обобщение материала по теме «Дом. Квартира»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 u="sng">
                <a:solidFill>
                  <a:srgbClr val="ff3300"/>
                </a:solidFill>
                <a:uFillTx/>
                <a:latin typeface="Garamond"/>
              </a:rPr>
              <a:t>Задачи:</a:t>
            </a:r>
            <a:r>
              <a:rPr b="0" lang="ru-RU" sz="4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4100" spc="-1" strike="noStrike">
                <a:solidFill>
                  <a:srgbClr val="006633"/>
                </a:solidFill>
                <a:latin typeface="Garamond"/>
              </a:rPr>
              <a:t>развитие аудитивных, грамматических и лексических навыков;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6633"/>
                </a:solidFill>
                <a:latin typeface="Garamond"/>
              </a:rPr>
              <a:t>Развитие интереса учащихся к изучению английского языка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66100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eople can prepare breakfast, dinner or supper in this room. Women usually spend much time there. We have a fridge, a sink, a table, a cooker and a cupboard in this room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3300"/>
                </a:solidFill>
                <a:latin typeface="Garamond"/>
              </a:rPr>
              <a:t>(A kitchen)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566100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re are beds or a sofa in this room. You can see a little table and a wardrobe there. People have a rest in this room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7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(A bedroom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58972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6633"/>
                </a:solidFill>
                <a:latin typeface="Garamond"/>
              </a:rPr>
              <a:t>This room is not very large. We take a shower or have a bath in this room. You can clean your teeth, wash your hands and face there.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386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3300"/>
                </a:solidFill>
                <a:latin typeface="Garamond"/>
              </a:rPr>
              <a:t>(A bathroom)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566100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1000"/>
            </a:b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There is a TV set, a wall-unit, some chairs and a sofa in</a:t>
            </a: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this room. Some people have a fireplace there. We can see some flowers on the walls. There is often a carpet on the floor. It is usually the largest room in the house. People watch television, listen to music, or sit around and speak there.</a:t>
            </a:r>
            <a:endParaRPr b="0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76360" y="-2548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(A living-room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551664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Garamond"/>
              </a:rPr>
              <a:t>Составить самое длинное слово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566100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360" y="1557360"/>
            <a:ext cx="57456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067280" y="1989000"/>
            <a:ext cx="6285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71640" y="3429000"/>
            <a:ext cx="57600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940360" y="3716280"/>
            <a:ext cx="503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635280" y="4005360"/>
            <a:ext cx="505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724360" y="2421000"/>
            <a:ext cx="344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627280" y="2924280"/>
            <a:ext cx="504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740720" y="3573360"/>
            <a:ext cx="504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04000" y="5013360"/>
            <a:ext cx="432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093080" y="1557360"/>
            <a:ext cx="304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59280" y="5516640"/>
            <a:ext cx="50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24000" y="5300640"/>
            <a:ext cx="863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101080" y="5013360"/>
            <a:ext cx="6490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028000" y="1989000"/>
            <a:ext cx="720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68360" y="1484280"/>
            <a:ext cx="5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6633"/>
                </a:solidFill>
                <a:latin typeface="Garamond"/>
              </a:rPr>
              <a:t>Расположите в правильном порядке: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ff"/>
                </a:solidFill>
                <a:latin typeface="Garamond"/>
              </a:rPr>
              <a:t>А) </a:t>
            </a:r>
            <a:r>
              <a:rPr b="1" lang="ru-RU" sz="3800" spc="-1" strike="noStrike">
                <a:solidFill>
                  <a:srgbClr val="000000"/>
                </a:solidFill>
                <a:latin typeface="Garamond"/>
              </a:rPr>
              <a:t>1.</a:t>
            </a:r>
            <a:r>
              <a:rPr b="1" lang="ru-RU" sz="3800" spc="-1" strike="noStrike">
                <a:solidFill>
                  <a:srgbClr val="3366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366ff"/>
                </a:solidFill>
                <a:latin typeface="Garamond"/>
              </a:rPr>
              <a:t>a wardrob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ff"/>
                </a:solidFill>
                <a:latin typeface="Garamond"/>
              </a:rPr>
              <a:t>       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2.</a:t>
            </a:r>
            <a:r>
              <a:rPr b="1" lang="en-US" sz="3800" spc="-1" strike="noStrike">
                <a:solidFill>
                  <a:srgbClr val="3366ff"/>
                </a:solidFill>
                <a:latin typeface="Garamond"/>
              </a:rPr>
              <a:t> a lam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00"/>
                </a:solidFill>
                <a:latin typeface="Garamond"/>
              </a:rPr>
              <a:t>B) 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1.</a:t>
            </a:r>
            <a:r>
              <a:rPr b="1" lang="en-US" sz="3800" spc="-1" strike="noStrike">
                <a:solidFill>
                  <a:srgbClr val="990000"/>
                </a:solidFill>
                <a:latin typeface="Garamond"/>
              </a:rPr>
              <a:t> curtai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00"/>
                </a:solidFill>
                <a:latin typeface="Garamond"/>
              </a:rPr>
              <a:t>        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2.</a:t>
            </a:r>
            <a:r>
              <a:rPr b="1" lang="en-US" sz="3800" spc="-1" strike="noStrike">
                <a:solidFill>
                  <a:srgbClr val="990000"/>
                </a:solidFill>
                <a:latin typeface="Garamond"/>
              </a:rPr>
              <a:t> a cook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86064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573408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23840" y="416880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7120" y="380844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84200" y="3376440"/>
            <a:ext cx="27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2640" y="2924280"/>
            <a:ext cx="38944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9900cc"/>
                </a:solidFill>
                <a:latin typeface="Garamond"/>
              </a:rPr>
              <a:t>C)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9900cc"/>
                </a:solidFill>
                <a:latin typeface="Garamond"/>
              </a:rPr>
              <a:t> a s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9900cc"/>
                </a:solidFill>
                <a:latin typeface="Garamond"/>
              </a:rPr>
              <a:t> a mi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44276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D)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5f5f5f"/>
                </a:solidFill>
                <a:latin typeface="Garamond"/>
              </a:rPr>
              <a:t>an arm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5f5f5f"/>
                </a:solidFill>
                <a:latin typeface="Garamond"/>
              </a:rPr>
              <a:t> a 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73000" y="4892760"/>
            <a:ext cx="39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E)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 a fl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 a ga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7,-127,59)"/>
                                      </p:to>
                                    </p:set>
                                    <p:set>
                                      <p:cBhvr>
                                        <p:cTn id="230" dur="500" autoRev="1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7,-127,59)"/>
                                      </p:to>
                                    </p:set>
                                    <p:set>
                                      <p:cBhvr>
                                        <p:cTn id="231" dur="500" autoRev="1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00"/>
                            </p:stCondLst>
                            <p:childTnLst>
                              <p:par>
                                <p:cTn id="2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500" autoRev="1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500" autoRev="1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55" dur="500" autoRev="1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56" dur="500" autoRev="1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100"/>
                            </p:stCondLst>
                            <p:childTnLst>
                              <p:par>
                                <p:cTn id="25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500" autoRev="1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260" dur="500" autoRev="1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261" dur="500" autoRev="1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500" autoRev="1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102,-103)"/>
                                      </p:to>
                                    </p:set>
                                    <p:set>
                                      <p:cBhvr>
                                        <p:cTn id="280" dur="500" autoRev="1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102,-103)"/>
                                      </p:to>
                                    </p:set>
                                    <p:set>
                                      <p:cBhvr>
                                        <p:cTn id="281" dur="500" autoRev="1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800"/>
                            </p:stCondLst>
                            <p:childTnLst>
                              <p:par>
                                <p:cTn id="2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500" autoRev="1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285" dur="500" autoRev="1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286" dur="500" autoRev="1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500" autoRev="1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102)"/>
                                      </p:to>
                                    </p:set>
                                    <p:set>
                                      <p:cBhvr>
                                        <p:cTn id="305" dur="500" autoRev="1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102)"/>
                                      </p:to>
                                    </p:set>
                                    <p:set>
                                      <p:cBhvr>
                                        <p:cTn id="306" dur="500" autoRev="1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500" autoRev="1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-52,51)"/>
                                      </p:to>
                                    </p:set>
                                    <p:set>
                                      <p:cBhvr>
                                        <p:cTn id="310" dur="500" autoRev="1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52,51)"/>
                                      </p:to>
                                    </p:set>
                                    <p:set>
                                      <p:cBhvr>
                                        <p:cTn id="311" dur="500" autoRev="1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0,-103)"/>
                                      </p:to>
                                    </p:set>
                                    <p:set>
                                      <p:cBhvr>
                                        <p:cTn id="336" dur="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0,-103)"/>
                                      </p:to>
                                    </p:set>
                                    <p:set>
                                      <p:cBhvr>
                                        <p:cTn id="337" dur="500" autoRev="1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"/>
                            </p:stCondLst>
                            <p:childTnLst>
                              <p:par>
                                <p:cTn id="33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500" autoRev="1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341" dur="500" autoRev="1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342" dur="500" autoRev="1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Найдите в каждом задании лишнее по смыслу слово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28280"/>
            <a:ext cx="40388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a) h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c) str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3366ff"/>
                </a:solidFill>
                <a:latin typeface="Arial"/>
              </a:rPr>
              <a:t> a) kitc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3366ff"/>
                </a:solidFill>
                <a:latin typeface="Arial"/>
              </a:rPr>
              <a:t>c) h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a)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c) 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 a) lam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c) ch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600" spc="-1" strike="noStrike">
                <a:solidFill>
                  <a:srgbClr val="9900cc"/>
                </a:solidFill>
                <a:latin typeface="Arial"/>
              </a:rPr>
              <a:t> a) carp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9900cc"/>
                </a:solidFill>
                <a:latin typeface="Arial"/>
              </a:rPr>
              <a:t>c) flo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5164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b) fl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d) cott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Arial"/>
              </a:rPr>
              <a:t>b) bath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ff"/>
                </a:solidFill>
                <a:latin typeface="Arial"/>
              </a:rPr>
              <a:t>d) fl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)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d) book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b) sof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d) armch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cc"/>
                </a:solidFill>
                <a:latin typeface="Arial"/>
              </a:rPr>
              <a:t>b)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cc"/>
                </a:solidFill>
                <a:latin typeface="Arial"/>
              </a:rPr>
              <a:t>d) ce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573408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0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8" dur="2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2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4:39:21Z</dcterms:created>
  <dc:creator>Сергей</dc:creator>
  <dc:description/>
  <dc:language>en-US</dc:language>
  <cp:lastModifiedBy>Сергей</cp:lastModifiedBy>
  <dcterms:modified xsi:type="dcterms:W3CDTF">2007-12-17T17:09:06Z</dcterms:modified>
  <cp:revision>11</cp:revision>
  <dc:subject/>
  <dc:title>“Star Hour”</dc:title>
</cp:coreProperties>
</file>