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4A90-6CE7-473F-8EEC-48A9A22B24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9EC-27AA-42D8-AD15-81FE2CED81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E1AC-4288-4E49-905C-308ED17C3F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3AF-BEAA-4E4E-89CF-C0737A5E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CD6-A28B-4096-807F-2CBF6819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31D-A2B6-4206-92A9-05521B31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AE1-4BB7-40E3-A9E3-37376E52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D094-34E1-481F-BE25-33C8AFCA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671F-E4EB-4F2C-842A-159CFD0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BAF-3208-48CA-BA64-4991B367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B98F-1EBB-4B4F-B212-CAF01B7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5D30-637A-4008-940B-54A6428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AA94-AF96-4332-88C4-D702799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417-EE35-4C37-B734-7C276639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A9A-919F-46D0-95CD-A02BFDAF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9DEE-881E-494A-A3C4-218B80A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954-7A31-4FA0-B166-9971261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B83-F537-41AD-8325-BFC2C275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C3E-B18E-4767-B0A3-8777BD9D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9C14-DFFD-4FFA-9B92-F38BFC9E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4FCF-4CFD-43E5-9C4A-4EE20968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E94A-8E7C-4383-828A-1D651EB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81F7-7C11-4B71-89E5-11E3C7D1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95D0-3C0D-4601-88A9-C2AB646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E4C1-680A-4824-9F8A-44DD0AA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9D-638A-430B-BF18-37FBAE2F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9B08-334D-4DC9-B77F-C83AFA2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3D3E-EDC2-4BCE-9583-F21BF7A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51C2-C0EA-4E5C-A738-B9682AA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A35D-C456-4D30-8A71-2ED863D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9901-E392-4424-A8E2-97AA684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EB04-3056-412F-BDEF-66B83967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A845-EF5D-412F-9F73-0539463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855F-A897-48CD-A260-5791E48B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CFFE-B6D9-45D8-8E24-267DFBB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F9B1-5D65-4DAA-8EE6-675CD76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520-0654-4A4D-AD7D-0347B3D9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8B3F-7867-44F0-9600-698CB17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E82F-8E79-4B52-8E44-BE90E1D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BDC5-2EAC-48FD-B4DF-7F9B20F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873C-1F50-4C4F-A39E-D7873CB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9BC4-773A-4C77-9B47-B5F157E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A32B-8086-4AEE-AD7E-451EFEF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3C84-F2AB-4956-8502-24174C8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F008-21F4-475D-89FE-55133506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89E2-1D03-4391-A818-DAF51CB5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293-D424-48C3-B859-90E9B260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06A-38C2-414B-A3EE-F7C7166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9DD-CB02-46BF-828D-93F8EB7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F14-69DD-4DFA-ACD9-8AF19EDB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C2F-B749-48FC-9237-6DCD320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023A-57BE-4A25-8CCE-2EEAFB22146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219E-0FD3-4C38-9632-3C62DE71A5C8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446-41FB-4BB3-963F-08E9B1584E7A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1180-06F1-4450-81F2-7D3F4F11A4D5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moikompas.ru/img/compas/2008-11-18/nikolaj_karamzin/56058860_orig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530280" y="1335240"/>
            <a:ext cx="7858080" cy="2309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986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1143000" y="4500720"/>
            <a:ext cx="7500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й член Императорской Академии наук (1818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ый член Императорской Российской академии (1818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ь первой «Истории государства Российского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тор известных русских журнал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ги Н.М.Карамзина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Н.М.Карамзину в Симбирске (1766-1826)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82" name="Содержимое 3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4716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79200" y="-189000"/>
            <a:ext cx="8656920" cy="23655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780000" y="1988640"/>
            <a:ext cx="480672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написана  в 1792 году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96 году «Бедная Лиза» вышла отдельной книго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дная Лиза» потому и была принята русской публикой с таким восторгом, что в этом произведении Карамзин первый у нас высказал то «новое слово». Таким «новым словом» было в повести самоубийство героин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Users\Acer\Desktop\104px-%D0%9A%D0%B8%D0%BF%D1%80%D0%B5%D0%BD%D1%81%D0%BA%D0%B8%D0%B9_%D0%B1%D0%B5%D0%B4%D0%BD%D0%B0%D1%8F_%D0%BB%D0%B8%D0%B7%D0%B0.jpg"/>
          <p:cNvPicPr/>
          <p:nvPr/>
        </p:nvPicPr>
        <p:blipFill>
          <a:blip r:embed="rId2"/>
          <a:stretch/>
        </p:blipFill>
        <p:spPr>
          <a:xfrm>
            <a:off x="324000" y="1916280"/>
            <a:ext cx="2857320" cy="39607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3" descr=""/>
          <p:cNvPicPr/>
          <p:nvPr/>
        </p:nvPicPr>
        <p:blipFill>
          <a:blip r:embed="rId3"/>
          <a:stretch/>
        </p:blipFill>
        <p:spPr>
          <a:xfrm>
            <a:off x="7812000" y="5111640"/>
            <a:ext cx="1081080" cy="1486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монов монастырь                 Данилов монастыр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ло Коломенское                       Воробьёвы г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обственные и географические названия в повести.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89" name="Рисунок 31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428920" cy="1548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5940360" y="2565360"/>
            <a:ext cx="2357640" cy="1498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3"/>
          <a:stretch/>
        </p:blipFill>
        <p:spPr>
          <a:xfrm>
            <a:off x="6084720" y="4797360"/>
            <a:ext cx="2214720" cy="164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4"/>
          <a:stretch/>
        </p:blipFill>
        <p:spPr>
          <a:xfrm>
            <a:off x="971640" y="4797360"/>
            <a:ext cx="2000160" cy="17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10920" y="2997000"/>
            <a:ext cx="807228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одчёркивает, что действие происходит именно в Москве и её окрестностях, описывает, например, Симонов монастырь, создавая иллюзию достоверности. Для русской литературы того времени это было новаторством: обычно действие произведений разворачивалось «в одном городе»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шие вокруг пруда дубы были исписаны трогательными надписям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струях сих бедная скончала Лиза дни; Коль ты чувствителен, прохожий, воздох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Рисунок 5" descr="http://upload.wikimedia.org/wikipedia/commons/thumb/4/42/Simonov_monastery_01.jpg/200px-Simonov_monastery_01.jpg"/>
          <p:cNvPicPr/>
          <p:nvPr/>
        </p:nvPicPr>
        <p:blipFill>
          <a:blip r:embed="rId1"/>
          <a:stretch/>
        </p:blipFill>
        <p:spPr>
          <a:xfrm>
            <a:off x="2268360" y="214200"/>
            <a:ext cx="4607280" cy="21351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539640" y="1916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онов монастырь в повести «Бедная Ли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070840" cy="13716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357192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иза пришла в Москву с ландышами. Молодой, хорошо одетый человек, приятного вида, встретился ей на улице. Она показала ему цветы – и закраснелась. «Ты продаешь их, девушка?» – спросил он с улыбкою. – «Продаю», - отвечала она. – «А что тебе надобно?» – «Пять копеек».- «Это слишком дешево…….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Рисунок 1" descr="Файл:Бедная Лиза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492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619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 назва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НДЫ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ловном переводе означает «лилия долин, цветущая в мае».</a:t>
            </a:r>
            <a:br>
              <a:rPr sz="1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br>
              <a:rPr sz="1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 христианской мифологии  ланды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СЛЁЗЫ БОГОРОДИЦЫ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оторые она проливала, стоя у креста распятого сына. Слезы эти, падая на землю, превращались в чистые прекрасные цветы, которые, отцветая, становились красными, похожими на кровь плод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этически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едениях цветы ландыша всегда олицетворяли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чистоту, нежность, любовь, верность, невинность </a:t>
            </a:r>
            <a:br>
              <a:rPr sz="1800"/>
            </a:br>
            <a:endParaRPr b="0" lang="en-US" sz="2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300" name="Содержимое 3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65520" y="425520"/>
            <a:ext cx="840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5000" spc="-1" strike="noStrike" u="sng">
                <a:solidFill>
                  <a:srgbClr val="000000"/>
                </a:solidFill>
                <a:uFillTx/>
                <a:latin typeface="Calibri"/>
              </a:rPr>
              <a:t>Развитие  действий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964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Эраст сообщает  об  уходе  в  армию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ять  дней  сряду  она  не  видала  его  и  была  в  беспокойстве:  в  шестой  он  пришёл  с  печальным  лицом  и  сказал  ей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772400" cy="9018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1680" y="192888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Лиза!  Обстоятельства переменились; я помолвился жениться; ты должна оставить меня в покое и для собственного своего спокойствия забыть меня. Я любил тебя и теперь люблю, то есть желаю тебе всякого добра….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он вывел ее из кабинета и сказал слуге: «проводи эту девушку со двора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н, он выгнал меня? Он любит другую? Я погибла!» - вот ее мысли, ее чувства!...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яз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убийство Лиз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3"/>
          <p:cNvSpPr/>
          <p:nvPr/>
        </p:nvSpPr>
        <p:spPr>
          <a:xfrm>
            <a:off x="1857240" y="571680"/>
            <a:ext cx="5857920" cy="1214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ерои п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0" y="2071800"/>
            <a:ext cx="30718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5"/>
          <p:cNvSpPr/>
          <p:nvPr/>
        </p:nvSpPr>
        <p:spPr>
          <a:xfrm>
            <a:off x="6143760" y="2286000"/>
            <a:ext cx="271440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6"/>
          <p:cNvSpPr/>
          <p:nvPr/>
        </p:nvSpPr>
        <p:spPr>
          <a:xfrm>
            <a:off x="5857920" y="3929040"/>
            <a:ext cx="2643120" cy="857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9"/>
          <p:cNvSpPr/>
          <p:nvPr/>
        </p:nvSpPr>
        <p:spPr>
          <a:xfrm>
            <a:off x="500040" y="4071960"/>
            <a:ext cx="2714760" cy="7142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т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0"/>
          <p:cNvSpPr/>
          <p:nvPr/>
        </p:nvSpPr>
        <p:spPr>
          <a:xfrm>
            <a:off x="4429080" y="5786280"/>
            <a:ext cx="321480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гата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Прямая со стрелкой 12"/>
          <p:cNvCxnSpPr/>
          <p:nvPr/>
        </p:nvCxnSpPr>
        <p:spPr>
          <a:xfrm flipH="1">
            <a:off x="2142360" y="1641960"/>
            <a:ext cx="786600" cy="429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3" name="Прямая со стрелкой 14"/>
          <p:cNvCxnSpPr/>
          <p:nvPr/>
        </p:nvCxnSpPr>
        <p:spPr>
          <a:xfrm>
            <a:off x="6499800" y="1714320"/>
            <a:ext cx="57204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4" name="Прямая со стрелкой 16"/>
          <p:cNvCxnSpPr/>
          <p:nvPr/>
        </p:nvCxnSpPr>
        <p:spPr>
          <a:xfrm>
            <a:off x="5429160" y="1785960"/>
            <a:ext cx="1000800" cy="2215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5" name="Прямая со стрелкой 18"/>
          <p:cNvCxnSpPr/>
          <p:nvPr/>
        </p:nvCxnSpPr>
        <p:spPr>
          <a:xfrm flipH="1">
            <a:off x="2071080" y="1714680"/>
            <a:ext cx="1572120" cy="235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6" name="Прямая со стрелкой 20"/>
          <p:cNvCxnSpPr>
            <a:endCxn id="311" idx="0"/>
          </p:cNvCxnSpPr>
          <p:nvPr/>
        </p:nvCxnSpPr>
        <p:spPr>
          <a:xfrm>
            <a:off x="4999680" y="1785960"/>
            <a:ext cx="1037160" cy="40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Овал 22"/>
          <p:cNvSpPr/>
          <p:nvPr/>
        </p:nvSpPr>
        <p:spPr>
          <a:xfrm>
            <a:off x="1714680" y="5000760"/>
            <a:ext cx="2643120" cy="7855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руж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ю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27"/>
          <p:cNvCxnSpPr/>
          <p:nvPr/>
        </p:nvCxnSpPr>
        <p:spPr>
          <a:xfrm flipH="1">
            <a:off x="3642480" y="1785960"/>
            <a:ext cx="786600" cy="3286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75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275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275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275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775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275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775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275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280" y="3429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Михайлович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мзин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6 – 1826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 «Бедная  Лиза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324000"/>
            <a:ext cx="8283600" cy="21812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900000" y="220500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иментализм  как  литературное 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7772400" cy="1341360"/>
          </a:xfrm>
          <a:prstGeom prst="rect">
            <a:avLst/>
          </a:prstGeom>
          <a:ln w="0">
            <a:noFill/>
          </a:ln>
        </p:spPr>
      </p:pic>
      <p:sp>
        <p:nvSpPr>
          <p:cNvPr id="320" name="Овал 3"/>
          <p:cNvSpPr/>
          <p:nvPr/>
        </p:nvSpPr>
        <p:spPr>
          <a:xfrm>
            <a:off x="3214800" y="185724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5929200" y="2643120"/>
            <a:ext cx="32148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5"/>
          <p:cNvSpPr/>
          <p:nvPr/>
        </p:nvSpPr>
        <p:spPr>
          <a:xfrm>
            <a:off x="6000840" y="4071960"/>
            <a:ext cx="264312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м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6"/>
          <p:cNvSpPr/>
          <p:nvPr/>
        </p:nvSpPr>
        <p:spPr>
          <a:xfrm>
            <a:off x="428760" y="5072040"/>
            <a:ext cx="25002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жеска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7"/>
          <p:cNvSpPr/>
          <p:nvPr/>
        </p:nvSpPr>
        <p:spPr>
          <a:xfrm>
            <a:off x="0" y="3786120"/>
            <a:ext cx="221472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рад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8"/>
          <p:cNvSpPr/>
          <p:nvPr/>
        </p:nvSpPr>
        <p:spPr>
          <a:xfrm>
            <a:off x="785880" y="2643120"/>
            <a:ext cx="2000160" cy="5716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9"/>
          <p:cNvSpPr/>
          <p:nvPr/>
        </p:nvSpPr>
        <p:spPr>
          <a:xfrm>
            <a:off x="3071880" y="5572080"/>
            <a:ext cx="235728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юб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Прямая со стрелкой 11"/>
          <p:cNvCxnSpPr>
            <a:stCxn id="320" idx="2"/>
            <a:endCxn id="325" idx="7"/>
          </p:cNvCxnSpPr>
          <p:nvPr/>
        </p:nvCxnSpPr>
        <p:spPr>
          <a:xfrm flipH="1">
            <a:off x="2491560" y="2248560"/>
            <a:ext cx="72324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8" name="Прямая со стрелкой 13"/>
          <p:cNvCxnSpPr/>
          <p:nvPr/>
        </p:nvCxnSpPr>
        <p:spPr>
          <a:xfrm flipH="1">
            <a:off x="1928160" y="2500200"/>
            <a:ext cx="150084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9" name="Прямая со стрелкой 16"/>
          <p:cNvCxnSpPr/>
          <p:nvPr/>
        </p:nvCxnSpPr>
        <p:spPr>
          <a:xfrm flipH="1">
            <a:off x="2356560" y="2571840"/>
            <a:ext cx="1429560" cy="257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0" name="Прямая со стрелкой 18"/>
          <p:cNvCxnSpPr>
            <a:endCxn id="326" idx="0"/>
          </p:cNvCxnSpPr>
          <p:nvPr/>
        </p:nvCxnSpPr>
        <p:spPr>
          <a:xfrm flipH="1">
            <a:off x="4249440" y="2643120"/>
            <a:ext cx="108720" cy="292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1" name="Прямая со стрелкой 20"/>
          <p:cNvCxnSpPr>
            <a:stCxn id="320" idx="5"/>
            <a:endCxn id="322" idx="1"/>
          </p:cNvCxnSpPr>
          <p:nvPr/>
        </p:nvCxnSpPr>
        <p:spPr>
          <a:xfrm>
            <a:off x="5469480" y="2529000"/>
            <a:ext cx="918360" cy="163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32" name="Прямая со стрелкой 22"/>
          <p:cNvCxnSpPr>
            <a:endCxn id="321" idx="1"/>
          </p:cNvCxnSpPr>
          <p:nvPr/>
        </p:nvCxnSpPr>
        <p:spPr>
          <a:xfrm>
            <a:off x="5785920" y="2357280"/>
            <a:ext cx="615240" cy="4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3" name="Овал 15"/>
          <p:cNvSpPr/>
          <p:nvPr/>
        </p:nvSpPr>
        <p:spPr>
          <a:xfrm>
            <a:off x="5214960" y="4929120"/>
            <a:ext cx="2143080" cy="71460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24"/>
          <p:cNvCxnSpPr>
            <a:endCxn id="333" idx="1"/>
          </p:cNvCxnSpPr>
          <p:nvPr/>
        </p:nvCxnSpPr>
        <p:spPr>
          <a:xfrm>
            <a:off x="4856760" y="2642760"/>
            <a:ext cx="672120" cy="2391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275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775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475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975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325"/>
                            </p:stCondLst>
                            <p:childTnLst>
                              <p:par>
                                <p:cTn id="3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573120" y="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336" name="Овал 3"/>
          <p:cNvSpPr/>
          <p:nvPr/>
        </p:nvSpPr>
        <p:spPr>
          <a:xfrm>
            <a:off x="3071880" y="314316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4"/>
          <p:cNvSpPr/>
          <p:nvPr/>
        </p:nvSpPr>
        <p:spPr>
          <a:xfrm>
            <a:off x="5643720" y="1928880"/>
            <a:ext cx="314316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бил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ушку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5"/>
          <p:cNvSpPr/>
          <p:nvPr/>
        </p:nvSpPr>
        <p:spPr>
          <a:xfrm>
            <a:off x="2786040" y="1357200"/>
            <a:ext cx="271476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рудолюб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6"/>
          <p:cNvSpPr/>
          <p:nvPr/>
        </p:nvSpPr>
        <p:spPr>
          <a:xfrm>
            <a:off x="3286080" y="5643720"/>
            <a:ext cx="335772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амоотверж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7"/>
          <p:cNvSpPr/>
          <p:nvPr/>
        </p:nvSpPr>
        <p:spPr>
          <a:xfrm>
            <a:off x="6643800" y="3286080"/>
            <a:ext cx="2286000" cy="6429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об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8"/>
          <p:cNvSpPr/>
          <p:nvPr/>
        </p:nvSpPr>
        <p:spPr>
          <a:xfrm>
            <a:off x="357120" y="3714840"/>
            <a:ext cx="21430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9"/>
          <p:cNvSpPr/>
          <p:nvPr/>
        </p:nvSpPr>
        <p:spPr>
          <a:xfrm>
            <a:off x="6000840" y="4572000"/>
            <a:ext cx="250020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служл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10"/>
          <p:cNvSpPr/>
          <p:nvPr/>
        </p:nvSpPr>
        <p:spPr>
          <a:xfrm>
            <a:off x="285840" y="5000760"/>
            <a:ext cx="314316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достная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11"/>
          <p:cNvSpPr/>
          <p:nvPr/>
        </p:nvSpPr>
        <p:spPr>
          <a:xfrm>
            <a:off x="571680" y="2071800"/>
            <a:ext cx="228600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ле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>
            <a:endCxn id="339" idx="0"/>
          </p:cNvCxnSpPr>
          <p:nvPr/>
        </p:nvCxnSpPr>
        <p:spPr>
          <a:xfrm>
            <a:off x="4713840" y="3928680"/>
            <a:ext cx="251640" cy="171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6" name="Прямая со стрелкой 16"/>
          <p:cNvCxnSpPr/>
          <p:nvPr/>
        </p:nvCxnSpPr>
        <p:spPr>
          <a:xfrm flipH="1">
            <a:off x="2785320" y="3857400"/>
            <a:ext cx="8578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7" name="Прямая со стрелкой 19"/>
          <p:cNvCxnSpPr>
            <a:stCxn id="336" idx="2"/>
          </p:cNvCxnSpPr>
          <p:nvPr/>
        </p:nvCxnSpPr>
        <p:spPr>
          <a:xfrm flipH="1">
            <a:off x="2285280" y="3535200"/>
            <a:ext cx="78660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8" name="Прямая со стрелкой 22"/>
          <p:cNvCxnSpPr>
            <a:stCxn id="336" idx="1"/>
          </p:cNvCxnSpPr>
          <p:nvPr/>
        </p:nvCxnSpPr>
        <p:spPr>
          <a:xfrm flipH="1" flipV="1">
            <a:off x="2785680" y="2642400"/>
            <a:ext cx="673920" cy="6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V="1">
            <a:off x="4356720" y="2142720"/>
            <a:ext cx="3708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>
            <a:stCxn id="336" idx="7"/>
          </p:cNvCxnSpPr>
          <p:nvPr/>
        </p:nvCxnSpPr>
        <p:spPr>
          <a:xfrm flipV="1">
            <a:off x="5326560" y="2499840"/>
            <a:ext cx="60228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>
            <a:stCxn id="336" idx="6"/>
            <a:endCxn id="340" idx="2"/>
          </p:cNvCxnSpPr>
          <p:nvPr/>
        </p:nvCxnSpPr>
        <p:spPr>
          <a:xfrm>
            <a:off x="5715000" y="3534840"/>
            <a:ext cx="929520" cy="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>
            <a:stCxn id="336" idx="5"/>
          </p:cNvCxnSpPr>
          <p:nvPr/>
        </p:nvCxnSpPr>
        <p:spPr>
          <a:xfrm>
            <a:off x="5326560" y="3814920"/>
            <a:ext cx="816840" cy="97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73120" y="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354" name="Овал 3"/>
          <p:cNvSpPr/>
          <p:nvPr/>
        </p:nvSpPr>
        <p:spPr>
          <a:xfrm>
            <a:off x="3071880" y="314316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4"/>
          <p:cNvSpPr/>
          <p:nvPr/>
        </p:nvSpPr>
        <p:spPr>
          <a:xfrm>
            <a:off x="5643720" y="1928880"/>
            <a:ext cx="314316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гкомысленный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2786040" y="1357200"/>
            <a:ext cx="271476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б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6"/>
          <p:cNvSpPr/>
          <p:nvPr/>
        </p:nvSpPr>
        <p:spPr>
          <a:xfrm>
            <a:off x="3286080" y="5643720"/>
            <a:ext cx="335772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ог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7"/>
          <p:cNvSpPr/>
          <p:nvPr/>
        </p:nvSpPr>
        <p:spPr>
          <a:xfrm>
            <a:off x="6643800" y="3286080"/>
            <a:ext cx="2286000" cy="6429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умает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 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8"/>
          <p:cNvSpPr/>
          <p:nvPr/>
        </p:nvSpPr>
        <p:spPr>
          <a:xfrm>
            <a:off x="357120" y="3714840"/>
            <a:ext cx="21430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бе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9"/>
          <p:cNvSpPr/>
          <p:nvPr/>
        </p:nvSpPr>
        <p:spPr>
          <a:xfrm>
            <a:off x="6000840" y="4572000"/>
            <a:ext cx="289224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раз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10"/>
          <p:cNvSpPr/>
          <p:nvPr/>
        </p:nvSpPr>
        <p:spPr>
          <a:xfrm>
            <a:off x="250920" y="5013360"/>
            <a:ext cx="314316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л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11"/>
          <p:cNvSpPr/>
          <p:nvPr/>
        </p:nvSpPr>
        <p:spPr>
          <a:xfrm>
            <a:off x="571680" y="2071800"/>
            <a:ext cx="228600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ас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14"/>
          <p:cNvCxnSpPr>
            <a:endCxn id="357" idx="0"/>
          </p:cNvCxnSpPr>
          <p:nvPr/>
        </p:nvCxnSpPr>
        <p:spPr>
          <a:xfrm>
            <a:off x="4713840" y="3928680"/>
            <a:ext cx="251640" cy="171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4" name="Прямая со стрелкой 16"/>
          <p:cNvCxnSpPr/>
          <p:nvPr/>
        </p:nvCxnSpPr>
        <p:spPr>
          <a:xfrm flipH="1">
            <a:off x="2785320" y="3857400"/>
            <a:ext cx="8578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5" name="Прямая со стрелкой 19"/>
          <p:cNvCxnSpPr>
            <a:stCxn id="354" idx="2"/>
          </p:cNvCxnSpPr>
          <p:nvPr/>
        </p:nvCxnSpPr>
        <p:spPr>
          <a:xfrm flipH="1">
            <a:off x="2285280" y="3535200"/>
            <a:ext cx="78660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6" name="Прямая со стрелкой 22"/>
          <p:cNvCxnSpPr>
            <a:stCxn id="354" idx="1"/>
          </p:cNvCxnSpPr>
          <p:nvPr/>
        </p:nvCxnSpPr>
        <p:spPr>
          <a:xfrm flipH="1" flipV="1">
            <a:off x="2785680" y="2642400"/>
            <a:ext cx="673920" cy="6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7" name="Прямая со стрелкой 25"/>
          <p:cNvCxnSpPr/>
          <p:nvPr/>
        </p:nvCxnSpPr>
        <p:spPr>
          <a:xfrm flipV="1">
            <a:off x="4356720" y="2142720"/>
            <a:ext cx="3708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8" name="Прямая со стрелкой 27"/>
          <p:cNvCxnSpPr>
            <a:stCxn id="354" idx="7"/>
          </p:cNvCxnSpPr>
          <p:nvPr/>
        </p:nvCxnSpPr>
        <p:spPr>
          <a:xfrm flipV="1">
            <a:off x="5326560" y="2499840"/>
            <a:ext cx="60228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9" name="Прямая со стрелкой 29"/>
          <p:cNvCxnSpPr>
            <a:stCxn id="354" idx="6"/>
            <a:endCxn id="358" idx="2"/>
          </p:cNvCxnSpPr>
          <p:nvPr/>
        </p:nvCxnSpPr>
        <p:spPr>
          <a:xfrm>
            <a:off x="5715000" y="3534840"/>
            <a:ext cx="929520" cy="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70" name="Прямая со стрелкой 31"/>
          <p:cNvCxnSpPr>
            <a:stCxn id="354" idx="5"/>
          </p:cNvCxnSpPr>
          <p:nvPr/>
        </p:nvCxnSpPr>
        <p:spPr>
          <a:xfrm>
            <a:off x="5326560" y="3814920"/>
            <a:ext cx="816840" cy="97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Овал 3"/>
          <p:cNvSpPr/>
          <p:nvPr/>
        </p:nvSpPr>
        <p:spPr>
          <a:xfrm>
            <a:off x="4357800" y="928800"/>
            <a:ext cx="4143240" cy="13572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чины самоубийства Л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5"/>
          <p:cNvSpPr/>
          <p:nvPr/>
        </p:nvSpPr>
        <p:spPr>
          <a:xfrm>
            <a:off x="4643280" y="4076640"/>
            <a:ext cx="2571840" cy="7146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теря смысл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6"/>
          <p:cNvSpPr/>
          <p:nvPr/>
        </p:nvSpPr>
        <p:spPr>
          <a:xfrm>
            <a:off x="1571760" y="3500280"/>
            <a:ext cx="26431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мена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7"/>
          <p:cNvSpPr/>
          <p:nvPr/>
        </p:nvSpPr>
        <p:spPr>
          <a:xfrm>
            <a:off x="285840" y="2286000"/>
            <a:ext cx="2500200" cy="9288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гкомыслие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8"/>
          <p:cNvSpPr/>
          <p:nvPr/>
        </p:nvSpPr>
        <p:spPr>
          <a:xfrm>
            <a:off x="1214280" y="1000080"/>
            <a:ext cx="20005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к Эра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9"/>
          <p:cNvSpPr/>
          <p:nvPr/>
        </p:nvSpPr>
        <p:spPr>
          <a:xfrm>
            <a:off x="5572080" y="3071880"/>
            <a:ext cx="2357640" cy="7142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манутое дове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Прямая со стрелкой 11"/>
          <p:cNvCxnSpPr>
            <a:endCxn id="375" idx="6"/>
          </p:cNvCxnSpPr>
          <p:nvPr/>
        </p:nvCxnSpPr>
        <p:spPr>
          <a:xfrm flipH="1" flipV="1">
            <a:off x="3214080" y="1391760"/>
            <a:ext cx="1215000" cy="37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78" name="Прямая со стрелкой 16"/>
          <p:cNvCxnSpPr/>
          <p:nvPr/>
        </p:nvCxnSpPr>
        <p:spPr>
          <a:xfrm flipH="1">
            <a:off x="2571120" y="1785960"/>
            <a:ext cx="185796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79" name="Прямая со стрелкой 18"/>
          <p:cNvCxnSpPr>
            <a:endCxn id="373" idx="7"/>
          </p:cNvCxnSpPr>
          <p:nvPr/>
        </p:nvCxnSpPr>
        <p:spPr>
          <a:xfrm flipH="1">
            <a:off x="3826800" y="1999800"/>
            <a:ext cx="959400" cy="16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0" name="Прямая со стрелкой 20"/>
          <p:cNvCxnSpPr>
            <a:endCxn id="372" idx="0"/>
          </p:cNvCxnSpPr>
          <p:nvPr/>
        </p:nvCxnSpPr>
        <p:spPr>
          <a:xfrm>
            <a:off x="5785200" y="2147760"/>
            <a:ext cx="143640" cy="192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/>
          <p:nvPr/>
        </p:nvCxnSpPr>
        <p:spPr>
          <a:xfrm>
            <a:off x="5929200" y="2285640"/>
            <a:ext cx="572400" cy="786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рная работа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иментализм, сентиментальный,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ый, эмоциональны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дны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ищий, небогатый, неимущ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ереносное  знач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несчастный, несчастлив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нтонимы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богатый, состоятельный, обеспеченный, имущий, зажиточный, денежны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785880" y="212760"/>
            <a:ext cx="7772400" cy="1000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рамзина, как писателя-сентименталиста, чувства важнее и сильнее разума. Именно они делают человека человеком, если о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ты и благородн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жет быть и вам предстоит в жизни делать выбор между рассудком и чувствами. В наш прогматичный век часто побеждает рассудок (и даже расчёт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ическая же литератур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ет нам, что без настоящих чувств человек теряет душу и вряд ли будет счастлив (что и произошло с Эрастом). И именно его перу принадлежат следующие строки: «…если всему горестному, всему угнетенному, всему слезящемуся открыт путь во чувствительную грудь твою; если душа твоя может возвыситься до страсти к добру, может питать в себе святое….желание всеобщего блага: тогда смело призывай богинь парнасских…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573120" y="1530360"/>
            <a:ext cx="7772400" cy="14810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132000" y="620280"/>
            <a:ext cx="583272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изнь тебя обман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чалься, не сердись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уныния смирись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веселья, верь, настанет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в будущем живе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ее уныл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гновенно, все пройдет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йдет, то будет мило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8" name="Рисунок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44800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-115920" y="324000"/>
            <a:ext cx="8248680" cy="1584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35960" cy="459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Ибо и крестьянки любить умеют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если всему горестному, всему угнетенному,  всему слезящемуся открыт путь во чувствительную  грудь твою; если душа твоя может возвыситься до страсти к добру, может питать в себе святое… желание всеобщего блага: тогда смело  призывай богинь парнасских….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.М.Карамзин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5280" y="1699920"/>
            <a:ext cx="83628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наз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ентиментализм»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англ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ment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увствительный, фр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men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ство) указывает на то, что чувство становится центральной эстетической категорией этого направления.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и чувство сентименталисты противопоставлял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ум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цист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иментализм в России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ая, идиллическая жизнь человека н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 природы. Резко противопоставляется деревн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тихая и мирная  жизнь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роду (шумная  и  бурная  жизнь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чувствует героям, его задача – заставить сопереживать, вызвать сострадание</a:t>
            </a: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, слезы умилени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360" y="475920"/>
            <a:ext cx="8424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темати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юбовна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йная осно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тест против испорченности аристократического обществ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вой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емление представить человеческую личность в движениях души, мыслях, чувствах, стремлен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жан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, дневник, письма, песня, романс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4F7-3283-4AA7-A908-2877B1695F4A}" type="slidenum">
              <a:rPr b="0" lang="ru-RU" sz="1200" spc="-1" strike="noStrike">
                <a:solidFill>
                  <a:srgbClr val="e9dce2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tangle 2049" descr=""/>
          <p:cNvPicPr/>
          <p:nvPr/>
        </p:nvPicPr>
        <p:blipFill>
          <a:blip r:embed="rId1"/>
          <a:stretch/>
        </p:blipFill>
        <p:spPr>
          <a:xfrm>
            <a:off x="4041720" y="1158840"/>
            <a:ext cx="4876920" cy="508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53" descr="560588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07920"/>
            <a:ext cx="396072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618920" y="1413000"/>
            <a:ext cx="280836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Место  рождения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Constantia"/>
              </a:rPr>
              <a:t>-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8920" y="981000"/>
            <a:ext cx="1297440" cy="46440"/>
            <a:chOff x="178920" y="981000"/>
            <a:chExt cx="1297440" cy="46440"/>
          </a:xfrm>
        </p:grpSpPr>
        <p:cxnSp>
          <p:nvCxnSpPr>
            <p:cNvPr id="230" name="AutoShape 5"/>
            <p:cNvCxnSpPr/>
            <p:nvPr/>
          </p:nvCxnSpPr>
          <p:spPr>
            <a:xfrm>
              <a:off x="178920" y="981000"/>
              <a:ext cx="1297800" cy="4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1" name=""/>
            <p:cNvSpPr txBox="1"/>
            <p:nvPr/>
          </p:nvSpPr>
          <p:spPr>
            <a:xfrm>
              <a:off x="178920" y="981000"/>
              <a:ext cx="12970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7"/>
          <p:cNvSpPr/>
          <p:nvPr/>
        </p:nvSpPr>
        <p:spPr>
          <a:xfrm>
            <a:off x="6480" y="3034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547640" y="83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ата  рождения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9280" y="1483920"/>
            <a:ext cx="1440000" cy="73440"/>
            <a:chOff x="179280" y="1483920"/>
            <a:chExt cx="1440000" cy="73440"/>
          </a:xfrm>
        </p:grpSpPr>
        <p:cxnSp>
          <p:nvCxnSpPr>
            <p:cNvPr id="235" name="AutoShape 5"/>
            <p:cNvCxnSpPr/>
            <p:nvPr/>
          </p:nvCxnSpPr>
          <p:spPr>
            <a:xfrm>
              <a:off x="179280" y="1483920"/>
              <a:ext cx="1440360" cy="73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 txBox="1"/>
            <p:nvPr/>
          </p:nvSpPr>
          <p:spPr>
            <a:xfrm>
              <a:off x="179280" y="1483920"/>
              <a:ext cx="144000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23640" y="3212640"/>
            <a:ext cx="1727280" cy="72000"/>
            <a:chOff x="323640" y="3212640"/>
            <a:chExt cx="1727280" cy="72000"/>
          </a:xfrm>
        </p:grpSpPr>
        <p:cxnSp>
          <p:nvCxnSpPr>
            <p:cNvPr id="238" name="AutoShape 5"/>
            <p:cNvCxnSpPr/>
            <p:nvPr/>
          </p:nvCxnSpPr>
          <p:spPr>
            <a:xfrm>
              <a:off x="323640" y="3212640"/>
              <a:ext cx="1727640" cy="7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 txBox="1"/>
            <p:nvPr/>
          </p:nvSpPr>
          <p:spPr>
            <a:xfrm>
              <a:off x="323640" y="3212640"/>
              <a:ext cx="172692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13"/>
          <p:cNvSpPr/>
          <p:nvPr/>
        </p:nvSpPr>
        <p:spPr>
          <a:xfrm>
            <a:off x="2268360" y="3141720"/>
            <a:ext cx="17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дел  язы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3789360"/>
            <a:ext cx="2087640" cy="71640"/>
            <a:chOff x="324000" y="3789360"/>
            <a:chExt cx="2087640" cy="71640"/>
          </a:xfrm>
        </p:grpSpPr>
        <p:cxnSp>
          <p:nvCxnSpPr>
            <p:cNvPr id="242" name="AutoShape 5"/>
            <p:cNvCxnSpPr/>
            <p:nvPr/>
          </p:nvCxnSpPr>
          <p:spPr>
            <a:xfrm>
              <a:off x="324000" y="3789360"/>
              <a:ext cx="2088000" cy="72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 txBox="1"/>
            <p:nvPr/>
          </p:nvSpPr>
          <p:spPr>
            <a:xfrm>
              <a:off x="324000" y="3789360"/>
              <a:ext cx="208728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5"/>
          <p:cNvSpPr/>
          <p:nvPr/>
        </p:nvSpPr>
        <p:spPr>
          <a:xfrm>
            <a:off x="2700360" y="3645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8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23640" y="4220640"/>
            <a:ext cx="2376720" cy="72000"/>
            <a:chOff x="323640" y="4220640"/>
            <a:chExt cx="2376720" cy="72000"/>
          </a:xfrm>
        </p:grpSpPr>
        <p:cxnSp>
          <p:nvCxnSpPr>
            <p:cNvPr id="246" name="AutoShape 5"/>
            <p:cNvCxnSpPr/>
            <p:nvPr/>
          </p:nvCxnSpPr>
          <p:spPr>
            <a:xfrm>
              <a:off x="323640" y="4220640"/>
              <a:ext cx="2377080" cy="7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 txBox="1"/>
            <p:nvPr/>
          </p:nvSpPr>
          <p:spPr>
            <a:xfrm>
              <a:off x="323640" y="4220640"/>
              <a:ext cx="2376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7"/>
          <p:cNvSpPr/>
          <p:nvPr/>
        </p:nvSpPr>
        <p:spPr>
          <a:xfrm>
            <a:off x="2843280" y="4149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е 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95280" y="4653000"/>
            <a:ext cx="2664360" cy="46440"/>
            <a:chOff x="395280" y="4653000"/>
            <a:chExt cx="2664360" cy="46440"/>
          </a:xfrm>
        </p:grpSpPr>
        <p:cxnSp>
          <p:nvCxnSpPr>
            <p:cNvPr id="250" name="AutoShape 5"/>
            <p:cNvCxnSpPr/>
            <p:nvPr/>
          </p:nvCxnSpPr>
          <p:spPr>
            <a:xfrm>
              <a:off x="395280" y="4653000"/>
              <a:ext cx="2664720" cy="4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395280" y="4653000"/>
              <a:ext cx="266400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9"/>
          <p:cNvSpPr/>
          <p:nvPr/>
        </p:nvSpPr>
        <p:spPr>
          <a:xfrm>
            <a:off x="3419640" y="45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4000" y="5950080"/>
            <a:ext cx="2953080" cy="71640"/>
            <a:chOff x="324000" y="5950080"/>
            <a:chExt cx="2953080" cy="71640"/>
          </a:xfrm>
        </p:grpSpPr>
        <p:cxnSp>
          <p:nvCxnSpPr>
            <p:cNvPr id="254" name="AutoShape 5"/>
            <p:cNvCxnSpPr/>
            <p:nvPr/>
          </p:nvCxnSpPr>
          <p:spPr>
            <a:xfrm>
              <a:off x="324000" y="5950080"/>
              <a:ext cx="2953440" cy="72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5" name=""/>
            <p:cNvSpPr txBox="1"/>
            <p:nvPr/>
          </p:nvSpPr>
          <p:spPr>
            <a:xfrm>
              <a:off x="324000" y="5950080"/>
              <a:ext cx="2952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21"/>
          <p:cNvSpPr/>
          <p:nvPr/>
        </p:nvSpPr>
        <p:spPr>
          <a:xfrm>
            <a:off x="3348000" y="5732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 сентиментальная  пов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000" y="6381360"/>
            <a:ext cx="3311640" cy="72000"/>
            <a:chOff x="324000" y="6381360"/>
            <a:chExt cx="3311640" cy="72000"/>
          </a:xfrm>
        </p:grpSpPr>
        <p:cxnSp>
          <p:nvCxnSpPr>
            <p:cNvPr id="258" name="AutoShape 5"/>
            <p:cNvCxnSpPr/>
            <p:nvPr/>
          </p:nvCxnSpPr>
          <p:spPr>
            <a:xfrm>
              <a:off x="324000" y="6381360"/>
              <a:ext cx="3312000" cy="7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"/>
            <p:cNvSpPr txBox="1"/>
            <p:nvPr/>
          </p:nvSpPr>
          <p:spPr>
            <a:xfrm>
              <a:off x="324000" y="6381360"/>
              <a:ext cx="331128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3851280" y="6237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  создания  по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3995640" y="782280"/>
            <a:ext cx="230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766 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3995640" y="148428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имении  отца  около  города  Симби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0920" y="2349360"/>
            <a:ext cx="1513080" cy="45000"/>
            <a:chOff x="250920" y="2349360"/>
            <a:chExt cx="1513080" cy="45000"/>
          </a:xfrm>
        </p:grpSpPr>
        <p:cxnSp>
          <p:nvCxnSpPr>
            <p:cNvPr id="264" name="AutoShape 5"/>
            <p:cNvCxnSpPr/>
            <p:nvPr/>
          </p:nvCxnSpPr>
          <p:spPr>
            <a:xfrm>
              <a:off x="250920" y="2349360"/>
              <a:ext cx="1513440" cy="45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" name=""/>
            <p:cNvSpPr txBox="1"/>
            <p:nvPr/>
          </p:nvSpPr>
          <p:spPr>
            <a:xfrm>
              <a:off x="250920" y="2349360"/>
              <a:ext cx="1512720" cy="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Прямоугольник 28"/>
          <p:cNvSpPr/>
          <p:nvPr/>
        </p:nvSpPr>
        <p:spPr>
          <a:xfrm>
            <a:off x="1765800" y="22050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 получил  образова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88000" y="2154240"/>
            <a:ext cx="43560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как  и   все  дворянские  дети  получил  домашнее образование  , затем    в  14  лет  учился  в  Московском  пансионе ,а  после закончил  Московский  университет  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" name="Прямоугольник 32"/>
          <p:cNvSpPr/>
          <p:nvPr/>
        </p:nvSpPr>
        <p:spPr>
          <a:xfrm>
            <a:off x="4067280" y="3141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, французский, английский  и  немец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3"/>
          <p:cNvSpPr/>
          <p:nvPr/>
        </p:nvSpPr>
        <p:spPr>
          <a:xfrm>
            <a:off x="3931920" y="3716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ует  по 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4"/>
          <p:cNvSpPr/>
          <p:nvPr/>
        </p:nvSpPr>
        <p:spPr>
          <a:xfrm>
            <a:off x="6012000" y="414972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сьма  русского  путешественн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468360" y="505620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лия»,  «Остров  Борнгольм», «История  Государства  Российского», повести «Фрол  Силин»,  «Наталья,боярская  дочь», Стихотворение:  «Осень»,  «Кладбищ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6"/>
          <p:cNvSpPr/>
          <p:nvPr/>
        </p:nvSpPr>
        <p:spPr>
          <a:xfrm>
            <a:off x="7308720" y="573264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дная  Ли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7"/>
          <p:cNvSpPr/>
          <p:nvPr/>
        </p:nvSpPr>
        <p:spPr>
          <a:xfrm>
            <a:off x="6372360" y="6237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9"/>
          <p:cNvSpPr/>
          <p:nvPr/>
        </p:nvSpPr>
        <p:spPr>
          <a:xfrm>
            <a:off x="539640" y="1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апный  анализ  жизни  и  творчества  Карам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03 г. Н.М.Карамзин получил звание историографа и начал работу над  «Историей государства Российского». Этот труд стал делом всей его жизни. Он первым создал систематическую многотомную историю России. 8 томов вышли в 1818 г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тория государства Российского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77" name="Рисунок 3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92888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2000160" cy="242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33:33Z</dcterms:created>
  <dc:creator>Acer</dc:creator>
  <dc:description/>
  <dc:language>en-US</dc:language>
  <cp:lastModifiedBy>НАТАЛИ</cp:lastModifiedBy>
  <dcterms:modified xsi:type="dcterms:W3CDTF">2016-01-20T15:42:05Z</dcterms:modified>
  <cp:revision>84</cp:revision>
  <dc:subject/>
  <dc:title>УРОК ЛИТЕРАТУРЫ "Рассудок и любовь в повести Н.М. Карамзина  «Бедная Лиза»" </dc:title>
</cp:coreProperties>
</file>