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B56-0465-4037-A864-79F2C3B1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73B-43A0-4081-8A46-4D7A7785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A1FD3-4A3E-47DC-9BEE-DE32F290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81A1C-E008-4B64-8704-651281F8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E1891-CDCE-49F6-BFC2-86B09C1D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AC8CA-630D-498C-A4C4-5F2F748B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88DA1-7111-4F22-A74C-F657C3A5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F0953-C6AE-470F-B673-6D33662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3B22B-3B8F-497B-8A83-8E0CDFAD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4D90C-DD18-4557-B42A-BDC1284A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2C05A-3573-439B-A5FE-1AFB70CD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26ACC-F037-4E66-9A3B-DE52603A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DE0-8C00-4826-BC2F-07AE0B61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28910-8519-4D98-8975-DFF9975F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53970-7847-4BD1-A1CF-FCD8564A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7AD74-2838-4BBF-886B-89A67373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B4469-A6F8-4652-8BF3-21C1E6EB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8D213-9228-4E96-B03B-D6A9C29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D21C9-6DA2-4171-87A0-2422AFC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1233B-9F93-4E93-A832-2DA46C82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606A7-4DCA-46E2-8715-814E61D5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7133F-6AAC-4965-BDE8-CD9BC480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C10DD-9E6F-4F11-83CE-68C9B305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F22-00B9-42E1-B285-1EC229D4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C1CEA-ABB7-47DF-8046-8AEFD3B5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1DE15-C3D6-41B3-994C-BC81B72B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BA994-C042-401C-9CC0-3FBE719D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127C0-CE0B-4F50-A588-A1058EA3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00D2F-C8F1-4C91-B83F-CBB99FB4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C83E0-48BD-4808-9D29-FE8B9FA1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F231C-B484-44C7-A2EE-C87A2031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39367-8D78-4C77-98B7-97CAED72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F337A-85E8-41D1-BEC1-69E65AD6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48564-CB10-4432-9C6D-6AF9F6E3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965D-F69F-4C21-95E8-72BF557A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B3304-4123-4B3C-BF88-60650D8A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4D374-46D9-4E3A-AD90-1BBE5233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A1D73-7B76-4B2C-ABA4-26543D51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549E2-17DE-4B84-93B0-E4CA6434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9D4E0-3D6D-400E-A465-4C5886F2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9790A-2991-43D3-90A4-FFAC2630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3A612-9652-48C3-A291-B14AF07C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77226-5EFB-4BBB-9686-90CF29C5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A9DB9-3DEB-4E30-82F6-CC27CE14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3E157-8E66-42AF-955E-6EE2456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AB8C-AF2A-43A1-80F7-988075B4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2B2D5-7814-439B-8C83-7CBE7BF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DD40C-9AEE-40D2-A883-89247912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76B02-13CF-4B90-B21D-387E5AD9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6E473-C6AC-400A-B0C8-24F7C2A5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0FE5A-D9FA-49F9-B9DD-E9B50DBF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8D1E4-3C59-49BA-8330-A30A68AF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E7F1E-83E1-484B-94AC-CA3B513E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BC507-D57E-4DBD-86F5-B8312F34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43138-C445-4393-91DA-38519D6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C31CD-476F-423D-889F-7922EB7E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6D18-B779-413F-BD77-F0CB0D6D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4159D-CF49-40C8-AA41-1884998A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D5601-4F30-48FD-AB00-857678EC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C0A58-E796-438F-BB18-1840F840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AC1DB-A687-4B84-BB73-A3BFEFAC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2E704-A4A8-4A0C-9791-0AF2086A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6F17E-E677-45D9-821E-AD3686AE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425D2-BE03-43CF-A37B-B870AB10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2B1B-3EFA-4272-A64A-97138AAE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945A-A9BE-4479-96E2-53661AD8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8A95-1138-4455-9E97-16116DD2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D0E6-304E-41A3-BCEF-4AC0BE1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2D4-8C69-41AB-B6D9-A170E040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E957-D1FC-41F0-B0C6-06EDEC1B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3E13-86FB-4D54-8712-69543B40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C1D9-9A2C-4884-831B-6D98789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617F-FB3F-4398-B0F3-3EBC2C70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147C-5773-44C1-AC79-7B7CE377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D4C2-F437-45D1-A5E2-06408099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2639-420E-4C62-BE56-F1FD7DC7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6CF8-F9CD-48CA-B581-DBE7AA1E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E4D3-7ED0-44D3-9B68-34BD2EB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0795-2770-4474-850E-C15C6870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47B-438A-448F-9963-91CE5288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F664-F7E0-4F7F-A0E8-A10B38CD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3523-470D-4939-A17E-E59F9C60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CBCBE-B7B1-4996-A325-AE90E6CC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901D-F770-41CF-AD39-12A5B5EE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5719-6039-4F91-9797-752BC0E2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0532-0260-4224-B5C4-7137DCCB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B2C8-5E09-473F-8ED6-6FAFD741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A23FF-9162-4D73-9135-B9136956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AACA-EBA5-47E6-8162-65D3A7F3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A136-3DD4-4862-994D-872AA02E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46F-D9ED-4B69-9FC0-8B2EB711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541A-B857-4EFB-B699-B46413DC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22CD4-28E1-4960-83F6-0D9A7FBD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3ABA3-8630-42ED-B41A-BFA63F76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1A60-4647-48CC-A1CE-7642E13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7389-CC5B-4079-B739-D078CF7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2D06-ADD4-4F06-963F-0571194B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093F-E3EC-43B0-9AC7-C2B0F6A3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B012-223A-4825-BDA5-8BE2F493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BCF2-6354-465E-8527-9B4E83C9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E5A54-6BB3-4227-B4CC-2C73089C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BDC-AA84-4264-A291-FBD4F4A7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F050-464C-4B14-8555-7303828C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3320-A17B-40F4-A0D1-71ED6541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08EF1-E426-47FA-A355-7208BCEB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A5F75-BB2A-43F6-A620-865F1E58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7B651-096D-49A4-B587-381877D0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E9F8F-8385-4E78-908A-0943601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2CF7-B9D3-485A-B434-D381A75B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9149-58CD-4D19-AF4D-47C5CFF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EE418-2079-425C-B1F3-C971109E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CAE79-32BA-47DD-9DE7-2CA9F8D8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F54-231F-4D73-8076-6AFBA6DF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8C373-275D-4D52-BBF6-DA777F3C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A8C81-2A67-4107-8926-26A3E4F9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A4A79-AFA0-4179-901A-FD51650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BFB61-4995-401B-AE1F-815CE678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62C48-1648-427B-ACBD-130F0425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DC81C-E6BF-4922-8666-4AD9545F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A421-8785-4DD1-BB74-55F78C20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80B0B-FFB4-4E9B-B322-F9EE4A93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653B4-3C4B-4C39-9CBC-67389A53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00CD-5088-4FD8-8B37-8BD8FBE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BDD-F98A-4240-B0C9-448FAF8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DA272-6851-4716-9BFC-D622D8F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97456-532E-45BE-8D9F-E2CBB74F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D7208-21C9-4D7D-9CDC-06B64661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2CA76-F806-40E8-BF6C-8D9DC182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4347-8400-4598-B928-E589E36C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EB82A-177D-467E-BCC5-7B6FBC8B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A06E1-B48C-425A-AAEA-E742AFFF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8DE8-9EFA-426B-AD13-0B4B0823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B10DF-2544-4F60-A910-DFC2F070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6543-C423-49EF-9AB6-494E4E7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AB9-F94A-4A15-9C33-059A5597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2806F-B70E-4D12-AE8B-4481F2F3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6B70-E377-4EA4-9F3F-26443E53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28895-DE61-472B-9ADE-8E2D157A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1B2D9-8152-400F-B13C-833A44AC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5C96-ADD8-4BEA-8589-6D43F708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462E8-A6BF-4535-A193-422A5307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CFC61-421E-4CFB-9BCC-7DB610E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7EB8-AF20-48B3-B8E5-B0EE570C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DEDEF-43D9-446D-A946-AD1490B6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C146C-CE60-46F1-9042-289FB724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971-C737-4503-9CC9-75AA2801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1B27-2C3B-4D69-B8D2-59DD54F6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56319-B756-4973-B005-C1D4C3AD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1A84-D4B7-4911-8E10-33FEE55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EC1E3-1C90-49B9-A4E5-3889FF77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E9360-F1C8-4F04-9B58-346C265D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FD497-05E9-4901-9C45-3F93B506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E45E4-AC28-4262-BD26-E50CE0BB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9D855-8705-46F5-844E-49589FAD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88E2A-D946-4711-BE09-85672015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90663-2406-4B23-A9E9-50AB0BC8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DB80-2707-4456-BAB1-BEB6C05EBF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B3D-129D-4BC6-8B6E-4F2DB425C6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0473-4B13-48D6-8E62-0591A70EA5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9198-7B24-488B-9F63-0FB9A9ADC7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D414-D85C-4544-AB27-D1FDCCB00C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D756-5FB3-43D0-BF27-D39F43AF0A6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4BA6-5DE9-4FAF-B933-05B6B9994F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75F-F3EF-4258-8612-28B6A31DB9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9A11-9AAB-4A7C-8B04-1AC237465B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3623-4126-44D9-A38A-507F43BCAE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7F5-A127-4C67-A5BA-811813B586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9EF8-CE14-440D-A34C-4A791E66AB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EE7C-DD48-4539-B3FA-2FB195125F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ru.wikipedia.org/wiki/&#1058;&#1072;&#1081;&#1075;&#1072;" TargetMode="External"/><Relationship Id="rId3" Type="http://schemas.openxmlformats.org/officeDocument/2006/relationships/hyperlink" Target="http://ru.wikipedia.org/wiki/&#1051;&#1077;&#1089;&#1086;&#1089;&#1090;&#1077;&#1087;&#1100;" TargetMode="External"/><Relationship Id="rId4" Type="http://schemas.openxmlformats.org/officeDocument/2006/relationships/hyperlink" Target="http://ru.wikipedia.org/wiki/&#1051;&#1077;&#1089;&#1086;&#1090;&#1091;&#1085;&#1076;&#1088;&#1072;" TargetMode="External"/><Relationship Id="rId5" Type="http://schemas.openxmlformats.org/officeDocument/2006/relationships/hyperlink" Target="http://ru.wikipedia.org/wiki/&#1047;&#1072;&#1081;&#1094;&#1099;" TargetMode="External"/><Relationship Id="rId6" Type="http://schemas.openxmlformats.org/officeDocument/2006/relationships/hyperlink" Target="http://ru.wikipedia.org/wiki/&#1058;&#1077;&#1090;&#1077;&#1088;&#1077;&#1074;&#1080;&#1085;&#1099;&#1077;" TargetMode="External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57;&#1077;&#1074;&#1077;&#1088;&#1085;&#1099;&#1081;_&#1086;&#1083;&#1077;&#1085;&#1100;" TargetMode="External"/><Relationship Id="rId3" Type="http://schemas.openxmlformats.org/officeDocument/2006/relationships/hyperlink" Target="http://ru.wikipedia.org/wiki/&#1051;&#1086;&#1089;&#1100;" TargetMode="External"/><Relationship Id="rId4" Type="http://schemas.openxmlformats.org/officeDocument/2006/relationships/hyperlink" Target="http://ru.wikipedia.org/wiki/&#1050;&#1086;&#1089;&#1091;&#1083;&#1103;" TargetMode="External"/><Relationship Id="rId5" Type="http://schemas.openxmlformats.org/officeDocument/2006/relationships/hyperlink" Target="http://ru.wikipedia.org/wiki/&#1050;&#1086;&#1088;&#1086;&#1074;&#1072;" TargetMode="External"/><Relationship Id="rId6" Type="http://schemas.openxmlformats.org/officeDocument/2006/relationships/hyperlink" Target="http://ru.wikipedia.org/wiki/&#1057;&#1086;&#1073;&#1072;&#1082;&#1072;" TargetMode="External"/><Relationship Id="rId7" Type="http://schemas.openxmlformats.org/officeDocument/2006/relationships/hyperlink" Target="http://ru.wikipedia.org/wiki/&#1057;&#1091;&#1089;&#1083;&#1080;&#1082;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ru.wikipedia.org/wiki/&#1054;&#1088;&#1077;&#1093;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Rectangle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401320" cy="14446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i?id=216919474-08-24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1" descr="i?id=47775472-06-24"/>
          <p:cNvPicPr/>
          <p:nvPr/>
        </p:nvPicPr>
        <p:blipFill>
          <a:blip r:embed="rId3"/>
          <a:stretch/>
        </p:blipFill>
        <p:spPr>
          <a:xfrm>
            <a:off x="4724280" y="1676520"/>
            <a:ext cx="4038840" cy="2133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3" descr="i?id=26910640-13-24"/>
          <p:cNvPicPr/>
          <p:nvPr/>
        </p:nvPicPr>
        <p:blipFill>
          <a:blip r:embed="rId4"/>
          <a:stretch/>
        </p:blipFill>
        <p:spPr>
          <a:xfrm>
            <a:off x="4724280" y="3962520"/>
            <a:ext cx="403884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380880" y="20570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рдитый недотрога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Живет в глуши лесн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голок очень много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 нитки ни одно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Rectangle 4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401320" cy="14511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e3b30"/>
                </a:solidFill>
                <a:latin typeface="Franklin Gothic Book"/>
              </a:rPr>
              <a:t>   </a:t>
            </a:r>
            <a:br>
              <a:rPr sz="800"/>
            </a:b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Ёж ведёт одиночный образ жизни.. Гнездо (диаметром 15—20 см) он выстилает сухими травами, листьями, мхом, древесной трухой. Летом нор не роет, иногда занимает пустые норы грызунов. Активен преимущественно в сумеречное и ночное время. Весной, когда ежи выходят из спячки, они проявляют активность и в дневные часы. Спит ёж, свернувшись в неплотный клубок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С наступлением заморозков (ниже 10 °C), накопив жировые запасы, ёж закупоривает вход в нору и впадает в спячку. Питается ёж в основном насекомыми (жуками, уховёртками) и их личинками, кивсяками, слизнями, улитками, дождевыми червями. Особое лакомство для него представляют личинки комаров долгоножек, многоножк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3" name="Picture 8" descr="i?id=37141440-16-24"/>
          <p:cNvPicPr/>
          <p:nvPr/>
        </p:nvPicPr>
        <p:blipFill>
          <a:blip r:embed="rId2"/>
          <a:stretch/>
        </p:blipFill>
        <p:spPr>
          <a:xfrm>
            <a:off x="4800600" y="167652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ньше тигра, больше кошки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д ушами – кисти-рожки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виду кроток, но не верь: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рашен в гневе этот зверь!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Rectangle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401320" cy="144468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3929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ысь отдает предпочтение глухим темнохвойным лесам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тайге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хотя встречается в самых разных насаждениях, включая горные леса; иногда заходит в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лесостепь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и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лесотундру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 Она отлично лазает по деревьям и скалам, хорошо плавае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и обилии пищи рысь живёт оседло, при недостатке — кочует. В сутки она способна проходить до 30 километров. Основу ее рациона составляют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зайцы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 Также она постоянно охотится на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тетеревиных птиц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мелких грызунов, реже — на небольших копытных, вроде </a:t>
            </a: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косул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кабарги, пятнистого и северного оленей, изредка нападает на домашних кошек и собак, а в лесу — на лисиц, енотовидных собак и других некрупных звере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9" name="Picture 8" descr="i?id=374930571-20-24"/>
          <p:cNvPicPr/>
          <p:nvPr/>
        </p:nvPicPr>
        <p:blipFill>
          <a:blip r:embed="rId7"/>
          <a:stretch/>
        </p:blipFill>
        <p:spPr>
          <a:xfrm>
            <a:off x="4800600" y="190512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Rectangle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305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i?id=387274567-03-24"/>
          <p:cNvPicPr/>
          <p:nvPr/>
        </p:nvPicPr>
        <p:blipFill>
          <a:blip r:embed="rId2"/>
          <a:stretch/>
        </p:blipFill>
        <p:spPr>
          <a:xfrm>
            <a:off x="533520" y="144792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4" descr="i?id=198337984-15-24"/>
          <p:cNvPicPr/>
          <p:nvPr/>
        </p:nvPicPr>
        <p:blipFill>
          <a:blip r:embed="rId3"/>
          <a:stretch/>
        </p:blipFill>
        <p:spPr>
          <a:xfrm>
            <a:off x="5257800" y="1371600"/>
            <a:ext cx="3505320" cy="22096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6" descr="i?id=78588986-22-24"/>
          <p:cNvPicPr/>
          <p:nvPr/>
        </p:nvPicPr>
        <p:blipFill>
          <a:blip r:embed="rId4"/>
          <a:stretch/>
        </p:blipFill>
        <p:spPr>
          <a:xfrm>
            <a:off x="685800" y="3962520"/>
            <a:ext cx="3657600" cy="21333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17"/>
          <p:cNvSpPr/>
          <p:nvPr/>
        </p:nvSpPr>
        <p:spPr>
          <a:xfrm>
            <a:off x="4648320" y="396252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ad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9" descr="i?id=151340383-17-24"/>
          <p:cNvPicPr/>
          <p:nvPr/>
        </p:nvPicPr>
        <p:blipFill>
          <a:blip r:embed="rId5"/>
          <a:stretch/>
        </p:blipFill>
        <p:spPr>
          <a:xfrm>
            <a:off x="5638680" y="403848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401320" cy="14511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9" descr="рысь"/>
          <p:cNvPicPr/>
          <p:nvPr/>
        </p:nvPicPr>
        <p:blipFill>
          <a:blip r:embed="rId2"/>
          <a:stretch/>
        </p:blipFill>
        <p:spPr>
          <a:xfrm>
            <a:off x="914400" y="190512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1" descr="965525050"/>
          <p:cNvPicPr/>
          <p:nvPr/>
        </p:nvPicPr>
        <p:blipFill>
          <a:blip r:embed="rId3"/>
          <a:stretch/>
        </p:blipFill>
        <p:spPr>
          <a:xfrm>
            <a:off x="5943600" y="1828800"/>
            <a:ext cx="2819520" cy="2610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i?id=37141440-16-24"/>
          <p:cNvPicPr/>
          <p:nvPr/>
        </p:nvPicPr>
        <p:blipFill>
          <a:blip r:embed="rId4"/>
          <a:stretch/>
        </p:blipFill>
        <p:spPr>
          <a:xfrm>
            <a:off x="2590920" y="4191120"/>
            <a:ext cx="304776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ерый, страшный и зубастый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извел переполох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е зверята разбежались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пугал зверят тех..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Rectangle 2" descr=""/>
          <p:cNvPicPr/>
          <p:nvPr/>
        </p:nvPicPr>
        <p:blipFill>
          <a:blip r:embed="rId1"/>
          <a:stretch/>
        </p:blipFill>
        <p:spPr>
          <a:xfrm>
            <a:off x="255600" y="237960"/>
            <a:ext cx="8596440" cy="14511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929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олк — типичный хищник, добывающий пищу активным поиском и преследованием жертв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нову питания волков составляют копытные животные: в тундре —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северные олен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; в лесной зоне —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лос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олени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косул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кабаны. Нападают волки и на домашних животных (овец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коров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лошадей), в том числе на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собак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 Ловят, особенно одиночные волки, и более мелкую добычу: зайцев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сусликов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, мышевидных грызунов. Летом волки не упускают случая съесть кладку яиц, птенцов, сидящих на гнёздах или кормящихся на земле тетеревиных, водоплавающих и иных птиц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8" name="Picture 7" descr="i?id=125077554-06-24"/>
          <p:cNvPicPr/>
          <p:nvPr/>
        </p:nvPicPr>
        <p:blipFill>
          <a:blip r:embed="rId8"/>
          <a:stretch/>
        </p:blipFill>
        <p:spPr>
          <a:xfrm>
            <a:off x="4876920" y="18288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837720" y="2133720"/>
            <a:ext cx="800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вост пушистою дугой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ам знаком зверек такой?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трозубый, темноглазый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деревьям любит лазать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роит он свой дом в дупле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б зимою жить в тепл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Rectangle 4" descr=""/>
          <p:cNvPicPr/>
          <p:nvPr/>
        </p:nvPicPr>
        <p:blipFill>
          <a:blip r:embed="rId1"/>
          <a:stretch/>
        </p:blipFill>
        <p:spPr>
          <a:xfrm>
            <a:off x="255600" y="237960"/>
            <a:ext cx="8596440" cy="145116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дной из широко известных отличительных особенностей многих белок является их способность запасать на зиму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орехи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 Некоторые виды, орехи закапывают в землю, другие прячут их в дуплах деревьев. Как полагают учёные, плохая память некоторых видов белок, в частности серой, помогает сохранять леса, так как они закапывают орехи в землю и забывают про них, а из проросших семян появляются новые деревь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екоторые виды белок в случае предполагаемой опасности встают на задние лапы, передние подгибают и затем оглядывают окружающую территорию. При обнаружении врага часто издают пронзительный звук, предупреждая других белок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14" name="Picture 8" descr="i?id=80758922-20-24"/>
          <p:cNvPicPr/>
          <p:nvPr/>
        </p:nvPicPr>
        <p:blipFill>
          <a:blip r:embed="rId3"/>
          <a:stretch/>
        </p:blipFill>
        <p:spPr>
          <a:xfrm>
            <a:off x="4876920" y="167652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ех зверей она хитрей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Шубка рыжая на ней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ышный хвост - ее краса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т зверь лесной - …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4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3050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имой по заснеженной опушке бежит лиса, то и дело останавливается, прислушивается. Это она за мышами охотится, мышкует. Чтобы насытится, ей надо поймать не меньше двадцати мышей. У лисы острый слух.. Весной или в начале лета у лисицы появляются лисята. Лисье семейство большое – до десяти малышей рождается. Всех накормить надо. Тут уж оба родителя без устали носят еду к норе: птичек, зайчат, лягушек, мышей – все, что попадется.. Лиса – хозяйка плохая, грязнуля. В норе и возле норы валяются объедки. Где поест, там и туалет устроит. Осенью все лисы уходят из норы и разбредаются по лесу. Зимой у лисы под любом кустиком дом: свернется клубочком в снегу, прикроет своим пушистым хвостом нос, чтобы не замерз, и спи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723920" y="12949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20" name="Picture 13" descr="i?id=179656467-22-24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2096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7" descr="i?id=340944441-06-24"/>
          <p:cNvPicPr/>
          <p:nvPr/>
        </p:nvPicPr>
        <p:blipFill>
          <a:blip r:embed="rId3"/>
          <a:stretch/>
        </p:blipFill>
        <p:spPr>
          <a:xfrm>
            <a:off x="4724280" y="1295280"/>
            <a:ext cx="403884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перевалку зверь идет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малину и по мед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юбит сладкое он очень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 когда приходит осень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езет в яму до весны,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де он спит и видит сны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4" descr=""/>
          <p:cNvPicPr/>
          <p:nvPr/>
        </p:nvPicPr>
        <p:blipFill>
          <a:blip r:embed="rId1"/>
          <a:stretch/>
        </p:blipFill>
        <p:spPr>
          <a:xfrm>
            <a:off x="255600" y="237960"/>
            <a:ext cx="8596440" cy="145116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837720" y="3809520"/>
            <a:ext cx="800748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наших лесах водится бурый медведь – хозяин леса, самый сильный из зверей. Медведь не привередлив в еде, все ест: и корешки, и улиток, и разных мелких зверей, и птиц. Любит мишка разорить гнездо диких пчел и полакомиться медом. Или найдет в лесу муравейник, любит он и рыбку. Осенью, нагуляв жир, медведь подыскивает себе берлогу. Долго, как заяц, петляет и путает следы, чтобы никто не знал, где он устроился на зиму. Зимует медведица вместе с медвежатами в одной берлоге. Зимой, в январе или в феврале, у старших медвежат появляются младшие братишки, совсем крошечные, величиной с рукавичку. Весной медведи выходят из берлог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26" name="Picture 11" descr="i?id=105123855-04-24"/>
          <p:cNvPicPr/>
          <p:nvPr/>
        </p:nvPicPr>
        <p:blipFill>
          <a:blip r:embed="rId2"/>
          <a:stretch/>
        </p:blipFill>
        <p:spPr>
          <a:xfrm>
            <a:off x="457200" y="13716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i?id=141514167-08-24"/>
          <p:cNvPicPr/>
          <p:nvPr/>
        </p:nvPicPr>
        <p:blipFill>
          <a:blip r:embed="rId3"/>
          <a:stretch/>
        </p:blipFill>
        <p:spPr>
          <a:xfrm>
            <a:off x="4876920" y="1447920"/>
            <a:ext cx="403848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07:33:04Z</dcterms:created>
  <dc:creator>Мама</dc:creator>
  <dc:description/>
  <dc:language>en-US</dc:language>
  <cp:lastModifiedBy>Надежда</cp:lastModifiedBy>
  <dcterms:modified xsi:type="dcterms:W3CDTF">2012-03-22T02:34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