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12.png" ContentType="image/png"/>
  <Override PartName="/ppt/media/image2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8EA-3296-4430-936B-943C4378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E92-96AD-4328-A706-B69998BE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310E8-5B07-4725-A2A2-AC4BF607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B0613-9E4D-4DE6-A2D0-1C2B6F7D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49E57-C56B-438C-9717-D620166B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4CA04-C05E-4E3B-BECC-1CC7BE61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C64B2-C5DB-4E18-B551-F5A24B08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8F47F-9615-4D38-A54C-53E561B3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6A2CB-12CA-4C27-834D-ED58CC48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44D5F-53E2-46CA-B22C-9D485280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347A3-511E-41E5-944E-47B07780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33195-DBB4-4C3E-A8AF-4E0FA082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111-97EE-4C11-BDEF-6EACC203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5C9AA-0F05-4C26-84FF-C533AC1B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C85FC-1B06-4CE6-8653-92A3DD9D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FCF39-8D3E-4711-BEC6-37D21B3C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13B2D-3030-461C-A633-5217F62B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5569F-29CB-4D93-BF3E-60F047A1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261C7-848F-45DB-8FC1-627A0A66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59DD1-011A-4A4F-9343-9BDE03FA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2E9F6-213E-41A4-9F4F-D6B2FE90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1D6F8-037F-41F5-AA47-CDD91FD8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B3ACF-0949-4A37-BDBB-5652DC38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0E0-CEC7-4D7A-A31D-917E7591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CBF0B-3B6B-48E0-9C63-6D9DAB20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59034-B40A-4B6C-B001-F095F1BF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B6129-CA51-4590-A226-18AC3DC0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F5BB8-5057-4844-B64C-B50F2065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B6254-5449-4F5F-B905-4DD363EF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B9AF7-D44C-414B-BE00-D30B10BE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A2F8C-872E-4F72-A852-DD298CB8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61509-3C97-4F9F-A9FA-45CC5F29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DB31F-052B-49A3-8C49-93D295B1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ADAE4-F797-4C96-B04D-AB43AD13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DDBB-AC64-408E-BFE6-5F80D42F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97CE4-0469-42A0-9521-E9AA988F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6AA73-8B4E-42EF-8883-21D85E18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79E42-A5E2-4924-A2B0-7B728ED2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F954C-71F8-48B0-A1CE-BBD38E18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98C58-1286-4B4B-923C-A1BF1F96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8230E-E12C-4CAE-8327-87F8B1EC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C97DD-6BFF-4840-91D4-E956A39F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B6219-2A67-4F0A-915F-C9C09D5E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052F0-2CD6-46D7-B553-021DAD10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FB0B8-548D-4A80-8D94-91B75B0C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F035-A279-4279-A3E6-939C657A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44A2B-8279-4090-9E6A-A91C9B3B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90906-BAF7-4F15-9EA0-E77ECF27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CA3A3-3AF6-47E7-A359-E0A5B62F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9E1CB-F860-4EFE-AE5B-FDF2A30B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618E9-A6ED-4F35-93E8-92284F0A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A3B88-9FAB-4B04-8E1B-ACA0FBE0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1CAD4-B5D0-481B-837F-AEDF4AF4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613F7-8B9E-4C51-AC0A-8B9489E3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3C8CB-57EE-45C1-8232-A0992622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9776E-9CDA-457F-924C-BFBFCC0F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1577-29A8-4619-B66D-2E32E35B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55729-2FC6-4E89-B364-DB0B3225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E743B-5F6F-4441-92B2-00D12C5D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E79A3-5651-4142-A913-47D17C95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67C17-0780-4F6F-BE33-D300CB59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C567E-DA76-4DBB-BE10-10DB3D28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13D46-20E7-4993-9655-1BCE6BDE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7850C3-DC0C-42CB-94BF-E3052537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09C0-0485-4ABD-8E75-7760BA65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FE19-ABAD-4DA9-9D63-2A1C44CF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7FA3-E283-437C-B273-31CDBF58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BD08-814B-4F1B-80AC-5C60ACA9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FD7-A41D-4558-8FA4-E1B7FCAD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402B-C323-4270-9F8F-66585D0E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C738-3B2C-4826-B2AA-B1E606CE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329C-2A6C-47F8-982E-3CF0D14D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071C-93FE-44FF-A8C0-0694390C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BB89-C41E-4716-8D4A-B4A77EEB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0ADF2-37F7-478E-A222-F3384D24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91423-E875-4B73-8B2F-0491A3BA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8FFD-C902-4982-8BAD-D5291140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DEBD-5444-43FC-A011-66A227EE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E500-9C21-4D76-BD3E-300152A4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672-DC8C-4A2B-8406-BDB874FA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B1EC6-BE03-4389-B4D4-5CB70D25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21AB9-FAEA-40CD-9265-B1870685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D4DC-2665-45EE-B2FB-4CCC694D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A76E2-B16C-42ED-A953-C20674A3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6025-26D4-4E15-9C4B-0D002A54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369F-7BE6-4B6B-BC4F-BD30CBAA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285B7-FC35-4833-A44A-904117AC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46DCD-15F1-4F55-AAF3-DDE01903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EDF44-227A-4ED7-B5C9-14858F71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D738D-91F7-46BC-8B54-03656DC6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2F9-FC87-400F-AA35-F2EBFF9C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F7BD6-0830-44E6-95EE-6A0D5BC9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0087F-E65E-45D2-AFD1-AE543D0F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A54B9-156F-46B7-9F9B-373C5C6A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29857-AEE0-4295-BC18-AA1EEF95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A3322-9393-497B-9A41-42F5563A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82204-CE95-4E32-BA4A-795384AB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C03B2-6186-4403-B161-AAA7A273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AB540-E207-4ACA-9A6C-05379860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F9A7E-D094-463C-99B1-56B4653E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2DB88-147D-4A36-B503-2742E07E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FBB-A5A8-4B26-BF7E-10A4B5ED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7E60D-292C-4459-B90D-B2548354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42EE6-EA9E-4786-B668-53FF1E24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AA3BD-7EA0-4657-B649-F387FBEA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1FC55-E3AD-460D-B7CF-5CE30271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728CD-1933-4837-9497-D055FF1F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D32E0-7916-4B47-90B3-2F905D31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98B9E-337A-41DF-A664-45EECC23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A65C9-36DC-483A-9200-B5AAE754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45A0E-E0B6-445A-B23C-59A12DC2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69D07-4B92-4CAA-A478-92D41170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7C8-6F34-4175-9AB6-8D288BDF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C6B2B-A759-4329-938C-457BF787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B8ADE-2A5B-4C5F-B84E-60E0B62E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4A2F5-7DAE-4CF3-BDA8-637AFA72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37EDE-4730-4695-9C2F-862784E2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A0D4C-2004-4AF5-B7AC-8CA5924C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5748A-F3EF-4D55-8602-DF47241B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95FB1-718C-4B8F-AE5D-38921630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758C0-BE9C-462B-AFD5-90E50FC8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0998B-5001-4A10-B10A-43C514C3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C8936-3951-4AEB-AAD0-1B3EA960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B61-CCAB-42FE-A287-3C300E7E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F28F9-21F4-4306-99EA-DB508332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45869-8762-4460-B89F-AF1A7F55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3E858-DE11-4839-9E12-2B4D00AA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416CF-6A37-4EFB-81AD-1A333EB8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A6282-E165-4785-AA6C-286874FF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A7DD-45BC-4988-A443-3F004FBD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F8040-939B-487C-8644-4E001C2C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C72F2-B309-419A-9E60-654B459D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BC90D-8EC5-41BF-ACD5-05B3E390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330EB-497A-4150-8C3B-82F5AD08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002-3B7C-47F2-97D8-08FD497E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AC87E-9067-4E00-B082-B801EC08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97A05-619A-47A9-B3D0-2B2BEAB2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1C2A9-34F6-432C-8AE1-459E416C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22E2A-02E4-4716-A507-459461B0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5E99A-317E-4EA1-9309-2CE73604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4BB27-AA25-4B9A-858A-A9169A5E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7DDC1-E8A3-46D3-9CDF-C58B06C2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8DB1E-5DDD-4978-93DD-485FC71D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6298C-A08E-4553-B38A-225B8F94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93936-C105-4A2F-92E7-C33E3234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5E5-04E8-4BA1-AE02-60704839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D44CA-1873-42E0-883D-4734B988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A2F27-C6FE-41D5-8DEF-DC470C7B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B1759-62FB-4F1F-B80E-9D1CFB2E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E53EE-DF03-4C4A-BDD2-91D318FC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E4B6D-252C-4F37-9C86-118BB17E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30536-5AEE-4554-9487-D27C30AD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7108A-0367-45A0-B5B4-B8C74A7E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5F491-F5C1-40CE-B65F-318DA3C5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0FB45-7E7B-4C38-B040-4F0DCE96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32254-4104-498A-A912-1DB54CB5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BE88-F4BE-471E-953F-EF05392DD6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DEEC-CD49-4916-8632-1DC544C0D7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7F5B-86E2-4120-A168-2568CC68602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4D47-E8C8-41C6-BE30-B5EA1E02AA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68C3-B70F-4077-A4AF-0DAB128D76D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D962-D0A3-42F8-86BC-71AAB553522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CAD3-4A3C-4E23-BA84-5EC908D50EC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7AB4-704E-4B6D-BFBE-84DE1D269AA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A7C9-7FA3-43C6-8FED-145905B54C7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0D8A-1DA9-4CB1-8F64-F4885B06874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EE64-FC5C-404F-AD10-1B4A8DDE9B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4AED-76DD-4CF8-8EA4-29D369FF69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24BF-B65E-4DDA-A1CD-C17663447D7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ru.wikipedia.org/wiki/&#1058;&#1072;&#1081;&#1075;&#1072;" TargetMode="External"/><Relationship Id="rId3" Type="http://schemas.openxmlformats.org/officeDocument/2006/relationships/hyperlink" Target="http://ru.wikipedia.org/wiki/&#1051;&#1077;&#1089;&#1086;&#1089;&#1090;&#1077;&#1087;&#1100;" TargetMode="External"/><Relationship Id="rId4" Type="http://schemas.openxmlformats.org/officeDocument/2006/relationships/hyperlink" Target="http://ru.wikipedia.org/wiki/&#1051;&#1077;&#1089;&#1086;&#1090;&#1091;&#1085;&#1076;&#1088;&#1072;" TargetMode="External"/><Relationship Id="rId5" Type="http://schemas.openxmlformats.org/officeDocument/2006/relationships/hyperlink" Target="http://ru.wikipedia.org/wiki/&#1047;&#1072;&#1081;&#1094;&#1099;" TargetMode="External"/><Relationship Id="rId6" Type="http://schemas.openxmlformats.org/officeDocument/2006/relationships/hyperlink" Target="http://ru.wikipedia.org/wiki/&#1058;&#1077;&#1090;&#1077;&#1088;&#1077;&#1074;&#1080;&#1085;&#1099;&#1077;" TargetMode="External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57;&#1077;&#1074;&#1077;&#1088;&#1085;&#1099;&#1081;_&#1086;&#1083;&#1077;&#1085;&#1100;" TargetMode="External"/><Relationship Id="rId3" Type="http://schemas.openxmlformats.org/officeDocument/2006/relationships/hyperlink" Target="http://ru.wikipedia.org/wiki/&#1051;&#1086;&#1089;&#1100;" TargetMode="External"/><Relationship Id="rId4" Type="http://schemas.openxmlformats.org/officeDocument/2006/relationships/hyperlink" Target="http://ru.wikipedia.org/wiki/&#1050;&#1086;&#1089;&#1091;&#1083;&#1103;" TargetMode="External"/><Relationship Id="rId5" Type="http://schemas.openxmlformats.org/officeDocument/2006/relationships/hyperlink" Target="http://ru.wikipedia.org/wiki/&#1050;&#1086;&#1088;&#1086;&#1074;&#1072;" TargetMode="External"/><Relationship Id="rId6" Type="http://schemas.openxmlformats.org/officeDocument/2006/relationships/hyperlink" Target="http://ru.wikipedia.org/wiki/&#1057;&#1086;&#1073;&#1072;&#1082;&#1072;" TargetMode="External"/><Relationship Id="rId7" Type="http://schemas.openxmlformats.org/officeDocument/2006/relationships/hyperlink" Target="http://ru.wikipedia.org/wiki/&#1057;&#1091;&#1089;&#1083;&#1080;&#1082;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ru.wikipedia.org/wiki/&#1054;&#1088;&#1077;&#1093;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Rectangle 4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401320" cy="14446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i?id=216919474-08-24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1" descr="i?id=47775472-06-24"/>
          <p:cNvPicPr/>
          <p:nvPr/>
        </p:nvPicPr>
        <p:blipFill>
          <a:blip r:embed="rId3"/>
          <a:stretch/>
        </p:blipFill>
        <p:spPr>
          <a:xfrm>
            <a:off x="4724280" y="1676520"/>
            <a:ext cx="4038840" cy="21333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3" descr="i?id=26910640-13-24"/>
          <p:cNvPicPr/>
          <p:nvPr/>
        </p:nvPicPr>
        <p:blipFill>
          <a:blip r:embed="rId4"/>
          <a:stretch/>
        </p:blipFill>
        <p:spPr>
          <a:xfrm>
            <a:off x="4724280" y="3962520"/>
            <a:ext cx="4038840" cy="2133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380880" y="20570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ердитый недотрога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Живет в глуши лесно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голок очень много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 нитки ни одной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Rectangle 4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401320" cy="145116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e3b30"/>
                </a:solidFill>
                <a:latin typeface="Franklin Gothic Book"/>
              </a:rPr>
              <a:t>   </a:t>
            </a:r>
            <a:br>
              <a:rPr sz="800"/>
            </a:br>
            <a:r>
              <a:rPr b="0" lang="ru-RU" sz="1800" spc="-1" strike="noStrike">
                <a:solidFill>
                  <a:srgbClr val="4e3b30"/>
                </a:solidFill>
                <a:latin typeface="Times New Roman"/>
              </a:rPr>
              <a:t>Ёж ведёт одиночный образ жизни.. Гнездо (диаметром 15—20 см) он выстилает сухими травами, листьями, мхом, древесной трухой. Летом нор не роет, иногда занимает пустые норы грызунов. Активен преимущественно в сумеречное и ночное время. Весной, когда ежи выходят из спячки, они проявляют активность и в дневные часы. Спит ёж, свернувшись в неплотный клубок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</a:rPr>
              <a:t>С наступлением заморозков (ниже 10 °C), накопив жировые запасы, ёж закупоривает вход в нору и впадает в спячку. Питается ёж в основном насекомыми (жуками, уховёртками) и их личинками, кивсяками, слизнями, улитками, дождевыми червями. Особое лакомство для него представляют личинки комаров долгоножек, многоножк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33" name="Picture 8" descr="i?id=37141440-16-24"/>
          <p:cNvPicPr/>
          <p:nvPr/>
        </p:nvPicPr>
        <p:blipFill>
          <a:blip r:embed="rId2"/>
          <a:stretch/>
        </p:blipFill>
        <p:spPr>
          <a:xfrm>
            <a:off x="4800600" y="167652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ньше тигра, больше кошки,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д ушами – кисти-рожки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 виду кроток, но не верь: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рашен в гневе этот зверь!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Rectangle 4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401320" cy="144468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3929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ысь отдает предпочтение глухим темнохвойным лесам,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тайге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, хотя встречается в самых разных насаждениях, включая горные леса; иногда заходит в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лесостепь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и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лесотундру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. Она отлично лазает по деревьям и скалам, хорошо плавае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и обилии пищи рысь живёт оседло, при недостатке — кочует. В сутки она способна проходить до 30 километров. Основу ее рациона составляют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зайцы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. Также она постоянно охотится на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тетеревиных птиц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, мелких грызунов, реже — на небольших копытных, вроде </a:t>
            </a:r>
            <a:r>
              <a:rPr b="0" i="1" lang="ru-RU" sz="1800" spc="-1" strike="noStrike">
                <a:solidFill>
                  <a:srgbClr val="4e3b30"/>
                </a:solidFill>
                <a:latin typeface="Franklin Gothic Book"/>
              </a:rPr>
              <a:t>косули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, кабарги, пятнистого и северного оленей, изредка нападает на домашних кошек и собак, а в лесу — на лисиц, енотовидных собак и других некрупных зверей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39" name="Picture 8" descr="i?id=374930571-20-24"/>
          <p:cNvPicPr/>
          <p:nvPr/>
        </p:nvPicPr>
        <p:blipFill>
          <a:blip r:embed="rId7"/>
          <a:stretch/>
        </p:blipFill>
        <p:spPr>
          <a:xfrm>
            <a:off x="4800600" y="190512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Rectangle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305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2" descr="i?id=387274567-03-24"/>
          <p:cNvPicPr/>
          <p:nvPr/>
        </p:nvPicPr>
        <p:blipFill>
          <a:blip r:embed="rId2"/>
          <a:stretch/>
        </p:blipFill>
        <p:spPr>
          <a:xfrm>
            <a:off x="533520" y="144792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4" descr="i?id=198337984-15-24"/>
          <p:cNvPicPr/>
          <p:nvPr/>
        </p:nvPicPr>
        <p:blipFill>
          <a:blip r:embed="rId3"/>
          <a:stretch/>
        </p:blipFill>
        <p:spPr>
          <a:xfrm>
            <a:off x="5257800" y="1371600"/>
            <a:ext cx="3505320" cy="22096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6" descr="i?id=78588986-22-24"/>
          <p:cNvPicPr/>
          <p:nvPr/>
        </p:nvPicPr>
        <p:blipFill>
          <a:blip r:embed="rId4"/>
          <a:stretch/>
        </p:blipFill>
        <p:spPr>
          <a:xfrm>
            <a:off x="685800" y="3962520"/>
            <a:ext cx="3657600" cy="21333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17"/>
          <p:cNvSpPr/>
          <p:nvPr/>
        </p:nvSpPr>
        <p:spPr>
          <a:xfrm>
            <a:off x="4648320" y="396252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d1f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19" descr="i?id=151340383-17-24"/>
          <p:cNvPicPr/>
          <p:nvPr/>
        </p:nvPicPr>
        <p:blipFill>
          <a:blip r:embed="rId5"/>
          <a:stretch/>
        </p:blipFill>
        <p:spPr>
          <a:xfrm>
            <a:off x="5638680" y="4038480"/>
            <a:ext cx="28195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Rectangle 2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401320" cy="14511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9" descr="рысь"/>
          <p:cNvPicPr/>
          <p:nvPr/>
        </p:nvPicPr>
        <p:blipFill>
          <a:blip r:embed="rId2"/>
          <a:stretch/>
        </p:blipFill>
        <p:spPr>
          <a:xfrm>
            <a:off x="914400" y="190512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1" descr="965525050"/>
          <p:cNvPicPr/>
          <p:nvPr/>
        </p:nvPicPr>
        <p:blipFill>
          <a:blip r:embed="rId3"/>
          <a:stretch/>
        </p:blipFill>
        <p:spPr>
          <a:xfrm>
            <a:off x="5943600" y="1828800"/>
            <a:ext cx="2819520" cy="2610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3" descr="i?id=37141440-16-24"/>
          <p:cNvPicPr/>
          <p:nvPr/>
        </p:nvPicPr>
        <p:blipFill>
          <a:blip r:embed="rId4"/>
          <a:stretch/>
        </p:blipFill>
        <p:spPr>
          <a:xfrm>
            <a:off x="2590920" y="4191120"/>
            <a:ext cx="3047760" cy="2133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ерый, страшный и зубастый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извел переполох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се зверята разбежались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пугал зверят тех..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Rectangle 2" descr=""/>
          <p:cNvPicPr/>
          <p:nvPr/>
        </p:nvPicPr>
        <p:blipFill>
          <a:blip r:embed="rId1"/>
          <a:stretch/>
        </p:blipFill>
        <p:spPr>
          <a:xfrm>
            <a:off x="255600" y="237960"/>
            <a:ext cx="8596440" cy="145116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3929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олк — типичный хищник, добывающий пищу активным поиском и преследованием жертв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снову питания волков составляют копытные животные: в тундре —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северные олени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; в лесной зоне —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лоси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, олени,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косули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, кабаны. Нападают волки и на домашних животных (овец,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коров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, лошадей), в том числе на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собак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. Ловят, особенно одиночные волки, и более мелкую добычу: зайцев,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сусликов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, мышевидных грызунов. Летом волки не упускают случая съесть кладку яиц, птенцов, сидящих на гнёздах или кормящихся на земле тетеревиных, водоплавающих и иных птиц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08" name="Picture 7" descr="i?id=125077554-06-24"/>
          <p:cNvPicPr/>
          <p:nvPr/>
        </p:nvPicPr>
        <p:blipFill>
          <a:blip r:embed="rId8"/>
          <a:stretch/>
        </p:blipFill>
        <p:spPr>
          <a:xfrm>
            <a:off x="4876920" y="18288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837720" y="2133720"/>
            <a:ext cx="8007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Хвост пушистою дугой,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ам знаком зверек такой?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строзубый, темноглазый,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деревьям любит лазать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роит он свой дом в дупле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б зимою жить в тепл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Rectangle 4" descr=""/>
          <p:cNvPicPr/>
          <p:nvPr/>
        </p:nvPicPr>
        <p:blipFill>
          <a:blip r:embed="rId1"/>
          <a:stretch/>
        </p:blipFill>
        <p:spPr>
          <a:xfrm>
            <a:off x="255600" y="237960"/>
            <a:ext cx="8596440" cy="145116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дной из широко известных отличительных особенностей многих белок является их способность запасать на зиму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орехи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. Некоторые виды, орехи закапывают в землю, другие прячут их в дуплах деревьев. Как полагают учёные, плохая память некоторых видов белок, в частности серой, помогает сохранять леса, так как они закапывают орехи в землю и забывают про них, а из проросших семян появляются новые деревья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екоторые виды белок в случае предполагаемой опасности встают на задние лапы, передние подгибают и затем оглядывают окружающую территорию. При обнаружении врага часто издают пронзительный звук, предупреждая других белок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14" name="Picture 8" descr="i?id=80758922-20-24"/>
          <p:cNvPicPr/>
          <p:nvPr/>
        </p:nvPicPr>
        <p:blipFill>
          <a:blip r:embed="rId3"/>
          <a:stretch/>
        </p:blipFill>
        <p:spPr>
          <a:xfrm>
            <a:off x="4876920" y="167652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сех зверей она хитрей,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Шубка рыжая на ней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ышный хвост - ее краса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тот зверь лесной - …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Rectangle 4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30500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426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имой по заснеженной опушке бежит лиса, то и дело останавливается, прислушивается. Это она за мышами охотится, мышкует. Чтобы насытится, ей надо поймать не меньше двадцати мышей. У лисы острый слух.. Весной или в начале лета у лисицы появляются лисята. Лисье семейство большое – до десяти малышей рождается. Всех накормить надо. Тут уж оба родителя без устали носят еду к норе: птичек, зайчат, лягушек, мышей – все, что попадется.. Лиса – хозяйка плохая, грязнуля. В норе и возле норы валяются объедки. Где поест, там и туалет устроит. Осенью все лисы уходят из норы и разбредаются по лесу. Зимой у лисы под любом кустиком дом: свернется клубочком в снегу, прикроет своим пушистым хвостом нос, чтобы не замерз, и спи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723920" y="129492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20" name="Picture 13" descr="i?id=179656467-22-24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2096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7" descr="i?id=340944441-06-24"/>
          <p:cNvPicPr/>
          <p:nvPr/>
        </p:nvPicPr>
        <p:blipFill>
          <a:blip r:embed="rId3"/>
          <a:stretch/>
        </p:blipFill>
        <p:spPr>
          <a:xfrm>
            <a:off x="4724280" y="1295280"/>
            <a:ext cx="4038840" cy="2514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перевалку зверь идет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малину и по мед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юбит сладкое он очень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 когда приходит осень,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езет в яму до весны,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де он спит и видит сны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Rectangle 4" descr=""/>
          <p:cNvPicPr/>
          <p:nvPr/>
        </p:nvPicPr>
        <p:blipFill>
          <a:blip r:embed="rId1"/>
          <a:stretch/>
        </p:blipFill>
        <p:spPr>
          <a:xfrm>
            <a:off x="255600" y="237960"/>
            <a:ext cx="8596440" cy="145116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837720" y="3809520"/>
            <a:ext cx="800748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 наших лесах водится бурый медведь – хозяин леса, самый сильный из зверей. Медведь не привередлив в еде, все ест: и корешки, и улиток, и разных мелких зверей, и птиц. Любит мишка разорить гнездо диких пчел и полакомиться медом. Или найдет в лесу муравейник, любит он и рыбку. Осенью, нагуляв жир, медведь подыскивает себе берлогу. Долго, как заяц, петляет и путает следы, чтобы никто не знал, где он устроился на зиму. Зимует медведица вместе с медвежатами в одной берлоге. Зимой, в январе или в феврале, у старших медвежат появляются младшие братишки, совсем крошечные, величиной с рукавичку. Весной медведи выходят из берлог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26" name="Picture 11" descr="i?id=105123855-04-24"/>
          <p:cNvPicPr/>
          <p:nvPr/>
        </p:nvPicPr>
        <p:blipFill>
          <a:blip r:embed="rId2"/>
          <a:stretch/>
        </p:blipFill>
        <p:spPr>
          <a:xfrm>
            <a:off x="457200" y="13716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3" descr="i?id=141514167-08-24"/>
          <p:cNvPicPr/>
          <p:nvPr/>
        </p:nvPicPr>
        <p:blipFill>
          <a:blip r:embed="rId3"/>
          <a:stretch/>
        </p:blipFill>
        <p:spPr>
          <a:xfrm>
            <a:off x="4876920" y="1447920"/>
            <a:ext cx="4038480" cy="2133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07:33:04Z</dcterms:created>
  <dc:creator>Мама</dc:creator>
  <dc:description/>
  <dc:language>en-US</dc:language>
  <cp:lastModifiedBy>Надежда</cp:lastModifiedBy>
  <dcterms:modified xsi:type="dcterms:W3CDTF">2012-03-22T02:34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