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1BAC-3E31-454E-B6D1-5AE0175D8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4EC3-1A9D-4B49-B7CD-511F4AA03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C0F8-D1A5-45EB-A3CC-F186A3EAD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6352-814F-49A6-8400-7BE683370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4FB1-A36D-454E-B3D2-DE1F10C37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5E72-E2AF-40D9-86C8-80526EE0E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767B-8D3A-4C0C-B63C-4100BBCDD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7CDE-B1A6-4FE9-93FE-DBB922F85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BF9B-AE22-479A-AD2F-7A1395212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3127-BB88-4794-8A1A-642079D8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09A0-01C3-4CE7-AE39-2E55EC8E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442B-101F-4651-B8FC-42B7CB2C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3D618-CFF8-4E9B-A767-A70AA1EDA4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Картинки по запросу фоны для презентации детск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1"/>
          <p:cNvSpPr/>
          <p:nvPr/>
        </p:nvSpPr>
        <p:spPr>
          <a:xfrm>
            <a:off x="3708360" y="2060640"/>
            <a:ext cx="4751280" cy="68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о ребёнка изменило пропорци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 идёт формирование осанки, закладывается походка, привычные позы при сидении, стоянии и т. 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тельно следите за осанкой ребёнка. Особенно во время работы за столом (надо не только показать, но и рассказать, как правильно сид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4" descr="63861171_1284149734_40.png"/>
          <p:cNvPicPr/>
          <p:nvPr/>
        </p:nvPicPr>
        <p:blipFill>
          <a:blip r:embed="rId2"/>
          <a:stretch/>
        </p:blipFill>
        <p:spPr>
          <a:xfrm>
            <a:off x="539640" y="3573360"/>
            <a:ext cx="2664000" cy="304812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4"/>
          <p:cNvSpPr/>
          <p:nvPr/>
        </p:nvSpPr>
        <p:spPr>
          <a:xfrm>
            <a:off x="971640" y="1413000"/>
            <a:ext cx="81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натомо-физиологические особенности развития</a:t>
            </a:r>
            <a:r>
              <a:rPr b="0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5"/>
          <p:cNvSpPr/>
          <p:nvPr/>
        </p:nvSpPr>
        <p:spPr>
          <a:xfrm>
            <a:off x="250920" y="1916280"/>
            <a:ext cx="334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т стал 102 см и более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увеличился на 4-5 см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 стал 16 кг и боле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увеличился на 1-2 к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Заголовок 1"/>
          <p:cNvSpPr/>
          <p:nvPr/>
        </p:nvSpPr>
        <p:spPr>
          <a:xfrm>
            <a:off x="5396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зрастные особенности детей 4-5 л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Картинки по запросу фоны для презентации детские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1010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3" descr="laksiq10.png"/>
          <p:cNvPicPr/>
          <p:nvPr/>
        </p:nvPicPr>
        <p:blipFill>
          <a:blip r:embed="rId2"/>
          <a:stretch/>
        </p:blipFill>
        <p:spPr>
          <a:xfrm>
            <a:off x="0" y="1557360"/>
            <a:ext cx="2879640" cy="287964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4"/>
          <p:cNvSpPr/>
          <p:nvPr/>
        </p:nvSpPr>
        <p:spPr>
          <a:xfrm>
            <a:off x="179280" y="0"/>
            <a:ext cx="871380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 хорошо развиты органы зрения. Однако легко может развиться  близорукость. При рассматривании иллюстраций за плохо освещенным столом, при работе с различными мелкими предметами ребенок напрягает зрение. Мышцы глаза при этом меняют форму хрусталика. Зрение портиться.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ледите за тем чтоб ребенок читал и рисовал при хорошем освещ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5"/>
          <p:cNvSpPr/>
          <p:nvPr/>
        </p:nvSpPr>
        <p:spPr>
          <a:xfrm>
            <a:off x="3203640" y="1844640"/>
            <a:ext cx="5616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ребенка 4—5 лет продолжается процесс развития органа слуха. Барабанная перепонка нежна и легкоранима, очень чувствительна к шуму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жизнь детей постоянно протекает на фоне шума , наступает стойкое снижение слуха и утомл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6"/>
          <p:cNvSpPr/>
          <p:nvPr/>
        </p:nvSpPr>
        <p:spPr>
          <a:xfrm>
            <a:off x="1258920" y="4581360"/>
            <a:ext cx="309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обходимо приучать детей правильно пользоваться игрушками, осторожно переносить стулья, говорить негромк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7" descr="0_a2e8b_b311bd39_XL.png"/>
          <p:cNvPicPr/>
          <p:nvPr/>
        </p:nvPicPr>
        <p:blipFill>
          <a:blip r:embed="rId3"/>
          <a:stretch/>
        </p:blipFill>
        <p:spPr>
          <a:xfrm>
            <a:off x="5003640" y="3716280"/>
            <a:ext cx="31053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Картинки по запросу фоны для презентации детские"/>
          <p:cNvPicPr/>
          <p:nvPr/>
        </p:nvPicPr>
        <p:blipFill>
          <a:blip r:embed="rId1"/>
          <a:stretch/>
        </p:blipFill>
        <p:spPr>
          <a:xfrm>
            <a:off x="-130320" y="0"/>
            <a:ext cx="927432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2"/>
          <p:cNvSpPr/>
          <p:nvPr/>
        </p:nvSpPr>
        <p:spPr>
          <a:xfrm>
            <a:off x="12960" y="189000"/>
            <a:ext cx="42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витие лич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3"/>
          <p:cNvSpPr/>
          <p:nvPr/>
        </p:nvSpPr>
        <p:spPr>
          <a:xfrm>
            <a:off x="250920" y="981000"/>
            <a:ext cx="3313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ёт бурный расцвет фантазии, воображени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но на пятом году жизни дети начинают рассказывать невероятные истории о том, что сами они участвовали в каких-то невероятных событиях, хотя ничего подобного не было. Но ни в коем случае нельзя уличать ребёнка во лж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Похожее изображение"/>
          <p:cNvPicPr/>
          <p:nvPr/>
        </p:nvPicPr>
        <p:blipFill>
          <a:blip r:embed="rId2"/>
          <a:stretch/>
        </p:blipFill>
        <p:spPr>
          <a:xfrm>
            <a:off x="3773520" y="4797360"/>
            <a:ext cx="2584440" cy="206712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5"/>
          <p:cNvSpPr/>
          <p:nvPr/>
        </p:nvSpPr>
        <p:spPr>
          <a:xfrm>
            <a:off x="0" y="4149720"/>
            <a:ext cx="3924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обные фантазии не являются , правильнее называть их выдумками. Источником таких фантазий могут быть яркие сны, стремление поднять свой авторитет среди сверстников или стремление справиться с какими-то страх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6"/>
          <p:cNvSpPr/>
          <p:nvPr/>
        </p:nvSpPr>
        <p:spPr>
          <a:xfrm>
            <a:off x="4284720" y="189000"/>
            <a:ext cx="4859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ается высокий познавательный интерес. Дети пяти лет очень активно воспринимают всё, что их окружает, очень чутки к искренности вашего отношения к тому или иному предмету или явлению. Если в глубине души вы не любите животных, вам никогда словами не удастся убедить детей в обрат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9"/>
          <p:cNvSpPr/>
          <p:nvPr/>
        </p:nvSpPr>
        <p:spPr>
          <a:xfrm>
            <a:off x="3780000" y="2637000"/>
            <a:ext cx="47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амом начале пути в неизведанное не надо знакомить детей с тем, что не вызывает симпатии у вас сами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знакомстве детей с новыми явлениями в этом году следует ограничиться предметами, которые существуют физичес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Похожее изображение"/>
          <p:cNvPicPr/>
          <p:nvPr/>
        </p:nvPicPr>
        <p:blipFill>
          <a:blip r:embed="rId3"/>
          <a:stretch/>
        </p:blipFill>
        <p:spPr>
          <a:xfrm>
            <a:off x="6626160" y="4145040"/>
            <a:ext cx="252432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Картинки по запросу фоны для презентации детские"/>
          <p:cNvPicPr/>
          <p:nvPr/>
        </p:nvPicPr>
        <p:blipFill>
          <a:blip r:embed="rId1"/>
          <a:stretch/>
        </p:blipFill>
        <p:spPr>
          <a:xfrm>
            <a:off x="-130320" y="0"/>
            <a:ext cx="927432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2"/>
          <p:cNvSpPr/>
          <p:nvPr/>
        </p:nvSpPr>
        <p:spPr>
          <a:xfrm>
            <a:off x="468360" y="476280"/>
            <a:ext cx="83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пробуют строить и первые умозаключ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3"/>
          <p:cNvSpPr/>
          <p:nvPr/>
        </p:nvSpPr>
        <p:spPr>
          <a:xfrm>
            <a:off x="179280" y="1225440"/>
            <a:ext cx="4248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имательно выслушивайте все рассуждения ребёнка и не торопитесь вносить в них свои корректив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этом возрасте важна не правильность вывода, а поддержка самого стремления ребёнка рассуждать и дума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являйте серьёзное уважение к его интеллектуальному труду. Шутки и насмешливый критический тон при обсуждении мыслей ребёнка недопусти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Картинки по запросу картинка ребенок рассуждает"/>
          <p:cNvPicPr/>
          <p:nvPr/>
        </p:nvPicPr>
        <p:blipFill>
          <a:blip r:embed="rId2"/>
          <a:stretch/>
        </p:blipFill>
        <p:spPr>
          <a:xfrm>
            <a:off x="3564000" y="2852640"/>
            <a:ext cx="590544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Картинки по запросу фоны для презентации детск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2"/>
          <p:cNvSpPr/>
          <p:nvPr/>
        </p:nvSpPr>
        <p:spPr>
          <a:xfrm>
            <a:off x="250920" y="18900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ёнок активно осваивает операции счёта в пределах первого десятк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инство детей начинают проявлять интерес к абстрактным символам – буквам и цифр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Картинки по запросу картинка ребенок считает"/>
          <p:cNvPicPr/>
          <p:nvPr/>
        </p:nvPicPr>
        <p:blipFill>
          <a:blip r:embed="rId2"/>
          <a:stretch/>
        </p:blipFill>
        <p:spPr>
          <a:xfrm>
            <a:off x="0" y="2924280"/>
            <a:ext cx="2232000" cy="235728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4"/>
          <p:cNvSpPr/>
          <p:nvPr/>
        </p:nvSpPr>
        <p:spPr>
          <a:xfrm>
            <a:off x="4788000" y="189000"/>
            <a:ext cx="4141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ёнок усваивает родную речь так называемым «материнским способом», подражая близким, поэтому так важно, чтобы он слышал не только правильную, но и вежливую речь, соответствующую правилам речевого этик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5"/>
          <p:cNvSpPr/>
          <p:nvPr/>
        </p:nvSpPr>
        <p:spPr>
          <a:xfrm>
            <a:off x="2124000" y="2708280"/>
            <a:ext cx="2664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избавить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ёнка от грубостей, исключить из семейного обихода бранные, тем более нецензурные сл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щаетесь к своему ребёнку не в форме приказания, а просьбы и употребляете слово «пожалуйста», благодарите 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Картинки по запросу картинка ребенок разговаривает"/>
          <p:cNvPicPr/>
          <p:nvPr/>
        </p:nvPicPr>
        <p:blipFill>
          <a:blip r:embed="rId3"/>
          <a:stretch/>
        </p:blipFill>
        <p:spPr>
          <a:xfrm>
            <a:off x="5219640" y="4013280"/>
            <a:ext cx="360036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Картинки по запросу фоны для презентации детские"/>
          <p:cNvPicPr/>
          <p:nvPr/>
        </p:nvPicPr>
        <p:blipFill>
          <a:blip r:embed="rId1"/>
          <a:stretch/>
        </p:blipFill>
        <p:spPr>
          <a:xfrm>
            <a:off x="0" y="0"/>
            <a:ext cx="927432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2"/>
          <p:cNvSpPr/>
          <p:nvPr/>
        </p:nvSpPr>
        <p:spPr>
          <a:xfrm>
            <a:off x="539640" y="476280"/>
            <a:ext cx="860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рстник становится интересен как партнёр по играм. Ребёнок страдает, если никто не хочет с ним игра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3" descr="63902463_1284237646_12.png"/>
          <p:cNvPicPr/>
          <p:nvPr/>
        </p:nvPicPr>
        <p:blipFill>
          <a:blip r:embed="rId2"/>
          <a:stretch/>
        </p:blipFill>
        <p:spPr>
          <a:xfrm>
            <a:off x="2843280" y="2565360"/>
            <a:ext cx="5391000" cy="392436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4"/>
          <p:cNvSpPr/>
          <p:nvPr/>
        </p:nvSpPr>
        <p:spPr>
          <a:xfrm>
            <a:off x="324000" y="1989000"/>
            <a:ext cx="3311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играют небольшими группами по 2-5 человек. Иногда эти группы становятся постоянными по составу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Картинки по запросу фоны для презентации детские"/>
          <p:cNvPicPr/>
          <p:nvPr/>
        </p:nvPicPr>
        <p:blipFill>
          <a:blip r:embed="rId1"/>
          <a:stretch/>
        </p:blipFill>
        <p:spPr>
          <a:xfrm>
            <a:off x="0" y="0"/>
            <a:ext cx="927432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2"/>
          <p:cNvSpPr/>
          <p:nvPr/>
        </p:nvSpPr>
        <p:spPr>
          <a:xfrm>
            <a:off x="395280" y="333360"/>
            <a:ext cx="835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ые правила культурного поведения, которые должны быть сформированы у дошкольни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3" descr="меню 2.png"/>
          <p:cNvPicPr/>
          <p:nvPr/>
        </p:nvPicPr>
        <p:blipFill>
          <a:blip r:embed="rId2"/>
          <a:stretch/>
        </p:blipFill>
        <p:spPr>
          <a:xfrm>
            <a:off x="1908000" y="1628640"/>
            <a:ext cx="5224680" cy="50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Картинки по запросу фоны для презентации детские"/>
          <p:cNvPicPr/>
          <p:nvPr/>
        </p:nvPicPr>
        <p:blipFill>
          <a:blip r:embed="rId1"/>
          <a:stretch/>
        </p:blipFill>
        <p:spPr>
          <a:xfrm>
            <a:off x="0" y="0"/>
            <a:ext cx="927432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2"/>
          <p:cNvSpPr/>
          <p:nvPr/>
        </p:nvSpPr>
        <p:spPr>
          <a:xfrm>
            <a:off x="395280" y="620640"/>
            <a:ext cx="874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мение считаться в игре с желаниями и намерениями других детей, играть вместе общими игрушками, уступать.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Регулярно участвовать в труде, в умении приготовить столы к завтраку, обеду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блюдению правил культурного поведения в общественных местах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 детей должна быть воспитана привычка всегда говорить правд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ажной задачей, приобретающей на этой возрастной ступени особое значение, является формирование взаимоотношений с взрослыми и сверстниками: вежливое внимательное отношение к взрослым, умение дружно играть с детьми, защищать слабого, обиженного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обходимо научить детей поддерживать порядок в комнате. В игровом уголке. Правило: «Каждой вещи – своё место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0T07:49:42Z</dcterms:created>
  <dc:creator>Mamochka</dc:creator>
  <dc:description/>
  <dc:language>en-US</dc:language>
  <cp:lastModifiedBy>Mamochka</cp:lastModifiedBy>
  <dcterms:modified xsi:type="dcterms:W3CDTF">2016-11-20T11:08:36Z</dcterms:modified>
  <cp:revision>17</cp:revision>
  <dc:subject/>
  <dc:title>Возрастные особенности детей 4-5 лет</dc:title>
</cp:coreProperties>
</file>