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1.wmf" ContentType="image/x-wmf"/>
  <Override PartName="/ppt/media/image26.png" ContentType="image/pn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7.gif" ContentType="image/gif"/>
  <Override PartName="/ppt/media/image1.png" ContentType="image/png"/>
  <Override PartName="/ppt/media/image25.jpeg" ContentType="image/jpeg"/>
  <Override PartName="/ppt/media/image22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wmf" ContentType="image/x-wmf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5F5-5639-4BFD-A738-EDF970D7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F790-7EC1-4278-A06D-13CA0B49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C1FD-A525-4C29-B4E4-76F2AB99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FE2-69D6-4771-906C-761F84DC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0393-1264-48B6-AA11-20BF5852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3A28-6A30-4758-94BA-38989E91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EA1E-06A3-4D99-8BEC-68916503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2FBA-B45F-4CD6-BC95-5CCF33D8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3651-BEEA-45FE-8468-148DCCCC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8C5E-23EE-4A75-96F9-03C212E1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53DA-5F56-48B4-9041-B07138CB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C6E0-AD0C-4D54-A69E-3178CFE2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B9C9-7307-4984-BDA0-C3828BEA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C509-401B-4EE3-BB8E-A3F36F02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B2ED-A0F0-45C7-A042-A46C19E9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4718-9E20-4139-BE72-A5DD8303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B0D7-52F4-4D6D-A8B3-B5564881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0BDF-B129-4DF4-BDC7-FF10AB17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E515-256A-4AC0-AF00-B6DFF12A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7B8-F1C6-4BD3-851B-16C9603B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C6AD-6A60-49A4-8625-1EDEAC63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DE6-74D3-4843-905E-D9F39974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6D5-8282-40A7-B4DA-A818B6AB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8CB-975C-4C31-9132-EEC97AF0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0AF8-1EAD-4A70-B809-E78D272EE0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4BF9-C01C-4AFA-AC8A-3D531A1DC27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gif"/><Relationship Id="rId5" Type="http://schemas.openxmlformats.org/officeDocument/2006/relationships/image" Target="../media/image12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4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0" lang="ru-RU" sz="4800" spc="-1" strike="noStrike">
                <a:solidFill>
                  <a:srgbClr val="ff0066"/>
                </a:solidFill>
                <a:latin typeface="Arial Black"/>
              </a:rPr>
              <a:t>Разговор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 Black"/>
              </a:rPr>
              <a:t>о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 Black"/>
              </a:rPr>
              <a:t>вредных привычка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7086600" y="762120"/>
            <a:ext cx="1727280" cy="165708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5"/>
          <p:cNvGrpSpPr/>
          <p:nvPr/>
        </p:nvGrpSpPr>
        <p:grpSpPr>
          <a:xfrm>
            <a:off x="457200" y="228600"/>
            <a:ext cx="2664000" cy="2592360"/>
            <a:chOff x="457200" y="228600"/>
            <a:chExt cx="2664000" cy="2592360"/>
          </a:xfrm>
        </p:grpSpPr>
        <p:sp>
          <p:nvSpPr>
            <p:cNvPr id="101" name="AutoShape 6"/>
            <p:cNvSpPr/>
            <p:nvPr/>
          </p:nvSpPr>
          <p:spPr>
            <a:xfrm>
              <a:off x="457200" y="228600"/>
              <a:ext cx="2664000" cy="2592360"/>
            </a:xfrm>
            <a:prstGeom prst="cloudCallout">
              <a:avLst>
                <a:gd name="adj1" fmla="val 19763"/>
                <a:gd name="adj2" fmla="val 60175"/>
              </a:avLst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Picture 7" descr="j0337286"/>
            <p:cNvPicPr/>
            <p:nvPr/>
          </p:nvPicPr>
          <p:blipFill>
            <a:blip r:embed="rId2"/>
            <a:stretch/>
          </p:blipFill>
          <p:spPr>
            <a:xfrm>
              <a:off x="723960" y="826560"/>
              <a:ext cx="1933200" cy="144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Picture 8" descr="5147"/>
          <p:cNvPicPr/>
          <p:nvPr/>
        </p:nvPicPr>
        <p:blipFill>
          <a:blip r:embed="rId3"/>
          <a:stretch/>
        </p:blipFill>
        <p:spPr>
          <a:xfrm>
            <a:off x="457200" y="4800600"/>
            <a:ext cx="1700280" cy="1859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4"/>
          <a:stretch/>
        </p:blipFill>
        <p:spPr>
          <a:xfrm>
            <a:off x="7543800" y="4800600"/>
            <a:ext cx="1440000" cy="187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70b20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Наркотики – это гибель для человечест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17"/>
          <p:cNvPicPr/>
          <p:nvPr/>
        </p:nvPicPr>
        <p:blipFill>
          <a:blip r:embed="rId1"/>
          <a:stretch/>
        </p:blipFill>
        <p:spPr>
          <a:xfrm>
            <a:off x="914400" y="3733920"/>
            <a:ext cx="1828800" cy="175248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5"/>
          <p:cNvGrpSpPr/>
          <p:nvPr/>
        </p:nvGrpSpPr>
        <p:grpSpPr>
          <a:xfrm>
            <a:off x="4572000" y="2590920"/>
            <a:ext cx="4114800" cy="3581280"/>
            <a:chOff x="4572000" y="2590920"/>
            <a:chExt cx="4114800" cy="3581280"/>
          </a:xfrm>
        </p:grpSpPr>
        <p:sp>
          <p:nvSpPr>
            <p:cNvPr id="155" name="AutoShape 6"/>
            <p:cNvSpPr/>
            <p:nvPr/>
          </p:nvSpPr>
          <p:spPr>
            <a:xfrm>
              <a:off x="4572000" y="2590920"/>
              <a:ext cx="4114800" cy="3581280"/>
            </a:xfrm>
            <a:prstGeom prst="cloudCallout">
              <a:avLst>
                <a:gd name="adj1" fmla="val 19763"/>
                <a:gd name="adj2" fmla="val 60175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6" name="Picture 7" descr="j0337286"/>
            <p:cNvPicPr/>
            <p:nvPr/>
          </p:nvPicPr>
          <p:blipFill>
            <a:blip r:embed="rId2"/>
            <a:stretch/>
          </p:blipFill>
          <p:spPr>
            <a:xfrm>
              <a:off x="4984200" y="3416760"/>
              <a:ext cx="2985840" cy="199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оксиком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8" name="Picture 4" descr="5147"/>
          <p:cNvPicPr/>
          <p:nvPr/>
        </p:nvPicPr>
        <p:blipFill>
          <a:blip r:embed="rId1"/>
          <a:stretch/>
        </p:blipFill>
        <p:spPr>
          <a:xfrm>
            <a:off x="6372360" y="1268280"/>
            <a:ext cx="1699920" cy="1859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1684"/>
          <p:cNvPicPr/>
          <p:nvPr/>
        </p:nvPicPr>
        <p:blipFill>
          <a:blip r:embed="rId2"/>
          <a:stretch/>
        </p:blipFill>
        <p:spPr>
          <a:xfrm>
            <a:off x="684360" y="4508640"/>
            <a:ext cx="1728720" cy="1742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1617"/>
          <p:cNvPicPr/>
          <p:nvPr/>
        </p:nvPicPr>
        <p:blipFill>
          <a:blip r:embed="rId3"/>
          <a:stretch/>
        </p:blipFill>
        <p:spPr>
          <a:xfrm>
            <a:off x="3276720" y="2349360"/>
            <a:ext cx="1944720" cy="2016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userinfo"/>
          <p:cNvPicPr/>
          <p:nvPr/>
        </p:nvPicPr>
        <p:blipFill>
          <a:blip r:embed="rId4"/>
          <a:stretch/>
        </p:blipFill>
        <p:spPr>
          <a:xfrm>
            <a:off x="4491000" y="3348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33"/>
          <p:cNvPicPr/>
          <p:nvPr/>
        </p:nvPicPr>
        <p:blipFill>
          <a:blip r:embed="rId5"/>
          <a:stretch/>
        </p:blipFill>
        <p:spPr>
          <a:xfrm>
            <a:off x="5410080" y="3962520"/>
            <a:ext cx="2273400" cy="228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32"/>
          <p:cNvPicPr/>
          <p:nvPr/>
        </p:nvPicPr>
        <p:blipFill>
          <a:blip r:embed="rId6"/>
          <a:stretch/>
        </p:blipFill>
        <p:spPr>
          <a:xfrm>
            <a:off x="533520" y="1828800"/>
            <a:ext cx="2006640" cy="19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70b20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Токсикомания – это яд для здоровья человека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33"/>
          <p:cNvPicPr/>
          <p:nvPr/>
        </p:nvPicPr>
        <p:blipFill>
          <a:blip r:embed="rId1"/>
          <a:stretch/>
        </p:blipFill>
        <p:spPr>
          <a:xfrm>
            <a:off x="5410080" y="3962520"/>
            <a:ext cx="227340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32"/>
          <p:cNvPicPr/>
          <p:nvPr/>
        </p:nvPicPr>
        <p:blipFill>
          <a:blip r:embed="rId2"/>
          <a:stretch/>
        </p:blipFill>
        <p:spPr>
          <a:xfrm>
            <a:off x="990720" y="3733920"/>
            <a:ext cx="2006640" cy="190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Девять заповедей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четкий режим дн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свежий воздух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больше смех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физическая активнос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) правильное питани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) не пить, не кури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) личная гигиен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) любовь к себе и друг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) занятия по душ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Разрешалки от вредной привычки :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70b20"/>
                </a:solidFill>
                <a:latin typeface="Arial Black"/>
              </a:rPr>
              <a:t>Употреблять наркотические  и токсические средства , алкоголь, курить -  можно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Если ты хочешь прожить короткую жизнь 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Если хочешь отставать в учебе 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Если хочешь подхватить ВИЧ – инфекци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Если мечтаешь оставить после себя  больное потомство 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Если ты хочешь , чтобы твои дети родились уродами 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Если ты хочешь , чтобы от тебя отказались родные и близкие 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Если ты хочешь , чтобы у тебя была нарушена ориентация в пространстве 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Если ты хочешь пронизывающую дрожь и ослабевшее тело 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Если ты хочешь иметь лицо « застывшей маски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Если ты хочешь , чтобы тебя мучили  «ломк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70b20"/>
                </a:solidFill>
                <a:latin typeface="Arial Black"/>
              </a:rPr>
              <a:t>Начать легко . Бросить – не тут-то было 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70b20"/>
                </a:solidFill>
                <a:latin typeface="Arial Black"/>
              </a:rPr>
              <a:t>Подумай над этим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70b20"/>
                </a:solidFill>
                <a:latin typeface="Arial Black"/>
              </a:rPr>
              <a:t>Домашнее зад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Сочинить сказку 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«Путешествие в страну вредных привычек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лезные привыч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" y="1904760"/>
            <a:ext cx="5867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</a:rPr>
              <a:t>Привычки , способствую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</a:rPr>
              <a:t>сохранению   здоровья 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</a:rPr>
              <a:t>считаются    полезными.</a:t>
            </a:r>
            <a:br>
              <a:rPr sz="2400"/>
            </a:br>
            <a:br>
              <a:rPr sz="2000"/>
            </a:br>
            <a:r>
              <a:rPr b="0" lang="ru-RU" sz="2400" spc="-1" strike="noStrike">
                <a:solidFill>
                  <a:srgbClr val="cc00ff"/>
                </a:solidFill>
                <a:latin typeface="Arial Black"/>
              </a:rPr>
              <a:t>Полезные привычки :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УМЫВ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чистить зубы 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облюдать режим дн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пать при открыт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форточке и др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7315200" y="457200"/>
            <a:ext cx="1506600" cy="2590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2"/>
          <a:stretch/>
        </p:blipFill>
        <p:spPr>
          <a:xfrm>
            <a:off x="5410080" y="3352680"/>
            <a:ext cx="2514600" cy="304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редные привычки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880" y="1905120"/>
            <a:ext cx="438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 Black"/>
              </a:rPr>
              <a:t>Привычки, наносящие вред здоровью, называются вредными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 Black"/>
              </a:rPr>
              <a:t>Вредные привычки 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есть много сладостей , долго сидеть у компьютера и телевизора , читать лёжа,  разговаривать во время еды и друг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6481800" y="533520"/>
            <a:ext cx="2662200" cy="2019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176560" cy="2019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is"/>
          <p:cNvPicPr/>
          <p:nvPr/>
        </p:nvPicPr>
        <p:blipFill>
          <a:blip r:embed="rId3"/>
          <a:stretch/>
        </p:blipFill>
        <p:spPr>
          <a:xfrm>
            <a:off x="4343400" y="2362320"/>
            <a:ext cx="1981080" cy="175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308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иболее опасно влияют на здоровье человека  вредные привычки 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927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лкого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ур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оксиком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13"/>
          <p:cNvGrpSpPr/>
          <p:nvPr/>
        </p:nvGrpSpPr>
        <p:grpSpPr>
          <a:xfrm>
            <a:off x="6518160" y="1905120"/>
            <a:ext cx="2625840" cy="2798640"/>
            <a:chOff x="6518160" y="1905120"/>
            <a:chExt cx="2625840" cy="2798640"/>
          </a:xfrm>
        </p:grpSpPr>
        <p:sp>
          <p:nvSpPr>
            <p:cNvPr id="117" name="AutoShape 14"/>
            <p:cNvSpPr/>
            <p:nvPr/>
          </p:nvSpPr>
          <p:spPr>
            <a:xfrm>
              <a:off x="6518160" y="1905120"/>
              <a:ext cx="2625840" cy="2798640"/>
            </a:xfrm>
            <a:prstGeom prst="cloudCallout">
              <a:avLst>
                <a:gd name="adj1" fmla="val 19763"/>
                <a:gd name="adj2" fmla="val 60175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8" name="Picture 15" descr="j0337286"/>
            <p:cNvPicPr/>
            <p:nvPr/>
          </p:nvPicPr>
          <p:blipFill>
            <a:blip r:embed="rId1"/>
            <a:stretch/>
          </p:blipFill>
          <p:spPr>
            <a:xfrm>
              <a:off x="6780960" y="2550600"/>
              <a:ext cx="1905480" cy="1560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16" descr="HH00887_"/>
          <p:cNvPicPr/>
          <p:nvPr/>
        </p:nvPicPr>
        <p:blipFill>
          <a:blip r:embed="rId2"/>
          <a:stretch/>
        </p:blipFill>
        <p:spPr>
          <a:xfrm>
            <a:off x="4572000" y="2286000"/>
            <a:ext cx="101124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3"/>
          <a:stretch/>
        </p:blipFill>
        <p:spPr>
          <a:xfrm>
            <a:off x="5334120" y="4419720"/>
            <a:ext cx="1523880" cy="1866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" descr="33"/>
          <p:cNvPicPr/>
          <p:nvPr/>
        </p:nvPicPr>
        <p:blipFill>
          <a:blip r:embed="rId4"/>
          <a:stretch/>
        </p:blipFill>
        <p:spPr>
          <a:xfrm>
            <a:off x="7391520" y="4724280"/>
            <a:ext cx="1434960" cy="143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1440" y="1219320"/>
            <a:ext cx="8300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HH00887_"/>
          <p:cNvPicPr/>
          <p:nvPr/>
        </p:nvPicPr>
        <p:blipFill>
          <a:blip r:embed="rId1"/>
          <a:stretch/>
        </p:blipFill>
        <p:spPr>
          <a:xfrm>
            <a:off x="7093080" y="1052640"/>
            <a:ext cx="1011240" cy="158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1441440" cy="1440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HM00146_"/>
          <p:cNvPicPr/>
          <p:nvPr/>
        </p:nvPicPr>
        <p:blipFill>
          <a:blip r:embed="rId3"/>
          <a:stretch/>
        </p:blipFill>
        <p:spPr>
          <a:xfrm>
            <a:off x="6872400" y="3795840"/>
            <a:ext cx="1825560" cy="12729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3348000" y="476280"/>
            <a:ext cx="30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buClr>
                <a:srgbClr val="99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 Black"/>
              </a:rPr>
              <a:t>Кур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684360" y="3500280"/>
            <a:ext cx="2100240" cy="2114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5"/>
          <a:stretch/>
        </p:blipFill>
        <p:spPr>
          <a:xfrm>
            <a:off x="3348000" y="141300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25"/>
          <p:cNvPicPr/>
          <p:nvPr/>
        </p:nvPicPr>
        <p:blipFill>
          <a:blip r:embed="rId6"/>
          <a:stretch/>
        </p:blipFill>
        <p:spPr>
          <a:xfrm>
            <a:off x="4495680" y="5029200"/>
            <a:ext cx="1779840" cy="1676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e70b20"/>
                </a:solidFill>
                <a:latin typeface="Arial Black"/>
              </a:rPr>
              <a:t>Вывод :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Дышать табачным дымом опасно для вашего здоровь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1752480" y="4267080"/>
            <a:ext cx="1441440" cy="1440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6400800" y="4343400"/>
            <a:ext cx="210024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ffffb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лкоголь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3809880" y="1295280"/>
            <a:ext cx="1440000" cy="1871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781680" y="1752480"/>
            <a:ext cx="741600" cy="122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29"/>
          <p:cNvPicPr/>
          <p:nvPr/>
        </p:nvPicPr>
        <p:blipFill>
          <a:blip r:embed="rId3"/>
          <a:stretch/>
        </p:blipFill>
        <p:spPr>
          <a:xfrm>
            <a:off x="1066680" y="3809880"/>
            <a:ext cx="2667240" cy="2667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30"/>
          <p:cNvPicPr/>
          <p:nvPr/>
        </p:nvPicPr>
        <p:blipFill>
          <a:blip r:embed="rId4"/>
          <a:stretch/>
        </p:blipFill>
        <p:spPr>
          <a:xfrm>
            <a:off x="5791320" y="3581280"/>
            <a:ext cx="2152440" cy="2971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31"/>
          <p:cNvPicPr/>
          <p:nvPr/>
        </p:nvPicPr>
        <p:blipFill>
          <a:blip r:embed="rId5"/>
          <a:stretch/>
        </p:blipFill>
        <p:spPr>
          <a:xfrm>
            <a:off x="762120" y="1066680"/>
            <a:ext cx="1981080" cy="21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70b20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Алкоголь опасен для вашего здоровья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29"/>
          <p:cNvPicPr/>
          <p:nvPr/>
        </p:nvPicPr>
        <p:blipFill>
          <a:blip r:embed="rId1"/>
          <a:stretch/>
        </p:blipFill>
        <p:spPr>
          <a:xfrm>
            <a:off x="1066680" y="3809880"/>
            <a:ext cx="2667240" cy="2667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30"/>
          <p:cNvPicPr/>
          <p:nvPr/>
        </p:nvPicPr>
        <p:blipFill>
          <a:blip r:embed="rId2"/>
          <a:stretch/>
        </p:blipFill>
        <p:spPr>
          <a:xfrm>
            <a:off x="5791320" y="3581280"/>
            <a:ext cx="2152440" cy="297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 Black"/>
              </a:rPr>
              <a:t>Нарко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2895480" y="1752480"/>
            <a:ext cx="5040360" cy="4680000"/>
            <a:chOff x="2895480" y="1752480"/>
            <a:chExt cx="5040360" cy="4680000"/>
          </a:xfrm>
        </p:grpSpPr>
        <p:sp>
          <p:nvSpPr>
            <p:cNvPr id="146" name="AutoShape 5"/>
            <p:cNvSpPr/>
            <p:nvPr/>
          </p:nvSpPr>
          <p:spPr>
            <a:xfrm>
              <a:off x="2895480" y="1752480"/>
              <a:ext cx="5040360" cy="4680000"/>
            </a:xfrm>
            <a:prstGeom prst="cloudCallout">
              <a:avLst>
                <a:gd name="adj1" fmla="val 19763"/>
                <a:gd name="adj2" fmla="val 60175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7" name="Picture 6" descr="j0337286"/>
            <p:cNvPicPr/>
            <p:nvPr/>
          </p:nvPicPr>
          <p:blipFill>
            <a:blip r:embed="rId1"/>
            <a:stretch/>
          </p:blipFill>
          <p:spPr>
            <a:xfrm>
              <a:off x="3400560" y="2832120"/>
              <a:ext cx="3657600" cy="261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Picture 7" descr="5638"/>
          <p:cNvPicPr/>
          <p:nvPr/>
        </p:nvPicPr>
        <p:blipFill>
          <a:blip r:embed="rId2"/>
          <a:stretch/>
        </p:blipFill>
        <p:spPr>
          <a:xfrm>
            <a:off x="7010280" y="228600"/>
            <a:ext cx="1729080" cy="2232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nark8"/>
          <p:cNvPicPr/>
          <p:nvPr/>
        </p:nvPicPr>
        <p:blipFill>
          <a:blip r:embed="rId3"/>
          <a:stretch/>
        </p:blipFill>
        <p:spPr>
          <a:xfrm>
            <a:off x="250920" y="4149720"/>
            <a:ext cx="2297160" cy="1778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17"/>
          <p:cNvPicPr/>
          <p:nvPr/>
        </p:nvPicPr>
        <p:blipFill>
          <a:blip r:embed="rId4"/>
          <a:stretch/>
        </p:blipFill>
        <p:spPr>
          <a:xfrm>
            <a:off x="762120" y="14479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DNA7 X86</cp:lastModifiedBy>
  <dcterms:modified xsi:type="dcterms:W3CDTF">2016-11-20T12:37:52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