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1318-8407-430E-9E2A-596F080351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9B6B-1275-4B40-BB93-D7608BDD07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8A46-28D0-42E6-88DA-9AD6D5321F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B186-6802-4397-9DBF-770BCC89E5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87D8-657F-4196-B5BA-AD28B166D0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8BB4-6DDF-4389-AF77-E4FF179FC0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65E2-8983-4166-B732-509D587A01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9A75-1E4F-43BA-ADE4-13815179E4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9641-D2FF-4FC0-8F3E-3DC615B840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9234-3A77-4EBD-808E-1B500FF415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1F06-1205-4405-965C-7BB114CD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8B65-A60F-4935-BA02-C58821FE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F154-E280-4FF0-B52E-F3A964DD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7799-103C-42EE-B571-167E6600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533C-5997-4538-B332-A15DB526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86B0-214B-43DB-B08F-D438AE12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F601-07F5-404E-B5DD-FDED4941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286F-C148-4826-9CAA-A405A56D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2D8-EC8D-4B07-A1DB-0747109C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6B32-297B-4D8B-AE20-3C536D89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BC7E-A401-4823-83E7-42C7394C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6FAB-2332-4B81-A52B-5F5819AA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FFF5-B685-4103-83CD-BABFC783DC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2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5.png"/><Relationship Id="rId6" Type="http://schemas.openxmlformats.org/officeDocument/2006/relationships/image" Target="../media/image8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2.png"/><Relationship Id="rId3" Type="http://schemas.openxmlformats.org/officeDocument/2006/relationships/image" Target="../media/image26.png"/><Relationship Id="rId4" Type="http://schemas.openxmlformats.org/officeDocument/2006/relationships/image" Target="../media/image23.png"/><Relationship Id="rId5" Type="http://schemas.openxmlformats.org/officeDocument/2006/relationships/image" Target="../media/image29.png"/><Relationship Id="rId6" Type="http://schemas.openxmlformats.org/officeDocument/2006/relationships/image" Target="../media/image8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image" Target="../media/image17.png"/><Relationship Id="rId5" Type="http://schemas.openxmlformats.org/officeDocument/2006/relationships/image" Target="../media/image14.png"/><Relationship Id="rId6" Type="http://schemas.openxmlformats.org/officeDocument/2006/relationships/image" Target="../media/image8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8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2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21.png"/><Relationship Id="rId6" Type="http://schemas.openxmlformats.org/officeDocument/2006/relationships/image" Target="../media/image8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2.png"/><Relationship Id="rId3" Type="http://schemas.openxmlformats.org/officeDocument/2006/relationships/image" Target="../media/image1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8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836280"/>
            <a:ext cx="717552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Готовимся к ЕГЭ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адание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ttp://ellada.ru/wp-content/uploads/2016/03/lsDoRyQoUmo-1.jpg"/>
          <p:cNvPicPr/>
          <p:nvPr/>
        </p:nvPicPr>
        <p:blipFill>
          <a:blip r:embed="rId1"/>
          <a:stretch/>
        </p:blipFill>
        <p:spPr>
          <a:xfrm>
            <a:off x="3995640" y="393372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Скругленный прямоугольник 3"/>
          <p:cNvGrpSpPr/>
          <p:nvPr/>
        </p:nvGrpSpPr>
        <p:grpSpPr>
          <a:xfrm>
            <a:off x="749160" y="347760"/>
            <a:ext cx="7407360" cy="1073160"/>
            <a:chOff x="749160" y="347760"/>
            <a:chExt cx="7407360" cy="1073160"/>
          </a:xfrm>
        </p:grpSpPr>
        <p:pic>
          <p:nvPicPr>
            <p:cNvPr id="227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749160" y="347760"/>
              <a:ext cx="7407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871560" y="449280"/>
              <a:ext cx="717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b3d17"/>
                  </a:solidFill>
                  <a:latin typeface="Arial"/>
                </a:rPr>
                <a:t>9. Какое из приведенных ниже слов (сочетаний слов) должно стоять на месте пропуска в третьем (3) предложении текста? </a:t>
              </a:r>
              <a:r>
                <a:rPr b="1" i="1" lang="ru-RU" sz="2400" spc="-1" strike="noStrike">
                  <a:solidFill>
                    <a:srgbClr val="7b3d17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Скругленный прямоугольник 4"/>
          <p:cNvGrpSpPr/>
          <p:nvPr/>
        </p:nvGrpSpPr>
        <p:grpSpPr>
          <a:xfrm>
            <a:off x="2041560" y="5072040"/>
            <a:ext cx="1585800" cy="1073160"/>
            <a:chOff x="2041560" y="5072040"/>
            <a:chExt cx="1585800" cy="1073160"/>
          </a:xfrm>
        </p:grpSpPr>
        <p:pic>
          <p:nvPicPr>
            <p:cNvPr id="230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2041560" y="5072040"/>
              <a:ext cx="15858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168640" y="5170320"/>
              <a:ext cx="1339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7b3d17"/>
                  </a:solidFill>
                  <a:latin typeface="Arial"/>
                </a:rPr>
                <a:t>Поскольку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Скругленный прямоугольник 5"/>
          <p:cNvGrpSpPr/>
          <p:nvPr/>
        </p:nvGrpSpPr>
        <p:grpSpPr>
          <a:xfrm>
            <a:off x="6950160" y="5052960"/>
            <a:ext cx="1577880" cy="1073160"/>
            <a:chOff x="6950160" y="5052960"/>
            <a:chExt cx="1577880" cy="1073160"/>
          </a:xfrm>
        </p:grpSpPr>
        <p:pic>
          <p:nvPicPr>
            <p:cNvPr id="233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6950160" y="5052960"/>
              <a:ext cx="15778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7070760" y="5153040"/>
              <a:ext cx="133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Несмотря на это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Скругленный прямоугольник 6"/>
          <p:cNvGrpSpPr/>
          <p:nvPr/>
        </p:nvGrpSpPr>
        <p:grpSpPr>
          <a:xfrm>
            <a:off x="390600" y="5052960"/>
            <a:ext cx="1577880" cy="1073160"/>
            <a:chOff x="390600" y="5052960"/>
            <a:chExt cx="1577880" cy="1073160"/>
          </a:xfrm>
        </p:grpSpPr>
        <p:pic>
          <p:nvPicPr>
            <p:cNvPr id="236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390600" y="5052960"/>
              <a:ext cx="15778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12640" y="5153040"/>
              <a:ext cx="1338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Однако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Скругленный прямоугольник 7"/>
          <p:cNvGrpSpPr/>
          <p:nvPr/>
        </p:nvGrpSpPr>
        <p:grpSpPr>
          <a:xfrm>
            <a:off x="5254560" y="5029200"/>
            <a:ext cx="1584360" cy="1073160"/>
            <a:chOff x="5254560" y="5029200"/>
            <a:chExt cx="1584360" cy="1073160"/>
          </a:xfrm>
        </p:grpSpPr>
        <p:pic>
          <p:nvPicPr>
            <p:cNvPr id="239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5254560" y="5029200"/>
              <a:ext cx="1584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5380200" y="5129280"/>
              <a:ext cx="1339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Поэтому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Управляющая кнопка: далее 8"/>
          <p:cNvGrpSpPr/>
          <p:nvPr/>
        </p:nvGrpSpPr>
        <p:grpSpPr>
          <a:xfrm>
            <a:off x="7931160" y="6022800"/>
            <a:ext cx="1054080" cy="719280"/>
            <a:chOff x="7931160" y="6022800"/>
            <a:chExt cx="1054080" cy="719280"/>
          </a:xfrm>
        </p:grpSpPr>
        <p:pic>
          <p:nvPicPr>
            <p:cNvPr id="242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931160" y="6022800"/>
              <a:ext cx="10540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8072280" y="6143760"/>
              <a:ext cx="7718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TextBox 9"/>
          <p:cNvSpPr/>
          <p:nvPr/>
        </p:nvSpPr>
        <p:spPr>
          <a:xfrm>
            <a:off x="768240" y="1844640"/>
            <a:ext cx="77155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b3d17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Любимым напитком на Руси был квас. 2) У каждой хозяйки существовал свой рецепт приготовления разнообразных квасов: медового, грушевого, вишневого, клюквенного, яблочного - всех и не перечислить. 3)(...) ценность кваса не ограничивалась только вкусовыми качествами. 4)Квас да кислая капуста были единственными средствами спасения от цинги долгими русскими зимами, когда питание крайне скудно. 5)Ещё в древности квасу приписывали лечебные свой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Скругленный прямоугольник 10"/>
          <p:cNvGrpSpPr/>
          <p:nvPr/>
        </p:nvGrpSpPr>
        <p:grpSpPr>
          <a:xfrm>
            <a:off x="3664080" y="5072040"/>
            <a:ext cx="1577880" cy="1073160"/>
            <a:chOff x="3664080" y="5072040"/>
            <a:chExt cx="1577880" cy="1073160"/>
          </a:xfrm>
        </p:grpSpPr>
        <p:pic>
          <p:nvPicPr>
            <p:cNvPr id="246" name="Скругленный прямоугольник 10" descr=""/>
            <p:cNvPicPr/>
            <p:nvPr/>
          </p:nvPicPr>
          <p:blipFill>
            <a:blip r:embed="rId7"/>
            <a:stretch/>
          </p:blipFill>
          <p:spPr>
            <a:xfrm>
              <a:off x="3664080" y="5072040"/>
              <a:ext cx="15778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3787920" y="5170320"/>
              <a:ext cx="1338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Например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Скругленный прямоугольник 3"/>
          <p:cNvGrpSpPr/>
          <p:nvPr/>
        </p:nvGrpSpPr>
        <p:grpSpPr>
          <a:xfrm>
            <a:off x="749160" y="347760"/>
            <a:ext cx="7407360" cy="1073160"/>
            <a:chOff x="749160" y="347760"/>
            <a:chExt cx="7407360" cy="1073160"/>
          </a:xfrm>
        </p:grpSpPr>
        <p:pic>
          <p:nvPicPr>
            <p:cNvPr id="24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749160" y="347760"/>
              <a:ext cx="7407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871560" y="449280"/>
              <a:ext cx="717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b3d17"/>
                  </a:solidFill>
                  <a:latin typeface="Arial"/>
                </a:rPr>
                <a:t>10. Какое из приведенных ниже слов (сочетаний слов) должно стоять на месте пропуска во втором (2) предложении текста? </a:t>
              </a:r>
              <a:r>
                <a:rPr b="1" i="1" lang="ru-RU" sz="2400" spc="-1" strike="noStrike">
                  <a:solidFill>
                    <a:srgbClr val="7b3d17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Скругленный прямоугольник 4"/>
          <p:cNvGrpSpPr/>
          <p:nvPr/>
        </p:nvGrpSpPr>
        <p:grpSpPr>
          <a:xfrm>
            <a:off x="2041560" y="5072040"/>
            <a:ext cx="1585800" cy="1073160"/>
            <a:chOff x="2041560" y="5072040"/>
            <a:chExt cx="1585800" cy="1073160"/>
          </a:xfrm>
        </p:grpSpPr>
        <p:pic>
          <p:nvPicPr>
            <p:cNvPr id="252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2041560" y="5072040"/>
              <a:ext cx="15858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168640" y="5170320"/>
              <a:ext cx="1339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7b3d17"/>
                  </a:solidFill>
                  <a:latin typeface="Arial"/>
                </a:rPr>
                <a:t>Напротив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Скругленный прямоугольник 5"/>
          <p:cNvGrpSpPr/>
          <p:nvPr/>
        </p:nvGrpSpPr>
        <p:grpSpPr>
          <a:xfrm>
            <a:off x="6950160" y="5052960"/>
            <a:ext cx="1577880" cy="1073160"/>
            <a:chOff x="6950160" y="5052960"/>
            <a:chExt cx="1577880" cy="1073160"/>
          </a:xfrm>
        </p:grpSpPr>
        <p:pic>
          <p:nvPicPr>
            <p:cNvPr id="255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6950160" y="5052960"/>
              <a:ext cx="15778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070760" y="5153040"/>
              <a:ext cx="133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Во-первых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Скругленный прямоугольник 6"/>
          <p:cNvGrpSpPr/>
          <p:nvPr/>
        </p:nvGrpSpPr>
        <p:grpSpPr>
          <a:xfrm>
            <a:off x="5284800" y="5052960"/>
            <a:ext cx="1579680" cy="1073160"/>
            <a:chOff x="5284800" y="5052960"/>
            <a:chExt cx="1579680" cy="1073160"/>
          </a:xfrm>
        </p:grpSpPr>
        <p:pic>
          <p:nvPicPr>
            <p:cNvPr id="258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5284800" y="5052960"/>
              <a:ext cx="15796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408640" y="5153040"/>
              <a:ext cx="133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Причем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Скругленный прямоугольник 7"/>
          <p:cNvGrpSpPr/>
          <p:nvPr/>
        </p:nvGrpSpPr>
        <p:grpSpPr>
          <a:xfrm>
            <a:off x="463680" y="5065560"/>
            <a:ext cx="1577880" cy="1073160"/>
            <a:chOff x="463680" y="5065560"/>
            <a:chExt cx="1577880" cy="1073160"/>
          </a:xfrm>
        </p:grpSpPr>
        <p:pic>
          <p:nvPicPr>
            <p:cNvPr id="261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463680" y="5065560"/>
              <a:ext cx="15778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584280" y="5165640"/>
              <a:ext cx="133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Например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Управляющая кнопка: далее 8"/>
          <p:cNvGrpSpPr/>
          <p:nvPr/>
        </p:nvGrpSpPr>
        <p:grpSpPr>
          <a:xfrm>
            <a:off x="7931160" y="6022800"/>
            <a:ext cx="1054080" cy="719280"/>
            <a:chOff x="7931160" y="6022800"/>
            <a:chExt cx="1054080" cy="719280"/>
          </a:xfrm>
        </p:grpSpPr>
        <p:pic>
          <p:nvPicPr>
            <p:cNvPr id="264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931160" y="6022800"/>
              <a:ext cx="10540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8072280" y="6143760"/>
              <a:ext cx="7718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TextBox 9"/>
          <p:cNvSpPr/>
          <p:nvPr/>
        </p:nvSpPr>
        <p:spPr>
          <a:xfrm>
            <a:off x="768240" y="1844640"/>
            <a:ext cx="77155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b3d17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)Специалисты по гидродинамике, привыкшие иметь дело с «идеальной жидкостью», при построении гидродинамических моделей Мирового океана зачастую испытывают большие трудности, потому что океан заполнен жидкостью отнюдь не идеальной. (2)Океан – это не только вода, это растворённые в ней соли, взвешенные минеральные частицы, газы, органические вещества, _____ все компоненты находятся в сложнейшем взаимодействии. (3)Изучать эту многокомпонентную систему в целом трудно даже океанологам: она слишком слож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Скругленный прямоугольник 10"/>
          <p:cNvGrpSpPr/>
          <p:nvPr/>
        </p:nvGrpSpPr>
        <p:grpSpPr>
          <a:xfrm>
            <a:off x="3664080" y="5072040"/>
            <a:ext cx="1577880" cy="1073160"/>
            <a:chOff x="3664080" y="5072040"/>
            <a:chExt cx="1577880" cy="1073160"/>
          </a:xfrm>
        </p:grpSpPr>
        <p:pic>
          <p:nvPicPr>
            <p:cNvPr id="268" name="Скругленный прямоугольник 10" descr=""/>
            <p:cNvPicPr/>
            <p:nvPr/>
          </p:nvPicPr>
          <p:blipFill>
            <a:blip r:embed="rId7"/>
            <a:stretch/>
          </p:blipFill>
          <p:spPr>
            <a:xfrm>
              <a:off x="3664080" y="5072040"/>
              <a:ext cx="15778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787920" y="5170320"/>
              <a:ext cx="1338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Если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Скругленный прямоугольник 3"/>
          <p:cNvGrpSpPr/>
          <p:nvPr/>
        </p:nvGrpSpPr>
        <p:grpSpPr>
          <a:xfrm>
            <a:off x="957240" y="347760"/>
            <a:ext cx="7405560" cy="1073160"/>
            <a:chOff x="957240" y="347760"/>
            <a:chExt cx="7405560" cy="1073160"/>
          </a:xfrm>
        </p:grpSpPr>
        <p:pic>
          <p:nvPicPr>
            <p:cNvPr id="51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957240" y="347760"/>
              <a:ext cx="74055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079640" y="449280"/>
              <a:ext cx="7169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b3d17"/>
                  </a:solidFill>
                  <a:latin typeface="Arial"/>
                </a:rPr>
                <a:t>1. Какое из приведенных ниже слов (сочетаний слов) должно стоять на месте пропуска в третьем (3) предложении текста? </a:t>
              </a:r>
              <a:r>
                <a:rPr b="1" i="1" lang="ru-RU" sz="2400" spc="-1" strike="noStrike">
                  <a:solidFill>
                    <a:srgbClr val="7b3d17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Скругленный прямоугольник 4"/>
          <p:cNvGrpSpPr/>
          <p:nvPr/>
        </p:nvGrpSpPr>
        <p:grpSpPr>
          <a:xfrm>
            <a:off x="390600" y="5029200"/>
            <a:ext cx="1577880" cy="1073160"/>
            <a:chOff x="390600" y="5029200"/>
            <a:chExt cx="1577880" cy="1073160"/>
          </a:xfrm>
        </p:grpSpPr>
        <p:pic>
          <p:nvPicPr>
            <p:cNvPr id="54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390600" y="5029200"/>
              <a:ext cx="15778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2640" y="5129280"/>
              <a:ext cx="1338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7b3d17"/>
                  </a:solidFill>
                  <a:latin typeface="Arial"/>
                </a:rPr>
                <a:t>Следовательно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Скругленный прямоугольник 5"/>
          <p:cNvGrpSpPr/>
          <p:nvPr/>
        </p:nvGrpSpPr>
        <p:grpSpPr>
          <a:xfrm>
            <a:off x="1994040" y="5029200"/>
            <a:ext cx="1577880" cy="1073160"/>
            <a:chOff x="1994040" y="5029200"/>
            <a:chExt cx="1577880" cy="1073160"/>
          </a:xfrm>
        </p:grpSpPr>
        <p:pic>
          <p:nvPicPr>
            <p:cNvPr id="57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1994040" y="5029200"/>
              <a:ext cx="15778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116080" y="5129280"/>
              <a:ext cx="133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Таким образо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Скругленный прямоугольник 6"/>
          <p:cNvGrpSpPr/>
          <p:nvPr/>
        </p:nvGrpSpPr>
        <p:grpSpPr>
          <a:xfrm>
            <a:off x="5138640" y="5029200"/>
            <a:ext cx="1586160" cy="1073160"/>
            <a:chOff x="5138640" y="5029200"/>
            <a:chExt cx="1586160" cy="1073160"/>
          </a:xfrm>
        </p:grpSpPr>
        <p:pic>
          <p:nvPicPr>
            <p:cNvPr id="60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5138640" y="5029200"/>
              <a:ext cx="15861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264280" y="5129280"/>
              <a:ext cx="1339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Однако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Скругленный прямоугольник 7"/>
          <p:cNvGrpSpPr/>
          <p:nvPr/>
        </p:nvGrpSpPr>
        <p:grpSpPr>
          <a:xfrm>
            <a:off x="3565440" y="5029200"/>
            <a:ext cx="1586160" cy="1073160"/>
            <a:chOff x="3565440" y="5029200"/>
            <a:chExt cx="1586160" cy="1073160"/>
          </a:xfrm>
        </p:grpSpPr>
        <p:pic>
          <p:nvPicPr>
            <p:cNvPr id="63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3565440" y="5029200"/>
              <a:ext cx="15861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692520" y="5129280"/>
              <a:ext cx="133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Есл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Управляющая кнопка: далее 8"/>
          <p:cNvGrpSpPr/>
          <p:nvPr/>
        </p:nvGrpSpPr>
        <p:grpSpPr>
          <a:xfrm>
            <a:off x="7931160" y="6022800"/>
            <a:ext cx="1054080" cy="719280"/>
            <a:chOff x="7931160" y="6022800"/>
            <a:chExt cx="1054080" cy="719280"/>
          </a:xfrm>
        </p:grpSpPr>
        <p:pic>
          <p:nvPicPr>
            <p:cNvPr id="66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931160" y="6022800"/>
              <a:ext cx="10540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8072280" y="6143760"/>
              <a:ext cx="7718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Box 9"/>
          <p:cNvSpPr/>
          <p:nvPr/>
        </p:nvSpPr>
        <p:spPr>
          <a:xfrm>
            <a:off x="806400" y="1484280"/>
            <a:ext cx="771516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b3d17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) Биографы Марко Поло утверждают, что он был способным, энергичным, терпеливым и наблюдательным человеком, хорошим, но увлекающимся рассказчиком. (2) Некоторые ученые подвергают сомнению факты, изложенные в его "Книге о разнообразии мира", и высказывают мнение, что она была лишь талантливым пересказом впечатлений персидских купцов о странствиях по Востоку. (3) _____ обнаруженные неточности могли появиться при многочисленных переводах, к тому же Марко Поло диктовал свои воспоминания по памя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Скругленный прямоугольник 10"/>
          <p:cNvGrpSpPr/>
          <p:nvPr/>
        </p:nvGrpSpPr>
        <p:grpSpPr>
          <a:xfrm>
            <a:off x="6797520" y="5029200"/>
            <a:ext cx="1578240" cy="1073160"/>
            <a:chOff x="6797520" y="5029200"/>
            <a:chExt cx="1578240" cy="1073160"/>
          </a:xfrm>
        </p:grpSpPr>
        <p:pic>
          <p:nvPicPr>
            <p:cNvPr id="70" name="Скругленный прямоугольник 10" descr=""/>
            <p:cNvPicPr/>
            <p:nvPr/>
          </p:nvPicPr>
          <p:blipFill>
            <a:blip r:embed="rId7"/>
            <a:stretch/>
          </p:blipFill>
          <p:spPr>
            <a:xfrm>
              <a:off x="6797520" y="5029200"/>
              <a:ext cx="15782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6921360" y="5129280"/>
              <a:ext cx="1338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Неужел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Скругленный прямоугольник 3"/>
          <p:cNvGrpSpPr/>
          <p:nvPr/>
        </p:nvGrpSpPr>
        <p:grpSpPr>
          <a:xfrm>
            <a:off x="749160" y="347760"/>
            <a:ext cx="7407360" cy="1073160"/>
            <a:chOff x="749160" y="347760"/>
            <a:chExt cx="7407360" cy="1073160"/>
          </a:xfrm>
        </p:grpSpPr>
        <p:pic>
          <p:nvPicPr>
            <p:cNvPr id="73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749160" y="347760"/>
              <a:ext cx="7407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871560" y="449280"/>
              <a:ext cx="717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b3d17"/>
                  </a:solidFill>
                  <a:latin typeface="Arial"/>
                </a:rPr>
                <a:t>2. Какое из приведенных ниже слов (сочетаний слов) должно стоять на месте пропуска в третьем (3) предложении текста? </a:t>
              </a:r>
              <a:r>
                <a:rPr b="1" i="1" lang="ru-RU" sz="2400" spc="-1" strike="noStrike">
                  <a:solidFill>
                    <a:srgbClr val="7b3d17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Скругленный прямоугольник 4"/>
          <p:cNvGrpSpPr/>
          <p:nvPr/>
        </p:nvGrpSpPr>
        <p:grpSpPr>
          <a:xfrm>
            <a:off x="390600" y="5029200"/>
            <a:ext cx="1577880" cy="1073160"/>
            <a:chOff x="390600" y="5029200"/>
            <a:chExt cx="1577880" cy="1073160"/>
          </a:xfrm>
        </p:grpSpPr>
        <p:pic>
          <p:nvPicPr>
            <p:cNvPr id="76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390600" y="5029200"/>
              <a:ext cx="15778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12640" y="5129280"/>
              <a:ext cx="1338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7b3d17"/>
                  </a:solidFill>
                  <a:latin typeface="Arial"/>
                </a:rPr>
                <a:t>Однако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Скругленный прямоугольник 5"/>
          <p:cNvGrpSpPr/>
          <p:nvPr/>
        </p:nvGrpSpPr>
        <p:grpSpPr>
          <a:xfrm>
            <a:off x="3657600" y="5052960"/>
            <a:ext cx="1579680" cy="1073160"/>
            <a:chOff x="3657600" y="5052960"/>
            <a:chExt cx="1579680" cy="1073160"/>
          </a:xfrm>
        </p:grpSpPr>
        <p:pic>
          <p:nvPicPr>
            <p:cNvPr id="79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3657600" y="5052960"/>
              <a:ext cx="15796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780000" y="5153040"/>
              <a:ext cx="1339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Вот почему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Скругленный прямоугольник 6"/>
          <p:cNvGrpSpPr/>
          <p:nvPr/>
        </p:nvGrpSpPr>
        <p:grpSpPr>
          <a:xfrm>
            <a:off x="2017800" y="5052960"/>
            <a:ext cx="1584360" cy="1073160"/>
            <a:chOff x="2017800" y="5052960"/>
            <a:chExt cx="1584360" cy="1073160"/>
          </a:xfrm>
        </p:grpSpPr>
        <p:pic>
          <p:nvPicPr>
            <p:cNvPr id="82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2017800" y="5052960"/>
              <a:ext cx="1584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2143080" y="5153040"/>
              <a:ext cx="133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Вряд л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Скругленный прямоугольник 7"/>
          <p:cNvGrpSpPr/>
          <p:nvPr/>
        </p:nvGrpSpPr>
        <p:grpSpPr>
          <a:xfrm>
            <a:off x="5211720" y="5052960"/>
            <a:ext cx="1585800" cy="1073160"/>
            <a:chOff x="5211720" y="5052960"/>
            <a:chExt cx="1585800" cy="1073160"/>
          </a:xfrm>
        </p:grpSpPr>
        <p:pic>
          <p:nvPicPr>
            <p:cNvPr id="85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5211720" y="5052960"/>
              <a:ext cx="15858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5337000" y="5153040"/>
              <a:ext cx="1338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Есл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Управляющая кнопка: далее 8"/>
          <p:cNvGrpSpPr/>
          <p:nvPr/>
        </p:nvGrpSpPr>
        <p:grpSpPr>
          <a:xfrm>
            <a:off x="7931160" y="6022800"/>
            <a:ext cx="1054080" cy="719280"/>
            <a:chOff x="7931160" y="6022800"/>
            <a:chExt cx="1054080" cy="719280"/>
          </a:xfrm>
        </p:grpSpPr>
        <p:pic>
          <p:nvPicPr>
            <p:cNvPr id="88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931160" y="6022800"/>
              <a:ext cx="10540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8072280" y="6143760"/>
              <a:ext cx="7718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TextBox 9"/>
          <p:cNvSpPr/>
          <p:nvPr/>
        </p:nvSpPr>
        <p:spPr>
          <a:xfrm>
            <a:off x="731880" y="1844640"/>
            <a:ext cx="7715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b3d17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) Изучение растений и животных в природе — занятие не из лёгких. (2) При этом важно заметить, что экология — это та область исследований, в которой наблюдения наряду с экспериментом всё ещё занимают важное место. (3) _____ натуралисту, для того чтобы обнаружить какого-либо зверька, надо обладать особым терпени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6797520" y="5029200"/>
            <a:ext cx="1578240" cy="1073160"/>
            <a:chOff x="6797520" y="5029200"/>
            <a:chExt cx="1578240" cy="1073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7"/>
            <a:stretch/>
          </p:blipFill>
          <p:spPr>
            <a:xfrm>
              <a:off x="6797520" y="5029200"/>
              <a:ext cx="15782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921360" y="5129280"/>
              <a:ext cx="1338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Наверное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Скругленный прямоугольник 3"/>
          <p:cNvGrpSpPr/>
          <p:nvPr/>
        </p:nvGrpSpPr>
        <p:grpSpPr>
          <a:xfrm>
            <a:off x="749160" y="347760"/>
            <a:ext cx="7407360" cy="1073160"/>
            <a:chOff x="749160" y="347760"/>
            <a:chExt cx="7407360" cy="1073160"/>
          </a:xfrm>
        </p:grpSpPr>
        <p:pic>
          <p:nvPicPr>
            <p:cNvPr id="95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749160" y="347760"/>
              <a:ext cx="7407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871560" y="449280"/>
              <a:ext cx="717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b3d17"/>
                  </a:solidFill>
                  <a:latin typeface="Arial"/>
                </a:rPr>
                <a:t>3. Какое из приведенных ниже слов (сочетаний слов) должно стоять на месте пропуска в третьем (3) предложении текста? </a:t>
              </a:r>
              <a:r>
                <a:rPr b="1" i="1" lang="ru-RU" sz="2400" spc="-1" strike="noStrike">
                  <a:solidFill>
                    <a:srgbClr val="7b3d17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Скругленный прямоугольник 4"/>
          <p:cNvGrpSpPr/>
          <p:nvPr/>
        </p:nvGrpSpPr>
        <p:grpSpPr>
          <a:xfrm>
            <a:off x="390600" y="5029200"/>
            <a:ext cx="1577880" cy="1073160"/>
            <a:chOff x="390600" y="5029200"/>
            <a:chExt cx="1577880" cy="1073160"/>
          </a:xfrm>
        </p:grpSpPr>
        <p:pic>
          <p:nvPicPr>
            <p:cNvPr id="98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390600" y="5029200"/>
              <a:ext cx="15778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2640" y="5129280"/>
              <a:ext cx="1338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7b3d17"/>
                  </a:solidFill>
                  <a:latin typeface="Arial"/>
                </a:rPr>
                <a:t>Хотя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Скругленный прямоугольник 5"/>
          <p:cNvGrpSpPr/>
          <p:nvPr/>
        </p:nvGrpSpPr>
        <p:grpSpPr>
          <a:xfrm>
            <a:off x="3657600" y="5052960"/>
            <a:ext cx="1579680" cy="1073160"/>
            <a:chOff x="3657600" y="5052960"/>
            <a:chExt cx="1579680" cy="1073160"/>
          </a:xfrm>
        </p:grpSpPr>
        <p:pic>
          <p:nvPicPr>
            <p:cNvPr id="101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3657600" y="5052960"/>
              <a:ext cx="15796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780000" y="5153040"/>
              <a:ext cx="1339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Очевидно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Скругленный прямоугольник 6"/>
          <p:cNvGrpSpPr/>
          <p:nvPr/>
        </p:nvGrpSpPr>
        <p:grpSpPr>
          <a:xfrm>
            <a:off x="5211720" y="5052960"/>
            <a:ext cx="1585800" cy="1073160"/>
            <a:chOff x="5211720" y="5052960"/>
            <a:chExt cx="1585800" cy="1073160"/>
          </a:xfrm>
        </p:grpSpPr>
        <p:pic>
          <p:nvPicPr>
            <p:cNvPr id="104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5211720" y="5052960"/>
              <a:ext cx="15858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337000" y="5153040"/>
              <a:ext cx="1338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Кроме тог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Скругленный прямоугольник 7"/>
          <p:cNvGrpSpPr/>
          <p:nvPr/>
        </p:nvGrpSpPr>
        <p:grpSpPr>
          <a:xfrm>
            <a:off x="2017800" y="5029200"/>
            <a:ext cx="1584360" cy="1073160"/>
            <a:chOff x="2017800" y="5029200"/>
            <a:chExt cx="1584360" cy="1073160"/>
          </a:xfrm>
        </p:grpSpPr>
        <p:pic>
          <p:nvPicPr>
            <p:cNvPr id="107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2017800" y="5029200"/>
              <a:ext cx="1584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143080" y="5129280"/>
              <a:ext cx="133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Разве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Управляющая кнопка: далее 8"/>
          <p:cNvGrpSpPr/>
          <p:nvPr/>
        </p:nvGrpSpPr>
        <p:grpSpPr>
          <a:xfrm>
            <a:off x="7931160" y="6022800"/>
            <a:ext cx="1054080" cy="719280"/>
            <a:chOff x="7931160" y="6022800"/>
            <a:chExt cx="1054080" cy="719280"/>
          </a:xfrm>
        </p:grpSpPr>
        <p:pic>
          <p:nvPicPr>
            <p:cNvPr id="110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931160" y="6022800"/>
              <a:ext cx="10540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8072280" y="6143760"/>
              <a:ext cx="7718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Box 9"/>
          <p:cNvSpPr/>
          <p:nvPr/>
        </p:nvSpPr>
        <p:spPr>
          <a:xfrm>
            <a:off x="731880" y="1844640"/>
            <a:ext cx="771516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b3d17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)Наблюдение за характером связи между частями текста показало, что отдельные его части объединяются не только привычными формами связи — союзами, союзными словами, но и другими средствами, менее чётко выделяемыми в ткани текста. (2)К ним относятся повторения слов, словосочетаний, предложении, однотипных структур. (3)______ даже ассоциации могут служить средствами связи отдельных частей, следующих одна за другой, а также расположенных на некотором расстоянии друг от друг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Скругленный прямоугольник 10"/>
          <p:cNvGrpSpPr/>
          <p:nvPr/>
        </p:nvGrpSpPr>
        <p:grpSpPr>
          <a:xfrm>
            <a:off x="6797520" y="5029200"/>
            <a:ext cx="1578240" cy="1073160"/>
            <a:chOff x="6797520" y="5029200"/>
            <a:chExt cx="1578240" cy="1073160"/>
          </a:xfrm>
        </p:grpSpPr>
        <p:pic>
          <p:nvPicPr>
            <p:cNvPr id="114" name="Скругленный прямоугольник 10" descr=""/>
            <p:cNvPicPr/>
            <p:nvPr/>
          </p:nvPicPr>
          <p:blipFill>
            <a:blip r:embed="rId7"/>
            <a:stretch/>
          </p:blipFill>
          <p:spPr>
            <a:xfrm>
              <a:off x="6797520" y="5029200"/>
              <a:ext cx="15782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921360" y="5129280"/>
              <a:ext cx="1338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Вряд л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Скругленный прямоугольник 3"/>
          <p:cNvGrpSpPr/>
          <p:nvPr/>
        </p:nvGrpSpPr>
        <p:grpSpPr>
          <a:xfrm>
            <a:off x="749160" y="347760"/>
            <a:ext cx="7407360" cy="1073160"/>
            <a:chOff x="749160" y="347760"/>
            <a:chExt cx="7407360" cy="1073160"/>
          </a:xfrm>
        </p:grpSpPr>
        <p:pic>
          <p:nvPicPr>
            <p:cNvPr id="117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749160" y="347760"/>
              <a:ext cx="7407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871560" y="449280"/>
              <a:ext cx="717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b3d17"/>
                  </a:solidFill>
                  <a:latin typeface="Arial"/>
                </a:rPr>
                <a:t>4. Какое из приведенных ниже слов (сочетаний слов) должно стоять на месте пропуска в третьем (3) предложении текста? </a:t>
              </a:r>
              <a:r>
                <a:rPr b="1" i="1" lang="ru-RU" sz="2400" spc="-1" strike="noStrike">
                  <a:solidFill>
                    <a:srgbClr val="7b3d17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Скругленный прямоугольник 4"/>
          <p:cNvGrpSpPr/>
          <p:nvPr/>
        </p:nvGrpSpPr>
        <p:grpSpPr>
          <a:xfrm>
            <a:off x="5211720" y="5052960"/>
            <a:ext cx="1585800" cy="1073160"/>
            <a:chOff x="5211720" y="5052960"/>
            <a:chExt cx="1585800" cy="1073160"/>
          </a:xfrm>
        </p:grpSpPr>
        <p:pic>
          <p:nvPicPr>
            <p:cNvPr id="120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5211720" y="5052960"/>
              <a:ext cx="15858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337000" y="5153040"/>
              <a:ext cx="1338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7b3d17"/>
                  </a:solidFill>
                  <a:latin typeface="Arial"/>
                </a:rPr>
                <a:t>Разумеется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Скругленный прямоугольник 5"/>
          <p:cNvGrpSpPr/>
          <p:nvPr/>
        </p:nvGrpSpPr>
        <p:grpSpPr>
          <a:xfrm>
            <a:off x="3657600" y="5052960"/>
            <a:ext cx="1579680" cy="1073160"/>
            <a:chOff x="3657600" y="5052960"/>
            <a:chExt cx="1579680" cy="1073160"/>
          </a:xfrm>
        </p:grpSpPr>
        <p:pic>
          <p:nvPicPr>
            <p:cNvPr id="123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3657600" y="5052960"/>
              <a:ext cx="15796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780000" y="5153040"/>
              <a:ext cx="1339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По-видимому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Скругленный прямоугольник 6"/>
          <p:cNvGrpSpPr/>
          <p:nvPr/>
        </p:nvGrpSpPr>
        <p:grpSpPr>
          <a:xfrm>
            <a:off x="463680" y="5029200"/>
            <a:ext cx="1577880" cy="1073160"/>
            <a:chOff x="463680" y="5029200"/>
            <a:chExt cx="1577880" cy="1073160"/>
          </a:xfrm>
        </p:grpSpPr>
        <p:pic>
          <p:nvPicPr>
            <p:cNvPr id="126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463680" y="5029200"/>
              <a:ext cx="15778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84280" y="5129280"/>
              <a:ext cx="133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Поэтому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Скругленный прямоугольник 7"/>
          <p:cNvGrpSpPr/>
          <p:nvPr/>
        </p:nvGrpSpPr>
        <p:grpSpPr>
          <a:xfrm>
            <a:off x="2017800" y="5029200"/>
            <a:ext cx="1584360" cy="1073160"/>
            <a:chOff x="2017800" y="5029200"/>
            <a:chExt cx="1584360" cy="1073160"/>
          </a:xfrm>
        </p:grpSpPr>
        <p:pic>
          <p:nvPicPr>
            <p:cNvPr id="129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2017800" y="5029200"/>
              <a:ext cx="1584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143080" y="5129280"/>
              <a:ext cx="133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Однако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Управляющая кнопка: далее 8"/>
          <p:cNvGrpSpPr/>
          <p:nvPr/>
        </p:nvGrpSpPr>
        <p:grpSpPr>
          <a:xfrm>
            <a:off x="7931160" y="6022800"/>
            <a:ext cx="1054080" cy="719280"/>
            <a:chOff x="7931160" y="6022800"/>
            <a:chExt cx="1054080" cy="719280"/>
          </a:xfrm>
        </p:grpSpPr>
        <p:pic>
          <p:nvPicPr>
            <p:cNvPr id="132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931160" y="6022800"/>
              <a:ext cx="10540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8072280" y="6143760"/>
              <a:ext cx="7718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TextBox 9"/>
          <p:cNvSpPr/>
          <p:nvPr/>
        </p:nvSpPr>
        <p:spPr>
          <a:xfrm>
            <a:off x="768240" y="2276640"/>
            <a:ext cx="77155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b3d17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)Для всех коралловых полипов необыкновенно важны чистота и прозрачность воды. (2)Это основное условие их жизни. (3) _____ вблизи устьев рек, а также в местах, где вода загрязнена промышленными отходами, кораллы никогда не селятся и не строят свои зам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Скругленный прямоугольник 10"/>
          <p:cNvGrpSpPr/>
          <p:nvPr/>
        </p:nvGrpSpPr>
        <p:grpSpPr>
          <a:xfrm>
            <a:off x="6797520" y="5029200"/>
            <a:ext cx="1578240" cy="1073160"/>
            <a:chOff x="6797520" y="5029200"/>
            <a:chExt cx="1578240" cy="1073160"/>
          </a:xfrm>
        </p:grpSpPr>
        <p:pic>
          <p:nvPicPr>
            <p:cNvPr id="136" name="Скругленный прямоугольник 10" descr=""/>
            <p:cNvPicPr/>
            <p:nvPr/>
          </p:nvPicPr>
          <p:blipFill>
            <a:blip r:embed="rId7"/>
            <a:stretch/>
          </p:blipFill>
          <p:spPr>
            <a:xfrm>
              <a:off x="6797520" y="5029200"/>
              <a:ext cx="15782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6921360" y="5129280"/>
              <a:ext cx="1338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Как правил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Скругленный прямоугольник 3"/>
          <p:cNvGrpSpPr/>
          <p:nvPr/>
        </p:nvGrpSpPr>
        <p:grpSpPr>
          <a:xfrm>
            <a:off x="749160" y="347760"/>
            <a:ext cx="7480440" cy="1073160"/>
            <a:chOff x="749160" y="347760"/>
            <a:chExt cx="7480440" cy="1073160"/>
          </a:xfrm>
        </p:grpSpPr>
        <p:pic>
          <p:nvPicPr>
            <p:cNvPr id="13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749160" y="347760"/>
              <a:ext cx="74804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871560" y="449280"/>
              <a:ext cx="717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b3d17"/>
                  </a:solidFill>
                  <a:latin typeface="Arial"/>
                </a:rPr>
                <a:t>5. Какое из приведенных ниже слов (сочетаний слов) должно стоять на месте пропуска в третьем (3) предложении текста? </a:t>
              </a:r>
              <a:r>
                <a:rPr b="1" i="1" lang="ru-RU" sz="2400" spc="-1" strike="noStrike">
                  <a:solidFill>
                    <a:srgbClr val="7b3d17"/>
                  </a:solidFill>
                  <a:latin typeface="Arial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Скругленный прямоугольник 4"/>
          <p:cNvGrpSpPr/>
          <p:nvPr/>
        </p:nvGrpSpPr>
        <p:grpSpPr>
          <a:xfrm>
            <a:off x="5211720" y="5052960"/>
            <a:ext cx="1585800" cy="1073160"/>
            <a:chOff x="5211720" y="5052960"/>
            <a:chExt cx="1585800" cy="1073160"/>
          </a:xfrm>
        </p:grpSpPr>
        <p:pic>
          <p:nvPicPr>
            <p:cNvPr id="142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5211720" y="5052960"/>
              <a:ext cx="15858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337000" y="5153040"/>
              <a:ext cx="1338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7b3d17"/>
                  </a:solidFill>
                  <a:latin typeface="Arial"/>
                </a:rPr>
                <a:t>Неужели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Скругленный прямоугольник 5"/>
          <p:cNvGrpSpPr/>
          <p:nvPr/>
        </p:nvGrpSpPr>
        <p:grpSpPr>
          <a:xfrm>
            <a:off x="3657600" y="5052960"/>
            <a:ext cx="1579680" cy="1073160"/>
            <a:chOff x="3657600" y="5052960"/>
            <a:chExt cx="1579680" cy="1073160"/>
          </a:xfrm>
        </p:grpSpPr>
        <p:pic>
          <p:nvPicPr>
            <p:cNvPr id="145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3657600" y="5052960"/>
              <a:ext cx="15796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780000" y="5153040"/>
              <a:ext cx="1339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Разумеется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Скругленный прямоугольник 6"/>
          <p:cNvGrpSpPr/>
          <p:nvPr/>
        </p:nvGrpSpPr>
        <p:grpSpPr>
          <a:xfrm>
            <a:off x="6870600" y="5029200"/>
            <a:ext cx="1578240" cy="1073160"/>
            <a:chOff x="6870600" y="5029200"/>
            <a:chExt cx="1578240" cy="1073160"/>
          </a:xfrm>
        </p:grpSpPr>
        <p:pic>
          <p:nvPicPr>
            <p:cNvPr id="148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6870600" y="5029200"/>
              <a:ext cx="15782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993000" y="5129280"/>
              <a:ext cx="133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Между прочим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Скругленный прямоугольник 7"/>
          <p:cNvGrpSpPr/>
          <p:nvPr/>
        </p:nvGrpSpPr>
        <p:grpSpPr>
          <a:xfrm>
            <a:off x="2017800" y="5029200"/>
            <a:ext cx="1584360" cy="1073160"/>
            <a:chOff x="2017800" y="5029200"/>
            <a:chExt cx="1584360" cy="1073160"/>
          </a:xfrm>
        </p:grpSpPr>
        <p:pic>
          <p:nvPicPr>
            <p:cNvPr id="151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2017800" y="5029200"/>
              <a:ext cx="1584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143080" y="5129280"/>
              <a:ext cx="133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Однако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Управляющая кнопка: далее 8"/>
          <p:cNvGrpSpPr/>
          <p:nvPr/>
        </p:nvGrpSpPr>
        <p:grpSpPr>
          <a:xfrm>
            <a:off x="7931160" y="6022800"/>
            <a:ext cx="1054080" cy="719280"/>
            <a:chOff x="7931160" y="6022800"/>
            <a:chExt cx="1054080" cy="719280"/>
          </a:xfrm>
        </p:grpSpPr>
        <p:pic>
          <p:nvPicPr>
            <p:cNvPr id="154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931160" y="6022800"/>
              <a:ext cx="10540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8072280" y="6143760"/>
              <a:ext cx="7718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TextBox 9"/>
          <p:cNvSpPr/>
          <p:nvPr/>
        </p:nvSpPr>
        <p:spPr>
          <a:xfrm>
            <a:off x="768240" y="2276640"/>
            <a:ext cx="77155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b3d17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)Древние греки и римляне писали на покрытых воском деревянных табличках. (2)Буквы процарапывали в слое воска заострённой палочкой, которую называли стилос, или стиль; на другом конце стиля имелась лопаточка, которой можно было снова разровнять воск, если возникала необходимость внести в записи исправления. (3)_____ выражение «у каждого свой стиль» впрямую связано с этим орудием для письм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Скругленный прямоугольник 10"/>
          <p:cNvGrpSpPr/>
          <p:nvPr/>
        </p:nvGrpSpPr>
        <p:grpSpPr>
          <a:xfrm>
            <a:off x="463680" y="5029200"/>
            <a:ext cx="1577880" cy="1073160"/>
            <a:chOff x="463680" y="5029200"/>
            <a:chExt cx="1577880" cy="1073160"/>
          </a:xfrm>
        </p:grpSpPr>
        <p:pic>
          <p:nvPicPr>
            <p:cNvPr id="158" name="Скругленный прямоугольник 10" descr=""/>
            <p:cNvPicPr/>
            <p:nvPr/>
          </p:nvPicPr>
          <p:blipFill>
            <a:blip r:embed="rId7"/>
            <a:stretch/>
          </p:blipFill>
          <p:spPr>
            <a:xfrm>
              <a:off x="463680" y="5029200"/>
              <a:ext cx="15778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84280" y="5129280"/>
              <a:ext cx="133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Наверное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Скругленный прямоугольник 3"/>
          <p:cNvGrpSpPr/>
          <p:nvPr/>
        </p:nvGrpSpPr>
        <p:grpSpPr>
          <a:xfrm>
            <a:off x="749160" y="347760"/>
            <a:ext cx="7407360" cy="1073160"/>
            <a:chOff x="749160" y="347760"/>
            <a:chExt cx="7407360" cy="1073160"/>
          </a:xfrm>
        </p:grpSpPr>
        <p:pic>
          <p:nvPicPr>
            <p:cNvPr id="161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749160" y="347760"/>
              <a:ext cx="7407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871560" y="449280"/>
              <a:ext cx="717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b3d17"/>
                  </a:solidFill>
                  <a:latin typeface="Arial"/>
                </a:rPr>
                <a:t>6. Какое из приведенных ниже слов (сочетаний слов) должно стоять на месте пропуска в третьем (3) предложении текста? </a:t>
              </a:r>
              <a:r>
                <a:rPr b="1" i="1" lang="ru-RU" sz="2400" spc="-1" strike="noStrike">
                  <a:solidFill>
                    <a:srgbClr val="7b3d17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Скругленный прямоугольник 4"/>
          <p:cNvGrpSpPr/>
          <p:nvPr/>
        </p:nvGrpSpPr>
        <p:grpSpPr>
          <a:xfrm>
            <a:off x="5211720" y="5052960"/>
            <a:ext cx="1590840" cy="1073160"/>
            <a:chOff x="5211720" y="5052960"/>
            <a:chExt cx="1590840" cy="1073160"/>
          </a:xfrm>
        </p:grpSpPr>
        <p:pic>
          <p:nvPicPr>
            <p:cNvPr id="164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5211720" y="5052960"/>
              <a:ext cx="15908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337000" y="5153040"/>
              <a:ext cx="1338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7b3d17"/>
                  </a:solidFill>
                  <a:latin typeface="Arial"/>
                </a:rPr>
                <a:t>Следовательно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Скругленный прямоугольник 5"/>
          <p:cNvGrpSpPr/>
          <p:nvPr/>
        </p:nvGrpSpPr>
        <p:grpSpPr>
          <a:xfrm>
            <a:off x="6797520" y="5052960"/>
            <a:ext cx="1578240" cy="1073160"/>
            <a:chOff x="6797520" y="5052960"/>
            <a:chExt cx="1578240" cy="1073160"/>
          </a:xfrm>
        </p:grpSpPr>
        <p:pic>
          <p:nvPicPr>
            <p:cNvPr id="167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6797520" y="5052960"/>
              <a:ext cx="15782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6921360" y="5153040"/>
              <a:ext cx="1338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Разумеется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Скругленный прямоугольник 6"/>
          <p:cNvGrpSpPr/>
          <p:nvPr/>
        </p:nvGrpSpPr>
        <p:grpSpPr>
          <a:xfrm>
            <a:off x="2041560" y="5052960"/>
            <a:ext cx="1585800" cy="1073160"/>
            <a:chOff x="2041560" y="5052960"/>
            <a:chExt cx="1585800" cy="1073160"/>
          </a:xfrm>
        </p:grpSpPr>
        <p:pic>
          <p:nvPicPr>
            <p:cNvPr id="170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2041560" y="5052960"/>
              <a:ext cx="15858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168640" y="5153040"/>
              <a:ext cx="1339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Именно тогд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Скругленный прямоугольник 7"/>
          <p:cNvGrpSpPr/>
          <p:nvPr/>
        </p:nvGrpSpPr>
        <p:grpSpPr>
          <a:xfrm>
            <a:off x="3664080" y="5048280"/>
            <a:ext cx="1577880" cy="1071360"/>
            <a:chOff x="3664080" y="5048280"/>
            <a:chExt cx="1577880" cy="1071360"/>
          </a:xfrm>
        </p:grpSpPr>
        <p:pic>
          <p:nvPicPr>
            <p:cNvPr id="173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3664080" y="5048280"/>
              <a:ext cx="15778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787920" y="5145120"/>
              <a:ext cx="133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Однако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Управляющая кнопка: далее 8"/>
          <p:cNvGrpSpPr/>
          <p:nvPr/>
        </p:nvGrpSpPr>
        <p:grpSpPr>
          <a:xfrm>
            <a:off x="7931160" y="6022800"/>
            <a:ext cx="1054080" cy="719280"/>
            <a:chOff x="7931160" y="6022800"/>
            <a:chExt cx="1054080" cy="719280"/>
          </a:xfrm>
        </p:grpSpPr>
        <p:pic>
          <p:nvPicPr>
            <p:cNvPr id="176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931160" y="6022800"/>
              <a:ext cx="10540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8072280" y="6143760"/>
              <a:ext cx="7718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TextBox 9"/>
          <p:cNvSpPr/>
          <p:nvPr/>
        </p:nvSpPr>
        <p:spPr>
          <a:xfrm>
            <a:off x="768240" y="2276640"/>
            <a:ext cx="77155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b3d17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)Упоминания о море, сплошь покрытом ковром водорослей, встречаются у европейских географов начиная с V века нашей эры. (2)Но настоящим открывателем Саргассова моря был всё-таки Христофор Колумб — во время первого путешествия через Атлантику корабли отважного генуэзца оказались среди такой плотной массы водорослей, что несколько дней едва могли продвигаться. (3) ______ моряки-испанцы из команды Колумба дали название водорослям, а заодно и мор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Скругленный прямоугольник 10"/>
          <p:cNvGrpSpPr/>
          <p:nvPr/>
        </p:nvGrpSpPr>
        <p:grpSpPr>
          <a:xfrm>
            <a:off x="463680" y="5029200"/>
            <a:ext cx="1577880" cy="1073160"/>
            <a:chOff x="463680" y="5029200"/>
            <a:chExt cx="1577880" cy="1073160"/>
          </a:xfrm>
        </p:grpSpPr>
        <p:pic>
          <p:nvPicPr>
            <p:cNvPr id="180" name="Скругленный прямоугольник 10" descr=""/>
            <p:cNvPicPr/>
            <p:nvPr/>
          </p:nvPicPr>
          <p:blipFill>
            <a:blip r:embed="rId7"/>
            <a:stretch/>
          </p:blipFill>
          <p:spPr>
            <a:xfrm>
              <a:off x="463680" y="5029200"/>
              <a:ext cx="15778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84280" y="5129280"/>
              <a:ext cx="133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Хотя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Скругленный прямоугольник 3"/>
          <p:cNvGrpSpPr/>
          <p:nvPr/>
        </p:nvGrpSpPr>
        <p:grpSpPr>
          <a:xfrm>
            <a:off x="749160" y="347760"/>
            <a:ext cx="7407360" cy="1073160"/>
            <a:chOff x="749160" y="347760"/>
            <a:chExt cx="7407360" cy="1073160"/>
          </a:xfrm>
        </p:grpSpPr>
        <p:pic>
          <p:nvPicPr>
            <p:cNvPr id="183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749160" y="347760"/>
              <a:ext cx="7407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71560" y="449280"/>
              <a:ext cx="717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b3d17"/>
                  </a:solidFill>
                  <a:latin typeface="Arial"/>
                </a:rPr>
                <a:t>7. Какое из приведенных ниже слов (сочетаний слов) должно стоять на месте пропуска во втором (2) предложении текста? </a:t>
              </a:r>
              <a:r>
                <a:rPr b="1" i="1" lang="ru-RU" sz="2400" spc="-1" strike="noStrike">
                  <a:solidFill>
                    <a:srgbClr val="7b3d17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Скругленный прямоугольник 4"/>
          <p:cNvGrpSpPr/>
          <p:nvPr/>
        </p:nvGrpSpPr>
        <p:grpSpPr>
          <a:xfrm>
            <a:off x="2041560" y="5072040"/>
            <a:ext cx="1585800" cy="1073160"/>
            <a:chOff x="2041560" y="5072040"/>
            <a:chExt cx="1585800" cy="1073160"/>
          </a:xfrm>
        </p:grpSpPr>
        <p:pic>
          <p:nvPicPr>
            <p:cNvPr id="186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2041560" y="5072040"/>
              <a:ext cx="15858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168640" y="5170320"/>
              <a:ext cx="1339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7b3d17"/>
                  </a:solidFill>
                  <a:latin typeface="Arial"/>
                </a:rPr>
                <a:t>К счастью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Скругленный прямоугольник 5"/>
          <p:cNvGrpSpPr/>
          <p:nvPr/>
        </p:nvGrpSpPr>
        <p:grpSpPr>
          <a:xfrm>
            <a:off x="6797520" y="5052960"/>
            <a:ext cx="1578240" cy="1073160"/>
            <a:chOff x="6797520" y="5052960"/>
            <a:chExt cx="1578240" cy="1073160"/>
          </a:xfrm>
        </p:grpSpPr>
        <p:pic>
          <p:nvPicPr>
            <p:cNvPr id="189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6797520" y="5052960"/>
              <a:ext cx="15782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921360" y="5153040"/>
              <a:ext cx="1338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Разве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Скругленный прямоугольник 6"/>
          <p:cNvGrpSpPr/>
          <p:nvPr/>
        </p:nvGrpSpPr>
        <p:grpSpPr>
          <a:xfrm>
            <a:off x="5284800" y="5052960"/>
            <a:ext cx="1579680" cy="1073160"/>
            <a:chOff x="5284800" y="5052960"/>
            <a:chExt cx="1579680" cy="1073160"/>
          </a:xfrm>
        </p:grpSpPr>
        <p:pic>
          <p:nvPicPr>
            <p:cNvPr id="192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5284800" y="5052960"/>
              <a:ext cx="15796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408640" y="5153040"/>
              <a:ext cx="133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Однако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Скругленный прямоугольник 7"/>
          <p:cNvGrpSpPr/>
          <p:nvPr/>
        </p:nvGrpSpPr>
        <p:grpSpPr>
          <a:xfrm>
            <a:off x="3664080" y="5048280"/>
            <a:ext cx="1577880" cy="1071360"/>
            <a:chOff x="3664080" y="5048280"/>
            <a:chExt cx="1577880" cy="1071360"/>
          </a:xfrm>
        </p:grpSpPr>
        <p:pic>
          <p:nvPicPr>
            <p:cNvPr id="195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3664080" y="5048280"/>
              <a:ext cx="15778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3787920" y="5145120"/>
              <a:ext cx="133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Иными словами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Управляющая кнопка: далее 8"/>
          <p:cNvGrpSpPr/>
          <p:nvPr/>
        </p:nvGrpSpPr>
        <p:grpSpPr>
          <a:xfrm>
            <a:off x="7931160" y="6022800"/>
            <a:ext cx="1054080" cy="719280"/>
            <a:chOff x="7931160" y="6022800"/>
            <a:chExt cx="1054080" cy="719280"/>
          </a:xfrm>
        </p:grpSpPr>
        <p:pic>
          <p:nvPicPr>
            <p:cNvPr id="198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931160" y="6022800"/>
              <a:ext cx="10540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8072280" y="6143760"/>
              <a:ext cx="7718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TextBox 9"/>
          <p:cNvSpPr/>
          <p:nvPr/>
        </p:nvSpPr>
        <p:spPr>
          <a:xfrm>
            <a:off x="768240" y="1844640"/>
            <a:ext cx="77155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b3d17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)Многие тысячелетия эталоном быстроты для человека был бешено мчащийся конь, поэтому изобретение колесницы не могло не тешить (скорости-то до 40 километров в час!) самолюбие наших предков. (2)____ сейчас, когда космонавты облетают Землю со скоростью 30 тысяч километров в час, огромностью скоростей уже никого не удивишь. (3)Достойно удивления другое: не физическая быстрота перемещения вещей и людей, а темп происходящих на планете перемен, темп, уже явно несоизмеримый с природой человека, с привычными для него мерк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Скругленный прямоугольник 10"/>
          <p:cNvGrpSpPr/>
          <p:nvPr/>
        </p:nvGrpSpPr>
        <p:grpSpPr>
          <a:xfrm>
            <a:off x="463680" y="5029200"/>
            <a:ext cx="1577880" cy="1073160"/>
            <a:chOff x="463680" y="5029200"/>
            <a:chExt cx="1577880" cy="1073160"/>
          </a:xfrm>
        </p:grpSpPr>
        <p:pic>
          <p:nvPicPr>
            <p:cNvPr id="202" name="Скругленный прямоугольник 10" descr=""/>
            <p:cNvPicPr/>
            <p:nvPr/>
          </p:nvPicPr>
          <p:blipFill>
            <a:blip r:embed="rId7"/>
            <a:stretch/>
          </p:blipFill>
          <p:spPr>
            <a:xfrm>
              <a:off x="463680" y="5029200"/>
              <a:ext cx="15778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584280" y="5129280"/>
              <a:ext cx="133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А также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Скругленный прямоугольник 3"/>
          <p:cNvGrpSpPr/>
          <p:nvPr/>
        </p:nvGrpSpPr>
        <p:grpSpPr>
          <a:xfrm>
            <a:off x="749160" y="347760"/>
            <a:ext cx="7407360" cy="1073160"/>
            <a:chOff x="749160" y="347760"/>
            <a:chExt cx="7407360" cy="1073160"/>
          </a:xfrm>
        </p:grpSpPr>
        <p:pic>
          <p:nvPicPr>
            <p:cNvPr id="205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749160" y="347760"/>
              <a:ext cx="7407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871560" y="449280"/>
              <a:ext cx="717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b3d17"/>
                  </a:solidFill>
                  <a:latin typeface="Arial"/>
                </a:rPr>
                <a:t>8. Какое из приведенных ниже слов (сочетаний слов) должно стоять на месте пропуска во втором (2) предложении текста? </a:t>
              </a:r>
              <a:r>
                <a:rPr b="1" i="1" lang="ru-RU" sz="2400" spc="-1" strike="noStrike">
                  <a:solidFill>
                    <a:srgbClr val="7b3d17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Скругленный прямоугольник 4"/>
          <p:cNvGrpSpPr/>
          <p:nvPr/>
        </p:nvGrpSpPr>
        <p:grpSpPr>
          <a:xfrm>
            <a:off x="2041560" y="5072040"/>
            <a:ext cx="1585800" cy="1073160"/>
            <a:chOff x="2041560" y="5072040"/>
            <a:chExt cx="1585800" cy="1073160"/>
          </a:xfrm>
        </p:grpSpPr>
        <p:pic>
          <p:nvPicPr>
            <p:cNvPr id="208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2041560" y="5072040"/>
              <a:ext cx="15858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2168640" y="5170320"/>
              <a:ext cx="1339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7b3d17"/>
                  </a:solidFill>
                  <a:latin typeface="Arial"/>
                </a:rPr>
                <a:t>Значит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Скругленный прямоугольник 5"/>
          <p:cNvGrpSpPr/>
          <p:nvPr/>
        </p:nvGrpSpPr>
        <p:grpSpPr>
          <a:xfrm>
            <a:off x="6797520" y="5052960"/>
            <a:ext cx="1578240" cy="1073160"/>
            <a:chOff x="6797520" y="5052960"/>
            <a:chExt cx="1578240" cy="1073160"/>
          </a:xfrm>
        </p:grpSpPr>
        <p:pic>
          <p:nvPicPr>
            <p:cNvPr id="211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6797520" y="5052960"/>
              <a:ext cx="15782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921360" y="5153040"/>
              <a:ext cx="1338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И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Скругленный прямоугольник 6"/>
          <p:cNvGrpSpPr/>
          <p:nvPr/>
        </p:nvGrpSpPr>
        <p:grpSpPr>
          <a:xfrm>
            <a:off x="3664080" y="5078520"/>
            <a:ext cx="1577880" cy="1073160"/>
            <a:chOff x="3664080" y="5078520"/>
            <a:chExt cx="1577880" cy="1073160"/>
          </a:xfrm>
        </p:grpSpPr>
        <p:pic>
          <p:nvPicPr>
            <p:cNvPr id="214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3664080" y="5078520"/>
              <a:ext cx="15778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3787920" y="5175360"/>
              <a:ext cx="133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Между прочи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Скругленный прямоугольник 7"/>
          <p:cNvGrpSpPr/>
          <p:nvPr/>
        </p:nvGrpSpPr>
        <p:grpSpPr>
          <a:xfrm>
            <a:off x="5254560" y="5029200"/>
            <a:ext cx="1584360" cy="1073160"/>
            <a:chOff x="5254560" y="5029200"/>
            <a:chExt cx="1584360" cy="1073160"/>
          </a:xfrm>
        </p:grpSpPr>
        <p:pic>
          <p:nvPicPr>
            <p:cNvPr id="217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5254560" y="5029200"/>
              <a:ext cx="1584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380200" y="5129280"/>
              <a:ext cx="1339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Возможно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Управляющая кнопка: далее 8"/>
          <p:cNvGrpSpPr/>
          <p:nvPr/>
        </p:nvGrpSpPr>
        <p:grpSpPr>
          <a:xfrm>
            <a:off x="7931160" y="6022800"/>
            <a:ext cx="1054080" cy="719280"/>
            <a:chOff x="7931160" y="6022800"/>
            <a:chExt cx="1054080" cy="719280"/>
          </a:xfrm>
        </p:grpSpPr>
        <p:pic>
          <p:nvPicPr>
            <p:cNvPr id="220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931160" y="6022800"/>
              <a:ext cx="10540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8072280" y="6143760"/>
              <a:ext cx="7718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TextBox 9"/>
          <p:cNvSpPr/>
          <p:nvPr/>
        </p:nvSpPr>
        <p:spPr>
          <a:xfrm>
            <a:off x="768240" y="1844640"/>
            <a:ext cx="77155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b3d17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)На «чайках» — лёгких и быстроходных судёнышках воины Киевской Руси, а позднее и казаки из низовьев Днепра пересекали Чёрное море и появлялись у стен Цареграда и берегов Малой Азии, сея панику среди византийцев и турок. (2)_____ название этих судёнышек не имеет никакого отношении к морским птицам. (З)Слово «кайка», трансформировавшееся у славян в «чайку», во всех языках тюркского происхождения означает «лодка, ладья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Скругленный прямоугольник 10"/>
          <p:cNvGrpSpPr/>
          <p:nvPr/>
        </p:nvGrpSpPr>
        <p:grpSpPr>
          <a:xfrm>
            <a:off x="463680" y="5029200"/>
            <a:ext cx="1577880" cy="1073160"/>
            <a:chOff x="463680" y="5029200"/>
            <a:chExt cx="1577880" cy="1073160"/>
          </a:xfrm>
        </p:grpSpPr>
        <p:pic>
          <p:nvPicPr>
            <p:cNvPr id="224" name="Скругленный прямоугольник 10" descr=""/>
            <p:cNvPicPr/>
            <p:nvPr/>
          </p:nvPicPr>
          <p:blipFill>
            <a:blip r:embed="rId7"/>
            <a:stretch/>
          </p:blipFill>
          <p:spPr>
            <a:xfrm>
              <a:off x="463680" y="5029200"/>
              <a:ext cx="15778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584280" y="5129280"/>
              <a:ext cx="133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7b3d17"/>
                  </a:solidFill>
                  <a:latin typeface="Arial"/>
                </a:rPr>
                <a:t>Видимо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17:20:59Z</dcterms:created>
  <dc:creator>Ахметшина</dc:creator>
  <dc:description/>
  <dc:language>en-US</dc:language>
  <cp:lastModifiedBy>Home</cp:lastModifiedBy>
  <dcterms:modified xsi:type="dcterms:W3CDTF">2016-11-20T18:01:45Z</dcterms:modified>
  <cp:revision>54</cp:revision>
  <dc:subject/>
  <dc:title>Слайд 1</dc:title>
</cp:coreProperties>
</file>