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3.jpeg" ContentType="image/jpeg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2E5-4E37-484D-870E-D7D2289F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E70-CBD5-405C-8075-2D58BE8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B26-4FAC-497D-8C53-B5AD2CA1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F86-2EB2-448F-9991-270AB9AD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AB21-E55B-4859-B02D-813CD80D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6D7A-5518-4C1F-AC21-BED5DCB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FA91-665A-453C-A988-220B501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B668-FF53-4378-A8B3-B0AEED2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5F94-8967-4290-A8CF-4BE18D1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FF96-66DB-461B-963A-FA01599C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234-931C-4605-BCE5-9D2A154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115-CBE2-49AA-AF78-5B1157DD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352-EC08-4EE5-B1E7-ADCE6E5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16F3-D423-49E8-8B37-353A6A6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1B32-2E6F-4A70-8F43-8E220F9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C87C-223E-4604-A229-81EF0842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10E8-B8CE-4BC2-AA71-39F83053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C8FB8-D54F-479F-9F7C-75B6FC18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8D2C7-BC86-4A4B-AD83-80469530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553FE-A165-40BF-927A-19275F94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B654E-7CE7-4E69-A41B-FE6D0BB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C5037-0B91-4900-A3FC-FC7F3B4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313-F0F5-4E7B-B6EB-ACC664B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166B2-75ED-44D8-9873-17FB405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2B05A-C4C5-480E-9475-BD70F74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15CD3-BA79-4508-BD50-42759BE8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09F7B-E4AA-4C4A-88D2-006602E6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81BD2-73CB-4C60-8A39-6DF54DE8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90930-BD0B-4A67-A82E-C24632A8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3E63F-CD60-4B46-8B4F-FA64CAD7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BE51-4AD3-4DA8-A4DD-C7AF40B4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E1E6-4EB8-4868-AD7B-C7F57C13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D48E-F505-499A-95A8-42274C9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946-2674-4975-8F34-2BE1C92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90043-2BF2-402D-830A-AEB728C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DBF9-9166-49D2-8532-0ADA215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5F10-3900-4AE8-8EB3-DD16012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2BAD-E952-434D-839D-357BE0A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DF63-A42C-4509-9521-6DD44E2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D63A-0CB5-4262-9E4F-44C91A4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2E26-638C-4CDB-A290-79AA634C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436E-7301-4CEE-9D8E-13288A60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3E42-C204-4F8A-BC64-98C11A3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F6C-970F-4E85-8DE5-A1384FC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4E-E2B7-4BA4-A2FE-F6C208F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7FE-AD8B-4E33-8FAB-883F243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714-2A9C-4A1A-8D97-6B659CE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C05-E3C5-4840-AAF1-861A1561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02C-B318-4228-A25C-2296B425807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30AF-8417-4172-8439-CF0D9B62899A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8EC-77E6-4B16-A025-0679C6F9C29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05CC-2126-4442-B761-45DFB50A23E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0" y="3352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«</a:t>
            </a: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Моя безопасность»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Давайте познакомимся!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8" name="Picture 2" descr="C:\Users\кристина\Pictures\64993025_school1004.jpg"/>
          <p:cNvPicPr/>
          <p:nvPr/>
        </p:nvPicPr>
        <p:blipFill>
          <a:blip r:embed="rId1"/>
          <a:stretch/>
        </p:blipFill>
        <p:spPr>
          <a:xfrm>
            <a:off x="1143000" y="2286000"/>
            <a:ext cx="2979720" cy="3494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1640" y="2057040"/>
            <a:ext cx="34196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6300"/>
                </a:solidFill>
                <a:latin typeface="Arial Black"/>
              </a:rPr>
              <a:t>Здравствуйте, дорогие ребята! Я учёный Всезнамус расскажу вам о правилах личной безопасности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Где вас  подстерегает опасность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1" name="Picture 2" descr="C:\Users\кристина\Pictures\3d-artwork.jpg"/>
          <p:cNvPicPr/>
          <p:nvPr/>
        </p:nvPicPr>
        <p:blipFill>
          <a:blip r:embed="rId1"/>
          <a:stretch/>
        </p:blipFill>
        <p:spPr>
          <a:xfrm>
            <a:off x="6026040" y="4681440"/>
            <a:ext cx="2286000" cy="1657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кристина\Pictures\nic3b1o-y-pc-copia.jpg"/>
          <p:cNvPicPr/>
          <p:nvPr/>
        </p:nvPicPr>
        <p:blipFill>
          <a:blip r:embed="rId2"/>
          <a:stretch/>
        </p:blipFill>
        <p:spPr>
          <a:xfrm>
            <a:off x="858960" y="4419720"/>
            <a:ext cx="2408040" cy="1919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кристина\Pictures\safety14.gif"/>
          <p:cNvPicPr/>
          <p:nvPr/>
        </p:nvPicPr>
        <p:blipFill>
          <a:blip r:embed="rId3"/>
          <a:stretch/>
        </p:blipFill>
        <p:spPr>
          <a:xfrm>
            <a:off x="6192720" y="1676520"/>
            <a:ext cx="1952640" cy="2157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Users\кристина\Pictures\safety07.gif"/>
          <p:cNvPicPr/>
          <p:nvPr/>
        </p:nvPicPr>
        <p:blipFill>
          <a:blip r:embed="rId4"/>
          <a:stretch/>
        </p:blipFill>
        <p:spPr>
          <a:xfrm>
            <a:off x="858960" y="1905120"/>
            <a:ext cx="2189160" cy="2162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C:\Users\кристина\Pictures\12415935931.jpg"/>
          <p:cNvPicPr/>
          <p:nvPr/>
        </p:nvPicPr>
        <p:blipFill>
          <a:blip r:embed="rId5"/>
          <a:stretch/>
        </p:blipFill>
        <p:spPr>
          <a:xfrm>
            <a:off x="3581280" y="2610000"/>
            <a:ext cx="210024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024680" cy="156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</a:rPr>
              <a:t>Назови, что опас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Picture 2" descr="C:\Users\кристина\Pictures\photo_306.jpg"/>
          <p:cNvPicPr/>
          <p:nvPr/>
        </p:nvPicPr>
        <p:blipFill>
          <a:blip r:embed="rId1"/>
          <a:stretch/>
        </p:blipFill>
        <p:spPr>
          <a:xfrm>
            <a:off x="609480" y="2209680"/>
            <a:ext cx="7848720" cy="434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Можно-нельз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9" name="Picture 3" descr="C:\Users\кристина\Pictures\Untitled1jpg-071958.jpg"/>
          <p:cNvPicPr/>
          <p:nvPr/>
        </p:nvPicPr>
        <p:blipFill>
          <a:blip r:embed="rId1"/>
          <a:stretch/>
        </p:blipFill>
        <p:spPr>
          <a:xfrm>
            <a:off x="914400" y="1752480"/>
            <a:ext cx="2857680" cy="2152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кристина\Pictures\safety09.gif"/>
          <p:cNvPicPr/>
          <p:nvPr/>
        </p:nvPicPr>
        <p:blipFill>
          <a:blip r:embed="rId2"/>
          <a:stretch/>
        </p:blipFill>
        <p:spPr>
          <a:xfrm>
            <a:off x="5029200" y="1752480"/>
            <a:ext cx="2782800" cy="2152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C:\Users\кристина\Pictures\512199503.jpg"/>
          <p:cNvPicPr/>
          <p:nvPr/>
        </p:nvPicPr>
        <p:blipFill>
          <a:blip r:embed="rId3"/>
          <a:stretch/>
        </p:blipFill>
        <p:spPr>
          <a:xfrm>
            <a:off x="914400" y="41148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C:\Users\кристина\Pictures\73091979_greeting_cards_big.jpg"/>
          <p:cNvPicPr/>
          <p:nvPr/>
        </p:nvPicPr>
        <p:blipFill>
          <a:blip r:embed="rId4"/>
          <a:stretch/>
        </p:blipFill>
        <p:spPr>
          <a:xfrm>
            <a:off x="5535720" y="4079880"/>
            <a:ext cx="23619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Arial Black"/>
              </a:rPr>
              <a:t>До скорых встреч!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419720" y="2313000"/>
            <a:ext cx="3657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Весёлые движения,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Полезные движения,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Кто ими занимается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Достоин уважени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Кто ими занимается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Здоровья набираетс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А кто не занимается,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С болезнями намаетс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2" descr="C:\Users\кристина\Pictures\64993025_school1004.jpg"/>
          <p:cNvPicPr/>
          <p:nvPr/>
        </p:nvPicPr>
        <p:blipFill>
          <a:blip r:embed="rId1"/>
          <a:stretch/>
        </p:blipFill>
        <p:spPr>
          <a:xfrm>
            <a:off x="1143000" y="2286000"/>
            <a:ext cx="297972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3:49:55Z</dcterms:created>
  <dc:creator>Кристинчик</dc:creator>
  <dc:description/>
  <dc:language>en-US</dc:language>
  <cp:lastModifiedBy>Кристинчик</cp:lastModifiedBy>
  <dcterms:modified xsi:type="dcterms:W3CDTF">2011-10-30T11:16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