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043-3FC5-43D2-B1EA-A9067699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3C03-544D-4EA8-95FF-11B7D33B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A66-B0CD-4854-BAD8-D85BB8FF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5515-B3BE-40B6-818B-94E10004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16F3-5058-4CA9-AFC1-42BF8773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53F2-D360-4E94-87ED-BEF518AC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CAB-9B99-4CA1-B3AB-0A5279F3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F0AA-9497-40D5-96E9-F2411843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010B-14B5-48A4-BDAD-3684A4FB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E73F-0E1F-44E0-B5CB-2C5C2EFD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03D-671E-44DE-81FA-B9A1A8E3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02EF-E3AB-463B-9517-ED70C8FC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DE0B-AFB6-4112-BF3E-4FA936CE2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Зураб Церетели</a:t>
            </a:r>
            <a:br>
              <a:rPr sz="54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 Макаров А.Д., преподаватель Тюменского нефтегазового колледжа имени Ю.Г.Эр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155840" cy="6264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43280" y="281160"/>
            <a:ext cx="83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нумент Поб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сота обелис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ставляет 141,8 ме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1 дециметру 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ждый д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08360" y="587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7280" y="5805360"/>
            <a:ext cx="78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туя Георгия Победоносца на Поклонной горе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7345080" cy="55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ённо-восстановленная Зурабом Константиновичем Церетели Манежная площадь Москвы с зоной отдыха, сквером, фонтанами, парковой скульпту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Манежная площадь"/>
          <p:cNvPicPr/>
          <p:nvPr/>
        </p:nvPicPr>
        <p:blipFill>
          <a:blip r:embed="rId2"/>
          <a:stretch/>
        </p:blipFill>
        <p:spPr>
          <a:xfrm>
            <a:off x="1403280" y="1700280"/>
            <a:ext cx="63374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рам Христа Спасител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решили воссоздать в 1995 году, много в том проекте выполнено Зурабом Константиновичем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рет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Храм Христа Спасителя"/>
          <p:cNvPicPr/>
          <p:nvPr/>
        </p:nvPicPr>
        <p:blipFill>
          <a:blip r:embed="rId2"/>
          <a:stretch/>
        </p:blipFill>
        <p:spPr>
          <a:xfrm>
            <a:off x="250920" y="260280"/>
            <a:ext cx="4243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Зеленоград Храм Христа Спасителя будут ремонтировать - БезФормата.Ru - Новости"/>
          <p:cNvPicPr/>
          <p:nvPr/>
        </p:nvPicPr>
        <p:blipFill>
          <a:blip r:embed="rId2"/>
          <a:stretch/>
        </p:blipFill>
        <p:spPr>
          <a:xfrm>
            <a:off x="755640" y="260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50760" y="6040440"/>
            <a:ext cx="68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рам Христа Спас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Сносить ли Церетели. ФОТО"/>
          <p:cNvPicPr/>
          <p:nvPr/>
        </p:nvPicPr>
        <p:blipFill>
          <a:blip r:embed="rId2"/>
          <a:stretch/>
        </p:blipFill>
        <p:spPr>
          <a:xfrm>
            <a:off x="755640" y="981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712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итраж, станция метро «Парк Побед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Открытие памятника Петру Великому в Москве - Праздничное аге…"/>
          <p:cNvPicPr/>
          <p:nvPr/>
        </p:nvPicPr>
        <p:blipFill>
          <a:blip r:embed="rId2"/>
          <a:stretch/>
        </p:blipFill>
        <p:spPr>
          <a:xfrm>
            <a:off x="324000" y="260280"/>
            <a:ext cx="8569080" cy="5713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71760" y="5967360"/>
            <a:ext cx="59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мятник Петру I. Воздвигнут в 1997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Депутаты Мосгордумы переставят памятник Петру I Главные События в мире"/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́мятник Петру́ I (официальное название — Памятник «В ознаменование 300-летия российского флота») работы Зураба Церетели был воздвигнут в 1997 году по заказу Правительства Москвы на искусственном острове, насыпанном у разделения Москвы-реки и Водоотводного канала. Общая высота памятника 98 метров; самый высокий в России и один из самых высоких скульптурных памятников в ми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779640" y="549000"/>
            <a:ext cx="52196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ретели создал ряд памятников деятелям прошлого и прижизненных скульптурных портретов современников, которые установлены в городах России и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мятник премьер-министру Японии Итиро Хатояме (Токио, Япония,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Памятник премьер-министру Японии Итиро Хатояме (Токио, Япония, 2007)"/>
          <p:cNvPicPr/>
          <p:nvPr/>
        </p:nvPicPr>
        <p:blipFill>
          <a:blip r:embed="rId2"/>
          <a:stretch/>
        </p:blipFill>
        <p:spPr>
          <a:xfrm>
            <a:off x="282600" y="836640"/>
            <a:ext cx="3357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356000" y="260280"/>
            <a:ext cx="447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ульптор-монументалист, президент Российской академии худож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ироко известен как создатель сверкающих мозаик и эмалей, грандиозных композиций из литого и чеканного металла, а также как художник-живописец и активный общественный дея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Зураб Церетели "/>
          <p:cNvPicPr/>
          <p:nvPr/>
        </p:nvPicPr>
        <p:blipFill>
          <a:blip r:embed="rId2"/>
          <a:stretch/>
        </p:blipFill>
        <p:spPr>
          <a:xfrm>
            <a:off x="324000" y="404640"/>
            <a:ext cx="3816360" cy="2544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9280" y="306864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ветский и российский художник и скульптор, Народный художник России и Гру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384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ивописное и графическое наследие ЦЕРЕТЕЛИ огромно – это более 5000 полотен, которые находятся в экспозициях многих музеев, галерей и частных собраний и переполняют мастерские самого художника. 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ВЫСТАВКА ПРОИЗВЕДЕНИЙ З.К.ЦЕРЕТЕЛИ В НОВОСИБИРСКЕ"/>
          <p:cNvPicPr/>
          <p:nvPr/>
        </p:nvPicPr>
        <p:blipFill>
          <a:blip r:embed="rId2"/>
          <a:stretch/>
        </p:blipFill>
        <p:spPr>
          <a:xfrm>
            <a:off x="1187280" y="2637000"/>
            <a:ext cx="3092760" cy="3822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Зураб Церетели - Выставки - Афиша"/>
          <p:cNvPicPr/>
          <p:nvPr/>
        </p:nvPicPr>
        <p:blipFill>
          <a:blip r:embed="rId3"/>
          <a:stretch/>
        </p:blipFill>
        <p:spPr>
          <a:xfrm>
            <a:off x="5292720" y="2708280"/>
            <a:ext cx="25052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Выставка Зураба Церетели - Выставочный зал музея изобразительных исскуств - Тула - Geometria.ru"/>
          <p:cNvPicPr/>
          <p:nvPr/>
        </p:nvPicPr>
        <p:blipFill>
          <a:blip r:embed="rId2"/>
          <a:stretch/>
        </p:blipFill>
        <p:spPr>
          <a:xfrm>
            <a:off x="4284720" y="620640"/>
            <a:ext cx="4405320" cy="5535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Cultivator от Саши Донецкого: Эстрада от Москонцерта, встреча монументалистов и &quot;Псков город-книгочей&quot; : Псковская Лента Новосте"/>
          <p:cNvPicPr/>
          <p:nvPr/>
        </p:nvPicPr>
        <p:blipFill>
          <a:blip r:embed="rId3"/>
          <a:stretch/>
        </p:blipFill>
        <p:spPr>
          <a:xfrm>
            <a:off x="395280" y="620640"/>
            <a:ext cx="3591000" cy="4762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360" y="558972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тины З. Цере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Томск. статьи. В Художественном музее открылась персональная выставка Зураба Церетели"/>
          <p:cNvPicPr/>
          <p:nvPr/>
        </p:nvPicPr>
        <p:blipFill>
          <a:blip r:embed="rId2"/>
          <a:stretch/>
        </p:blipFill>
        <p:spPr>
          <a:xfrm>
            <a:off x="324000" y="333360"/>
            <a:ext cx="835164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Противники памятника Иоанну Павлу II обвиняют Зураба Церетели в нарушении французских законов - Портал-Credo.Ru"/>
          <p:cNvPicPr/>
          <p:nvPr/>
        </p:nvPicPr>
        <p:blipFill>
          <a:blip r:embed="rId2"/>
          <a:stretch/>
        </p:blipFill>
        <p:spPr>
          <a:xfrm>
            <a:off x="5148360" y="333360"/>
            <a:ext cx="3360600" cy="4967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3489120" cy="4967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91840" y="546408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. Высоцк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27840" y="5392800"/>
            <a:ext cx="293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ник Иоан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влу II в го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эрм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7343640" cy="5483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71480" y="5896080"/>
            <a:ext cx="51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арская 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6985080" cy="5657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24560" y="5967360"/>
            <a:ext cx="45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мятник Марине Цветае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Галерея искусств Зураба Церетели на Пречистенке. Галерея искусств Зураба Церетели"/>
          <p:cNvPicPr/>
          <p:nvPr/>
        </p:nvPicPr>
        <p:blipFill>
          <a:blip r:embed="rId2"/>
          <a:stretch/>
        </p:blipFill>
        <p:spPr>
          <a:xfrm>
            <a:off x="1042920" y="123840"/>
            <a:ext cx="4476960" cy="6734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65640" y="324000"/>
            <a:ext cx="16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ар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ап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067280" y="476280"/>
            <a:ext cx="50767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ураб Константинович Церетели родился 4 января 1934 года в Тбилиси (Грузия), в семье инженера-строителя. Творческое влияние на Зураба оказал его дядя – художник Г.Нижарадзе, в чьем доме мальчик проводил много времени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 окончания в 1958 году Тбилисской академии художеств Церетели начал свою творческую карьеру. В 1964 году прошел курс обучения во Франции, где имел возможность общаться с Пабло Пикассо и Марком Шагалом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Международная online система регистрации Арт-обьектов ARTREESTR / Список авторов / 23"/>
          <p:cNvPicPr/>
          <p:nvPr/>
        </p:nvPicPr>
        <p:blipFill>
          <a:blip r:embed="rId2"/>
          <a:stretch/>
        </p:blipFill>
        <p:spPr>
          <a:xfrm>
            <a:off x="684360" y="620640"/>
            <a:ext cx="3235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3068280"/>
            <a:ext cx="843588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и первых работ, принесших мастеру известность, – оформление курортного комплекса в Пицунде (1967), мозаичных и витражных композиций в Тбилиси (1972), монументальный ансамбль детского курортного городка в Адлере (1973) и другие. Также в 1970-1980 годах он работал главным художником МИД СССР, был главным художником Олимпиады-80 и участвовал в создании гостиничного комплекса «Измайлово» (Москва). 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03640" y="189000"/>
            <a:ext cx="3767400" cy="2824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2847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51280" y="189000"/>
            <a:ext cx="52927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ография его монументальных работ в этой технике охватывает территорию нескольких стран мира. Помимо России, его скульптурные произведения есть в Великобритании, Испании, США, Франции, Японии, Бразилии, Грузии и Литве. Среди них наиболее значительные монументы – «Счастье детям мира», «Наука, образование – миру» и «Слеза скорби» в США; «Разрушить стену недоверия» в Лондоне; «Человек и солнце» и «История Грузии» в Тбилиси; «Рождение Нового Человека» в Севилье; «Дружба навеки» в Москве; монумент памяти жертв теракта в Беслане.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Туры в Севилью по низким ценам. Отдых в Севильи 2013 и бронирование отелей в Испании - Туристическая фирма &quot;ЯНА&quot;"/>
          <p:cNvPicPr/>
          <p:nvPr/>
        </p:nvPicPr>
        <p:blipFill>
          <a:blip r:embed="rId2"/>
          <a:stretch/>
        </p:blipFill>
        <p:spPr>
          <a:xfrm>
            <a:off x="179280" y="260280"/>
            <a:ext cx="3529080" cy="270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6240" y="2990880"/>
            <a:ext cx="271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пания. Севиль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мятник Колумбу. 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США в 2006 г. открыт монумент "Слеза скорби" - дар россиян американскому народу в знак памяти жертв терактов 11 сентября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5-тонная бронзовая плита, словно взорванная в сердцевине, возвышается на берегу Гудзона, отделенная рекой от статуи Свободы - национального символа Америк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Форум - СЕГОДНЯ :: Просмотр темы - Пишут, что"/>
          <p:cNvPicPr/>
          <p:nvPr/>
        </p:nvPicPr>
        <p:blipFill>
          <a:blip r:embed="rId2"/>
          <a:stretch/>
        </p:blipFill>
        <p:spPr>
          <a:xfrm>
            <a:off x="1332000" y="1989000"/>
            <a:ext cx="6696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Церетели - собрание картин, скульптур Зураба Церетели - Страница 3 - Форум Москвы"/>
          <p:cNvPicPr/>
          <p:nvPr/>
        </p:nvPicPr>
        <p:blipFill>
          <a:blip r:embed="rId2"/>
          <a:stretch/>
        </p:blipFill>
        <p:spPr>
          <a:xfrm>
            <a:off x="250920" y="260280"/>
            <a:ext cx="8569080" cy="5570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49640" y="5967360"/>
            <a:ext cx="41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нумент "Слеза скорб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893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ще в начале 1990-х годов Церетели переехал в Москву, где, получив поддержку тогдашнего мэра Ю.Лужкова, фактически стал главным монументалистом столицы. Зураб Константинович участвовал в сооружении мемориального комплекса на Поклонной горе и в ряде архитектурно-монументальных проектов – это торгово-рекреационный комплекс «Охотный ряд», скульптурное убранство Манежной площади, памятник «В ознаменование 300-летия российского флота», оформление нескольких новых станций метро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Библиотека изображений &quot;РИА Новости&quot; :: Иллюстрации :: Трудовые отношения"/>
          <p:cNvPicPr/>
          <p:nvPr/>
        </p:nvPicPr>
        <p:blipFill>
          <a:blip r:embed="rId2"/>
          <a:stretch/>
        </p:blipFill>
        <p:spPr>
          <a:xfrm>
            <a:off x="324000" y="189000"/>
            <a:ext cx="8640720" cy="5767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0920" y="6093000"/>
            <a:ext cx="70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мориальный комплекс на Поклонной г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5T18:59:44Z</dcterms:created>
  <dc:creator>User</dc:creator>
  <dc:description/>
  <dc:language>en-US</dc:language>
  <cp:lastModifiedBy>МАКАРОВ А.Д</cp:lastModifiedBy>
  <dcterms:modified xsi:type="dcterms:W3CDTF">2016-11-20T14:52:12Z</dcterms:modified>
  <cp:revision>4</cp:revision>
  <dc:subject/>
  <dc:title>Зураб Церетел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Зураб Церетели">
    <vt:lpwstr>Зураб Церетели</vt:lpwstr>
  </property>
</Properties>
</file>