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63C-1984-4152-9B25-A93AB8B4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162-6988-438B-ACBF-669C56E9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A19-C813-4C51-8A56-CA89FB58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0A7-D99D-4AD9-AE88-3BB26A3B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D3E7-7512-46DA-B72E-3B028057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3002-D010-4B56-B9BF-90C4FBDD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237D-6C6F-4ADF-9168-F8A25F11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3FE6-2986-450A-90D7-86EE66DA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4F9C-0AAC-456F-8F55-0B6F2716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93B0-55D5-4684-A39E-B50A0F2A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D238-731D-45C6-8D08-880E81B2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EF8-39FD-450B-9108-702B9858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DD0F-CEC3-41AC-AE87-FA949F40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754C-5B1B-4DCE-8570-F014B4FB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61CE-04DE-429B-A26D-BA4D6FB5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3255-420F-4693-8216-E1E2A656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6678-2531-4618-A7C2-A9A6D462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EE5-D9CC-4240-BC7F-2758EC53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D04-775A-4346-996F-CDACEEC6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63C-898C-4532-8B78-AC8D7C42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6EC-7C5E-479E-8299-4B67C6B4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135-83E0-4C2B-AA9B-76F0C670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B2B-4752-48BF-970C-B38A5990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126-A636-4882-9A76-20202246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E0C8-20CC-409E-A473-7FBD0F42B2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63000"/>
              <a:ext cx="3623040" cy="6129720"/>
              <a:chOff x="5407920" y="63000"/>
              <a:chExt cx="362304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584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9840"/>
                <a:ext cx="906840" cy="84240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91640"/>
                <a:ext cx="439920" cy="394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500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600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16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1840"/>
                <a:ext cx="523800" cy="326664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6640"/>
                  <a:gd name="textAreaBottom" fmla="*/ 3267360 h 32666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837D-7150-42CC-B870-207CFC8F2B3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1187280" y="189000"/>
            <a:ext cx="5329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Verdana"/>
              </a:rPr>
              <a:t>Акция </a:t>
            </a: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ОДАРИ СЕРДЦЕ ДЕТЯМ…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Picture 6" descr="WWW.OPEN.AZ Версия для печати Романтические картинки на рабо…"/>
          <p:cNvPicPr/>
          <p:nvPr/>
        </p:nvPicPr>
        <p:blipFill>
          <a:blip r:embed="rId1"/>
          <a:stretch/>
        </p:blipFill>
        <p:spPr>
          <a:xfrm>
            <a:off x="250920" y="2276640"/>
            <a:ext cx="2232000" cy="275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АХ,БАНЯ,БАНЯ,БАНЯ МАЛИНОВЫЙ ТЫ ЖАР. - Татьяна, 58 лет, страница 4 - Сеть знакомств Мамба"/>
          <p:cNvPicPr/>
          <p:nvPr/>
        </p:nvPicPr>
        <p:blipFill>
          <a:blip r:embed="rId2"/>
          <a:stretch/>
        </p:blipFill>
        <p:spPr>
          <a:xfrm>
            <a:off x="6372360" y="260280"/>
            <a:ext cx="2554200" cy="2470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IMG_2744"/>
          <p:cNvPicPr/>
          <p:nvPr/>
        </p:nvPicPr>
        <p:blipFill>
          <a:blip r:embed="rId3"/>
          <a:stretch/>
        </p:blipFill>
        <p:spPr>
          <a:xfrm>
            <a:off x="3708360" y="3236760"/>
            <a:ext cx="4175280" cy="36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6868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66"/>
                </a:solidFill>
                <a:latin typeface="Verdana"/>
              </a:rPr>
              <a:t>Когда мы пришли…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6979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с встречали Элеонора Вячеславовна и Татьяна Николаевн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IMG_2762"/>
          <p:cNvPicPr/>
          <p:nvPr/>
        </p:nvPicPr>
        <p:blipFill>
          <a:blip r:embed="rId1"/>
          <a:stretch/>
        </p:blipFill>
        <p:spPr>
          <a:xfrm>
            <a:off x="1619280" y="2997360"/>
            <a:ext cx="5364000" cy="36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дар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ы вешаем все дружно сердц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IMG_2751"/>
          <p:cNvPicPr/>
          <p:nvPr/>
        </p:nvPicPr>
        <p:blipFill>
          <a:blip r:embed="rId1"/>
          <a:stretch/>
        </p:blipFill>
        <p:spPr>
          <a:xfrm>
            <a:off x="2268360" y="2276640"/>
            <a:ext cx="547236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доровье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Элеонора Вячеславовна нам рассказала о здоровье и его сбережении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4" descr="IMG_2768"/>
          <p:cNvPicPr/>
          <p:nvPr/>
        </p:nvPicPr>
        <p:blipFill>
          <a:blip r:embed="rId1"/>
          <a:stretch/>
        </p:blipFill>
        <p:spPr>
          <a:xfrm>
            <a:off x="2916360" y="3068640"/>
            <a:ext cx="55656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442800" y="1033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66"/>
                </a:solidFill>
                <a:latin typeface="Verdana"/>
              </a:rPr>
              <a:t>Раскрашивают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24000" y="148428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ы подарили мальчику карандаши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н начал раскрашивать и у него получилось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ы были рады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7" descr="IMG_2766"/>
          <p:cNvPicPr/>
          <p:nvPr/>
        </p:nvPicPr>
        <p:blipFill>
          <a:blip r:embed="rId1"/>
          <a:stretch/>
        </p:blipFill>
        <p:spPr>
          <a:xfrm>
            <a:off x="3635280" y="2924280"/>
            <a:ext cx="40323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11280" y="115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м очень понравилось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ы с удовольствием смотрели как мальчик раскрашивал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4" descr="IMG_2765"/>
          <p:cNvPicPr/>
          <p:nvPr/>
        </p:nvPicPr>
        <p:blipFill>
          <a:blip r:embed="rId1"/>
          <a:stretch/>
        </p:blipFill>
        <p:spPr>
          <a:xfrm>
            <a:off x="1403280" y="1989000"/>
            <a:ext cx="5905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одител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одители с удовольствием присоединились к нашей акции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IMG_2753"/>
          <p:cNvPicPr/>
          <p:nvPr/>
        </p:nvPicPr>
        <p:blipFill>
          <a:blip r:embed="rId1"/>
          <a:stretch/>
        </p:blipFill>
        <p:spPr>
          <a:xfrm>
            <a:off x="2843280" y="2708280"/>
            <a:ext cx="41767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.S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ы бы туда с радостью вернулись к детя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c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овой картинкой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4" descr="IMG_2747"/>
          <p:cNvPicPr/>
          <p:nvPr/>
        </p:nvPicPr>
        <p:blipFill>
          <a:blip r:embed="rId1"/>
          <a:stretch/>
        </p:blipFill>
        <p:spPr>
          <a:xfrm>
            <a:off x="1619280" y="2670120"/>
            <a:ext cx="583236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12:21:40Z</dcterms:created>
  <dc:creator>класс информатики</dc:creator>
  <dc:description/>
  <dc:language>en-US</dc:language>
  <cp:lastModifiedBy>kompik</cp:lastModifiedBy>
  <dcterms:modified xsi:type="dcterms:W3CDTF">2016-11-21T17:37:56Z</dcterms:modified>
  <cp:revision>8</cp:revision>
  <dc:subject/>
  <dc:title>Слайд 1</dc:title>
</cp:coreProperties>
</file>