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879-4383-4CE4-B75D-CA92881E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D9E-B31E-45F7-B51B-CC9B2025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CDE-9979-4FF8-B3C2-832338EA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648-090A-40AD-90E9-AE1D3E88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0A8-6A23-43A0-B3B0-3507A6BD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FC2-8DB4-445E-85E5-3107F004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D66-1E41-4914-88CF-7C588375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6FD-61B2-4F6C-B03E-3CEA2853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AB4-55F0-4B82-BF72-E7C54739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B12-D7CA-43CC-B00E-9EB9667B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253-AA63-41B4-8CBE-C21B733F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55D-6CA8-4B9D-8448-9D1FFF2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109B-14C3-485D-B243-838982F02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zbukalogopeda.ucoz.ru/index/0-20" TargetMode="External"/><Relationship Id="rId2" Type="http://schemas.openxmlformats.org/officeDocument/2006/relationships/hyperlink" Target="http://azbukalogopeda.ucoz.ru/index/0-20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comic"/>
              </a:rPr>
              <a:t>Артикуляционная гимнастика для звука 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4897440" cy="316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439640" cy="1140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2000" y="4745520"/>
            <a:ext cx="25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знецова Т.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Вкусное варен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Вырабатывать движение широкой передней части языка вверх и положение языка, близкое к форме чашечки, которое он принимает при произнесении шипящих зву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егка приоткрыть рот и широким передним краем языка облизать верхнюю губу, делая движение языком сверху вниз, но не из стороны в сторону. Следить, чтобы работал только язык, а нижняя челюсть не помогала, не «подсаживала» язык наверх — она должна быть неподвижной (можно придерживать её пальцем). Язык должен быть широким, боковые края его касаются углов рта. Если упражнение не получается, нужно вернуться к упражнению «Наказать непослушный язык». Как только язык станет распластанным, нужно поднять его наверх и завернуть на верхнюю губ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1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Барабанщ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Укреплять мышцы кончика языка, вырабатывать подъем языка вверх и умение делать кончик языка напряж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ыбнуться, открыть рот и постучать кончиком языка по верхним альвеолам, многократно и отчетливо произнося звук, напоминающий английский звук [д]: д-д-д… Сначала звук [д] произносить медленно, постепенно убыстрять темп. Рот должен быть все время открыт, губы в улыбке, нижняя челюсть неподвижна; работает только язык. Следить, чтобы звук [д] носил характер четкого удара – не был хлюпающим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938240"/>
            <a:ext cx="403848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ртикуляционный уклад звука  “Р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·    положение губ нейтраль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·    зубы сближены до расстояния 4-5 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·    кончик языка поднят к альвеолам верхних зубов – он напряжен и вибриру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·    спинка языка опуще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·    задняя часть языка отодвинута назад и слегка приподнята по направлению к мягкому неб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·    боковые края языка прижаты к верхним коренным зуб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·    сильная струя воздуха проходит посереди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·    голосовые складки сомкнуты – производят гол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произнесении звука “Рь” положение органов артикуляции сходное, но губы растягиваются в стороны больше, спинка языка поднимаются немного выше к твердому небу и вперед, а задняя часть языка продвинута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Лошад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Укреплять мышцы языка и вырабатывать подъем языка вв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ыбнуться, показать зубы, приоткрыть рот и пощелкать кончиком языка (как лошадка цокает копытами). Упражнение сначала выполняется в медленном темпе, потом быстрее. Нижняя челюсть не должна двигаться; работает только язы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259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Маляр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Отрабатывать движение языка вверх и его подви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ыбнуться, открыть рот и «погладить» кончиком языка твердое небо, делая движения языком вперед-назад. Губы и нижняя челюсть должны быть неподвижны. Следить, чтобы кончик языка доходил до внутренней поверхности верхних зубов, когда он продвигается вперед, и не высовывается изо 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2736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Грибок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Вырабатывать подъем языка вверх, растягивать подъязычную связку (уздеч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ыбнуться, показать зубы, приоткрыть рот и, прижав широкий язык всей плоскостью к небу, широко открыть рот. (Язык будет напоминать тонкую шляпку грибка, а растянутая подъязычная связка — его ножку). Следить, чтобы губы были в положении улыбки. Боковые края языка должны быть прижаты одинаково плотно — ни одна половинка не должна опускаться. При повторении упражнения надо открывать рот, ш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77040" y="1989000"/>
            <a:ext cx="2982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Гармош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Укрепить мышцы языка. Растягивать подъязычную узде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ыбнуться, приоткрыть рот, приклеить язык к верхнему нёбу и, не отпуская языка, закрывать и открывать рот. Губы находятся в положении улыбки. Следить, чтобы губы были неподвижны, когда открывается рот. Открывать и закрывать рот, удерживая его в каждом положении под счёт от 3 - 5. Следить, чтобы при открытии рта не провисала одна из сторон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2063880"/>
            <a:ext cx="40384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Фоку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Вырабатывать подъем языка вверх, умение придавать языку форму ковшика и направлять воздушную струю посередине язы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лыбнуться, приоткрыть рот, положить широкий передний край языка на верхнюю губу так, чтобы боковые края его были прижаты, а посередине языка был желобок, и сдуть ватку, положенную на кончик носа. Воздух при этом должен идти посередине языка, тогда ватка полетит вверх. Следить, чтобы нижняя челюсть была неподвижной. Боковые края языка должны быть прижаты к верхней губе; посередине образуется щель, в которую идет воздушная струя. Если это не получается, можно слегка придержать язык. Нижняя губа не должна подворачиваться и натягиваться на нижние зу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Чистим зуб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Вырабатывать подъем языка вверх и умение владеть язы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око открыть рот и кончиком языка «почистить» верхние зубы с внутренней стороны, делая движения языком из стороны в сторону. Верхние и нижние зубы видны. Следить, чтобы кончик языка не высовывался, не загибался внутрь, а находился у корней верхних зубов. Нижняя челюсть неподвижна; работает только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605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Индю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Вырабатывать подъем языка вверх, подвижность его передней ч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ткрыть рот, положить язык на верхнюю губу и производить движения широким передним краем языка по верхней губе вперед и назад, стараясь не отрывать язык от губы — как бы поглаживать ее. Сначала производить медленные движения, потом убыстрить темп и добавить голос, пока не послышится бл-бл (как индюк болбочет). Следить, чтобы язык был широким и не сужался. Чтобы движения языком были вперед-назад, а не из стороны в сторону. Язык должен «облизывать» верхнюю губу, а не выбрасываться впере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060640"/>
            <a:ext cx="40384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4:02:37Z</dcterms:created>
  <dc:creator>роман</dc:creator>
  <dc:description/>
  <dc:language>en-US</dc:language>
  <cp:lastModifiedBy>роман</cp:lastModifiedBy>
  <dcterms:modified xsi:type="dcterms:W3CDTF">2015-05-26T15:49:06Z</dcterms:modified>
  <cp:revision>4</cp:revision>
  <dc:subject/>
  <dc:title>Артикуляционная гимнастика для звука Р</dc:title>
</cp:coreProperties>
</file>