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0A4-FBF6-4EC7-81F9-6FC88BAE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13E-E0AF-45E5-B3BE-754C5DFE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A77-1099-45D1-8C03-1E1F69E9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B32-0585-4F04-BC19-02740013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5B3-B01D-4EE5-9B1B-66C2C20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A16-9A16-4833-9FF2-7B52F4B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E0C-356A-4970-9E83-DEB7FF6B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A90-E74E-4BE8-A4D1-F9DC767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B6C-62F3-4543-A017-B34CADEE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730-E4C3-4ED5-9F28-E71C018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A6E-3258-48F9-9080-3B8F6C8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76C-31CB-40BC-9B5E-B2B56473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AC8B-AF15-40B2-9972-3360C4DB3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75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второй половины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столетия чай становится традиционным купеческим напитком. А с конца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трудно было найти трактир любого достоинства, где бы не подавался чай. В России, однако, в силу устойчивых местных традиций, возникли свои национальные особенности употребления чая и его серв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Каким должен быть  настоящий</a:t>
            </a:r>
            <a:br>
              <a:rPr sz="4000"/>
            </a:b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русский 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– первых, настоящий чай  должен быть не только хорошего сорта, без примесей, но и крепкий, его не следует жалеть на заварку. Он должен, как писал Пушкин, бежать по чашкам темною стру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том же говорит и друг Пушкина поэт П.А. Вяземский: по его словам, чай должен быть "не жидкий, как вода... но густой, душисты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ник В.А. Милашевский говорил: "Разве можно что-то почувствовать, если ты не выпил крепкого душистого чаю. Чай - это взлет душ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-вторых, чай должен быть горяч. "Истинные любители чаю... - объясняет Кокорев, - пьют его с толком, даже с чувством, то есть совершенно горячий, когда он проникает во все поры тела и понемногу погружает нервы в сладостное онемени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ретье условие "настоящего чая" - пить его нужно много; "по-настоящему" напившийся чая человек говорил о себе, что он "усидел самовар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Чай по – старорусски горя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вымытый заварной фарфоровый чайник перед использованием сполоснуть кипятком и слегка подержать закрытым крыш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ыпать заварку в нужном количестве из расчета 1 чайная ложка  на порцию и залить кипятком примерно на 1/3 чайника. Прикрыть на 5 минут крышкой и салф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тем долить в чайник доверху кипяток и перемешать. Разлить чай в чашки из расчета 50мл заварки на порцию и долить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д, варенье и сахар (лучше кусковой) подать к чаю отдельно. Так же отдельно можно подать к чаю горячие сливки или молоко с пе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57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сское чаепитие отличалось особой сердечностью, открытостью и простотой во взаимоотношениях хозяев и г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России  хозяева предлагали гостям за чайным столом чувствовать себя свободно - "без церемоний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rcRect l="10610" t="14940" r="12735" b="21395"/>
          <a:stretch/>
        </p:blipFill>
        <p:spPr>
          <a:xfrm>
            <a:off x="4356000" y="642960"/>
            <a:ext cx="4608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4648320" y="1616040"/>
            <a:ext cx="4476600" cy="4981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 началу ХХ века чай проник практически во все слои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итуал чаепития в России стал столь же повсеместно распространенным и любимым всеми сословиями, как и на родине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гласно статистике Россия по потреблению чая занимает третье место в мире, уступая лишь Китаю и Индии, а каждый второй россиянин пьет чай, по крайней мере, трижды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цены чаепития с традиционным самоваром нашли  отражение в литературных произведениях,  в творчестве многих русских художников и народных  декоративных издел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В результате исследования я выясн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чай в Россию был привезён в 1638 году от монгольского х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рала исторические сведения о том, как традиция чаепития стала для россиян националь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нала об особенностях русского чаепития и сервировки чайного ст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настоящий русский чай должен быть горячим, крепким и его должно быт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Репродукции картин русских художников, использованные в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507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устодиев «Красав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Первунинский «Чаепитие в сиреневом са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Ведерников «Натюрмо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 Грабарь «Утренний час, подснеж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Коровин. «За чайным столом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tk-podvori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pravmi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ede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ochi.org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2709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Georgia"/>
              </a:rPr>
              <a:t>Тема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806436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«Пейте ч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мой друг стари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абывая бег мину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улат Окуд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ть, как появился чай 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традиция чаепития стала для россиян национа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ть об особенностях русского чаепития и сервировки чайного ст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появился чай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информацию  об особенностях русского чаеп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 и технологию его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й был впервые привезен в Россию только в 1638 году, его привез в дар государю Московскому Михаилу Федоровичу от монгольского хана боярский сын Василий Стар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ол отказывался от такого подарка: московский царь одарил Алтын - хана соболями и другими ценными дарами, а в ответ... сушёная трав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ков всю дорогу из Монголии в Москву «убивался» по поводу крайне неудачной сделки. К его величайшему удивлению напиток понравился московскому царю, и вскоре наша страна стала регулярно ввозить чай.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485784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то, что в России чай распространился в разных социальных слоях достаточно рано, еще в конц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чал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веков он был преимущественно дворянским напит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и годы в Западной Европе чай вошел в моду именно в аристократической среде и стал  символом красив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8804" t="16556" r="10971" b="21395"/>
          <a:stretch/>
        </p:blipFill>
        <p:spPr>
          <a:xfrm>
            <a:off x="4716360" y="2100240"/>
            <a:ext cx="44276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95280" y="0"/>
            <a:ext cx="514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же к началу XIX века выработался русский ритуал чаепития. Самовар ставился либо на небольшой самоварный столик, либо прямо на поднос в конце большого стола, по левую руку от хозяй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ай разливала из самовара хозяйка или старшая дочь хозяина в отсутствии хозяйки. Это правило было подсказано опытом: разливать чай должен всего один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0" y="1052640"/>
            <a:ext cx="423072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Откуда импортировался ч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конца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чай получали из Китая в обмен на  лен, кожи и меха. Чайная торговля, была выгодна русскому правительству, поскольку пошлина на его ввоз была очень высока. Это было еще одной причиной высоких цен на чай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т почему еще в начале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в дворянских усадьбах хозяйка обычно хранила этот ценный продукт не в кладовой, а в собственной спальне, в комоде. Для этого использовались специальные ларцы-чайницы, обитые изнутри свинцовой фольг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плоть до начала ХХ века он оставался очень недешевым и преимущественно городским напитком. В крестьянской же среде чай всегда считался дорогим удовольствием и употреблялся лишь в богатых семьях. Поэтому чаепитие в народе представлялось одним из символов зажиточной, благополу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6314" t="2211" r="17725" b="11860"/>
          <a:stretch/>
        </p:blipFill>
        <p:spPr>
          <a:xfrm>
            <a:off x="179280" y="333360"/>
            <a:ext cx="4540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9:56Z</dcterms:created>
  <dc:creator>Павел</dc:creator>
  <dc:description/>
  <dc:language>en-US</dc:language>
  <cp:lastModifiedBy>Customer</cp:lastModifiedBy>
  <dcterms:modified xsi:type="dcterms:W3CDTF">2013-03-02T10:09:20Z</dcterms:modified>
  <cp:revision>27</cp:revision>
  <dc:subject/>
  <dc:title>Слайд 1</dc:title>
</cp:coreProperties>
</file>