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40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A69B2-7B61-4C86-BA81-D8E2D16CEE8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AFD5E-389B-4ECE-A8A8-830D91DC3E5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9A072-F470-48B7-B64A-6084EE8A4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0484E-306A-4776-8A0B-65CB9ABFA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A7655-A0A1-49A5-A638-7C9F21960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38B67-A90A-4118-A1E1-9ACE981F4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AC633-E55A-4C21-AD70-28553A029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6D120-3B90-4915-A425-DDFA2DDA0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51AAC-B71E-4EFC-B8EF-C1CBD1BE0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D92CD-2EF4-4821-94F1-6B3432103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49E61-9278-418A-81A3-F06DD20BE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521F9-37FB-40B4-A778-C598E0261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399FF-FC7B-45E6-A532-23E40368E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77DDA-DB90-4D47-B6E1-03EE72940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9510C-E2A5-477A-A829-3FF76F20A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91443-1991-4F56-9A82-3FC69EA97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5ED34-FA0A-4777-923F-D7ED54434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5AA73-152C-4402-BFD3-CAFDB5F5F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9EB67-CCA4-4EC9-B572-89DE379FB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5CBA57-C93E-41FA-933A-AD7ADF3CC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2C66C84-BA30-44F6-A265-4E2746FD5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0AD7DAC-2B24-41F7-AFD7-50011EBB7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10FBC2A-3F68-48E2-B077-D991F9E07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998CE5-AAA2-4EE0-8A05-E4333FB7E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29AA5-B73A-4B53-BFAE-3C9B72A49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162BDAF-A66C-48B6-85F6-E08D7A550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51A7A4-5E94-433E-9ADE-D1F70A4D8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637000-4260-4BBE-B50C-C8E9DAEC7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C9870CF-C4E5-440F-967F-188A5A7D4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B231194-5A30-49C7-8210-4325146D7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2FA73CB-6F0F-4354-A1FF-ADCC6255A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89EBCB-84F5-45E3-A553-6A9E3179E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24E7F3-40E5-4327-A044-3D7F57209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C5446E-82F4-4079-B5AE-11B9F874B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34590B-CA4B-487B-B817-D0AFF7DCB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6CF10-2D60-4CCA-85CF-70EAC0EF8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D50F2F-C436-44A6-B1D4-FB7553C51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1EE388-C521-4DD2-8089-F68D9D8F0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F8B5D1-8ADF-42E8-94DE-90069FC99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84EF6B-E74D-47D0-8814-9DB3DEF74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6DF2BF-4668-4DA0-8B88-AA3E07EE1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1348C2-0615-462F-9D02-469D20D53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E3D401-FCCB-47F8-B627-F75E22FFE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C7DA10-C82D-4AC0-8910-447512609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9C243B-E151-48C8-9ECD-AA04CAFBD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C5777A4-06BB-428A-B06B-1EB6DD9A9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0E701-5BBC-4B88-9C06-E54AF0C41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BC2BD82-A0A4-459D-AB48-A9B01FA9C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677DED1-AD82-4459-8214-96BCD9808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F8A4FCC-BA4C-4C7A-89FD-C976601EB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E6A4A9F-4191-48C8-AF02-7375EC3BD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4E14866-59E3-48B9-A51B-2C1382347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E38D5D4-943D-4BFD-88F7-291C60920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855B25D-BD0B-479A-9F46-A3ABFC493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694308A-B226-4D05-8332-A86ABD2AA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C360C7C-5D87-4694-9573-CEF4EC7A5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A5EE193-9412-402B-8597-605076F1C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8D34D-74BF-4974-9524-43793A9F0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A3E8CBF-BCC5-48C1-ACCF-1EE28C15B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86777C0-9162-4EA3-8CA8-8A2B2F6FC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57BD705-0B05-4046-A7C5-D02420465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65B964F-D644-44BE-B67E-ECDC222EF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820D7CB-9A19-4583-AADA-8A2A6939C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BA0F29C-C033-4C72-A02B-DB91328E0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C1B3AD1-E884-46D7-9DD9-8DE1F202A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2857F74-28DB-4184-9E21-B8BF9B495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584D380-14FC-4224-8866-4E515F5BC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7515E77-92C9-414C-ACD2-095BCC02C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3C703-E120-4E5D-B39B-461E8BA27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5CE8523-EEFE-4BE1-97F2-8EB6BE444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9F3C617-1E44-4CC8-9CC4-8C46A19D1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4234BD7-DF30-4C46-8277-F86E04455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322DB9B-4D7B-4C42-ABA5-DE0EDCFED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1F035D3-5DCC-4AD1-9D6B-132DD3CCC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7B89FC1-D2B0-4DA6-9413-6BCD5F98E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9DC110F-0A50-4FFF-AE8D-69FEDC3AD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F8E3FD8-84EE-4995-805D-FF2E65A1E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1F44B2B-6CFF-469F-B585-76CC72B6A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B86D1F9-EE25-44DF-8FB4-89A218AAD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74042-F640-4F83-9C75-94ABEC72F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047301B-DD39-4875-A2C9-7E6909E76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E3379D4-95A9-4475-8771-42AC4196F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582F355-2AB8-4DAC-A3BF-1FCA3D404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97654A6-8903-4B63-9EE1-A72D72629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8FE472D-F1B7-425D-87EA-A2FE5264C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10A74-8321-4F61-BDE0-E9F936B76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D3B72-A510-4BC6-BBFC-6C2A7DFB4DD2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9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1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3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0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7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19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15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1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1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0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2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3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25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24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0BBA0-D5C4-4630-B3F8-6E7862FC3CFE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DD314-532A-4D76-94B7-DAEF0BAB2116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8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9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0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1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2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3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14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15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16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1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1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19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1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22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25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39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6E502-B546-49DD-BB2E-2C49248E0243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CD88D-26C8-45A6-8395-F9B8989CB70B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9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7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8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0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1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2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1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E4DAB-6394-4254-8CFB-CE073B3D874C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8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2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9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0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1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8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19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FD89E-AEEB-49F6-8A7F-F9ADCF840402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image" Target="../media/image36.jpeg"/><Relationship Id="rId6" Type="http://schemas.openxmlformats.org/officeDocument/2006/relationships/image" Target="../media/image37.jpeg"/><Relationship Id="rId7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image" Target="../media/image41.jpeg"/><Relationship Id="rId5" Type="http://schemas.openxmlformats.org/officeDocument/2006/relationships/image" Target="../media/image42.jpeg"/><Relationship Id="rId6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image" Target="../media/image19.jpe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image" Target="../media/image25.jpeg"/><Relationship Id="rId7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763280" y="259920"/>
            <a:ext cx="720108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ДЕСЯТЬ ЗАПОВЕДЕЙ </a:t>
            </a:r>
            <a:br>
              <a:rPr sz="3200"/>
            </a:br>
            <a:r>
              <a:rPr b="1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ДЛЯ РОДИТЕЛЕЙ:</a:t>
            </a:r>
            <a:br>
              <a:rPr sz="2700"/>
            </a:b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2268000" y="1988640"/>
            <a:ext cx="676764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8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60" name="Picture 2" descr="D:\Documents and Settings\Игорь\Рабочий стол\Фото - 1 сентября\9b009870-faa4-4fac-b4c3-405a1c10f3c4.jpg"/>
          <p:cNvPicPr/>
          <p:nvPr/>
        </p:nvPicPr>
        <p:blipFill>
          <a:blip r:embed="rId1"/>
          <a:stretch/>
        </p:blipFill>
        <p:spPr>
          <a:xfrm>
            <a:off x="2268360" y="1916280"/>
            <a:ext cx="6551640" cy="494172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2339640" y="259920"/>
            <a:ext cx="61722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9. </a:t>
            </a:r>
            <a:r>
              <a:rPr b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УМЕЙ ЛЮБИТЬ ЧУЖОГО РЕБЕНКА. НИКОГДА НЕ ДЕЛАЙ ЧУЖОМУ ТО,</a:t>
            </a:r>
            <a:br>
              <a:rPr sz="2400"/>
            </a:br>
            <a:r>
              <a:rPr b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ЧТО НЕ ХОТЕЛ БЫ, ЧТОБЫ ДЕЛАЛИ ТВОЕМУ.</a:t>
            </a:r>
            <a:br>
              <a:rPr sz="2400"/>
            </a:br>
            <a:endParaRPr b="0" lang="en-US" sz="2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2286000" y="1844640"/>
            <a:ext cx="67500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8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09" name="Рисунок 3" descr="81.jpg"/>
          <p:cNvPicPr/>
          <p:nvPr/>
        </p:nvPicPr>
        <p:blipFill>
          <a:blip r:embed="rId1"/>
          <a:stretch/>
        </p:blipFill>
        <p:spPr>
          <a:xfrm>
            <a:off x="2268360" y="1844640"/>
            <a:ext cx="3456000" cy="1728720"/>
          </a:xfrm>
          <a:prstGeom prst="rect">
            <a:avLst/>
          </a:prstGeom>
          <a:ln w="0">
            <a:noFill/>
          </a:ln>
        </p:spPr>
      </p:pic>
      <p:pic>
        <p:nvPicPr>
          <p:cNvPr id="410" name="Рисунок 4" descr="100.jpg"/>
          <p:cNvPicPr/>
          <p:nvPr/>
        </p:nvPicPr>
        <p:blipFill>
          <a:blip r:embed="rId2"/>
          <a:stretch/>
        </p:blipFill>
        <p:spPr>
          <a:xfrm>
            <a:off x="5724360" y="1844640"/>
            <a:ext cx="3311640" cy="1728720"/>
          </a:xfrm>
          <a:prstGeom prst="rect">
            <a:avLst/>
          </a:prstGeom>
          <a:ln w="0">
            <a:noFill/>
          </a:ln>
        </p:spPr>
      </p:pic>
      <p:pic>
        <p:nvPicPr>
          <p:cNvPr id="411" name="Рисунок 5" descr="14.jpg"/>
          <p:cNvPicPr/>
          <p:nvPr/>
        </p:nvPicPr>
        <p:blipFill>
          <a:blip r:embed="rId3"/>
          <a:stretch/>
        </p:blipFill>
        <p:spPr>
          <a:xfrm>
            <a:off x="2268360" y="3573360"/>
            <a:ext cx="3456000" cy="1656000"/>
          </a:xfrm>
          <a:prstGeom prst="rect">
            <a:avLst/>
          </a:prstGeom>
          <a:ln w="0">
            <a:noFill/>
          </a:ln>
        </p:spPr>
      </p:pic>
      <p:pic>
        <p:nvPicPr>
          <p:cNvPr id="412" name="Рисунок 6" descr="101.jpg"/>
          <p:cNvPicPr/>
          <p:nvPr/>
        </p:nvPicPr>
        <p:blipFill>
          <a:blip r:embed="rId4"/>
          <a:stretch/>
        </p:blipFill>
        <p:spPr>
          <a:xfrm>
            <a:off x="5724360" y="3573360"/>
            <a:ext cx="3311640" cy="1656000"/>
          </a:xfrm>
          <a:prstGeom prst="rect">
            <a:avLst/>
          </a:prstGeom>
          <a:ln w="0">
            <a:noFill/>
          </a:ln>
        </p:spPr>
      </p:pic>
      <p:pic>
        <p:nvPicPr>
          <p:cNvPr id="413" name="Рисунок 8" descr="90.jpg"/>
          <p:cNvPicPr/>
          <p:nvPr/>
        </p:nvPicPr>
        <p:blipFill>
          <a:blip r:embed="rId5"/>
          <a:stretch/>
        </p:blipFill>
        <p:spPr>
          <a:xfrm>
            <a:off x="5724360" y="5229360"/>
            <a:ext cx="3311640" cy="1500120"/>
          </a:xfrm>
          <a:prstGeom prst="rect">
            <a:avLst/>
          </a:prstGeom>
          <a:ln w="0">
            <a:noFill/>
          </a:ln>
        </p:spPr>
      </p:pic>
      <p:pic>
        <p:nvPicPr>
          <p:cNvPr id="414" name="Рисунок 9" descr="i.jpg"/>
          <p:cNvPicPr/>
          <p:nvPr/>
        </p:nvPicPr>
        <p:blipFill>
          <a:blip r:embed="rId6"/>
          <a:stretch/>
        </p:blipFill>
        <p:spPr>
          <a:xfrm>
            <a:off x="2268360" y="5229360"/>
            <a:ext cx="3456000" cy="150012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0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2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2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2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2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2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8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8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8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8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8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2285640" y="259920"/>
            <a:ext cx="6172200" cy="27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0.</a:t>
            </a:r>
            <a:r>
              <a:rPr b="1" lang="ru-RU" sz="2400" spc="-1" strike="noStrike">
                <a:solidFill>
                  <a:srgbClr val="575f6d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ЛЮБИ СВОЕГО РЕБЕНКА ЛЮБЫМ - НЕТАЛАНТЛИВЫМ, НЕУДАЧЛИВЫМ,</a:t>
            </a:r>
            <a:br>
              <a:rPr sz="2400"/>
            </a:br>
            <a:r>
              <a:rPr b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ВЗРОСЛЫМ. </a:t>
            </a:r>
            <a:br>
              <a:rPr sz="2400"/>
            </a:br>
            <a:r>
              <a:rPr b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ОБЩАЯСЬ С НИМ - РАДУЙСЯ, </a:t>
            </a:r>
            <a:br>
              <a:rPr sz="2400"/>
            </a:br>
            <a:r>
              <a:rPr b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ОТОМУ ЧТО РЕБЕНОК –</a:t>
            </a:r>
            <a:br>
              <a:rPr sz="2400"/>
            </a:br>
            <a:r>
              <a:rPr b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ЭТО ПРАЗДНИК, КОТОРЫЙ ПОКА С ТОБОЙ.</a:t>
            </a:r>
            <a:br>
              <a:rPr sz="2400"/>
            </a:br>
            <a:endParaRPr b="0" lang="en-US" sz="2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2286000" y="2781360"/>
            <a:ext cx="6678720" cy="39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8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17" name="Рисунок 3" descr="91.jpg"/>
          <p:cNvPicPr/>
          <p:nvPr/>
        </p:nvPicPr>
        <p:blipFill>
          <a:blip r:embed="rId1"/>
          <a:stretch/>
        </p:blipFill>
        <p:spPr>
          <a:xfrm>
            <a:off x="2268360" y="2781360"/>
            <a:ext cx="3240360" cy="1655640"/>
          </a:xfrm>
          <a:prstGeom prst="rect">
            <a:avLst/>
          </a:prstGeom>
          <a:ln w="0">
            <a:noFill/>
          </a:ln>
        </p:spPr>
      </p:pic>
      <p:pic>
        <p:nvPicPr>
          <p:cNvPr id="418" name="Рисунок 4" descr="102.jpg"/>
          <p:cNvPicPr/>
          <p:nvPr/>
        </p:nvPicPr>
        <p:blipFill>
          <a:blip r:embed="rId2"/>
          <a:stretch/>
        </p:blipFill>
        <p:spPr>
          <a:xfrm>
            <a:off x="5508720" y="2781360"/>
            <a:ext cx="3456000" cy="1655640"/>
          </a:xfrm>
          <a:prstGeom prst="rect">
            <a:avLst/>
          </a:prstGeom>
          <a:ln w="0">
            <a:noFill/>
          </a:ln>
        </p:spPr>
      </p:pic>
      <p:pic>
        <p:nvPicPr>
          <p:cNvPr id="419" name="Рисунок 5" descr="106.jpg"/>
          <p:cNvPicPr/>
          <p:nvPr/>
        </p:nvPicPr>
        <p:blipFill>
          <a:blip r:embed="rId3"/>
          <a:stretch/>
        </p:blipFill>
        <p:spPr>
          <a:xfrm>
            <a:off x="2268360" y="4437000"/>
            <a:ext cx="3167280" cy="2292480"/>
          </a:xfrm>
          <a:prstGeom prst="rect">
            <a:avLst/>
          </a:prstGeom>
          <a:ln w="0">
            <a:noFill/>
          </a:ln>
        </p:spPr>
      </p:pic>
      <p:pic>
        <p:nvPicPr>
          <p:cNvPr id="420" name="Рисунок 6" descr="105.jpg"/>
          <p:cNvPicPr/>
          <p:nvPr/>
        </p:nvPicPr>
        <p:blipFill>
          <a:blip r:embed="rId4"/>
          <a:stretch/>
        </p:blipFill>
        <p:spPr>
          <a:xfrm>
            <a:off x="5435640" y="4437000"/>
            <a:ext cx="1438200" cy="2292480"/>
          </a:xfrm>
          <a:prstGeom prst="rect">
            <a:avLst/>
          </a:prstGeom>
          <a:ln w="0">
            <a:noFill/>
          </a:ln>
        </p:spPr>
      </p:pic>
      <p:pic>
        <p:nvPicPr>
          <p:cNvPr id="421" name="Рисунок 7" descr="104.jpg"/>
          <p:cNvPicPr/>
          <p:nvPr/>
        </p:nvPicPr>
        <p:blipFill>
          <a:blip r:embed="rId5"/>
          <a:stretch/>
        </p:blipFill>
        <p:spPr>
          <a:xfrm>
            <a:off x="6875640" y="4437000"/>
            <a:ext cx="2143080" cy="22924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nodeType="clickEffect" fill="hold">
                      <p:stCondLst>
                        <p:cond delay="0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2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1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2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2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2195280" y="260280"/>
            <a:ext cx="676908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</a:t>
            </a: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. </a:t>
            </a:r>
            <a:r>
              <a:rPr b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НЕ ЖДИ, ЧТО ТВОЙ РЕБЕНОК БУДЕТ</a:t>
            </a:r>
            <a:r>
              <a:rPr b="1" lang="en-US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ТАКИМ, </a:t>
            </a:r>
            <a:br>
              <a:rPr sz="2400"/>
            </a:br>
            <a:r>
              <a:rPr b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КАК ТЫ, </a:t>
            </a:r>
            <a:br>
              <a:rPr sz="2400"/>
            </a:br>
            <a:r>
              <a:rPr b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ИЛИ  ТАКИМ, КАК ТЫ</a:t>
            </a:r>
            <a:r>
              <a:rPr b="1" lang="en-US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ХОЧЕШЬ.</a:t>
            </a:r>
            <a:br>
              <a:rPr sz="2400"/>
            </a:br>
            <a:r>
              <a:rPr b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ОМОГИ ЕМУ СТАТЬ НЕ ТОБОЙ, А СОБОЙ.</a:t>
            </a:r>
            <a:r>
              <a:rPr b="1" lang="ru-RU" sz="2400" spc="-1" strike="noStrike">
                <a:solidFill>
                  <a:srgbClr val="575f6d"/>
                </a:solidFill>
                <a:latin typeface="Times New Roman"/>
                <a:ea typeface="Times New Roman"/>
              </a:rPr>
              <a:t>	</a:t>
            </a:r>
            <a:br>
              <a:rPr sz="2400"/>
            </a:br>
            <a:endParaRPr b="0" lang="en-US" sz="2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subTitle"/>
          </p:nvPr>
        </p:nvSpPr>
        <p:spPr>
          <a:xfrm>
            <a:off x="2285640" y="2924280"/>
            <a:ext cx="6172200" cy="34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8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63" name="Picture 2" descr="D:\Documents and Settings\Игорь\Рабочий стол\Фото - 1 сентября\108.jpg"/>
          <p:cNvPicPr/>
          <p:nvPr/>
        </p:nvPicPr>
        <p:blipFill>
          <a:blip r:embed="rId1"/>
          <a:stretch/>
        </p:blipFill>
        <p:spPr>
          <a:xfrm>
            <a:off x="2268360" y="2060640"/>
            <a:ext cx="6696360" cy="468144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0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268000" y="260280"/>
            <a:ext cx="66963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. </a:t>
            </a:r>
            <a:r>
              <a:rPr b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НЕ ТРЕБУЙ ОТ РЕБЕНКА ПЛАТЫ ЗА ВСЕ, </a:t>
            </a:r>
            <a:br>
              <a:rPr sz="2400"/>
            </a:br>
            <a:r>
              <a:rPr b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ЧТО ТЫ ДЛЯ НЕГО СДЕЛАЛ. </a:t>
            </a:r>
            <a:br>
              <a:rPr sz="2400"/>
            </a:br>
            <a:r>
              <a:rPr b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ТЫ ДАЛ ЕМУ ЖИЗНЬ, КАК ОН МОЖЕТ ОТБЛАГОДАРИТЬ ТЕБЯ</a:t>
            </a:r>
            <a:r>
              <a:rPr b="1" lang="en-US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?</a:t>
            </a:r>
            <a:br>
              <a:rPr sz="2400"/>
            </a:br>
            <a:r>
              <a:rPr b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ОН ДАСТ ЖИЗНЬ ДРУГОМУ, ТОТ - ТРЕТЬЕМУ, </a:t>
            </a:r>
            <a:br>
              <a:rPr sz="2400"/>
            </a:br>
            <a:r>
              <a:rPr b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И ЭТО НЕОБРАТИМЫЙ ЗАКОН БЛАГОДАРНОСТИ</a:t>
            </a:r>
            <a:r>
              <a:rPr b="1" lang="en-US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2411280" y="2781360"/>
            <a:ext cx="6337440" cy="39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8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66" name="Picture 2" descr="D:\Documents and Settings\Игорь\Рабочий стол\Фото - 1 сентября\iCAA4YW9S.jpg"/>
          <p:cNvPicPr/>
          <p:nvPr/>
        </p:nvPicPr>
        <p:blipFill>
          <a:blip r:embed="rId1"/>
          <a:stretch/>
        </p:blipFill>
        <p:spPr>
          <a:xfrm>
            <a:off x="2411280" y="2781360"/>
            <a:ext cx="2808360" cy="395604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3" descr="D:\Documents and Settings\Игорь\Рабочий стол\Фото - 1 сентября\i.jpg"/>
          <p:cNvPicPr/>
          <p:nvPr/>
        </p:nvPicPr>
        <p:blipFill>
          <a:blip r:embed="rId2"/>
          <a:stretch/>
        </p:blipFill>
        <p:spPr>
          <a:xfrm>
            <a:off x="5867280" y="2781360"/>
            <a:ext cx="2881440" cy="39607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5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5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2124000" y="260280"/>
            <a:ext cx="691200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3. </a:t>
            </a:r>
            <a:r>
              <a:rPr b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НЕ ВЫМЕЩАЙ НА РЕБЕНКЕ СВОИ ОБИДЫ, ЧТОБЫ В СТАРОСТИ НЕ ЕСТЬ</a:t>
            </a:r>
            <a:r>
              <a:rPr b="1" lang="en-US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ГОРЬКИЙ</a:t>
            </a:r>
            <a:r>
              <a:rPr b="1" lang="en-US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ХЛЕБ.  </a:t>
            </a:r>
            <a:br>
              <a:rPr sz="2400"/>
            </a:br>
            <a:r>
              <a:rPr b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ИБО ЧТО ПОСЕЕШЬ, ТО И ВЗОЙДЕТ.</a:t>
            </a:r>
            <a:br>
              <a:rPr sz="2400"/>
            </a:br>
            <a:endParaRPr b="0" lang="en-US" sz="2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subTitle"/>
          </p:nvPr>
        </p:nvSpPr>
        <p:spPr>
          <a:xfrm>
            <a:off x="2286000" y="1844640"/>
            <a:ext cx="67500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8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70" name="Picture 2" descr="D:\Documents and Settings\Игорь\Рабочий стол\Фото - 1 сентября\62.jpg"/>
          <p:cNvPicPr/>
          <p:nvPr/>
        </p:nvPicPr>
        <p:blipFill>
          <a:blip r:embed="rId1"/>
          <a:stretch/>
        </p:blipFill>
        <p:spPr>
          <a:xfrm>
            <a:off x="2268360" y="1844640"/>
            <a:ext cx="3383280" cy="489744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4" descr="D:\Documents and Settings\Игорь\Рабочий стол\Фото - 1 сентября\iCA9R4ZP6.jpg"/>
          <p:cNvPicPr/>
          <p:nvPr/>
        </p:nvPicPr>
        <p:blipFill>
          <a:blip r:embed="rId2"/>
          <a:stretch/>
        </p:blipFill>
        <p:spPr>
          <a:xfrm>
            <a:off x="5651640" y="1844640"/>
            <a:ext cx="3384360" cy="489744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0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68000" y="260280"/>
            <a:ext cx="669636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4. </a:t>
            </a:r>
            <a:r>
              <a:rPr b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НЕ ОТНОСИСЬ К ЕГО ПРОБЛЕМАМ СВЫСОКА. ЖИЗНЬ ДАНА КАЖДОМУ ПО СИЛАМ И БУДЬ УВЕРЕН, ЕМУ ОНА ТЯЖЕЛА НЕ МЕНЬШЕ, ЧЕМ ТЕБЕ,</a:t>
            </a:r>
            <a:r>
              <a:rPr b="1" lang="en-US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А МОЖЕТ БЫТЬ, И БОЛЬШЕ, </a:t>
            </a:r>
            <a:br>
              <a:rPr sz="2400"/>
            </a:br>
            <a:r>
              <a:rPr b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ОСКОЛЬКУ У НЕГО НЕТ ОПЫТА.</a:t>
            </a:r>
            <a:br>
              <a:rPr sz="3200"/>
            </a:br>
            <a:endParaRPr b="0" lang="en-US" sz="2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subTitle"/>
          </p:nvPr>
        </p:nvSpPr>
        <p:spPr>
          <a:xfrm>
            <a:off x="2286000" y="2276640"/>
            <a:ext cx="675000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8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74" name="Рисунок 3" descr="10.jpg"/>
          <p:cNvPicPr/>
          <p:nvPr/>
        </p:nvPicPr>
        <p:blipFill>
          <a:blip r:embed="rId1"/>
          <a:stretch/>
        </p:blipFill>
        <p:spPr>
          <a:xfrm>
            <a:off x="2268360" y="2276640"/>
            <a:ext cx="3383280" cy="1584000"/>
          </a:xfrm>
          <a:prstGeom prst="rect">
            <a:avLst/>
          </a:prstGeom>
          <a:ln w="0">
            <a:noFill/>
          </a:ln>
        </p:spPr>
      </p:pic>
      <p:pic>
        <p:nvPicPr>
          <p:cNvPr id="375" name="Рисунок 4" descr="13.jpg"/>
          <p:cNvPicPr/>
          <p:nvPr/>
        </p:nvPicPr>
        <p:blipFill>
          <a:blip r:embed="rId2"/>
          <a:stretch/>
        </p:blipFill>
        <p:spPr>
          <a:xfrm>
            <a:off x="5651640" y="2276640"/>
            <a:ext cx="3384360" cy="1584000"/>
          </a:xfrm>
          <a:prstGeom prst="rect">
            <a:avLst/>
          </a:prstGeom>
          <a:ln w="0">
            <a:noFill/>
          </a:ln>
        </p:spPr>
      </p:pic>
      <p:pic>
        <p:nvPicPr>
          <p:cNvPr id="376" name="Рисунок 5" descr="9.jpg"/>
          <p:cNvPicPr/>
          <p:nvPr/>
        </p:nvPicPr>
        <p:blipFill>
          <a:blip r:embed="rId3"/>
          <a:stretch/>
        </p:blipFill>
        <p:spPr>
          <a:xfrm>
            <a:off x="5724360" y="3860640"/>
            <a:ext cx="3311640" cy="1428840"/>
          </a:xfrm>
          <a:prstGeom prst="rect">
            <a:avLst/>
          </a:prstGeom>
          <a:ln w="0">
            <a:noFill/>
          </a:ln>
        </p:spPr>
      </p:pic>
      <p:pic>
        <p:nvPicPr>
          <p:cNvPr id="377" name="Рисунок 6" descr="12.jpg"/>
          <p:cNvPicPr/>
          <p:nvPr/>
        </p:nvPicPr>
        <p:blipFill>
          <a:blip r:embed="rId4"/>
          <a:stretch/>
        </p:blipFill>
        <p:spPr>
          <a:xfrm>
            <a:off x="2268360" y="3860640"/>
            <a:ext cx="3456000" cy="1428840"/>
          </a:xfrm>
          <a:prstGeom prst="rect">
            <a:avLst/>
          </a:prstGeom>
          <a:ln w="0">
            <a:noFill/>
          </a:ln>
        </p:spPr>
      </p:pic>
      <p:pic>
        <p:nvPicPr>
          <p:cNvPr id="378" name="Рисунок 7" descr="IMG_1057.JPG"/>
          <p:cNvPicPr/>
          <p:nvPr/>
        </p:nvPicPr>
        <p:blipFill>
          <a:blip r:embed="rId5"/>
          <a:stretch/>
        </p:blipFill>
        <p:spPr>
          <a:xfrm>
            <a:off x="5724360" y="5229360"/>
            <a:ext cx="3311640" cy="1512720"/>
          </a:xfrm>
          <a:prstGeom prst="rect">
            <a:avLst/>
          </a:prstGeom>
          <a:ln w="0">
            <a:noFill/>
          </a:ln>
        </p:spPr>
      </p:pic>
      <p:pic>
        <p:nvPicPr>
          <p:cNvPr id="379" name="Рисунок 8" descr="11.jpg"/>
          <p:cNvPicPr/>
          <p:nvPr/>
        </p:nvPicPr>
        <p:blipFill>
          <a:blip r:embed="rId6"/>
          <a:stretch/>
        </p:blipFill>
        <p:spPr>
          <a:xfrm>
            <a:off x="2268360" y="5229360"/>
            <a:ext cx="3456000" cy="15001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9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3" dur="80"/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4" dur="80"/>
                                        <p:tgtEl>
                                          <p:spTgt spid="3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" dur="80"/>
                                        <p:tgtEl>
                                          <p:spTgt spid="3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2268000" y="260280"/>
            <a:ext cx="669636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5. </a:t>
            </a:r>
            <a:r>
              <a:rPr b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НЕ УНИЖАЙ</a:t>
            </a:r>
            <a:r>
              <a:rPr b="1" lang="en-US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!</a:t>
            </a:r>
            <a:endParaRPr b="0" lang="en-US" sz="2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2286000" y="907920"/>
            <a:ext cx="6750000" cy="58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8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82" name="Рисунок 3" descr="2.jpg"/>
          <p:cNvPicPr/>
          <p:nvPr/>
        </p:nvPicPr>
        <p:blipFill>
          <a:blip r:embed="rId1"/>
          <a:stretch/>
        </p:blipFill>
        <p:spPr>
          <a:xfrm>
            <a:off x="2268360" y="907920"/>
            <a:ext cx="3311640" cy="1729080"/>
          </a:xfrm>
          <a:prstGeom prst="rect">
            <a:avLst/>
          </a:prstGeom>
          <a:ln w="0">
            <a:noFill/>
          </a:ln>
        </p:spPr>
      </p:pic>
      <p:pic>
        <p:nvPicPr>
          <p:cNvPr id="383" name="Рисунок 4" descr="7.jpg"/>
          <p:cNvPicPr/>
          <p:nvPr/>
        </p:nvPicPr>
        <p:blipFill>
          <a:blip r:embed="rId2"/>
          <a:stretch/>
        </p:blipFill>
        <p:spPr>
          <a:xfrm>
            <a:off x="5580000" y="907920"/>
            <a:ext cx="3456000" cy="1729080"/>
          </a:xfrm>
          <a:prstGeom prst="rect">
            <a:avLst/>
          </a:prstGeom>
          <a:ln w="0">
            <a:noFill/>
          </a:ln>
        </p:spPr>
      </p:pic>
      <p:pic>
        <p:nvPicPr>
          <p:cNvPr id="384" name="Рисунок 5" descr="3.jpg"/>
          <p:cNvPicPr/>
          <p:nvPr/>
        </p:nvPicPr>
        <p:blipFill>
          <a:blip r:embed="rId3"/>
          <a:stretch/>
        </p:blipFill>
        <p:spPr>
          <a:xfrm>
            <a:off x="2268360" y="2637000"/>
            <a:ext cx="3311640" cy="1655640"/>
          </a:xfrm>
          <a:prstGeom prst="rect">
            <a:avLst/>
          </a:prstGeom>
          <a:ln w="0">
            <a:noFill/>
          </a:ln>
        </p:spPr>
      </p:pic>
      <p:pic>
        <p:nvPicPr>
          <p:cNvPr id="385" name="Рисунок 6" descr="8.jpg"/>
          <p:cNvPicPr/>
          <p:nvPr/>
        </p:nvPicPr>
        <p:blipFill>
          <a:blip r:embed="rId4"/>
          <a:stretch/>
        </p:blipFill>
        <p:spPr>
          <a:xfrm>
            <a:off x="5580000" y="2637000"/>
            <a:ext cx="3456000" cy="1655640"/>
          </a:xfrm>
          <a:prstGeom prst="rect">
            <a:avLst/>
          </a:prstGeom>
          <a:ln w="0">
            <a:noFill/>
          </a:ln>
        </p:spPr>
      </p:pic>
      <p:pic>
        <p:nvPicPr>
          <p:cNvPr id="386" name="Рисунок 7" descr="1.jpg"/>
          <p:cNvPicPr/>
          <p:nvPr/>
        </p:nvPicPr>
        <p:blipFill>
          <a:blip r:embed="rId5"/>
          <a:stretch/>
        </p:blipFill>
        <p:spPr>
          <a:xfrm>
            <a:off x="2268360" y="4292640"/>
            <a:ext cx="2519640" cy="2436840"/>
          </a:xfrm>
          <a:prstGeom prst="rect">
            <a:avLst/>
          </a:prstGeom>
          <a:ln w="0">
            <a:noFill/>
          </a:ln>
        </p:spPr>
      </p:pic>
      <p:pic>
        <p:nvPicPr>
          <p:cNvPr id="387" name="Рисунок 8" descr="4.jpg"/>
          <p:cNvPicPr/>
          <p:nvPr/>
        </p:nvPicPr>
        <p:blipFill>
          <a:blip r:embed="rId6"/>
          <a:stretch/>
        </p:blipFill>
        <p:spPr>
          <a:xfrm>
            <a:off x="6875640" y="4292640"/>
            <a:ext cx="2160360" cy="2449440"/>
          </a:xfrm>
          <a:prstGeom prst="rect">
            <a:avLst/>
          </a:prstGeom>
          <a:ln w="0">
            <a:noFill/>
          </a:ln>
        </p:spPr>
      </p:pic>
      <p:pic>
        <p:nvPicPr>
          <p:cNvPr id="388" name="Рисунок 9" descr="5.jpg"/>
          <p:cNvPicPr/>
          <p:nvPr/>
        </p:nvPicPr>
        <p:blipFill>
          <a:blip r:embed="rId7"/>
          <a:stretch/>
        </p:blipFill>
        <p:spPr>
          <a:xfrm>
            <a:off x="4788000" y="4292640"/>
            <a:ext cx="2087640" cy="244944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0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8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268000" y="333000"/>
            <a:ext cx="6767640" cy="23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6. </a:t>
            </a:r>
            <a:r>
              <a:rPr b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НЕ ЗАБЫВАЙ, ЧТО САМЫЕ ВАЖНЫЕ ВСТРЕЧИ ЧЕЛОВЕКА - ЕГО ВСТРЕЧИ С ДЕТЬМИ. </a:t>
            </a:r>
            <a:br>
              <a:rPr sz="2400"/>
            </a:br>
            <a:r>
              <a:rPr b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ОБРАЩАЙ БОЛЬШЕ ВНИМАНИЯ НА НИХ – </a:t>
            </a:r>
            <a:br>
              <a:rPr sz="2400"/>
            </a:br>
            <a:r>
              <a:rPr b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МЫ НИКОГДА НЕ МОЖЕМ ЗНАТЬ, </a:t>
            </a:r>
            <a:br>
              <a:rPr sz="2400"/>
            </a:br>
            <a:r>
              <a:rPr b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КОГО МЫ ВСТРЕЧАЕМ В РЕБЕНКЕ.</a:t>
            </a:r>
            <a:br>
              <a:rPr sz="2700"/>
            </a:br>
            <a:endParaRPr b="0" lang="en-US" sz="2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subTitle"/>
          </p:nvPr>
        </p:nvSpPr>
        <p:spPr>
          <a:xfrm>
            <a:off x="2286000" y="2349360"/>
            <a:ext cx="675000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8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91" name="Рисунок 3" descr="60.jpg"/>
          <p:cNvPicPr/>
          <p:nvPr/>
        </p:nvPicPr>
        <p:blipFill>
          <a:blip r:embed="rId1"/>
          <a:stretch/>
        </p:blipFill>
        <p:spPr>
          <a:xfrm>
            <a:off x="2268360" y="2349360"/>
            <a:ext cx="3311640" cy="1428840"/>
          </a:xfrm>
          <a:prstGeom prst="rect">
            <a:avLst/>
          </a:prstGeom>
          <a:ln w="0">
            <a:noFill/>
          </a:ln>
        </p:spPr>
      </p:pic>
      <p:pic>
        <p:nvPicPr>
          <p:cNvPr id="392" name="Рисунок 4" descr="61.jpg"/>
          <p:cNvPicPr/>
          <p:nvPr/>
        </p:nvPicPr>
        <p:blipFill>
          <a:blip r:embed="rId2"/>
          <a:stretch/>
        </p:blipFill>
        <p:spPr>
          <a:xfrm>
            <a:off x="5580000" y="2349360"/>
            <a:ext cx="3456000" cy="1428840"/>
          </a:xfrm>
          <a:prstGeom prst="rect">
            <a:avLst/>
          </a:prstGeom>
          <a:ln w="0">
            <a:noFill/>
          </a:ln>
        </p:spPr>
      </p:pic>
      <p:pic>
        <p:nvPicPr>
          <p:cNvPr id="393" name="Рисунок 5" descr="63.jpg"/>
          <p:cNvPicPr/>
          <p:nvPr/>
        </p:nvPicPr>
        <p:blipFill>
          <a:blip r:embed="rId3"/>
          <a:stretch/>
        </p:blipFill>
        <p:spPr>
          <a:xfrm>
            <a:off x="2268360" y="3789360"/>
            <a:ext cx="3311640" cy="1428840"/>
          </a:xfrm>
          <a:prstGeom prst="rect">
            <a:avLst/>
          </a:prstGeom>
          <a:ln w="0">
            <a:noFill/>
          </a:ln>
        </p:spPr>
      </p:pic>
      <p:pic>
        <p:nvPicPr>
          <p:cNvPr id="394" name="Рисунок 6" descr="64.jpg"/>
          <p:cNvPicPr/>
          <p:nvPr/>
        </p:nvPicPr>
        <p:blipFill>
          <a:blip r:embed="rId4"/>
          <a:stretch/>
        </p:blipFill>
        <p:spPr>
          <a:xfrm>
            <a:off x="5580000" y="3789360"/>
            <a:ext cx="3456000" cy="1428840"/>
          </a:xfrm>
          <a:prstGeom prst="rect">
            <a:avLst/>
          </a:prstGeom>
          <a:ln w="0">
            <a:noFill/>
          </a:ln>
        </p:spPr>
      </p:pic>
      <p:pic>
        <p:nvPicPr>
          <p:cNvPr id="395" name="Рисунок 7" descr="1001.jpg"/>
          <p:cNvPicPr/>
          <p:nvPr/>
        </p:nvPicPr>
        <p:blipFill>
          <a:blip r:embed="rId5"/>
          <a:stretch/>
        </p:blipFill>
        <p:spPr>
          <a:xfrm>
            <a:off x="5580000" y="5229360"/>
            <a:ext cx="3468600" cy="1512720"/>
          </a:xfrm>
          <a:prstGeom prst="rect">
            <a:avLst/>
          </a:prstGeom>
          <a:ln w="0">
            <a:noFill/>
          </a:ln>
        </p:spPr>
      </p:pic>
      <p:pic>
        <p:nvPicPr>
          <p:cNvPr id="396" name="Рисунок 8" descr="65.jpg"/>
          <p:cNvPicPr/>
          <p:nvPr/>
        </p:nvPicPr>
        <p:blipFill>
          <a:blip r:embed="rId6"/>
          <a:stretch/>
        </p:blipFill>
        <p:spPr>
          <a:xfrm>
            <a:off x="2268360" y="5229360"/>
            <a:ext cx="3311640" cy="15127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0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8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8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8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8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2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8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77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1" dur="770" fill="hold"/>
                                        <p:tgtEl>
                                          <p:spTgt spid="39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03" dur="77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05" dur="77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0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2268000" y="259920"/>
            <a:ext cx="67676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7.</a:t>
            </a:r>
            <a:r>
              <a:rPr b="1" lang="ru-RU" sz="2700" spc="-1" strike="noStrike">
                <a:solidFill>
                  <a:srgbClr val="575f6d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НЕ МУЧЬ СЕБЯ, ЕСЛИ НЕ МОЖЕШЬ СДЕЛАТЬ </a:t>
            </a:r>
            <a:br>
              <a:rPr sz="2400"/>
            </a:br>
            <a:r>
              <a:rPr b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ЧТО-ТО ДЛЯ СВОЕГО РЕБЕНКА. 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subTitle"/>
          </p:nvPr>
        </p:nvSpPr>
        <p:spPr>
          <a:xfrm>
            <a:off x="2286000" y="1988640"/>
            <a:ext cx="675000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8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99" name="Рисунок 3" descr="72.jpg"/>
          <p:cNvPicPr/>
          <p:nvPr/>
        </p:nvPicPr>
        <p:blipFill>
          <a:blip r:embed="rId1"/>
          <a:stretch/>
        </p:blipFill>
        <p:spPr>
          <a:xfrm>
            <a:off x="2268360" y="1989000"/>
            <a:ext cx="3456000" cy="2160720"/>
          </a:xfrm>
          <a:prstGeom prst="rect">
            <a:avLst/>
          </a:prstGeom>
          <a:ln w="0">
            <a:noFill/>
          </a:ln>
        </p:spPr>
      </p:pic>
      <p:pic>
        <p:nvPicPr>
          <p:cNvPr id="400" name="Рисунок 4" descr="71.jpg"/>
          <p:cNvPicPr/>
          <p:nvPr/>
        </p:nvPicPr>
        <p:blipFill>
          <a:blip r:embed="rId2"/>
          <a:stretch/>
        </p:blipFill>
        <p:spPr>
          <a:xfrm>
            <a:off x="5724360" y="1989000"/>
            <a:ext cx="3311640" cy="2160720"/>
          </a:xfrm>
          <a:prstGeom prst="rect">
            <a:avLst/>
          </a:prstGeom>
          <a:ln w="0">
            <a:noFill/>
          </a:ln>
        </p:spPr>
      </p:pic>
      <p:pic>
        <p:nvPicPr>
          <p:cNvPr id="401" name="Рисунок 5" descr="70.jpg"/>
          <p:cNvPicPr/>
          <p:nvPr/>
        </p:nvPicPr>
        <p:blipFill>
          <a:blip r:embed="rId3"/>
          <a:stretch/>
        </p:blipFill>
        <p:spPr>
          <a:xfrm>
            <a:off x="2268360" y="4149720"/>
            <a:ext cx="3456000" cy="2579760"/>
          </a:xfrm>
          <a:prstGeom prst="rect">
            <a:avLst/>
          </a:prstGeom>
          <a:ln w="0">
            <a:noFill/>
          </a:ln>
        </p:spPr>
      </p:pic>
      <p:pic>
        <p:nvPicPr>
          <p:cNvPr id="402" name="Рисунок 6" descr="73.jpg"/>
          <p:cNvPicPr/>
          <p:nvPr/>
        </p:nvPicPr>
        <p:blipFill>
          <a:blip r:embed="rId4"/>
          <a:stretch/>
        </p:blipFill>
        <p:spPr>
          <a:xfrm>
            <a:off x="5724360" y="4149720"/>
            <a:ext cx="3311640" cy="257976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0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2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228" dur="2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2286000" y="259920"/>
            <a:ext cx="67500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8. </a:t>
            </a:r>
            <a:r>
              <a:rPr b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РЕБЕНОК - ЭТО НЕ ТИРАН, КОТОРЫЙ ЗАВЛАДЕВАЕТ ВСЕЙ ТВОЕЙ ЖИЗНЬЮ, </a:t>
            </a:r>
            <a:br>
              <a:rPr sz="2400"/>
            </a:br>
            <a:r>
              <a:rPr b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НЕ ТОЛЬКО ПЛОД ОТ ПЛОТИ И КРОВИ. </a:t>
            </a:r>
            <a:br>
              <a:rPr sz="2400"/>
            </a:br>
            <a:r>
              <a:rPr b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ЭТО ТА ДРАГОЦЕННАЯ ЧАША, КОТОРУЮ,</a:t>
            </a:r>
            <a:br>
              <a:rPr sz="2400"/>
            </a:br>
            <a:r>
              <a:rPr b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ЖИЗНЬ ДАЛА ТЕБЕ НА ХРАНЕНИЕ И РАЗВИТИЕ </a:t>
            </a:r>
            <a:br>
              <a:rPr sz="2400"/>
            </a:br>
            <a:r>
              <a:rPr b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В НЕМ ТВОРЧЕСКОГО ОГНЯ. </a:t>
            </a:r>
            <a:br>
              <a:rPr sz="2400"/>
            </a:br>
            <a:r>
              <a:rPr b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ЭТО РАСКРЕПОЩЕННАЯ ЛЮБОВЬ </a:t>
            </a:r>
            <a:br>
              <a:rPr sz="2400"/>
            </a:br>
            <a:r>
              <a:rPr b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МАТЕРИ И ОТЦА, У КОТОРЫХ БУДЕТ РАСТИ </a:t>
            </a:r>
            <a:br>
              <a:rPr sz="2400"/>
            </a:br>
            <a:r>
              <a:rPr b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НЕ «НАШ», «СВОЙ» РЕБЕНОК, </a:t>
            </a:r>
            <a:br>
              <a:rPr sz="2400"/>
            </a:br>
            <a:r>
              <a:rPr b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НО ДУША, ДАННАЯ  НА ХРАНЕНИЕ.</a:t>
            </a:r>
            <a:br>
              <a:rPr sz="2200"/>
            </a:br>
            <a:endParaRPr b="0" lang="en-US" sz="2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2286000" y="4076640"/>
            <a:ext cx="6750000" cy="26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8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05" name="Рисунок 3" descr="62.jpg"/>
          <p:cNvPicPr/>
          <p:nvPr/>
        </p:nvPicPr>
        <p:blipFill>
          <a:blip r:embed="rId1"/>
          <a:stretch/>
        </p:blipFill>
        <p:spPr>
          <a:xfrm>
            <a:off x="2268360" y="4076640"/>
            <a:ext cx="3240360" cy="2665440"/>
          </a:xfrm>
          <a:prstGeom prst="rect">
            <a:avLst/>
          </a:prstGeom>
          <a:ln w="0">
            <a:noFill/>
          </a:ln>
        </p:spPr>
      </p:pic>
      <p:pic>
        <p:nvPicPr>
          <p:cNvPr id="406" name="Рисунок 6" descr="82.jpg"/>
          <p:cNvPicPr/>
          <p:nvPr/>
        </p:nvPicPr>
        <p:blipFill>
          <a:blip r:embed="rId2"/>
          <a:stretch/>
        </p:blipFill>
        <p:spPr>
          <a:xfrm>
            <a:off x="5508720" y="4076640"/>
            <a:ext cx="3635280" cy="26654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0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2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DIGEAHOMECENTE</dc:creator>
  <dc:description/>
  <dc:language>en-US</dc:language>
  <cp:lastModifiedBy>ADIGEAHOMECENTE; </cp:lastModifiedBy>
  <dcterms:modified xsi:type="dcterms:W3CDTF">2016-11-21T15:48:51Z</dcterms:modified>
  <cp:revision>20</cp:revision>
  <dc:subject/>
  <dc:title>ДЕСЯТЬ ЗАПОВЕДЕЙ  ДЛЯ РОДИТЕЛЕЙ: </dc:title>
</cp:coreProperties>
</file>