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365-1B63-4616-9F11-081DD8FB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D3C-2DF4-46A2-BA43-3F24D484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DFF-0371-4C18-9643-98C87A9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A02-BFC5-4008-A1DA-667E2A04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122-BDC7-43CB-BAEA-A35471FB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A65-2B4F-45FF-AED1-3956288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7CAC-FDDE-41CB-AA30-1C72B86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D41-AAB3-437F-8C22-ADB1C1E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D727-9FD8-472F-819C-ABCBAAE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F59-36C6-40EE-B1D7-152DF5E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D7E9-521C-47C9-B145-0BF1E7E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9F5-9894-443F-8E98-D21DAB0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7CA6-2520-4E6E-80D8-12C1A98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9C0-FB8F-4A84-8752-DCD1FC8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59D-628B-4AC4-8887-591C5D1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0D7B-C718-4E68-95A3-1FE787F9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B6C-CC47-4C2C-A816-66B82936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E48-38BF-44B5-A691-AC5F46DE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0D5-30F8-4752-9A3A-84F8CAA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48C-EF00-4B6A-8F5A-AF6E648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62E-2A4E-4AD4-A6FB-DBCE151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F07-F4CA-4AFF-B712-7E31BD8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BB0-AD23-4C07-ACB4-9B03F40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ED1-EB13-42AE-9DD5-6A2E3C3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9EE5-C0C2-42EA-A1C2-17209E90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605A-755B-4F9E-907D-2A0C384CE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Производство ча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Он становится "черный", "зеленый", "красный" или "желтый"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7788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Производство чая в 2010 год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rcRect l="0" t="7121" r="0" b="0"/>
          <a:stretch/>
        </p:blipFill>
        <p:spPr>
          <a:xfrm>
            <a:off x="1908000" y="1625760"/>
            <a:ext cx="63439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Целебные качества ч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5878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ем же секрет популярности чая? Прежде всего, в аромате и вкусе, в способности утолять жажду и в благотворном влиянии на организм. Чай возбуждает деятельность центральной нервной системы, обладает тонизирующим действием, повышает умственную работоспособность, стимулирует сердечную деятельность, благоприятно влияет на работу поч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ногие ученые, изучая целебные качества этого напитка обнаружили в нем более 130 химических веществ. Исследования продолжаются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выше сорт чая, тем больше в нем танина, кофеина, витаминов, эфирных масел и других полезных веществ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многих народов выработались и бытуют свои национальные способы приготовления чая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сем известно, что родина чая – Кита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041480" y="1905120"/>
            <a:ext cx="3522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4038480" cy="5183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00360" y="2060280"/>
            <a:ext cx="43448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вот индийский ученый Прабхат Ранджан Саркар (1920–1990) установил, что кусты этого растения испокон веков росли в долинах Гималаев (на территории Индии), а в Китай его доставили буддийские паломники. И это было примерно в V –VI в. н. 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в конце концов важно другое – именно в Китае растение получило распространение ещё до нашей эры, хотя как напиток чай стали здесь широко применять лишь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н.э., а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е он стал национальным напитком. Чуть раньше –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– чай попал в Япо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</a:t>
            </a:r>
            <a:r>
              <a:rPr b="1" i="1" lang="en-US" sz="4800" spc="-1" strike="noStrike">
                <a:solidFill>
                  <a:srgbClr val="006600"/>
                </a:solidFill>
                <a:latin typeface="Arial"/>
              </a:rPr>
              <a:t>Это интересно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опытно, что измельчённые чайные листья спрессовывали, а затем эти брикеты и лепёшки использовали в качестве…дене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Rectangle 15" descr=""/>
          <p:cNvPicPr/>
          <p:nvPr/>
        </p:nvPicPr>
        <p:blipFill>
          <a:blip r:embed="rId2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Технология производства чая 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очень сложна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2217600" y="1955880"/>
            <a:ext cx="4480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Важнейшими этапами обработки чайных листьев являются: </a:t>
            </a:r>
            <a:r>
              <a:rPr b="1" i="1" lang="ru-RU" sz="4000" spc="-1" strike="noStrike">
                <a:solidFill>
                  <a:srgbClr val="006600"/>
                </a:solidFill>
                <a:latin typeface="Arial Black"/>
              </a:rPr>
              <a:t>завяливание,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1187280" y="1832040"/>
            <a:ext cx="66978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скручивание,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835280" y="1905120"/>
            <a:ext cx="6481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ферментация</a:t>
            </a:r>
            <a:r>
              <a:rPr b="1" i="1" lang="en-US" sz="4000" spc="-1" strike="noStrike">
                <a:solidFill>
                  <a:srgbClr val="006600"/>
                </a:solidFill>
                <a:latin typeface="Arial Black"/>
              </a:rPr>
              <a:t>,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 в процессе которой чай приобретает определенный цвет 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55964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4:13:48Z</dcterms:created>
  <dc:creator>Admin</dc:creator>
  <dc:description/>
  <dc:language>en-US</dc:language>
  <cp:lastModifiedBy>Customer</cp:lastModifiedBy>
  <dcterms:modified xsi:type="dcterms:W3CDTF">2013-03-02T10:08:01Z</dcterms:modified>
  <cp:revision>10</cp:revision>
  <dc:subject/>
  <dc:title>Из истории чая.</dc:title>
</cp:coreProperties>
</file>