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DC02-2D46-4D59-8097-ECCCC08A5A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48B5A-DBAD-47CB-912E-54DB84671E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A08E-5ED6-4A9F-9109-455D5832B1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600CF-8ACF-43D0-A932-E24964FDD3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D1AA4-8AD6-4F29-8A5D-13A6A49670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1EE80-D3A6-494D-B315-5DC603C7062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C2894-0842-4DFE-B854-83C511A98FD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4DB1-AA6A-4314-927A-76313AB9A49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65BC7-32A5-413C-94FB-2B0885F24B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5AFB-B955-4D3E-B354-DC4048A19E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4047F-974E-4DDF-A382-7812868612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FC897-09C1-4CB3-BCA1-A2BCF34740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F008-C8A1-4D6B-9B30-9E8288AD2D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2573-6388-43DF-B96C-73F121D4428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EDDA4-0E29-413D-8A2B-4373C9387E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F01B7-C933-4FA0-A76B-C2A85F4AED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BEF4-F82F-4D69-9DD2-75ECF98F71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717E-BBAE-452B-8592-CEBA9FF28A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ECB46-69A2-43FF-8CAE-E25631D573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D4D8-17FD-4E37-B7D1-D77E4AD885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88E9-8AC4-4594-9B0F-950D45CB8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C6FA-5B4F-461D-BDD8-8E16E75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2E16-8975-4FD0-BB32-5058769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F14D-42FC-447C-8479-8911FCA56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F9F2-E64E-4409-84F2-8913BF7B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368C-F216-4A60-9482-816121C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7788-3981-4217-A26A-EC6E317F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A945-2908-4822-A1D0-FBDCE578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3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7EBD-225D-4C04-963C-B6098ADF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19FA-74F8-425A-B95E-257A21FD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72D5-5CE4-4FB7-953E-8E72EF1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7261-EDE0-4F72-9BF4-1272C46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178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49C0-1DF5-4B7F-B681-98A09005638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780000" y="2130480"/>
            <a:ext cx="46782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929120" y="1916280"/>
            <a:ext cx="3890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6640" y="621504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ТНАЯ КАРТОЧКА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ЕТСКОГО САДА № 15 «РУЧЕЕК»</a:t>
            </a: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ИНА ЕКАТЕРИНА ВАЛЕ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9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2874960" cy="4194000"/>
          </a:xfrm>
          <a:prstGeom prst="rect">
            <a:avLst/>
          </a:prstGeom>
          <a:ln w="76320">
            <a:solidFill>
              <a:srgbClr val="00664d"/>
            </a:solidFill>
            <a:round/>
          </a:ln>
        </p:spPr>
      </p:pic>
      <p:sp>
        <p:nvSpPr>
          <p:cNvPr id="63" name=""/>
          <p:cNvSpPr txBox="1"/>
          <p:nvPr/>
        </p:nvSpPr>
        <p:spPr>
          <a:xfrm>
            <a:off x="4640400" y="1600200"/>
            <a:ext cx="40305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.07.199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е, ННГУ 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И.Лобачевского, педагог-психоло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ий (педагогический) стаж работ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 л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ж работы в должнос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год 4 ме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егория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овая подготовк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БУ ДПО НИР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Актуальные проблем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ования в условиях внедрения ФГОС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15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ое кред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Учитесь у всех, не подражайте никому!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2060640"/>
            <a:ext cx="82249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2"/>
          <a:stretch/>
        </p:blipFill>
        <p:spPr>
          <a:xfrm>
            <a:off x="179280" y="558720"/>
            <a:ext cx="1773360" cy="24386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2519280" y="558720"/>
            <a:ext cx="1773360" cy="24386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85" name="Рисунок 3" descr=""/>
          <p:cNvPicPr/>
          <p:nvPr/>
        </p:nvPicPr>
        <p:blipFill>
          <a:blip r:embed="rId4"/>
          <a:stretch/>
        </p:blipFill>
        <p:spPr>
          <a:xfrm>
            <a:off x="4859280" y="558720"/>
            <a:ext cx="1773360" cy="24386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86" name="Рисунок 4" descr=""/>
          <p:cNvPicPr/>
          <p:nvPr/>
        </p:nvPicPr>
        <p:blipFill>
          <a:blip r:embed="rId5"/>
          <a:stretch/>
        </p:blipFill>
        <p:spPr>
          <a:xfrm>
            <a:off x="7056360" y="558720"/>
            <a:ext cx="1773360" cy="24386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87" name="Рисунок 5" descr=""/>
          <p:cNvPicPr/>
          <p:nvPr/>
        </p:nvPicPr>
        <p:blipFill>
          <a:blip r:embed="rId6"/>
          <a:stretch/>
        </p:blipFill>
        <p:spPr>
          <a:xfrm>
            <a:off x="179280" y="3933720"/>
            <a:ext cx="1773360" cy="24386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88" name="Рисунок 7" descr=""/>
          <p:cNvPicPr/>
          <p:nvPr/>
        </p:nvPicPr>
        <p:blipFill>
          <a:blip r:embed="rId7"/>
          <a:stretch/>
        </p:blipFill>
        <p:spPr>
          <a:xfrm>
            <a:off x="2519280" y="3933720"/>
            <a:ext cx="1812960" cy="2438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8"/>
          <a:stretch/>
        </p:blipFill>
        <p:spPr>
          <a:xfrm>
            <a:off x="4859280" y="3933720"/>
            <a:ext cx="1773360" cy="2438640"/>
          </a:xfrm>
          <a:prstGeom prst="rect">
            <a:avLst/>
          </a:prstGeom>
          <a:ln w="9360">
            <a:solidFill>
              <a:srgbClr val="00664d"/>
            </a:solidFill>
            <a:miter/>
          </a:ln>
        </p:spPr>
      </p:pic>
      <p:pic>
        <p:nvPicPr>
          <p:cNvPr id="90" name="Рисунок 9" descr=""/>
          <p:cNvPicPr/>
          <p:nvPr/>
        </p:nvPicPr>
        <p:blipFill>
          <a:blip r:embed="rId9"/>
          <a:stretch/>
        </p:blipFill>
        <p:spPr>
          <a:xfrm>
            <a:off x="7094520" y="3887640"/>
            <a:ext cx="1806480" cy="2484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10"/>
          <a:stretch/>
        </p:blipFill>
        <p:spPr>
          <a:xfrm>
            <a:off x="1328760" y="2217600"/>
            <a:ext cx="1658880" cy="228132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92" name="Рисунок 11" descr=""/>
          <p:cNvPicPr/>
          <p:nvPr/>
        </p:nvPicPr>
        <p:blipFill>
          <a:blip r:embed="rId11"/>
          <a:stretch/>
        </p:blipFill>
        <p:spPr>
          <a:xfrm>
            <a:off x="6165720" y="2217600"/>
            <a:ext cx="1571760" cy="21621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93" name="Рисунок 12" descr=""/>
          <p:cNvPicPr/>
          <p:nvPr/>
        </p:nvPicPr>
        <p:blipFill>
          <a:blip r:embed="rId12"/>
          <a:stretch/>
        </p:blipFill>
        <p:spPr>
          <a:xfrm>
            <a:off x="3795840" y="2206800"/>
            <a:ext cx="1628640" cy="2241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нципы в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 ребенка, как душу свою, умей выразить свою любовь словом, интонацией, взгляд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 – все воспитание держится на эт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и! – это значит «трудись душевно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щайся с ребенком, как с равным, как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росл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ывай – это значит побужд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ь люб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1335240"/>
            <a:ext cx="82249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дагогическая копил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в смотре-конкурсе «Наши истоки» в номинации «Костюм «Стиль исток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2"/>
          <a:stretch/>
        </p:blipFill>
        <p:spPr>
          <a:xfrm>
            <a:off x="392040" y="1916280"/>
            <a:ext cx="4287960" cy="3024000"/>
          </a:xfrm>
          <a:prstGeom prst="rect">
            <a:avLst/>
          </a:prstGeom>
          <a:ln cap="sq" w="88920">
            <a:solidFill>
              <a:srgbClr val="32946a"/>
            </a:solidFill>
            <a:miter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>
            <a:off x="4503600" y="3419640"/>
            <a:ext cx="4219560" cy="3041640"/>
          </a:xfrm>
          <a:prstGeom prst="rect">
            <a:avLst/>
          </a:prstGeom>
          <a:ln cap="sq" w="88920">
            <a:solidFill>
              <a:srgbClr val="32946a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 на сплочение коллектива «Мы вмест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471600" y="1585800"/>
            <a:ext cx="4316400" cy="2987640"/>
          </a:xfrm>
          <a:prstGeom prst="rect">
            <a:avLst/>
          </a:prstGeom>
          <a:ln cap="sq" w="88920">
            <a:solidFill>
              <a:srgbClr val="32946a"/>
            </a:solidFill>
            <a:miter/>
          </a:ln>
        </p:spPr>
      </p:pic>
      <p:pic>
        <p:nvPicPr>
          <p:cNvPr id="103" name="Рисунок 4" descr=""/>
          <p:cNvPicPr/>
          <p:nvPr/>
        </p:nvPicPr>
        <p:blipFill>
          <a:blip r:embed="rId3"/>
          <a:stretch/>
        </p:blipFill>
        <p:spPr>
          <a:xfrm>
            <a:off x="4567320" y="3079800"/>
            <a:ext cx="4241880" cy="3181320"/>
          </a:xfrm>
          <a:prstGeom prst="rect">
            <a:avLst/>
          </a:prstGeom>
          <a:ln cap="sq" w="88920">
            <a:solidFill>
              <a:srgbClr val="32946a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55640" y="189000"/>
            <a:ext cx="8072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 для руководителей ДОУ по профилактике эмоционального выгора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392040" y="1488960"/>
            <a:ext cx="3683160" cy="276228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06" name="Рисунок 2" descr=""/>
          <p:cNvPicPr/>
          <p:nvPr/>
        </p:nvPicPr>
        <p:blipFill>
          <a:blip r:embed="rId3"/>
          <a:stretch/>
        </p:blipFill>
        <p:spPr>
          <a:xfrm>
            <a:off x="4932360" y="1488960"/>
            <a:ext cx="3743280" cy="280836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07" name="Рисунок 3" descr=""/>
          <p:cNvPicPr/>
          <p:nvPr/>
        </p:nvPicPr>
        <p:blipFill>
          <a:blip r:embed="rId4"/>
          <a:stretch/>
        </p:blipFill>
        <p:spPr>
          <a:xfrm>
            <a:off x="2651040" y="3832200"/>
            <a:ext cx="3649680" cy="273528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189000"/>
            <a:ext cx="78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 по социально-коммуникативному развитию. Проведение деловой игры: «Знатоки ФГОС ДО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582480" y="1550880"/>
            <a:ext cx="3035520" cy="227664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10" name="Рисунок 2" descr=""/>
          <p:cNvPicPr/>
          <p:nvPr/>
        </p:nvPicPr>
        <p:blipFill>
          <a:blip r:embed="rId3"/>
          <a:stretch/>
        </p:blipFill>
        <p:spPr>
          <a:xfrm>
            <a:off x="5396040" y="1546200"/>
            <a:ext cx="2997000" cy="224640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11" name="Рисунок 3" descr=""/>
          <p:cNvPicPr/>
          <p:nvPr/>
        </p:nvPicPr>
        <p:blipFill>
          <a:blip r:embed="rId4"/>
          <a:stretch/>
        </p:blipFill>
        <p:spPr>
          <a:xfrm>
            <a:off x="541440" y="4221000"/>
            <a:ext cx="3076560" cy="230832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12" name="Рисунок 4" descr=""/>
          <p:cNvPicPr/>
          <p:nvPr/>
        </p:nvPicPr>
        <p:blipFill>
          <a:blip r:embed="rId5"/>
          <a:stretch/>
        </p:blipFill>
        <p:spPr>
          <a:xfrm>
            <a:off x="5308560" y="4179960"/>
            <a:ext cx="3151080" cy="2363760"/>
          </a:xfrm>
          <a:prstGeom prst="rect">
            <a:avLst/>
          </a:prstGeom>
          <a:ln w="76320">
            <a:solidFill>
              <a:srgbClr val="32946a"/>
            </a:solidFill>
            <a:miter/>
          </a:ln>
        </p:spPr>
      </p:pic>
      <p:pic>
        <p:nvPicPr>
          <p:cNvPr id="113" name="Рисунок 5" descr=""/>
          <p:cNvPicPr/>
          <p:nvPr/>
        </p:nvPicPr>
        <p:blipFill>
          <a:blip r:embed="rId6"/>
          <a:stretch/>
        </p:blipFill>
        <p:spPr>
          <a:xfrm>
            <a:off x="2916360" y="2649600"/>
            <a:ext cx="3049560" cy="228600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стие в квест-игре: «Модель идеального руководителя»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324000" y="1292400"/>
            <a:ext cx="3862080" cy="289548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16" name="Рисунок 2" descr=""/>
          <p:cNvPicPr/>
          <p:nvPr/>
        </p:nvPicPr>
        <p:blipFill>
          <a:blip r:embed="rId3"/>
          <a:stretch/>
        </p:blipFill>
        <p:spPr>
          <a:xfrm>
            <a:off x="4932360" y="1292400"/>
            <a:ext cx="3870360" cy="290160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17" name="Рисунок 3" descr=""/>
          <p:cNvPicPr/>
          <p:nvPr/>
        </p:nvPicPr>
        <p:blipFill>
          <a:blip r:embed="rId4"/>
          <a:stretch/>
        </p:blipFill>
        <p:spPr>
          <a:xfrm>
            <a:off x="2432160" y="3838680"/>
            <a:ext cx="4084560" cy="284940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68360" y="33336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 для руководителей ДОУ на сплочение коллекти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627120" y="1425600"/>
            <a:ext cx="3419280" cy="2565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20" name="Рисунок 2" descr=""/>
          <p:cNvPicPr/>
          <p:nvPr/>
        </p:nvPicPr>
        <p:blipFill>
          <a:blip r:embed="rId3"/>
          <a:stretch/>
        </p:blipFill>
        <p:spPr>
          <a:xfrm>
            <a:off x="5148360" y="1463760"/>
            <a:ext cx="3419280" cy="25635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21" name="Рисунок 3" descr=""/>
          <p:cNvPicPr/>
          <p:nvPr/>
        </p:nvPicPr>
        <p:blipFill>
          <a:blip r:embed="rId4"/>
          <a:stretch/>
        </p:blipFill>
        <p:spPr>
          <a:xfrm>
            <a:off x="2946240" y="3933720"/>
            <a:ext cx="3706920" cy="2781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игры: «Все профессии нужны, все профессии важ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3597120" cy="2398680"/>
          </a:xfrm>
          <a:prstGeom prst="rect">
            <a:avLst/>
          </a:prstGeom>
          <a:ln w="76320">
            <a:solidFill>
              <a:srgbClr val="00664d"/>
            </a:solidFill>
            <a:round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5073480" y="1562040"/>
            <a:ext cx="3597480" cy="239868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25" name="Рисунок 5" descr=""/>
          <p:cNvPicPr/>
          <p:nvPr/>
        </p:nvPicPr>
        <p:blipFill>
          <a:blip r:embed="rId3"/>
          <a:stretch/>
        </p:blipFill>
        <p:spPr>
          <a:xfrm>
            <a:off x="2460600" y="3716280"/>
            <a:ext cx="4213080" cy="2808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ский сад № 15 «Ручеек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07514,г.Сергач Нижегородской области, ул.Ульянова, д.212 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0" y="31082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-психолог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линина Екатерина Валерьевн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008000" y="1295280"/>
            <a:ext cx="6624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вест-игре, посвещенной празднованию 70-летия Победы в Великой Отечественной Войне, «Растим патриотов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2" descr=""/>
          <p:cNvPicPr/>
          <p:nvPr/>
        </p:nvPicPr>
        <p:blipFill>
          <a:blip r:embed="rId1"/>
          <a:stretch/>
        </p:blipFill>
        <p:spPr>
          <a:xfrm>
            <a:off x="611280" y="1816200"/>
            <a:ext cx="3625920" cy="27194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28" name="Рисунок 3" descr=""/>
          <p:cNvPicPr/>
          <p:nvPr/>
        </p:nvPicPr>
        <p:blipFill>
          <a:blip r:embed="rId2"/>
          <a:stretch/>
        </p:blipFill>
        <p:spPr>
          <a:xfrm>
            <a:off x="4890960" y="1798560"/>
            <a:ext cx="3641760" cy="273060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29" name="Рисунок 4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3610080" cy="2619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: «Коммуникативная деятельность – как форма активности ребенка во взаимодействии со взрослыми и сверстника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611280" y="1695600"/>
            <a:ext cx="3456000" cy="2592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5245200" y="1695600"/>
            <a:ext cx="3425760" cy="256860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33" name="Рисунок 5" descr=""/>
          <p:cNvPicPr/>
          <p:nvPr/>
        </p:nvPicPr>
        <p:blipFill>
          <a:blip r:embed="rId3"/>
          <a:stretch/>
        </p:blipFill>
        <p:spPr>
          <a:xfrm>
            <a:off x="2768760" y="3789360"/>
            <a:ext cx="3841560" cy="288144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-родительская акци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сота спасет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471600" y="1562040"/>
            <a:ext cx="3635280" cy="2727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5035680" y="1562040"/>
            <a:ext cx="3635280" cy="272736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  <p:pic>
        <p:nvPicPr>
          <p:cNvPr id="137" name="Рисунок 4" descr=""/>
          <p:cNvPicPr/>
          <p:nvPr/>
        </p:nvPicPr>
        <p:blipFill>
          <a:blip r:embed="rId3"/>
          <a:stretch/>
        </p:blipFill>
        <p:spPr>
          <a:xfrm>
            <a:off x="2700360" y="3789360"/>
            <a:ext cx="3647880" cy="2735280"/>
          </a:xfrm>
          <a:prstGeom prst="rect">
            <a:avLst/>
          </a:prstGeom>
          <a:ln w="76320">
            <a:solidFill>
              <a:srgbClr val="0066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28840" y="857160"/>
            <a:ext cx="72579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4f6228"/>
                </a:solidFill>
                <a:latin typeface="Calibri"/>
              </a:rPr>
              <a:t>Успехов в работе 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3071880" y="3214800"/>
            <a:ext cx="335736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 15 «Ручее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ансляция практической деятельности педагога-психолога в ДО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нина Е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ач, 201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я педагогическ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 смысле жизни спросите мен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Я вам отвечу, может быть, не сраз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е буду я искать крылатой фра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 говорить о буднях быт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 нас у каждого - свой смысл и цел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о самый главный смысл, конечно, дет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ни за нас потом другим ответя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кими мы взрастили их тепер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, взрослым детям посмотрев в глаз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кажу себе: «Не зря живу на свете! 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 по щеке вдруг скатится сле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 повторю: «Мой смысл, конечно, дети! 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рет современного педаго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4360" y="981000"/>
            <a:ext cx="43974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ременный педагог должен любить детей, и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итание — длительный процесс, требующ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шого терпения и душевной щедрост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 должен много знать и уметь. Перед н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оит не простая задача – научить ребе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ринимать и понимать все прекрасное в ми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ду, музыку, поэзию. Педагог должен умет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ть, мастерить, играть и петь с деть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 всегда должен быть интересен для свои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ей. В чем-то хотя бы и в одном, он долж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ладать какими-то особыми данными например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ыть отличным актером или хорошим певцо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 постоянно должен совершенствов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е мастерство, используя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ической науки и практики. Должен ид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перед, осваивать инновационные технологи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традиционные методы, но и не должен забыв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брое старое. Педагогу необходи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нообразные знания, чтобы удовлетворя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юбознательность современного ребенка, помог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знавать окружающий ми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обходимые качества современного педагога 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рпеливость, доброжелательность, вед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итателю приходится работать не только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ьми, но и с родителями. Необходимо научить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важать родителей, считаться с их мнением, да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сли оно расходи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95280" y="2079720"/>
            <a:ext cx="374508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ическое э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мире существует множество занятий. Каждое из них может доказывать свою важность. Но для человека важнее всего то, которое он любит, и о котором он может сказать, что оно приносит пользу другим и ем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ть профессии, которые со временем отомрут, став ненужными из-за развития науки и техники. Но профессия психолога будет необходима людям вечно, ведь чтобы работать с детьми необходимо сердце, и сердце непременно доброе, ласковое, чем никогда, ни одна машина обладать не будет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значимости профессию психолога смело можно ставить на одну ступень с ученым и исследователем, строителем и военным. По сложности – с хирургом и сапёром. По степени ответственности – с судьей. С той лишь разницей, что судья руководствуется законами, а главным судьей психолога является его собственная сове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ее того, я считаю, что педагога-психолога – это профессия государственной значимости, потому что именно он первым воспитывает маленького человека как личность, как гражданина своей Род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дагогическое э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азумеется, главное в воспитании ребенка принадлежит родителям. Ведь это их кровь и плоть, им посвящены первые слова и улыбки малыша, к ним он спешит на своих неуклюжих ножках. Но многие матери сегодня много работают и уделяют детям мало времени и внимания, и порой не знают как заниматься с ребенком. Поэтому очень важно кто и как встретит маленького человека в детском саду! Воспитывать детей надо радостью, передавая им наш оптимизм, жизнелюбие. Я стараюсь учить детей самим быть солнышками, светиться хорошими поступками и согревать окружающих своим тепло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офессия психолога уже трудна потому, что надо отдавать делу не только время, но и душу. Надо знать и понимать ребенка. А ведь дети не похожи на взрослых, у них особенная психология, свой внутренний мир, они мыслят и чувствуют и мыслят во многом не так взрослые. И, конечно, их надо любить. Дети часто непослушны, капризны, они могут обманывать, огорчать, быстро перенимать плохое. И любовь, на мой взгляд, заключается в том, чтобы любить их такими, какие они есть, но постоянно стремиться сделать их лучш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Я люблю свою профессию, да и что может быть естественнее для женщины, чем заниматься с детьми, учить их добру, красоте, открывать им глаза на окружающий мир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833400" y="747720"/>
            <a:ext cx="7780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ый пу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95280" y="2392200"/>
            <a:ext cx="835344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54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4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ДОУ д/с №11 «Светлячок» воспитатель с 2009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440" indent="-312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25440"/>
                <a:tab algn="l" pos="773280"/>
                <a:tab algn="l" pos="1222200"/>
                <a:tab algn="l" pos="1671480"/>
                <a:tab algn="l" pos="2120760"/>
                <a:tab algn="l" pos="2570040"/>
                <a:tab algn="l" pos="3019320"/>
                <a:tab algn="l" pos="3468600"/>
                <a:tab algn="l" pos="3917880"/>
                <a:tab algn="l" pos="4367160"/>
                <a:tab algn="l" pos="4816440"/>
                <a:tab algn="l" pos="5265720"/>
                <a:tab algn="l" pos="5715000"/>
                <a:tab algn="l" pos="6164280"/>
                <a:tab algn="l" pos="6613560"/>
                <a:tab algn="l" pos="7062840"/>
                <a:tab algn="l" pos="7512120"/>
                <a:tab algn="l" pos="7961400"/>
                <a:tab algn="l" pos="8410680"/>
                <a:tab algn="l" pos="8859960"/>
                <a:tab algn="l" pos="9309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ДОУ д/с №15 «Ручеек» педагог-психолог с 2014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24120"/>
            <a:ext cx="8224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ощрения и наград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24000"/>
            <a:ext cx="822492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Почетная грамота Управления образования администрации Сергачского муниципального района 2013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Сергачское благочиние за вклад в дело духовно- нравственного возрождения Сергачского района 2013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Управления образования администрации Сергачского муниципального района за 1 место в ярмарке «Наши истоки» в номинации «Костюм «Стиль истоков» 2013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Управления образования администрации Сергачского муниципального района 2013 г. за активное участие в районом смотре-конкурсе мини-музеев ДО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МБДОУ детского сада № 15 «Ручеек» за добросовестный труд, активное участие в жизни детского сада и в связи с Днем учителя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Управления образования администрации Сергачского муниципального района за 1 место в ярмарке «Наши истоки» «Подвигу лежит дорога в вечность» в номинации «Костюм «Стиль истоков»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Нижегородского регионального отделения Всероссийской политической партии «Единая Россия» за участие в 1 Всероссийском конкурсе «Воспитатели России» в номинации «Лучший профессионал образовательной организации»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МБУДО «Центр детского творчества» за 1 место в районном фотоконкурсе «Мир увлечений моей семьи»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МБДОУ детского сада № 15 «Ручеек» за активное участие в жизни детского сада 2014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рамота МБДОУ детского сада № 15 «Ручеек» за активное участие в жизни детского сада 201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ертификат участника международного образовательного портала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am.ru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 номинации «Лучшая методическая разработка» 201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6-11-21T07:40:48Z</dcterms:modified>
  <cp:revision>206</cp:revision>
  <dc:subject/>
  <dc:title>Слайд 1</dc:title>
</cp:coreProperties>
</file>