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092-FE3E-4434-ACF1-973BCB30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3B41-EAB5-4451-83B1-538CF787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5CA-4FAC-4FA8-9A52-D8EA9651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32D-AA57-40C6-B4E7-4D078A0F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3BC-E374-47CA-B943-15A7CE68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7F31-7F20-464D-B734-81FFF8E1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B44-8A17-4890-9447-1A0D51A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4F5E-09B0-4C6D-8372-95408494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DD05-7772-4ABF-B7D9-BD0A7B40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9D2-9BD4-4DD9-A710-B1D8F841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25B0-419A-44AC-A48A-AAE7F437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A54-B96E-4155-B137-331A13A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EA03-3AD9-4A3B-9E28-94EB040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4905-3FEF-478B-8FF6-A457CD0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9AF5-421A-4838-87CB-7D98E49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499C-974E-4CF8-9DB8-7B4F3480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B36-F9AD-451A-9357-2700A0CB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D57-4B69-410A-A69A-F978611E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150-F4F4-4E0E-982F-8E3E01A3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ACF-BB12-4AA0-95A7-B25CD20E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157-261D-4632-A674-09DD64ED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D30-5E28-4ECD-89DE-ACCCA5D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49E-2C4D-4D22-A3A3-21EA0FC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165-8D1B-4BFB-BB3D-FF9C7C4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Вертикальный свиток 16"/>
          <p:cNvSpPr/>
          <p:nvPr/>
        </p:nvSpPr>
        <p:spPr>
          <a:xfrm>
            <a:off x="1285920" y="214200"/>
            <a:ext cx="7643880" cy="6286680"/>
          </a:xfrm>
          <a:prstGeom prst="verticalScroll">
            <a:avLst>
              <a:gd name="adj" fmla="val 15601"/>
            </a:avLst>
          </a:prstGeom>
          <a:solidFill>
            <a:srgbClr val="c6d9f1">
              <a:alpha val="93000"/>
            </a:srgbClr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14" descr="Antn027.gif"/>
          <p:cNvPicPr/>
          <p:nvPr/>
        </p:nvPicPr>
        <p:blipFill>
          <a:blip r:embed="rId3"/>
          <a:stretch/>
        </p:blipFill>
        <p:spPr>
          <a:xfrm>
            <a:off x="281160" y="208080"/>
            <a:ext cx="1438200" cy="132228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13" descr="3165400-d7854c4be2297f58.png"/>
          <p:cNvPicPr/>
          <p:nvPr/>
        </p:nvPicPr>
        <p:blipFill>
          <a:blip r:embed="rId4"/>
          <a:stretch/>
        </p:blipFill>
        <p:spPr>
          <a:xfrm>
            <a:off x="0" y="4700520"/>
            <a:ext cx="1714680" cy="18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EC2-76C0-439F-B0F9-440A77C1E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7"/>
          <p:cNvSpPr/>
          <p:nvPr/>
        </p:nvSpPr>
        <p:spPr>
          <a:xfrm>
            <a:off x="-48960" y="6500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Вертикальный свиток 11"/>
          <p:cNvSpPr/>
          <p:nvPr/>
        </p:nvSpPr>
        <p:spPr>
          <a:xfrm>
            <a:off x="0" y="214200"/>
            <a:ext cx="9144000" cy="6286680"/>
          </a:xfrm>
          <a:prstGeom prst="verticalScroll">
            <a:avLst>
              <a:gd name="adj" fmla="val 10250"/>
            </a:avLst>
          </a:prstGeom>
          <a:solidFill>
            <a:srgbClr val="b9cde5">
              <a:alpha val="93000"/>
            </a:srgbClr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2" descr="Antn027.gif"/>
          <p:cNvPicPr/>
          <p:nvPr/>
        </p:nvPicPr>
        <p:blipFill>
          <a:blip r:embed="rId3"/>
          <a:stretch/>
        </p:blipFill>
        <p:spPr>
          <a:xfrm>
            <a:off x="7491240" y="5492880"/>
            <a:ext cx="1420920" cy="118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882A-F4E5-4BB1-B244-0AE869913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ytest.klyaksa.net/" TargetMode="Externa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6920" y="1856880"/>
            <a:ext cx="557244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астер-класс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"Создание интерактивных тестов в программе MyTestX ."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e1c11"/>
                </a:solidFill>
                <a:latin typeface="Monotype Corsiva"/>
              </a:rPr>
              <a:t>Колташова Марина Александровна</a:t>
            </a:r>
            <a:br>
              <a:rPr sz="2100"/>
            </a:br>
            <a:r>
              <a:rPr b="0" lang="ru-RU" sz="2100" spc="-1" strike="noStrike">
                <a:solidFill>
                  <a:srgbClr val="1e1c11"/>
                </a:solidFill>
                <a:latin typeface="Monotype Corsiva"/>
              </a:rPr>
              <a:t>2016 г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68360" y="1844640"/>
            <a:ext cx="574200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закрепить материал работы с данной программой, вы сейчас выполните «Шуточный тест». Внимательно прочитайте инструкцию к тесту. И желаю 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2411280" y="2133720"/>
            <a:ext cx="552636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флекс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Ну в заключение подведем итоги. Используя компьютерную программу, просчитаем качество проведенного мастер-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2286000" y="1870200"/>
            <a:ext cx="5670720" cy="26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подробную информацию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рограмме, а так же последнюю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ю программы Вы можете найти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у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mytest.klyaksa.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разде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онно-образовательного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ла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Клякс@.n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вященный эт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3003120" y="2205000"/>
            <a:ext cx="41295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за работу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464280" y="1628640"/>
            <a:ext cx="482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 увидел и забы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 услышал и запомни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Я сделал и поня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Китайская муд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340000" y="1197000"/>
            <a:ext cx="545472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знакомить с интерфейсом и возможностями программы MyTest. Изучить основные приемы создания интерактивных тестов по предмету в программе MyTestX. Создать тест в программе MyTest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программой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Te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и получить первоначальные навыки работы для проведения компьютерного тестирова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интерес к новым методам контроля качества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информатизации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059280" y="1341360"/>
            <a:ext cx="45720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Test это система программ - программа тестирования учащихся, редактор тестов и журнал результатов -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rcRect l="21446" t="0" r="71460" b="62175"/>
          <a:stretch/>
        </p:blipFill>
        <p:spPr>
          <a:xfrm>
            <a:off x="4140360" y="3532320"/>
            <a:ext cx="14396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340000" y="1268280"/>
            <a:ext cx="567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тестов имеется очень удоб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тор тес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yTestEditor) с дружественным интерфейсом. С помощью редактора можно создать либо новый тест, либо изменить существующий. Так же в редакторе настраивается процесс тестирования: порядок заданий и вариантов, ограничение времени, шкала оценивания и многое друг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MyTest X работает с девятью типами зад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диночный выбор, множественный выбор, установление порядка следования, установление соответствия, указание истинности или ложности утверждений, ручной ввод числа (чисел), ручной ввод текста, выбор места на изображении, перестановка букв. Задание типа да/нет легко можно получить, используя тип с одиночным выбором. В тесте можно использовать любое количество любых типов, можно только один, можно и все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556000" y="1557360"/>
            <a:ext cx="52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уль тес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MyTestStudent) является "плеером тестов". Он позволяет открыть или получить по сети файл с тестом и пройти тестирование. Ход тестирования, сигнализация об ошибках, способ вывода результата тестирования зависит от параметров теста, заданных в ред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484360" y="2133720"/>
            <a:ext cx="554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тес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yTestServer) позволяет организовать тестирование более удобным образом. С помощью него можно раздавать файлы с тестами по сети, получать результаты со всех компьютеров тестируемых и анализировать их в удоб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195640" y="1268280"/>
            <a:ext cx="603072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составить тест выполним следующи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y Test Edito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есь заполнить Поля: Заголовок, Описание, Автор, (можно указать электронную почту) , Инструкция и т.д. Это делается только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ть в левом верхнем углу «Новая груп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ыделения становится активным значок «+», выбираем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меню выбрать Тип задания – 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явившемся окне набираем вопрос и варианты ответов, не забывая указать правильный. Сохранить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торяем столько раз, сколько у вас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сохранить весь тест: Файл – Сохранить – да – Присваиваем имя файла – 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268360" y="1557360"/>
            <a:ext cx="5742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пройти тес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ткрыть 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брать: Начать тест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Ввести: Фамилию, имя, класс –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читать инструкцию к тесту –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 выполнять тест – дальше. По завершении выполнения теста, компьютер выставит оценк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7:48:42Z</dcterms:created>
  <dc:creator>Admin</dc:creator>
  <dc:description/>
  <dc:language>en-US</dc:language>
  <cp:lastModifiedBy>Ялым</cp:lastModifiedBy>
  <dcterms:modified xsi:type="dcterms:W3CDTF">2016-02-25T09:30:58Z</dcterms:modified>
  <cp:revision>11</cp:revision>
  <dc:subject/>
  <dc:title>Слайд 1</dc:title>
</cp:coreProperties>
</file>