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915-4ECB-49F8-A841-6316E916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387-0ADC-4FDC-BD5B-5B4FCF17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FD6-1A7E-4DB1-BE91-00AF55BA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CA0-E34C-421D-8B14-449FBFCB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CC3C-13BB-4106-B66D-594A303C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A4C-D119-4EE1-A427-B296F91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8FAF-97D5-487C-8BFF-4E1593C9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DD66-A8F2-4C10-9A83-1D1CBA9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D2CA-E24C-4BA0-BC67-93B97B7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5A9-734A-4A22-88CB-E0434620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2059-57BE-45A7-A47F-F82DE271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710-310B-4949-A3EA-65323E5D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8A38-8332-498D-893C-6B4F0B7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D1C0-1642-4165-8DFB-7E65AB47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8B8A-999A-44F1-8F87-36EA99BD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FA6E-0285-469B-94C9-F2B9564A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DF8-31A9-4C87-95F5-F2ACB9BE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99D-D161-4DD4-9966-FFBF91BD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2F9-967F-4153-84FF-A627CEDE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AD1-487A-4E14-A719-97F4C3B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B1B-B83C-409D-BFF3-5E2B402B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F22-0938-49ED-A74B-9C0E244A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1C5-1C9C-48F8-80C0-3DF5837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478-DEBD-448F-B8E3-530FA606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8B41-CA32-4A33-ABAC-378CCB84436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7EA2-8CBD-47E7-B148-24149604D3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Мониторинг возможностей и способностей обучаю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оведение лонгитюдных исследова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иагностический миниму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Углубленная психодиагностик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- исследование особенностей познавательной деятельно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- изучение личностных особенностей обучающихся и системы взаимоотнош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онгитюдное Исслед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англ. longitude -долгота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838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ительное по времени своего проведения научное исследование процессов формирования, развития и изменения каких-либо психических или поведенческих явлений, исследование, в котором одни и те же испытуемые наблюдаются в течение длительного периода време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онгитюдный мониторинг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АСТЬ 1. ВЫ И ВАША СЕМ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АСТЬ 2. ВАША ШКОЛА, УЧЕБА И ДОМАШНИЕ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ЯЗАН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АСТЬ 3. ВАШИ ПЛАНЫ ОТНОСИТЕЛЬНО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ЧЕБЫ И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АСТЬ 4. ВАШИ ПРЕДСТАВЛЕНИЯ О СЕБ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АСТЬ 6. ИНФОРМАЦИЯ О ВА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НКЕТА для родителей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Психодиагностический минимум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схема диагностического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исследования, имеющая четко определенные цели   с соответствующим набором инструментов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щая цель психодиагностических минимум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ониторинг процесса обучения и уровня актуального развития учащегося и специфики этого развития, предоставление информации классным руководителям, педагогам-предметникам, администрации школ для содействия созданию благоприятных социально-педагогических и психологических условий в учебной работе и организации воспитательной деятельности, преодолению кризисных периодов  в процессе обучения в школе.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сиходиагностический миниму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 начальном этапе обучения в шко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и  переходе из начальной в среднюю шко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 этапе перехода учащихся в профильные класс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ругие психодиагностические  рабо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УГЛУБЛЕННАЯ ДИАГНОСТИ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лжна выявлять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причины трудностей и их описа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акая форма работы проводится по результатам первичной диагностики либо, как правило, является обязательным компонентом консультирования педагогов и родителей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по поводу реальных трудностей ребенк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в общении, обучении и др. Углубленное психодиагностическое обследование имеет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индивидуальный характер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 использованием более сложных методик с предварительным выдвижением гипотез о возможных причинах выявленных (или заявленных) трудностей, с обоснованием выбора стратегии и методов обследова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99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19:08Z</dcterms:created>
  <dc:creator>1</dc:creator>
  <dc:description/>
  <dc:language>en-US</dc:language>
  <cp:lastModifiedBy>1</cp:lastModifiedBy>
  <dcterms:modified xsi:type="dcterms:W3CDTF">2016-03-27T12:06:45Z</dcterms:modified>
  <cp:revision>4</cp:revision>
  <dc:subject/>
  <dc:title>Слайд 1</dc:title>
</cp:coreProperties>
</file>