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B696-ADBE-49AF-A662-7B6755B4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AEF8-2861-4380-9EEA-D9DCED49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BB5E-B50D-4371-8763-EF6F02FEA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61FE-742E-4B37-B073-4DCA4B93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3A26-112A-4167-98CB-D89D8038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00C8-D482-4CE4-B25B-616C90B5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7102-2FB6-4895-B193-A4AB690D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963B-17B9-4C60-A6AF-BD4E431D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B040-177C-4A6E-B592-D6C83D70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E7D0-9FF1-496D-BFB8-B98DE751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ABEE-0506-4E4E-8B54-19E28BEC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5205-1448-49C9-8D9C-748B26A0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2F25-307E-4AE9-8AE6-40D69A7D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DFA0-32AD-4393-9496-891B527C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142E-4042-49A6-996D-A9CB3889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4E51-41A9-4E28-82BE-11D4866A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4F5F-0C4C-4607-9EE9-68C9E5B4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0995-31E8-4C25-B09D-EFDF2211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B9AE-212D-443A-96F5-AB8AE191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0DBC-C405-478B-BFC4-F4C65041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2F5F-8D21-424B-95D3-08EEB2AB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16AE-E937-4EBE-92B3-9B8587AD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A3A3-890D-4992-88C5-816B9FCE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1951-A435-4918-AEEE-072D6CE2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3148-1082-4442-A8C3-B2524ADE5B3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1607-5379-4651-ABC6-F6EEE8D8756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785960" y="428760"/>
            <a:ext cx="41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Нравственное воспи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j0439319"/>
          <p:cNvPicPr/>
          <p:nvPr/>
        </p:nvPicPr>
        <p:blipFill>
          <a:blip r:embed="rId1"/>
          <a:stretch/>
        </p:blipFill>
        <p:spPr>
          <a:xfrm>
            <a:off x="500040" y="1500120"/>
            <a:ext cx="4933800" cy="43419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0"/>
          <p:cNvSpPr/>
          <p:nvPr/>
        </p:nvSpPr>
        <p:spPr>
          <a:xfrm>
            <a:off x="5364000" y="4581360"/>
            <a:ext cx="345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Два мира есть у челове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Один, который нас твор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Другой, который мы от 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Творим по мере наших с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Н.Заболоц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826920" y="907920"/>
            <a:ext cx="605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а, определяющие поведение, духовные и душевные качества, необходимые человеку в обществе, а также выполнение этих прав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Толковый словарь русского язы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j0439246"/>
          <p:cNvPicPr/>
          <p:nvPr/>
        </p:nvPicPr>
        <p:blipFill>
          <a:blip r:embed="rId1"/>
          <a:stretch/>
        </p:blipFill>
        <p:spPr>
          <a:xfrm>
            <a:off x="4427640" y="2492280"/>
            <a:ext cx="4105080" cy="33274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1042920" y="47628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Нравственность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755640" y="3860640"/>
            <a:ext cx="345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еешь поступок –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жнешь привычку, посеешь привычку –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жнешь характер, посеешь характер –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жнешь судьб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611280" y="1052640"/>
            <a:ext cx="4319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латинское mores-нравы) - нормы, принципы, правила поведения людей, а так же само человеческое поведение (мотивы поступков, результаты деятельности), чувства, суждения, в которых выражается нормативная регуляция отношений людей друг с другом и общественным целым (коллективом, классом, народом, общество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раткий словарь по философ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j0433779"/>
          <p:cNvPicPr/>
          <p:nvPr/>
        </p:nvPicPr>
        <p:blipFill>
          <a:blip r:embed="rId1"/>
          <a:stretch/>
        </p:blipFill>
        <p:spPr>
          <a:xfrm>
            <a:off x="5148360" y="549360"/>
            <a:ext cx="3408120" cy="511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684360" y="47628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Мораль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468360" y="333360"/>
            <a:ext cx="5473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И. Даль толковал слово мораль как «нравственное ученье, правила для воли, совести человека».( Даль В.И. Толковый словарь живого великорусского языка- М: 1979, т. 11, с. 345)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считал: «Нравственный — противоположный телесному, плотскому, духовный, душевный. Нравственный быт человека важнее быта вещественного.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тносящийся к одной половине духовного быта, противоположный умственному, но сопоставляющий общее с ним духовное начало, к умственному относится истина и ложь, к нравственному - добро и зло. Добронравный, добродетельный, благонравный, согласный с совестью, с законами правды, с достоинством человека с долгом честного и чистого сердцем гражданина. Это человек нравственный, чистой, безукоризненной нравственности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5796000" y="1413000"/>
            <a:ext cx="3247920" cy="3848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755640" y="3068640"/>
            <a:ext cx="777564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равственного воспитания понимается как педагогическая деятельность по формированию у воспитанников системы нравственных знаний, чувств и оценок, правильного повед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равственным надо считать того, для кого нормы морали выступают как его собственные убеждения и привычные формы повед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826920" y="1773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771640" y="1989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увства и 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6227640" y="177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979640" y="404640"/>
            <a:ext cx="46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структура нравственности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 flipH="1">
            <a:off x="1618920" y="1197000"/>
            <a:ext cx="180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3924360" y="32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2"/>
          <p:cNvSpPr/>
          <p:nvPr/>
        </p:nvSpPr>
        <p:spPr>
          <a:xfrm>
            <a:off x="4211640" y="12682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3"/>
          <p:cNvSpPr/>
          <p:nvPr/>
        </p:nvSpPr>
        <p:spPr>
          <a:xfrm>
            <a:off x="5003640" y="1197000"/>
            <a:ext cx="15130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8"/>
          <p:cNvSpPr/>
          <p:nvPr/>
        </p:nvSpPr>
        <p:spPr>
          <a:xfrm>
            <a:off x="684360" y="907920"/>
            <a:ext cx="67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жным показателем сформированности нравственных качеств личности является внутренний контроль, действие которого приводит порой к эмоциональному дискомфорту, недовольству собой, если нарушаются проверенные личным опытом правила обществен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611280" y="2781360"/>
            <a:ext cx="446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дагогический смысл работы по духовно - нравственному становлению личности младшего школьника состоит в том, чтобы помогать ему продвигаться от элементарных навыков поведения к более высокому уровню, где требуется самостоятельность принятия решения и нравственный выбо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j0430493"/>
          <p:cNvPicPr/>
          <p:nvPr/>
        </p:nvPicPr>
        <p:blipFill>
          <a:blip r:embed="rId1"/>
          <a:stretch/>
        </p:blipFill>
        <p:spPr>
          <a:xfrm>
            <a:off x="5219640" y="2565360"/>
            <a:ext cx="3489480" cy="34894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1"/>
          <p:cNvSpPr/>
          <p:nvPr/>
        </p:nvSpPr>
        <p:spPr>
          <a:xfrm>
            <a:off x="755640" y="40464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Совесть – основа нравств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1547640" y="476280"/>
            <a:ext cx="51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Стадии нравственного развития личности.</a:t>
            </a: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476360" y="5084640"/>
            <a:ext cx="4896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оморальный уров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ребенок выполняет требования взрослых из страха наказ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403280" y="3213000"/>
            <a:ext cx="5472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нвенциональный уровен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соблюдение морали определяется стремлением принадлежать группе, обществу, соответствовать их требованиям в целях самосохран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403280" y="1700280"/>
            <a:ext cx="56898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втономный уров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человек добровольно избирает поведение, ибо убежден, что жить надо в соответствии с нормами, им принят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 rot="16006200">
            <a:off x="6707880" y="4605480"/>
            <a:ext cx="1214280" cy="73368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333869"/>
                <a:lnTo>
                  <a:pt x="20976" y="8596"/>
                </a:lnTo>
                <a:lnTo>
                  <a:pt x="17280" y="0"/>
                </a:lnTo>
                <a:lnTo>
                  <a:pt x="12336" y="8596"/>
                </a:lnTo>
                <a:lnTo>
                  <a:pt x="14496" y="8596"/>
                </a:lnTo>
                <a:arcTo wR="7560" hR="21600" stAng="3066131" swAng="1976434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1"/>
          <p:cNvSpPr/>
          <p:nvPr/>
        </p:nvSpPr>
        <p:spPr>
          <a:xfrm rot="16200000">
            <a:off x="7355520" y="258984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539640" y="112536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вство долга и ответственности за свои слова, поступки, действия, за свое поведение (честность, правдивость, ответствен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39640" y="2565360"/>
            <a:ext cx="43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манное отношение к окружающим (доброта, уважение, терпение, такт, эмпатия, чуткость, отзывчивость, сочувствие)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ьтура общения (вежлив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003640" y="47628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ребность в труде (трудолюб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j0439336"/>
          <p:cNvPicPr/>
          <p:nvPr/>
        </p:nvPicPr>
        <p:blipFill>
          <a:blip r:embed="rId1"/>
          <a:stretch/>
        </p:blipFill>
        <p:spPr>
          <a:xfrm>
            <a:off x="5364000" y="1197000"/>
            <a:ext cx="3052800" cy="45972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0"/>
          <p:cNvSpPr/>
          <p:nvPr/>
        </p:nvSpPr>
        <p:spPr>
          <a:xfrm>
            <a:off x="539640" y="407664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природе (умение видеть прекрасное и беречь эту красот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611280" y="5229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миру вещей (бережлив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5003640" y="134136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вь к Родине, ее истории, культурному наслед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84360" y="54936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Нравственные черты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611280" y="90792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ы разностороннего воздействия на сознание, чувства и волю учащихся в интересах формирования у них нравственных взглядов и убеждений (методы формирования сознания лич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635280" y="907920"/>
            <a:ext cx="216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ы организации деятельности и формирования опыта общественного по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372360" y="90792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ы стимулирования поведения и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468360" y="4221000"/>
            <a:ext cx="3598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ение и анализ притч,  басен, назидательных рассказов                  этические беседы  разъяснение                внушение                            диспут                               при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042920" y="333360"/>
            <a:ext cx="7345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Методы, приемы и формы  нравственного воспита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4211640" y="4221000"/>
            <a:ext cx="21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ывающие ситуации  ролевые игры тренинги пор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6877080" y="4221000"/>
            <a:ext cx="17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ение наказ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1"/>
          <p:cNvSpPr/>
          <p:nvPr/>
        </p:nvSpPr>
        <p:spPr>
          <a:xfrm rot="5400000">
            <a:off x="2886840" y="3458160"/>
            <a:ext cx="976320" cy="486000"/>
          </a:xfrm>
          <a:prstGeom prst="pi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2"/>
          <p:cNvSpPr/>
          <p:nvPr/>
        </p:nvSpPr>
        <p:spPr>
          <a:xfrm rot="5400000">
            <a:off x="5479200" y="3386880"/>
            <a:ext cx="976320" cy="486000"/>
          </a:xfrm>
          <a:prstGeom prst="pi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3"/>
          <p:cNvSpPr/>
          <p:nvPr/>
        </p:nvSpPr>
        <p:spPr>
          <a:xfrm rot="5400000">
            <a:off x="7855200" y="3313800"/>
            <a:ext cx="976320" cy="485640"/>
          </a:xfrm>
          <a:prstGeom prst="pi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1T15:28:39Z</dcterms:created>
  <dc:creator>Kean</dc:creator>
  <dc:description/>
  <dc:language>en-US</dc:language>
  <cp:lastModifiedBy>1</cp:lastModifiedBy>
  <dcterms:modified xsi:type="dcterms:W3CDTF">2016-11-20T19:26:28Z</dcterms:modified>
  <cp:revision>9</cp:revision>
  <dc:subject/>
  <dc:title>Слайд 1</dc:title>
</cp:coreProperties>
</file>