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809-D099-46C4-9BFF-F5B248A4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FA7-62C8-4337-8D6C-E3420C63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37EB0-9E0C-457C-A268-294E7AD0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A0B9B-C0FC-4466-9A27-8B34D0C9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6582C-78B4-4553-A10F-D14026E8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3B4A1-14AE-410B-B677-C46A3959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D3E2C-79FA-4F5B-9CE9-796CC30A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1F072-DACE-48EA-9A24-AD806CA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F4A0A-9BFE-45AE-BAF9-7881AD25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B7954-51C9-4257-B0A8-5E84B317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35A4D-3ABE-4B49-8F79-0FA71017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56289-9B02-463A-8DAB-1A25B09C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3C9-9EAC-4551-B76B-44F032F3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EDEC5-A446-4B70-B341-4432243E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03B70-B99E-4159-80A7-F4A275FA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E90F9-FFEC-4F25-8380-381DF717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52240-826B-4B9B-A065-3F1259C7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73CEA-25B0-45CB-A50A-691CBD8D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239C4-0099-4475-94F0-6EB312A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47A1F-5361-4EDB-8C51-5182FAF4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C78BE-29DD-486B-8FF1-179ED99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7B4CF-23D5-481E-A27D-3773E447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6D46C-A613-4A10-8505-AA16C2F7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3E0-3EE7-4431-B575-33E9F445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EC2A1-4FDB-467F-825D-5B16D5C1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77B3E-279D-4A19-BE8C-56E82729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C64C1-4D4C-4528-BD60-2504966D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339E5-2B33-4D6E-A665-A404BCCF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579DC-2231-4B1F-AE7C-0A653710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76E3A-CF7B-4E3E-A063-04AAC999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676AF-4705-46FD-A3C8-9952B037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F0DD8-2F6E-414F-89E1-37E91C21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E4782-FF79-44B5-88C9-0E1807F6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5D105-001C-408A-9EF4-63678F1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3E72-DD65-4316-9C8B-757F35B7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EBBA1-A298-465A-9BC5-30C0CDA6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3BFC1-FAE9-4D88-B647-6C2511C3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5BB58-469B-4077-99DB-05954BB5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0FAA5-B27C-4500-8BCC-62B2AD57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124E6-35B5-486B-9E5B-83BDC183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93B79-1DBC-4D43-97B9-5F0628A2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5FB6E-6318-47CE-808B-44A60BB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A2CA4-E01D-4A5E-8DB8-F4138678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78F93-639E-42BB-9D29-CB0FF482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62A4F-3D28-49F4-9D9E-F3F994D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4444-B190-482F-A952-8FD3D528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9AC8F-A253-461F-894E-8A7EC442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6E692-A1A9-469C-9324-E469E63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519CF-10B6-49F6-AE93-D6CEB39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BC7F1-7E4D-4C79-B0D5-D756BD29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F1BE9-ABD2-4034-871E-787211A1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38B6-DFA8-4826-BA31-5F25675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7925-055E-4DBE-A403-61B33D6A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E8F0-4D18-4E3C-A308-023FAE3B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F1EF-1598-4889-965F-D8D6F318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D020-615B-4ED0-8075-3718F4C7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9F6-5EF6-44D9-8A07-5EA454F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90D7-C979-497C-9D31-DE104EDF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A727-46B0-4E6F-AB8D-DD785B0E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25D5-EBE2-4705-BC43-532BB357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AE93-AFCD-4DD5-83AE-747F1E4E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4047-95D6-44B9-A607-C30387AD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E010-8F53-4208-9DB8-9F131230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3F4D-5121-4EEE-A645-AA79AF77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F743-6AD3-4338-9127-E0A6B285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195C-3614-4405-B313-361CEB8C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2B67-1835-4206-90AD-E706A8C3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972-D0DA-4959-A8E1-F3EAD9ED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614AF-DBB8-4CEC-BA28-E92BD8F2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619E-EEDD-40E9-8643-1F1D3F79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AB49-A0E3-4563-8C21-86D1F53C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FF03-A3E5-493C-8149-71DF9C0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E648-2BF2-421C-965A-31B97101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7073-BFFC-4D8E-889B-47B34328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AC37E-7269-4972-8114-FA278363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17377-D979-4DA7-8E4F-8CB50BFA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1AF3-435D-4FFB-818C-3F4200B2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53DA-DC5B-47A2-B6EB-5B28F5C7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8B3-3E7E-4F9B-A034-CD6B4DF5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6BF5-DBEF-45A4-AE55-3553CA5E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3319-F1F0-481C-A386-60EAF3D2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599B-1551-4B8A-8479-13DC7DA2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1A72-3F2B-4DEA-98D8-81721081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8732D-9F4A-48A3-9051-8284044D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88E6-79BF-4137-9817-1342AFC8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ADA3-7226-417E-9097-3CE04E3F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93B62-B355-4867-BF11-52717C6A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5393-060D-46F6-A59F-D527E0D6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49AC7-7DEC-4517-A8E7-3E3B86C1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D41-24D0-4000-8729-7AB64BCF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13AA-015D-4BAE-AD71-E7238C3B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C620-0AD7-4840-BE60-B58F2D00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219A9-C781-4565-BED7-77B0903B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C7554-AFDA-42C8-940E-9197FCF5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30FBB-67BC-4FCC-9104-966434F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FE8BA-C703-4E4C-8FF9-ABE63E50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E1C7B-2170-4E4C-8160-956A614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5560A-2BCD-402B-8C83-64FEB4BE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7F4E-6547-41E2-A2B9-01855BE0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7E96-1A31-4CA6-99BF-47C8B5D5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5AC-4295-49CC-95CE-1487C08C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559E-2690-459F-A6F9-42DC574E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E51BB-2C1D-4FF6-8E28-7D2D0D70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7A962-9EBA-4B42-8C5A-C33C60C9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439D-35E2-4E38-9F03-D94D7E2F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F4BB8-363C-4F9F-BD04-72CD4A55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2FEE2-A354-4C71-89CC-FE86F9C0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D818D-F771-4FD9-BB24-7D522C79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8733B-A4E9-4D67-BDDC-C3B57E9D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83231-066E-416C-AFF6-113DC55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1812C-A61C-4074-BA1E-69E53B03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E28-A39E-45D9-BC9D-0449A680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7D1C8-78B0-4A29-9FC0-C2D5C367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5181B-D884-4271-B789-0FF679B3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590A8-90DE-4C30-A95D-721AA389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C2149-5E05-4561-9DDF-ED5164B4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E953-2F78-4E3A-8517-D89EB05A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B331D-32D2-4D0E-8A03-F49E00BC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C2DA3-A9B1-407A-92E7-96773C1C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E3CF0-834F-4672-B8E2-B4C08770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DF9B2-C83F-435E-94EA-BD046481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DF37-3CD2-4148-B692-C2B534E9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675-6849-4681-B15C-F5ED4024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0B784-F15B-484C-A7AB-64CFF8EE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346D6-D5C4-432C-B1E1-AE3AEBD1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D6BA8-F511-4BE3-89FB-D4478592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3163B-8456-4E1C-86AC-7FCB1EC6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41DE-0481-40F1-9991-3B994BB8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4B9C7-F3D6-4E89-838F-4CF96788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5A44C-843A-464A-BAAF-8D038B71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F3F19-9AB3-4726-A8A4-5428D2D7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65098-5BA8-4854-B31A-F37D3DA1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57DC6-B46C-4CC0-B1AF-475112CA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124-A8BC-47ED-BF1E-A7DCC00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C444F-9B0B-4DAD-8114-FDB706E0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A1277-C86B-410F-9C18-889CD9EC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50531-2D2F-4BDD-8DB8-58659DF1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B55F7-3239-432B-A7DA-6DB3CB53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E6B3F-615A-4550-B4E9-CE2D0348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D6B3E-78B5-4C62-81CA-CF4DE9E8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A953-1309-4F26-8C50-69F30873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8ACBC-03B9-4FD0-BB5A-D76EAFF8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E4B32-AF7A-4485-8A4D-ED11D838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53077-2C70-498B-9DB3-0E128BFC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134D-7DD8-4E2C-AE7A-ACE15741106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27D0-1C42-419A-A107-9B8AEED6D58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C658-13E8-4BA0-8152-971EF12726E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2249-8F19-4CEF-9F65-9DD7DCF39A0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0AB4-4FAB-4049-B05C-5D5A9146614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15AC-1B35-4D7F-B282-4DBD1F99BDB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72EE-D4F6-45E4-BA4B-6029E222D470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0638-BC4F-45B1-81CE-9ACCD7968EE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B241-5FF0-412E-8CAC-FA22AFCCAAB0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8C15-F817-4951-BAED-A961E38C5AB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643040" y="0"/>
            <a:ext cx="6786720" cy="300024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7" descr="F:\P1050631.JPG"/>
          <p:cNvPicPr/>
          <p:nvPr/>
        </p:nvPicPr>
        <p:blipFill>
          <a:blip r:embed="rId1"/>
          <a:stretch/>
        </p:blipFill>
        <p:spPr>
          <a:xfrm>
            <a:off x="5025960" y="4143240"/>
            <a:ext cx="3595680" cy="231948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3"/>
          <p:cNvSpPr/>
          <p:nvPr/>
        </p:nvSpPr>
        <p:spPr>
          <a:xfrm>
            <a:off x="214200" y="4786200"/>
            <a:ext cx="5214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 Black"/>
              </a:rPr>
              <a:t>Муниципальное бюджетное дошкольное образовательное учреждение </a:t>
            </a:r>
            <a:br>
              <a:rPr sz="1400"/>
            </a:br>
            <a:r>
              <a:rPr b="0" lang="ru-RU" sz="1400" spc="-1" strike="noStrike">
                <a:solidFill>
                  <a:srgbClr val="0000cc"/>
                </a:solidFill>
                <a:latin typeface="Arial Black"/>
              </a:rPr>
              <a:t>Детский сад  № 47 «Теремо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 Black"/>
              </a:rPr>
              <a:t>комбинированного ви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 Black"/>
              </a:rPr>
              <a:t>г.К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WordArt 4"/>
          <p:cNvSpPr txBox="1"/>
          <p:nvPr/>
        </p:nvSpPr>
        <p:spPr>
          <a:xfrm>
            <a:off x="2143080" y="642960"/>
            <a:ext cx="59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"Наш  удивительный  городо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46" name="WordArt 4"/>
          <p:cNvSpPr txBox="1"/>
          <p:nvPr/>
        </p:nvSpPr>
        <p:spPr>
          <a:xfrm>
            <a:off x="642960" y="2928960"/>
            <a:ext cx="80010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Детский сад – волшебная страна,  Чудесами, тайнами полна</a:t>
            </a:r>
            <a:endParaRPr b="0" lang="en-US" sz="11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Детский сад страна загадок,  Приглашает Вас она!</a:t>
            </a:r>
            <a:endParaRPr b="0" lang="en-US" sz="11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2357280" y="1768320"/>
            <a:ext cx="614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 Black"/>
                <a:ea typeface="Calibri"/>
              </a:rPr>
              <a:t>Развивающая предметно-пространственная среда организована в соответствии  с Основной образовательной программой Д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786200" y="1213920"/>
            <a:ext cx="39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Для гостей и мам детсад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ресла есть и всё что над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Чем ходить и стоя ждать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ожно сесть и почит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Рисунок 5" descr="C:\Users\user\Desktop\Новая папка (2)\P1100653.JPG"/>
          <p:cNvPicPr/>
          <p:nvPr/>
        </p:nvPicPr>
        <p:blipFill>
          <a:blip r:embed="rId1"/>
          <a:stretch/>
        </p:blipFill>
        <p:spPr>
          <a:xfrm>
            <a:off x="500040" y="357120"/>
            <a:ext cx="4187880" cy="314316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5" descr="C:\Documents and Settings\ADMIN\Рабочий стол\Наши группы - фото\DSCN3214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43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3"/>
          <p:cNvSpPr/>
          <p:nvPr/>
        </p:nvSpPr>
        <p:spPr>
          <a:xfrm>
            <a:off x="785880" y="285840"/>
            <a:ext cx="7500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 уголке для пап и мам много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 малышом как поиграть, какие книги прочит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чем кормить, чему учить, как ребёнку другом бы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3" descr="C:\Users\user\Desktop\Новая папка (2)\P1100674.JPG"/>
          <p:cNvPicPr/>
          <p:nvPr/>
        </p:nvPicPr>
        <p:blipFill>
          <a:blip r:embed="rId1"/>
          <a:stretch/>
        </p:blipFill>
        <p:spPr>
          <a:xfrm>
            <a:off x="5857920" y="2571840"/>
            <a:ext cx="3044880" cy="392436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4" descr="C:\Documents and Settings\ADMIN\Рабочий стол\Наши группы - фото\DSCN3210.jpg"/>
          <p:cNvPicPr/>
          <p:nvPr/>
        </p:nvPicPr>
        <p:blipFill>
          <a:blip r:embed="rId2"/>
          <a:stretch/>
        </p:blipFill>
        <p:spPr>
          <a:xfrm>
            <a:off x="571680" y="1785960"/>
            <a:ext cx="5143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4" descr="C:\Users\user\Desktop\Новая папка (2)\P1100671.JPG"/>
          <p:cNvPicPr/>
          <p:nvPr/>
        </p:nvPicPr>
        <p:blipFill>
          <a:blip r:embed="rId1"/>
          <a:stretch/>
        </p:blipFill>
        <p:spPr>
          <a:xfrm>
            <a:off x="2714760" y="1857240"/>
            <a:ext cx="2342880" cy="402912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5" descr="C:\Users\user\Desktop\Новая папка (2)\P1100669.JPG"/>
          <p:cNvPicPr/>
          <p:nvPr/>
        </p:nvPicPr>
        <p:blipFill>
          <a:blip r:embed="rId2"/>
          <a:stretch/>
        </p:blipFill>
        <p:spPr>
          <a:xfrm>
            <a:off x="428760" y="2000160"/>
            <a:ext cx="2323800" cy="396252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6"/>
          <p:cNvSpPr/>
          <p:nvPr/>
        </p:nvSpPr>
        <p:spPr>
          <a:xfrm>
            <a:off x="658440" y="576360"/>
            <a:ext cx="4810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ная эстетическая среда вызывает у детей чувство рад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о положительное отношение к детскому сад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желание посещать его, обогащает новыми впечатлениями и знани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уждает к активной творческой деятель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ствует интеллектуаль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4"/>
          <p:cNvSpPr/>
          <p:nvPr/>
        </p:nvSpPr>
        <p:spPr>
          <a:xfrm>
            <a:off x="928800" y="428760"/>
            <a:ext cx="77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Созданы условия для качественной реализации двигательной активности до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Рисунок 5" descr="C:\Documents and Settings\ADMIN\Рабочий стол\IMG_0988.JPG"/>
          <p:cNvPicPr/>
          <p:nvPr/>
        </p:nvPicPr>
        <p:blipFill>
          <a:blip r:embed="rId1"/>
          <a:stretch/>
        </p:blipFill>
        <p:spPr>
          <a:xfrm>
            <a:off x="642960" y="1143000"/>
            <a:ext cx="4071960" cy="257184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6" descr="C:\Documents and Settings\ADMIN\Local Settings\Temporary Internet Files\Content.Word\DSCN3080.jpg"/>
          <p:cNvPicPr/>
          <p:nvPr/>
        </p:nvPicPr>
        <p:blipFill>
          <a:blip r:embed="rId2"/>
          <a:stretch/>
        </p:blipFill>
        <p:spPr>
          <a:xfrm>
            <a:off x="4929120" y="3786120"/>
            <a:ext cx="3797280" cy="278604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7" descr="C:\Documents and Settings\ADMIN\Рабочий стол\Наши группы - фото\DSCN3201.jpg"/>
          <p:cNvPicPr/>
          <p:nvPr/>
        </p:nvPicPr>
        <p:blipFill>
          <a:blip r:embed="rId3"/>
          <a:stretch/>
        </p:blipFill>
        <p:spPr>
          <a:xfrm>
            <a:off x="857160" y="3786120"/>
            <a:ext cx="3357720" cy="257184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8" descr="C:\Documents and Settings\ADMIN\Local Settings\Temporary Internet Files\Content.Word\DSCN2816.jpg"/>
          <p:cNvPicPr/>
          <p:nvPr/>
        </p:nvPicPr>
        <p:blipFill>
          <a:blip r:embed="rId4"/>
          <a:stretch/>
        </p:blipFill>
        <p:spPr>
          <a:xfrm>
            <a:off x="5214960" y="1143000"/>
            <a:ext cx="29955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Горизонтальный свиток 4"/>
          <p:cNvSpPr/>
          <p:nvPr/>
        </p:nvSpPr>
        <p:spPr>
          <a:xfrm>
            <a:off x="714240" y="714240"/>
            <a:ext cx="7786800" cy="535788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3"/>
          <p:cNvSpPr/>
          <p:nvPr/>
        </p:nvSpPr>
        <p:spPr>
          <a:xfrm>
            <a:off x="1500120" y="1500120"/>
            <a:ext cx="6858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 Black"/>
              </a:rPr>
              <a:t>       </a:t>
            </a:r>
            <a:r>
              <a:rPr b="0" lang="ru-RU" sz="1400" spc="-1" strike="noStrike">
                <a:solidFill>
                  <a:srgbClr val="0000cc"/>
                </a:solidFill>
                <a:latin typeface="Arial Black"/>
              </a:rPr>
              <a:t>МБДОУ Детский сад №47 «Теремок» комбинированного вида создан  в 1984 году. Двухэтажное типовое здание детского сада предусматривает расположение шести возрастных групп, музыкально - спортивный зал, кабинеты учителя-логопеда и  педагога-психолога, методический кабинет,  один лестничный марш, служебные помещения (медицинский блок, пищеблок, прачечная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 Black"/>
              </a:rPr>
              <a:t>       </a:t>
            </a:r>
            <a:r>
              <a:rPr b="0" lang="ru-RU" sz="1400" spc="-1" strike="noStrike">
                <a:solidFill>
                  <a:srgbClr val="0000cc"/>
                </a:solidFill>
                <a:latin typeface="Arial Black"/>
              </a:rPr>
              <a:t>Внутренняя отделка помещения соответствует требованиям пожарной и санитарной безопасности. Территория детского сада имеет ограждение, шесть прогулочных участков, спортивный участок, зелёную зону с цветочно-декоративным  и лесным насаждением, мини-огород, хозяйственный дво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 Black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cc"/>
                </a:solidFill>
                <a:latin typeface="Arial Black"/>
                <a:ea typeface="Arial"/>
              </a:rPr>
              <a:t>В дошкольном учреждении функционирует 6 групп. Из них 5 возрастных групп общеразвивающей направленности и 1 группа компенсирующей направленности для детей с общим недоразвитием  речи. </a:t>
            </a:r>
            <a:r>
              <a:rPr b="0" lang="ru-RU" sz="1400" spc="-1" strike="noStrike">
                <a:solidFill>
                  <a:srgbClr val="0000cc"/>
                </a:solidFill>
                <a:latin typeface="Arial Black"/>
              </a:rPr>
              <a:t>Учреждение посещают 128 детей в возрасте от 2 до 7 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4"/>
          <p:cNvSpPr txBox="1"/>
          <p:nvPr/>
        </p:nvSpPr>
        <p:spPr>
          <a:xfrm>
            <a:off x="2357280" y="714240"/>
            <a:ext cx="4643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Информационная справка</a:t>
            </a:r>
            <a:endParaRPr b="0" lang="en-US" sz="1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4"/>
          <p:cNvSpPr/>
          <p:nvPr/>
        </p:nvSpPr>
        <p:spPr>
          <a:xfrm>
            <a:off x="1143000" y="428760"/>
            <a:ext cx="75009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Лишь только в «Теремок» войдёте, сразу в сказку попадё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Здесь фонтан журчит, струится, зеленеет зимний с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Уголок родной природы  приглашает всех ребя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5" descr="C:\Users\user\Desktop\Новая папка (2)\P1100665.JPG"/>
          <p:cNvPicPr/>
          <p:nvPr/>
        </p:nvPicPr>
        <p:blipFill>
          <a:blip r:embed="rId1"/>
          <a:stretch/>
        </p:blipFill>
        <p:spPr>
          <a:xfrm>
            <a:off x="5051520" y="3786120"/>
            <a:ext cx="3592440" cy="278784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оугольник 5"/>
          <p:cNvSpPr/>
          <p:nvPr/>
        </p:nvSpPr>
        <p:spPr>
          <a:xfrm>
            <a:off x="571680" y="4929120"/>
            <a:ext cx="45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кружающая обстановка созд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сихологический комфорт, способству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обуждению положительных эмоц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оспитывает хороший вкус у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ходящихся целый день в детском са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6"/>
          <p:cNvSpPr/>
          <p:nvPr/>
        </p:nvSpPr>
        <p:spPr>
          <a:xfrm>
            <a:off x="5429160" y="2357280"/>
            <a:ext cx="335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собое внимание  уделя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эстетическому  оформл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Рисунок 7" descr="C:\Documents and Settings\ADMIN\Рабочий стол\Наши группы - фото\DSCN3222.jpg"/>
          <p:cNvPicPr/>
          <p:nvPr/>
        </p:nvPicPr>
        <p:blipFill>
          <a:blip r:embed="rId2"/>
          <a:stretch/>
        </p:blipFill>
        <p:spPr>
          <a:xfrm>
            <a:off x="571680" y="1285920"/>
            <a:ext cx="48574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4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4857840" y="785880"/>
            <a:ext cx="44290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Позаботиться мы ра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о зелёном  угол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О растениях и птица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что живут невдале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Здесь ребята наблюда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как сажать,  как полива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Чтоб с природой подружитьс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и её не обиж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Рисунок 7" descr="C:\Users\user\Desktop\Новая папка (2)\P1100647.JPG"/>
          <p:cNvPicPr/>
          <p:nvPr/>
        </p:nvPicPr>
        <p:blipFill>
          <a:blip r:embed="rId1"/>
          <a:stretch/>
        </p:blipFill>
        <p:spPr>
          <a:xfrm>
            <a:off x="542880" y="1000080"/>
            <a:ext cx="4200480" cy="35006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7"/>
          <p:cNvSpPr/>
          <p:nvPr/>
        </p:nvSpPr>
        <p:spPr>
          <a:xfrm>
            <a:off x="728280" y="4862880"/>
            <a:ext cx="367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Calibri"/>
              </a:rPr>
              <a:t>Свои наблюдения  и впечат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Calibri"/>
              </a:rPr>
              <a:t>дети  отображают  на сезо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Calibri"/>
              </a:rPr>
              <a:t>лентах  и в календаре  прир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Calibri"/>
              </a:rPr>
              <a:t>(«познание», «труд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Заголовок 1"/>
          <p:cNvSpPr/>
          <p:nvPr/>
        </p:nvSpPr>
        <p:spPr>
          <a:xfrm>
            <a:off x="1071720" y="500040"/>
            <a:ext cx="53672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  <a:ea typeface="Arial"/>
              </a:rPr>
              <a:t>«Зеленый оазис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Рисунок 8" descr="C:\Documents and Settings\ADMIN\Рабочий стол\Наши группы - фото\DSCN3221.jpg"/>
          <p:cNvPicPr/>
          <p:nvPr/>
        </p:nvPicPr>
        <p:blipFill>
          <a:blip r:embed="rId2"/>
          <a:stretch/>
        </p:blipFill>
        <p:spPr>
          <a:xfrm>
            <a:off x="5072040" y="2714760"/>
            <a:ext cx="34275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4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571680" y="428760"/>
            <a:ext cx="72864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Дарим ребёнку мы мир на ладошк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Учим жизнь понимать понемнож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 традициях добрых искать красот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чувствовать сад,  как большую сем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Рисунок 5" descr="C:\Documents and Settings\ADMIN\Рабочий стол\Наши группы - фото\DSCN3211.jpg"/>
          <p:cNvPicPr/>
          <p:nvPr/>
        </p:nvPicPr>
        <p:blipFill>
          <a:blip r:embed="rId1"/>
          <a:stretch/>
        </p:blipFill>
        <p:spPr>
          <a:xfrm>
            <a:off x="1928880" y="1714680"/>
            <a:ext cx="5000400" cy="38574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785520" y="5643360"/>
            <a:ext cx="67150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Есть возможность у любого себя в искусстве проявить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И красками, сухой листвою чудесный мир изобрази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714240" y="456840"/>
            <a:ext cx="785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Calibri"/>
              </a:rPr>
              <a:t>В холле и по лестничному пролету дошкольного учреждения оформл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Calibri"/>
              </a:rPr>
              <a:t>Стенды по ознакомлению дошкольников с особенностями природы, культурными и другими условиями родного го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7" descr="C:\Documents and Settings\ADMIN\Рабочий стол\Наши группы - фото\DSCN3217.jpg"/>
          <p:cNvPicPr/>
          <p:nvPr/>
        </p:nvPicPr>
        <p:blipFill>
          <a:blip r:embed="rId1"/>
          <a:stretch/>
        </p:blipFill>
        <p:spPr>
          <a:xfrm>
            <a:off x="5429160" y="4286160"/>
            <a:ext cx="2908440" cy="240048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8" descr="C:\Documents and Settings\ADMIN\Рабочий стол\Наши группы - фото\DSCN3220.jpg"/>
          <p:cNvPicPr/>
          <p:nvPr/>
        </p:nvPicPr>
        <p:blipFill>
          <a:blip r:embed="rId2"/>
          <a:stretch/>
        </p:blipFill>
        <p:spPr>
          <a:xfrm>
            <a:off x="5143680" y="1000080"/>
            <a:ext cx="3238200" cy="328608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9" descr="C:\Documents and Settings\ADMIN\Рабочий стол\Наши группы - фото\DSCN3218.jpg"/>
          <p:cNvPicPr/>
          <p:nvPr/>
        </p:nvPicPr>
        <p:blipFill>
          <a:blip r:embed="rId3"/>
          <a:stretch/>
        </p:blipFill>
        <p:spPr>
          <a:xfrm>
            <a:off x="928800" y="4071960"/>
            <a:ext cx="3524040" cy="264780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10" descr="C:\Documents and Settings\ADMIN\Рабочий стол\Наши группы - фото\DSCN3219.jpg"/>
          <p:cNvPicPr/>
          <p:nvPr/>
        </p:nvPicPr>
        <p:blipFill>
          <a:blip r:embed="rId4"/>
          <a:stretch/>
        </p:blipFill>
        <p:spPr>
          <a:xfrm>
            <a:off x="1000080" y="1285920"/>
            <a:ext cx="3421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3"/>
          <p:cNvSpPr/>
          <p:nvPr/>
        </p:nvSpPr>
        <p:spPr>
          <a:xfrm>
            <a:off x="1285920" y="5214960"/>
            <a:ext cx="5572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 Black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Пусть «Теремок» - сад совсем небольш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Скромно и дружно живём мы, с душ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Педагогов наших все зн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Отмечен их труд в городе и кра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3"/>
          <p:cNvSpPr/>
          <p:nvPr/>
        </p:nvSpPr>
        <p:spPr>
          <a:xfrm>
            <a:off x="3068280" y="357120"/>
            <a:ext cx="34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"Галерея звезд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Рисунок 4" descr="C:\Documents and Settings\ADMIN\Рабочий стол\Наши группы - фото\DSCN3212.jpg"/>
          <p:cNvPicPr/>
          <p:nvPr/>
        </p:nvPicPr>
        <p:blipFill>
          <a:blip r:embed="rId1"/>
          <a:stretch/>
        </p:blipFill>
        <p:spPr>
          <a:xfrm>
            <a:off x="2071800" y="928800"/>
            <a:ext cx="50878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6"/>
          <p:cNvSpPr/>
          <p:nvPr/>
        </p:nvSpPr>
        <p:spPr>
          <a:xfrm>
            <a:off x="4643280" y="1500120"/>
            <a:ext cx="41436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Полюбуйтесь на выставку нашу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Здесь Пети и О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Марины, Наташи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Своими руками творят красоту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И дарят природы родной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    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тепл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Рисунок 3" descr="C:\Users\user\Desktop\Новая папка (2)\P1100638.JPG"/>
          <p:cNvPicPr/>
          <p:nvPr/>
        </p:nvPicPr>
        <p:blipFill>
          <a:blip r:embed="rId1"/>
          <a:stretch/>
        </p:blipFill>
        <p:spPr>
          <a:xfrm>
            <a:off x="214200" y="1071720"/>
            <a:ext cx="4500720" cy="328428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4" descr="C:\Users\user\Desktop\СРЕДА\P1090799.JPG"/>
          <p:cNvPicPr/>
          <p:nvPr/>
        </p:nvPicPr>
        <p:blipFill>
          <a:blip r:embed="rId2"/>
          <a:stretch/>
        </p:blipFill>
        <p:spPr>
          <a:xfrm>
            <a:off x="4500720" y="3500280"/>
            <a:ext cx="4378320" cy="314352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ик 5"/>
          <p:cNvSpPr/>
          <p:nvPr/>
        </p:nvSpPr>
        <p:spPr>
          <a:xfrm>
            <a:off x="1643040" y="35712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Выставка творческих работ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523440" y="4719960"/>
            <a:ext cx="4112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Calibri"/>
              </a:rPr>
              <a:t>Выставка позволяет детям  и 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Calibri"/>
              </a:rPr>
              <a:t>родителям презентовать сво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Calibri"/>
              </a:rPr>
              <a:t>Представления об окружающем мир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Calibri"/>
              </a:rPr>
              <a:t>в продуктивных видах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3"/>
          <p:cNvSpPr/>
          <p:nvPr/>
        </p:nvSpPr>
        <p:spPr>
          <a:xfrm>
            <a:off x="785880" y="5143680"/>
            <a:ext cx="6286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Чтобы наши мамы зн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 проходит день в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На стене мы помещаем – фотолетопись св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Рисунок 2" descr="C:\Users\user\Desktop\Новая папка (2)\P1100650.JPG"/>
          <p:cNvPicPr/>
          <p:nvPr/>
        </p:nvPicPr>
        <p:blipFill>
          <a:blip r:embed="rId1"/>
          <a:stretch/>
        </p:blipFill>
        <p:spPr>
          <a:xfrm>
            <a:off x="1928880" y="1143000"/>
            <a:ext cx="5143320" cy="3905280"/>
          </a:xfrm>
          <a:prstGeom prst="rect">
            <a:avLst/>
          </a:prstGeom>
          <a:ln w="0">
            <a:noFill/>
          </a:ln>
        </p:spPr>
      </p:pic>
      <p:sp>
        <p:nvSpPr>
          <p:cNvPr id="584" name="Прямоугольник 3"/>
          <p:cNvSpPr/>
          <p:nvPr/>
        </p:nvSpPr>
        <p:spPr>
          <a:xfrm>
            <a:off x="1470240" y="571680"/>
            <a:ext cx="66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Фотогалерея из жизни детског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ADMIN</cp:lastModifiedBy>
  <dcterms:modified xsi:type="dcterms:W3CDTF">2016-11-21T09:04:09Z</dcterms:modified>
  <cp:revision>81</cp:revision>
  <dc:subject/>
  <dc:title>Слайд 1</dc:title>
</cp:coreProperties>
</file>