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2ED-5DA5-4B13-9229-DAE6C323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2E4-C20E-4EFA-BD84-3C442317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7E13E-D2D2-45E1-86FD-47DD8B57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A812A-6548-455F-B2A8-3BB229B8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6F7B2-F5B6-455D-9E2A-5D21B47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22376-2798-4062-8568-3C840C0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CD786-37F1-4DF8-B37C-6647A7B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03566-47F3-44A8-9FB1-BBEF7760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6A09C-E822-4DF1-BC55-DF697D4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83C5-67DA-40E3-8949-E47EABF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A868-8FB8-4246-BB66-1374B541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BD1-DC4F-4257-9786-BB68FA9E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044-71A6-4525-8493-282C114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0DD-4212-442B-8BDC-7ECC7DBB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371C-052E-4685-9C05-5B350A3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2D7-8007-491E-8F3C-6397CD1F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4C74-C954-49D9-9326-58B2AD4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085-F13E-41DD-B7E1-E9D3077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2D27-DAF8-4276-BFCE-33EC6CF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C302-9E96-46E1-8FB2-5CCD0B4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331-0633-45EC-BD92-D5AB212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DA53-B187-44E0-BAA5-79D1502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0950-98C2-4777-92A7-7CA13A1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FD2E-4245-4BBE-B9FD-6BAE38CE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0C5D-0DB1-4849-B9B7-82B37AEF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E8C-F2F0-4654-A08E-125ECC6A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091B-4967-413C-9D9A-0087C8D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BF57-B7D9-4276-9F1A-16F6724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50AA-1C0D-4E86-89CB-65173765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7AFA-90D4-4F79-B576-BC39A60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30B7D-1CAA-4019-ACB6-7F0127A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CD7-3D07-4E02-964A-8F67F92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D39A-DC25-44AD-B74C-7911F69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C62A-8CD3-4296-8EFD-50407A2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AEB7-D6DC-4A50-AED7-594D4E9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BB02-64EB-43B0-A554-29C6617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6FF4-9EF7-48E5-9439-DBA0CE2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1B89-00DE-4BA3-9714-FD680CFE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64EB-624B-493C-8CB0-B9FEEDF3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A4F5-AC6C-4439-A2CC-DDE744A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1869-A851-43AA-B7D1-CD31DA1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AF58-6C1A-4972-9654-52F805A8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4F7-E43E-42CF-BBE0-5C9FEAB6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67EC1-D825-46F4-A122-117D4AD8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91F1-C14A-48E7-9780-C67091F3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FC98-FCB0-45AA-9175-6B21FA1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E1CD-1944-463E-8AEE-AB4EA20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0D30-6B7B-4406-84AA-0E07155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ABA15-A765-44DF-877B-330C322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C3BC-89E7-48BE-AABD-BB78E05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6DAF-900E-4175-AAEE-98A932E3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AA7F-2E6C-4F17-AA38-AA2F1C7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1A10-C07B-4AC2-9B00-132A3B49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A45-95F1-4374-B599-5D0513C3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26EF-AC6C-47D5-B589-5643B597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AADC-8136-412F-AFD1-E13463F2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B2F3-9A9F-4EA8-840F-0903C12A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19982-4F08-46BD-82F0-31BD6CBA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B3BA-DE2A-4D2A-8813-3C39BE23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6ABB-CC74-4D4A-97C5-3849DF3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3969-6B6F-49D0-A8CC-DF741F0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5B35D-0882-4EB7-9E94-1DD9AFA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4C5C-F976-45B6-8CAB-2DB99825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CF1B-1C2C-4765-AB38-1DDCC5F4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F2E-7ABD-49E3-957A-E30C868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188E-8C4C-41BC-9DD3-4D170149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8AD6-9A29-482B-A9C0-662048FE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BEEB-C483-4625-A753-4FA128F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1D03-ED73-4DB0-B068-BCEDC9D5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45EC-87B5-4BA7-A1E9-3D8BFFD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4F25-373A-49EB-9AC3-3464CD2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9380-B8D6-4BDE-B3B6-5B36F94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A629-3336-4926-8E95-77A4D15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9D590-B2F6-45AD-8A91-A12864C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AA04D-B435-4965-9E05-4D8143F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B3A-2D4F-449A-BC22-92209FD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01A9-DA39-4420-9065-EE7EACD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1F9D9-5D32-4EB3-814F-06B5FEA0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7769D-68B2-45DF-A2AC-0879DBD3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65FE-7B97-4FF4-9244-499FB783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1EF9-A331-4D0F-8982-FCA04210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CAE8-4536-405C-BB13-C7D44E6F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92A5-047B-4B12-B767-6A59366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BBAE4-6167-46F0-9820-3F509DB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9D43C-1EEF-4230-8049-4BB03505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0FE1-FA00-451F-9942-85ED6D3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AB4-A0F0-42ED-9038-EB4879C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0FB7-72D1-46A6-B92E-B8A2586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9591-0362-4248-8DD5-422E2A2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9FA7-F738-42D0-B632-15C98DFB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1DAD-A4C3-4A8A-9EFE-27DD74DF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6C63C-BE9B-4302-8EA7-FF88C5A8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A886-D412-434C-9CEE-4A9D32DD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5EE1-AD78-4039-9014-632C263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82FBD-28FB-45BC-B2BC-1573ACE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45B3-1C19-4221-898C-04BD8A3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7F182-92C0-4B06-BF1B-ED053EC5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2C9-3ECA-4C99-9210-F67AA03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88317-A610-4A2B-A66E-C61DC58F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41CE-E8D8-4596-9445-C9E351E5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BDCB3-8BFA-4EA3-B17F-05D4627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7D3F3-89E0-422C-89A2-879C227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E5EA-1AB9-43DB-AC8D-D39DD3F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A8A7D-6073-4D61-9335-7408DE8F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16B12-3AAB-4423-95BB-EE7887D6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34B7-D09E-4B2E-93A6-5C356B0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3B906-6471-4186-A655-6AF5DEC7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8932-8FF5-428C-8952-8EF8B762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E4F-F7D9-4467-A1C7-AEA22A1271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473-AF95-4E84-AD7E-AB5694AA0F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5BB-0CF5-4879-BBCE-291853E5C3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A63-7C45-4921-914A-3C4FAFAF77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751-129A-45CB-895E-B3CCC9A8CB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E96-06F5-4DBE-8ADE-E750DFDA2E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46B-8E0A-42A8-8C62-DBB8FB79E3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485-61D1-47B8-A5D6-332EFEAA19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8E7-C89F-4470-8B25-0CBADE1CD6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98440" y="1152360"/>
            <a:ext cx="9534600" cy="4200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65440" y="4292640"/>
            <a:ext cx="287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Савина Екатерина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Гичушка Полин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Franklin Gothic Book"/>
              </a:rPr>
              <a:t>6а Класс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5" descr="&amp;pcy;&amp;rcy;&amp;acy;&amp;vcy;&amp;ocy;&amp;scy;&amp;lcy;&amp;acy;&amp;vcy;&amp;icy;&amp;iecy; &amp;Pcy;&amp;ocy;&amp;rcy;&amp;tcy;&amp;acy;&amp;lcy; &amp;KHcy;&amp;rcy;&amp;icy;&amp;scy;&amp;tcy;&amp;icy;&amp;acy;&amp;ncy;&amp;iecy;.info Page 1358"/>
          <p:cNvPicPr/>
          <p:nvPr/>
        </p:nvPicPr>
        <p:blipFill>
          <a:blip r:embed="rId1"/>
          <a:stretch/>
        </p:blipFill>
        <p:spPr>
          <a:xfrm>
            <a:off x="0" y="0"/>
            <a:ext cx="5148360" cy="393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&amp;Ncy;&amp;iecy;&amp;vcy;&amp;scy;&amp;kcy;&amp;icy;&amp;jcy; &amp;pcy;&amp;yacy;&amp;tcy;&amp;acy;&amp;chcy;&amp;ocy;&amp;kcy; / &amp;Pcy;&amp;rcy;&amp;iecy;&amp;vcy;&amp;softcy;&amp;yucy; / &amp;Kcy;&amp;acy;&amp;rcy;&amp;tcy;&amp;icy;&amp;ncy;&amp;kcy;&amp;icy; &amp;pcy;&amp;ocy;&amp;lcy;&amp;softcy;&amp;zcy;&amp;ocy;&amp;vcy;&amp;acy;&amp;tcy;&amp;iecy;&amp;lcy;&amp;yacy; &amp;Gcy;&amp;lcy;&amp;acy;&amp;vcy;&amp;vcy;&amp;rcy;&amp;iecy;&amp;dcy; / &amp;Fcy;&amp;ocy;&amp;tcy;&amp;ocy;&amp;gcy;&amp;rcy;&amp;acy;&amp;fcy;&amp;icy;&amp;icy;. . &amp;Kcy;&amp;acy;&amp;rcy;&amp;tcy;&amp;icy;&amp;ncy;&amp;kcy;&amp;icy;. . &amp;Vcy;&amp;icy;&amp;dcy;&amp;iecy;&amp;ocy;. . &amp;Bcy;&amp;iecy;&amp;scy;&amp;pcy;&amp;lcy;&amp;acy;&amp;tcy;&amp;ncy;&amp;ycy;&amp;jcy; &amp;khcy;&amp;ocy;&amp;scy;&amp;tcy;&amp;icy;&amp;ncy;&amp;gcy;."/>
          <p:cNvPicPr/>
          <p:nvPr/>
        </p:nvPicPr>
        <p:blipFill>
          <a:blip r:embed="rId2"/>
          <a:stretch/>
        </p:blipFill>
        <p:spPr>
          <a:xfrm>
            <a:off x="5148360" y="3041640"/>
            <a:ext cx="3995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Музей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7" descr="Перезахоронение останков советских воинов на Невском пятачке"/>
          <p:cNvPicPr/>
          <p:nvPr/>
        </p:nvPicPr>
        <p:blipFill>
          <a:blip r:embed="rId1"/>
          <a:stretch/>
        </p:blipFill>
        <p:spPr>
          <a:xfrm>
            <a:off x="1403280" y="1268280"/>
            <a:ext cx="6508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5280" y="259920"/>
            <a:ext cx="8137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лацдарм Невский «пятачок» находился на левом берегу Невы в районе посёлка Дубровка приблизительно в 12 километрах вниз по течению реки от Ладожского озера . В этом месте Нева образует излучину и имеет ширину всего 270—350 метров и достаточно пологие берег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e75533u-960"/>
          <p:cNvPicPr/>
          <p:nvPr/>
        </p:nvPicPr>
        <p:blipFill>
          <a:blip r:embed="rId1"/>
          <a:stretch/>
        </p:blipFill>
        <p:spPr>
          <a:xfrm>
            <a:off x="468360" y="270828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300px-Nevsky_pyatachok_Kirovsk"/>
          <p:cNvPicPr/>
          <p:nvPr/>
        </p:nvPicPr>
        <p:blipFill>
          <a:blip r:embed="rId2"/>
          <a:srcRect l="16655" t="17165" r="5552" b="10457"/>
          <a:stretch/>
        </p:blipFill>
        <p:spPr>
          <a:xfrm>
            <a:off x="4648320" y="2708280"/>
            <a:ext cx="413856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-360" y="-360"/>
            <a:ext cx="4427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обенности местности в районе плацдарма самым непосредственным образом повлияли на ход боевых действ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640px-Okrestnosti_Nevskay_Dubrovki_karta_1939"/>
          <p:cNvPicPr/>
          <p:nvPr/>
        </p:nvPicPr>
        <p:blipFill>
          <a:blip r:embed="rId1"/>
          <a:stretch/>
        </p:blipFill>
        <p:spPr>
          <a:xfrm>
            <a:off x="4356000" y="189000"/>
            <a:ext cx="461340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259920"/>
            <a:ext cx="8291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 одной стороны, наличие железнодорожной ветки Петрокрепость — Невская Дубровка на правом берегу Невы и относительно небольшая ширина реки в районе Дубровки позволяли советскому командованию оперативно доставлять подкрепление в этот район и переправлять его на левый берег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5" descr="Легкость и тяжесть - Историческая реконструкция &quot;За Ленинград&quot; (28.01.12 Невский пятачок)"/>
          <p:cNvPicPr/>
          <p:nvPr/>
        </p:nvPicPr>
        <p:blipFill>
          <a:blip r:embed="rId1"/>
          <a:stretch/>
        </p:blipFill>
        <p:spPr>
          <a:xfrm>
            <a:off x="1908000" y="3429000"/>
            <a:ext cx="482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476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 другой стороны, из-за излучины Невы противник мог обстреливать из опорных пунктов территорию Невского «пятачка» и переправы через Неву со всех сторон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5" descr="Photo gallery of Nevsky Pyatachok in Dubrovka - Турыстычныя славутасці @ Travel Advisor!"/>
          <p:cNvPicPr/>
          <p:nvPr/>
        </p:nvPicPr>
        <p:blipFill>
          <a:blip r:embed="rId1"/>
          <a:stretch/>
        </p:blipFill>
        <p:spPr>
          <a:xfrm>
            <a:off x="4788000" y="2781360"/>
            <a:ext cx="4356000" cy="3262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Фото 8 - Невский пятачок Диорамы и виньетки Галерея на Diorama.ru"/>
          <p:cNvPicPr/>
          <p:nvPr/>
        </p:nvPicPr>
        <p:blipFill>
          <a:blip r:embed="rId2"/>
          <a:stretch/>
        </p:blipFill>
        <p:spPr>
          <a:xfrm>
            <a:off x="250920" y="2781360"/>
            <a:ext cx="439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кольку местность напротив плацдарма была труднопроходимая, основные атаки советских войск были направлены на захват узлов обороны в населённых пунктах, без овладения которыми дальнейшее наступление было невозможно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5" descr="26 января. Прорыв блокады. Невский пятачок ВКонтакте"/>
          <p:cNvPicPr/>
          <p:nvPr/>
        </p:nvPicPr>
        <p:blipFill>
          <a:blip r:embed="rId1"/>
          <a:stretch/>
        </p:blipFill>
        <p:spPr>
          <a:xfrm>
            <a:off x="1476360" y="2565360"/>
            <a:ext cx="55450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59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оевые действия в районе Невского «пятачка» в 1941—1943 гг. были частями операций советских войск, главной целью которых был прорыв блокады Ленинграда. Все операции имели схожий замысел — форсировать Неву и развивать наступление на Мгу и Синявино с запада силами Ленинградского фронт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5" descr="&amp;Fcy;&amp;ocy;&amp;tcy;&amp;ocy; - &amp;Ncy;&amp;iecy;&amp;vcy;&amp;scy;&amp;kcy;&amp;icy;&amp;jcy; &amp;Pcy;&amp;yacy;&amp;tcy;&amp;acy;&amp;chcy;&amp;ocy;&amp;kcy; (29-01-2011)"/>
          <p:cNvPicPr/>
          <p:nvPr/>
        </p:nvPicPr>
        <p:blipFill>
          <a:blip r:embed="rId1"/>
          <a:stretch/>
        </p:blipFill>
        <p:spPr>
          <a:xfrm>
            <a:off x="1979640" y="2708280"/>
            <a:ext cx="547380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-я Синявинская операция (сентябрь 1941 г.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-я Синявинская операция (октябрь — декабрь 1941 г.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-я Синявинская операция (август — октябрь 1942 г.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ерация «Искра» (январь — февраль 1943 г.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611280" y="620640"/>
            <a:ext cx="7993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сториографии выделяются такие    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&amp;Vcy;&amp;Ocy;&amp;IEcy;&amp;Ncy;&amp;Ncy;&amp;Acy;&amp;YAcy; &amp;Lcy;&amp;Icy;&amp;Tcy;&amp;IEcy;&amp;Rcy;&amp;Acy;&amp;Tcy;&amp;Ucy;&amp;Rcy;&amp;Acy; -- &amp;Dcy;&amp;ncy;&amp;iecy;&amp;vcy;&amp;ncy;&amp;icy;&amp;kcy;&amp;icy; &amp;icy; &amp;pcy;&amp;icy;&amp;scy;&amp;softcy;&amp;mcy;&amp;acy; -- &amp;Lcy;&amp;ucy;&amp;kcy;&amp;ncy;&amp;icy;&amp;tscy;&amp;kcy;&amp;icy;&amp;jcy; &amp;Pcy;. &amp;Ncy;. &amp;Pcy;&amp;ocy; &amp;dcy;&amp;ycy;&amp;mcy;&amp;ncy;&amp;ocy;&amp;mcy;&amp;ucy; &amp;scy;&amp;lcy;&amp;iecy;&amp;dcy;&amp;ucy;"/>
          <p:cNvPicPr/>
          <p:nvPr/>
        </p:nvPicPr>
        <p:blipFill>
          <a:blip r:embed="rId1"/>
          <a:srcRect l="3752" t="17958" r="12021" b="7377"/>
          <a:stretch/>
        </p:blipFill>
        <p:spPr>
          <a:xfrm>
            <a:off x="539640" y="981000"/>
            <a:ext cx="4032360" cy="28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&amp;Acy;&amp;rcy;&amp;mcy;&amp;iecy;&amp;jcy;&amp;scy;&amp;kcy;&amp;icy;&amp;jcy; &amp;rcy;&amp;iecy;&amp;pcy;&amp;ocy;&amp;rcy;&amp;tcy;&amp;iocy;&amp;rcy;. &amp;Kcy;&amp;ucy;&amp;rcy;&amp;icy;&amp;lcy;&amp;kcy;&amp;acy;. - &amp;Pcy;&amp;lcy;&amp;acy;&amp;tscy;&amp;dcy;&amp;acy;&amp;rcy;&amp;mcy; &amp;Ncy;&amp;iecy;&amp;vcy;&amp;scy;&amp;kcy;&amp;icy;&amp;jcy; &amp;pcy;&amp;yacy;&amp;tcy;&amp;acy;&amp;chcy;&amp;ocy;&amp;kcy;"/>
          <p:cNvPicPr/>
          <p:nvPr/>
        </p:nvPicPr>
        <p:blipFill>
          <a:blip r:embed="rId2"/>
          <a:stretch/>
        </p:blipFill>
        <p:spPr>
          <a:xfrm>
            <a:off x="4859280" y="2133720"/>
            <a:ext cx="403380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9:33:45Z</dcterms:created>
  <dc:creator>Учитель</dc:creator>
  <dc:description/>
  <dc:language>en-US</dc:language>
  <cp:lastModifiedBy>kompik</cp:lastModifiedBy>
  <dcterms:modified xsi:type="dcterms:W3CDTF">2016-11-21T15:45:48Z</dcterms:modified>
  <cp:revision>15</cp:revision>
  <dc:subject/>
  <dc:title>Невский пятачок</dc:title>
</cp:coreProperties>
</file>