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19.jpeg" ContentType="image/jpeg"/>
  <Override PartName="/ppt/media/image3.png" ContentType="image/png"/>
  <Override PartName="/ppt/media/image26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8.png" ContentType="image/png"/>
  <Override PartName="/ppt/media/image13.png" ContentType="image/png"/>
  <Override PartName="/ppt/media/image37.jpeg" ContentType="image/jpeg"/>
  <Override PartName="/ppt/media/image30.png" ContentType="image/png"/>
  <Override PartName="/ppt/media/image28.png" ContentType="image/png"/>
  <Override PartName="/ppt/media/image29.jpeg" ContentType="image/jpeg"/>
  <Override PartName="/ppt/media/image31.jpeg" ContentType="image/jpeg"/>
  <Override PartName="/ppt/media/image9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2.png" ContentType="image/png"/>
  <Override PartName="/ppt/media/image23.jpeg" ContentType="image/jpeg"/>
  <Override PartName="/ppt/media/image5.png" ContentType="image/png"/>
  <Override PartName="/ppt/media/image35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20.png" ContentType="image/png"/>
  <Override PartName="/ppt/media/image2.jpeg" ContentType="image/jpeg"/>
  <Override PartName="/ppt/media/image3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5CC7-6069-4383-8E8F-7E150B288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8C3D-812E-4650-8103-B8DAE9AB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7BE4-0E7F-4178-9410-55863DD3D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A708-3CA4-4CCB-89FC-B5A183CCB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1110-866B-42EB-859B-47C5DE89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B51A-FCD7-44E3-A3E4-008B08FE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E255-AB2E-4F35-9987-0EE49CC5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1680-11C7-4555-824E-ACA261A6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BABB-B638-47E8-8AE4-19178216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1EB3-F124-4979-ABDE-491CF85C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DF59-22FD-4D5C-B99A-232DBC33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DB97-91B3-40A3-AE2D-04D90A0A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62B5-CF81-47F9-A87E-F3081F973B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533520" y="457200"/>
            <a:ext cx="8153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Arial"/>
              </a:rPr>
              <a:t>Про полёты позабыл,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Arial"/>
              </a:rPr>
              <a:t>Крылья в ласты превратил,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Arial"/>
              </a:rPr>
              <a:t>Рыбку ловит среди льдин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Arial"/>
              </a:rPr>
              <a:t>Антарктический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2057400" y="3429000"/>
            <a:ext cx="4495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Calibri"/>
                <a:ea typeface="Arial"/>
              </a:rPr>
              <a:t>пингви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3824640" y="4952880"/>
            <a:ext cx="430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у выполнила ученица 4А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гимназии №1 г. Липец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юнькина Дар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: Андриянова Е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152280" y="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alibri"/>
                <a:ea typeface="Arial"/>
              </a:rPr>
              <a:t>УХ ТЫ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TextBox 3"/>
          <p:cNvGrpSpPr/>
          <p:nvPr/>
        </p:nvGrpSpPr>
        <p:grpSpPr>
          <a:xfrm>
            <a:off x="5230800" y="463680"/>
            <a:ext cx="3913200" cy="3816360"/>
            <a:chOff x="5230800" y="463680"/>
            <a:chExt cx="3913200" cy="3816360"/>
          </a:xfrm>
        </p:grpSpPr>
        <p:pic>
          <p:nvPicPr>
            <p:cNvPr id="98" name="TextBox 3" descr=""/>
            <p:cNvPicPr/>
            <p:nvPr/>
          </p:nvPicPr>
          <p:blipFill>
            <a:blip r:embed="rId1"/>
            <a:stretch/>
          </p:blipFill>
          <p:spPr>
            <a:xfrm>
              <a:off x="5230800" y="463680"/>
              <a:ext cx="3913200" cy="38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245200" y="477720"/>
              <a:ext cx="388620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Согревая лапки, пингвины становятся на пятки и опираются на хвостики!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" name="Picture 2" descr="http://up10.up-images.com/up/uploads/images/domain-34c5bf6cdf.jpg"/>
          <p:cNvPicPr/>
          <p:nvPr/>
        </p:nvPicPr>
        <p:blipFill>
          <a:blip r:embed="rId2"/>
          <a:stretch/>
        </p:blipFill>
        <p:spPr>
          <a:xfrm>
            <a:off x="380880" y="1371600"/>
            <a:ext cx="381024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152280" y="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alibri"/>
                <a:ea typeface="Arial"/>
              </a:rPr>
              <a:t>УХ ТЫ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TextBox 3"/>
          <p:cNvGrpSpPr/>
          <p:nvPr/>
        </p:nvGrpSpPr>
        <p:grpSpPr>
          <a:xfrm>
            <a:off x="4937040" y="285840"/>
            <a:ext cx="3915000" cy="3822480"/>
            <a:chOff x="4937040" y="285840"/>
            <a:chExt cx="3915000" cy="3822480"/>
          </a:xfrm>
        </p:grpSpPr>
        <p:pic>
          <p:nvPicPr>
            <p:cNvPr id="103" name="TextBox 3" descr=""/>
            <p:cNvPicPr/>
            <p:nvPr/>
          </p:nvPicPr>
          <p:blipFill>
            <a:blip r:embed="rId1"/>
            <a:stretch/>
          </p:blipFill>
          <p:spPr>
            <a:xfrm>
              <a:off x="4937040" y="285840"/>
              <a:ext cx="3915000" cy="38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952880" y="304920"/>
              <a:ext cx="388620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Calibri"/>
                </a:rPr>
                <a:t>Папа пингвин кормит малыша молочной смесью, которую он… отрыгивает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Picture 2" descr="http://lol54.ru/uploads/posts/2012-03/thumbs/1332076508_050.jpg"/>
          <p:cNvPicPr/>
          <p:nvPr/>
        </p:nvPicPr>
        <p:blipFill>
          <a:blip r:embed="rId2"/>
          <a:stretch/>
        </p:blipFill>
        <p:spPr>
          <a:xfrm>
            <a:off x="762120" y="1523880"/>
            <a:ext cx="320040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152280" y="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alibri"/>
                <a:ea typeface="Arial"/>
              </a:rPr>
              <a:t>УХ ТЫ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TextBox 3"/>
          <p:cNvGrpSpPr/>
          <p:nvPr/>
        </p:nvGrpSpPr>
        <p:grpSpPr>
          <a:xfrm>
            <a:off x="5261040" y="463680"/>
            <a:ext cx="3078000" cy="4432320"/>
            <a:chOff x="5261040" y="463680"/>
            <a:chExt cx="3078000" cy="4432320"/>
          </a:xfrm>
        </p:grpSpPr>
        <p:pic>
          <p:nvPicPr>
            <p:cNvPr id="108" name="TextBox 3" descr=""/>
            <p:cNvPicPr/>
            <p:nvPr/>
          </p:nvPicPr>
          <p:blipFill>
            <a:blip r:embed="rId1"/>
            <a:stretch/>
          </p:blipFill>
          <p:spPr>
            <a:xfrm>
              <a:off x="5261040" y="463680"/>
              <a:ext cx="307800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5273640" y="476280"/>
              <a:ext cx="304812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Calibri"/>
                </a:rPr>
                <a:t>Императорс-кие пингвины могут нырять на глубину до 500 метров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2" descr="http://bm.img.com.ua/img/prikol/images/large/6/8/192586_433196.jpg"/>
          <p:cNvPicPr/>
          <p:nvPr/>
        </p:nvPicPr>
        <p:blipFill>
          <a:blip r:embed="rId2"/>
          <a:stretch/>
        </p:blipFill>
        <p:spPr>
          <a:xfrm>
            <a:off x="990720" y="2057400"/>
            <a:ext cx="4222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152280" y="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alibri"/>
                <a:ea typeface="Arial"/>
              </a:rPr>
              <a:t>УХ ТЫ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TextBox 3"/>
          <p:cNvGrpSpPr/>
          <p:nvPr/>
        </p:nvGrpSpPr>
        <p:grpSpPr>
          <a:xfrm>
            <a:off x="1225440" y="1987560"/>
            <a:ext cx="3078360" cy="4432320"/>
            <a:chOff x="1225440" y="1987560"/>
            <a:chExt cx="3078360" cy="4432320"/>
          </a:xfrm>
        </p:grpSpPr>
        <p:pic>
          <p:nvPicPr>
            <p:cNvPr id="113" name="TextBox 3" descr=""/>
            <p:cNvPicPr/>
            <p:nvPr/>
          </p:nvPicPr>
          <p:blipFill>
            <a:blip r:embed="rId1"/>
            <a:stretch/>
          </p:blipFill>
          <p:spPr>
            <a:xfrm>
              <a:off x="1225440" y="1987560"/>
              <a:ext cx="307836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238400" y="2000160"/>
              <a:ext cx="3047760" cy="39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Calibri"/>
                </a:rPr>
                <a:t>Пух птенцов легко промокает, поэтому они не могут плавать в море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Picture 2" descr="http://img1.liveinternet.ru/images/attach/c/2/67/203/67203698_1290981630_170.jpg"/>
          <p:cNvPicPr/>
          <p:nvPr/>
        </p:nvPicPr>
        <p:blipFill>
          <a:blip r:embed="rId2"/>
          <a:stretch/>
        </p:blipFill>
        <p:spPr>
          <a:xfrm>
            <a:off x="4572000" y="380880"/>
            <a:ext cx="4419720" cy="61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TextBox 3"/>
          <p:cNvGrpSpPr/>
          <p:nvPr/>
        </p:nvGrpSpPr>
        <p:grpSpPr>
          <a:xfrm>
            <a:off x="133200" y="5241960"/>
            <a:ext cx="8718840" cy="1353960"/>
            <a:chOff x="133200" y="5241960"/>
            <a:chExt cx="8718840" cy="1353960"/>
          </a:xfrm>
        </p:grpSpPr>
        <p:pic>
          <p:nvPicPr>
            <p:cNvPr id="117" name="TextBox 3" descr=""/>
            <p:cNvPicPr/>
            <p:nvPr/>
          </p:nvPicPr>
          <p:blipFill>
            <a:blip r:embed="rId1"/>
            <a:stretch/>
          </p:blipFill>
          <p:spPr>
            <a:xfrm>
              <a:off x="133200" y="5241960"/>
              <a:ext cx="8718840" cy="13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152280" y="5257800"/>
              <a:ext cx="8686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Некоторые пингвиньи колонии насчитывают до миллиона особей!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" name="Picture 2" descr="http://www.pozenet.ro/wallpapers/pinguins-1280x1024.jpg"/>
          <p:cNvPicPr/>
          <p:nvPr/>
        </p:nvPicPr>
        <p:blipFill>
          <a:blip r:embed="rId2"/>
          <a:stretch/>
        </p:blipFill>
        <p:spPr>
          <a:xfrm>
            <a:off x="1143000" y="304920"/>
            <a:ext cx="6705720" cy="4819680"/>
          </a:xfrm>
          <a:prstGeom prst="rect">
            <a:avLst/>
          </a:prstGeom>
          <a:ln w="0">
            <a:noFill/>
          </a:ln>
        </p:spPr>
      </p:pic>
      <p:sp>
        <p:nvSpPr>
          <p:cNvPr id="120" name="TextBox 1"/>
          <p:cNvSpPr/>
          <p:nvPr/>
        </p:nvSpPr>
        <p:spPr>
          <a:xfrm>
            <a:off x="2286000" y="15228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alibri"/>
                <a:ea typeface="Arial"/>
              </a:rPr>
              <a:t>УХ ТЫ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152280" y="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alibri"/>
                <a:ea typeface="Arial"/>
              </a:rPr>
              <a:t>УХ ТЫ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TextBox 3"/>
          <p:cNvGrpSpPr/>
          <p:nvPr/>
        </p:nvGrpSpPr>
        <p:grpSpPr>
          <a:xfrm>
            <a:off x="768240" y="2425680"/>
            <a:ext cx="3078360" cy="3676680"/>
            <a:chOff x="768240" y="2425680"/>
            <a:chExt cx="3078360" cy="3676680"/>
          </a:xfrm>
        </p:grpSpPr>
        <p:pic>
          <p:nvPicPr>
            <p:cNvPr id="123" name="TextBox 3" descr=""/>
            <p:cNvPicPr/>
            <p:nvPr/>
          </p:nvPicPr>
          <p:blipFill>
            <a:blip r:embed="rId1"/>
            <a:stretch/>
          </p:blipFill>
          <p:spPr>
            <a:xfrm>
              <a:off x="768240" y="2425680"/>
              <a:ext cx="3078360" cy="367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781200" y="2441520"/>
              <a:ext cx="304776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Температура лапок пингвина намного ниже, чем температура тела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5" name="Picture 2" descr="http://fr.academic.ru/pictures/frwiki/65/Adelie_Penguin.jpg"/>
          <p:cNvPicPr/>
          <p:nvPr/>
        </p:nvPicPr>
        <p:blipFill>
          <a:blip r:embed="rId2"/>
          <a:stretch/>
        </p:blipFill>
        <p:spPr>
          <a:xfrm>
            <a:off x="4381560" y="0"/>
            <a:ext cx="4762440" cy="66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http://www.mobinations.com/mediacontent/image/medium-032-sized-032-penguin-480x800.jpg"/>
          <p:cNvPicPr/>
          <p:nvPr/>
        </p:nvPicPr>
        <p:blipFill>
          <a:blip r:embed="rId1"/>
          <a:stretch/>
        </p:blipFill>
        <p:spPr>
          <a:xfrm>
            <a:off x="380880" y="1143000"/>
            <a:ext cx="4267440" cy="5715000"/>
          </a:xfrm>
          <a:prstGeom prst="rect">
            <a:avLst/>
          </a:prstGeom>
          <a:ln w="0">
            <a:noFill/>
          </a:ln>
        </p:spPr>
      </p:pic>
      <p:sp>
        <p:nvSpPr>
          <p:cNvPr id="127" name="TextBox 2"/>
          <p:cNvSpPr/>
          <p:nvPr/>
        </p:nvSpPr>
        <p:spPr>
          <a:xfrm>
            <a:off x="152280" y="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alibri"/>
                <a:ea typeface="Arial"/>
              </a:rPr>
              <a:t>УХ ТЫ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TextBox 3"/>
          <p:cNvGrpSpPr/>
          <p:nvPr/>
        </p:nvGrpSpPr>
        <p:grpSpPr>
          <a:xfrm>
            <a:off x="4803840" y="3041640"/>
            <a:ext cx="3992400" cy="2554200"/>
            <a:chOff x="4803840" y="3041640"/>
            <a:chExt cx="3992400" cy="2554200"/>
          </a:xfrm>
        </p:grpSpPr>
        <p:pic>
          <p:nvPicPr>
            <p:cNvPr id="129" name="TextBox 3" descr=""/>
            <p:cNvPicPr/>
            <p:nvPr/>
          </p:nvPicPr>
          <p:blipFill>
            <a:blip r:embed="rId2"/>
            <a:stretch/>
          </p:blipFill>
          <p:spPr>
            <a:xfrm>
              <a:off x="4803840" y="3041640"/>
              <a:ext cx="3992400" cy="255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4818240" y="3059280"/>
              <a:ext cx="396396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Императорские пингвины могут развивать в воде скорость до 20 км в час!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5" descr="img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5" descr="img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img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copypast.ru/uploads/posts/1217442092_image00004.jpg"/>
          <p:cNvPicPr/>
          <p:nvPr/>
        </p:nvPicPr>
        <p:blipFill>
          <a:blip r:embed="rId1"/>
          <a:stretch/>
        </p:blipFill>
        <p:spPr>
          <a:xfrm>
            <a:off x="4038480" y="228600"/>
            <a:ext cx="2133720" cy="2406600"/>
          </a:xfrm>
          <a:prstGeom prst="rect">
            <a:avLst/>
          </a:prstGeom>
          <a:ln w="0">
            <a:noFill/>
          </a:ln>
        </p:spPr>
      </p:pic>
      <p:grpSp>
        <p:nvGrpSpPr>
          <p:cNvPr id="48" name="TextBox 2"/>
          <p:cNvGrpSpPr/>
          <p:nvPr/>
        </p:nvGrpSpPr>
        <p:grpSpPr>
          <a:xfrm>
            <a:off x="139680" y="212760"/>
            <a:ext cx="3835440" cy="1725480"/>
            <a:chOff x="139680" y="212760"/>
            <a:chExt cx="3835440" cy="1725480"/>
          </a:xfrm>
        </p:grpSpPr>
        <p:pic>
          <p:nvPicPr>
            <p:cNvPr id="49" name="TextBox 2" descr=""/>
            <p:cNvPicPr/>
            <p:nvPr/>
          </p:nvPicPr>
          <p:blipFill>
            <a:blip r:embed="rId2"/>
            <a:stretch/>
          </p:blipFill>
          <p:spPr>
            <a:xfrm>
              <a:off x="139680" y="212760"/>
              <a:ext cx="3835440" cy="17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52280" y="228600"/>
              <a:ext cx="3810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c00000"/>
                  </a:solidFill>
                  <a:uFillTx/>
                  <a:latin typeface="Calibri"/>
                </a:rPr>
                <a:t>Пёрыш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Оперение пингвина короткое и  очень плотное. Кончики пёрышек маслянистые и водонепроницаемые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TextBox 3"/>
          <p:cNvGrpSpPr/>
          <p:nvPr/>
        </p:nvGrpSpPr>
        <p:grpSpPr>
          <a:xfrm>
            <a:off x="6308640" y="139680"/>
            <a:ext cx="2695680" cy="2335320"/>
            <a:chOff x="6308640" y="139680"/>
            <a:chExt cx="2695680" cy="2335320"/>
          </a:xfrm>
        </p:grpSpPr>
        <p:pic>
          <p:nvPicPr>
            <p:cNvPr id="52" name="TextBox 3" descr=""/>
            <p:cNvPicPr/>
            <p:nvPr/>
          </p:nvPicPr>
          <p:blipFill>
            <a:blip r:embed="rId3"/>
            <a:stretch/>
          </p:blipFill>
          <p:spPr>
            <a:xfrm>
              <a:off x="6308640" y="139680"/>
              <a:ext cx="2695680" cy="23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6324480" y="152280"/>
              <a:ext cx="26672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c00000"/>
                  </a:solidFill>
                  <a:uFillTx/>
                  <a:latin typeface="Calibri"/>
                </a:rPr>
                <a:t>Лап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Перепончатые лапы хороши для плаванья, но не очень подходят для ходьбы. Поэтому пингвины чаще скользят, чем шагают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TextBox 4"/>
          <p:cNvGrpSpPr/>
          <p:nvPr/>
        </p:nvGrpSpPr>
        <p:grpSpPr>
          <a:xfrm>
            <a:off x="139680" y="2041560"/>
            <a:ext cx="3835440" cy="2030400"/>
            <a:chOff x="139680" y="2041560"/>
            <a:chExt cx="3835440" cy="2030400"/>
          </a:xfrm>
        </p:grpSpPr>
        <p:pic>
          <p:nvPicPr>
            <p:cNvPr id="55" name="TextBox 4" descr=""/>
            <p:cNvPicPr/>
            <p:nvPr/>
          </p:nvPicPr>
          <p:blipFill>
            <a:blip r:embed="rId4"/>
            <a:stretch/>
          </p:blipFill>
          <p:spPr>
            <a:xfrm>
              <a:off x="139680" y="2041560"/>
              <a:ext cx="3835440" cy="20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152280" y="2057400"/>
              <a:ext cx="3810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c00000"/>
                  </a:solidFill>
                  <a:uFillTx/>
                  <a:latin typeface="Calibri"/>
                </a:rPr>
                <a:t>Хвос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Короткий хвостик пингвина служит рулём для выполнения манёвров под водой. А на суше он помогает сохранять равновес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TextBox 5"/>
          <p:cNvGrpSpPr/>
          <p:nvPr/>
        </p:nvGrpSpPr>
        <p:grpSpPr>
          <a:xfrm>
            <a:off x="6297480" y="2597040"/>
            <a:ext cx="2846520" cy="2949840"/>
            <a:chOff x="6297480" y="2597040"/>
            <a:chExt cx="2846520" cy="2949840"/>
          </a:xfrm>
        </p:grpSpPr>
        <p:pic>
          <p:nvPicPr>
            <p:cNvPr id="58" name="TextBox 5" descr=""/>
            <p:cNvPicPr/>
            <p:nvPr/>
          </p:nvPicPr>
          <p:blipFill>
            <a:blip r:embed="rId5"/>
            <a:stretch/>
          </p:blipFill>
          <p:spPr>
            <a:xfrm>
              <a:off x="6297480" y="2597040"/>
              <a:ext cx="2846520" cy="294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311880" y="2610000"/>
              <a:ext cx="28195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c00000"/>
                  </a:solidFill>
                  <a:uFillTx/>
                  <a:latin typeface="Calibri"/>
                </a:rPr>
                <a:t>Тел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Обтекаемое тельце пингвина приспособлено для движения по воде. Под кожей у пингвина толстый слой жира, который помогает сохранить те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ло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TextBox 6"/>
          <p:cNvGrpSpPr/>
          <p:nvPr/>
        </p:nvGrpSpPr>
        <p:grpSpPr>
          <a:xfrm>
            <a:off x="4022640" y="2425680"/>
            <a:ext cx="2165400" cy="3200400"/>
            <a:chOff x="4022640" y="2425680"/>
            <a:chExt cx="2165400" cy="3200400"/>
          </a:xfrm>
        </p:grpSpPr>
        <p:pic>
          <p:nvPicPr>
            <p:cNvPr id="61" name="TextBox 6" descr=""/>
            <p:cNvPicPr/>
            <p:nvPr/>
          </p:nvPicPr>
          <p:blipFill>
            <a:blip r:embed="rId6"/>
            <a:stretch/>
          </p:blipFill>
          <p:spPr>
            <a:xfrm>
              <a:off x="4022640" y="2425680"/>
              <a:ext cx="21654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038480" y="2438280"/>
              <a:ext cx="2133720" cy="28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c00000"/>
                  </a:solidFill>
                  <a:uFillTx/>
                  <a:latin typeface="Calibri"/>
                </a:rPr>
                <a:t>Крыль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Эти короткие жёсткие крылышки не пригодны для полётов. Однако в воде они незаменимы, так как служат плавничками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TextBox 7"/>
          <p:cNvGrpSpPr/>
          <p:nvPr/>
        </p:nvGrpSpPr>
        <p:grpSpPr>
          <a:xfrm>
            <a:off x="212760" y="4102200"/>
            <a:ext cx="3000240" cy="2584440"/>
            <a:chOff x="212760" y="4102200"/>
            <a:chExt cx="3000240" cy="2584440"/>
          </a:xfrm>
        </p:grpSpPr>
        <p:pic>
          <p:nvPicPr>
            <p:cNvPr id="64" name="TextBox 7" descr=""/>
            <p:cNvPicPr/>
            <p:nvPr/>
          </p:nvPicPr>
          <p:blipFill>
            <a:blip r:embed="rId7"/>
            <a:stretch/>
          </p:blipFill>
          <p:spPr>
            <a:xfrm>
              <a:off x="212760" y="4102200"/>
              <a:ext cx="3000240" cy="258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28600" y="4114800"/>
              <a:ext cx="2971800" cy="20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c00000"/>
                  </a:solidFill>
                  <a:uFillTx/>
                  <a:latin typeface="Calibri"/>
                </a:rPr>
                <a:t>Глаз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Под водой пингвин видит лучше, чем на суше. Глаза снабжены прозрачными веками, которые защищают от всякой всячины в ледяной  вод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TextBox 8"/>
          <p:cNvGrpSpPr/>
          <p:nvPr/>
        </p:nvGrpSpPr>
        <p:grpSpPr>
          <a:xfrm>
            <a:off x="3340080" y="5645160"/>
            <a:ext cx="5286240" cy="1225440"/>
            <a:chOff x="3340080" y="5645160"/>
            <a:chExt cx="5286240" cy="1225440"/>
          </a:xfrm>
        </p:grpSpPr>
        <p:pic>
          <p:nvPicPr>
            <p:cNvPr id="67" name="TextBox 8" descr=""/>
            <p:cNvPicPr/>
            <p:nvPr/>
          </p:nvPicPr>
          <p:blipFill>
            <a:blip r:embed="rId8"/>
            <a:stretch/>
          </p:blipFill>
          <p:spPr>
            <a:xfrm>
              <a:off x="3340080" y="5645160"/>
              <a:ext cx="528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352680" y="5657760"/>
              <a:ext cx="525780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c00000"/>
                  </a:solidFill>
                  <a:uFillTx/>
                  <a:latin typeface="Calibri"/>
                </a:rPr>
                <a:t>Клю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Острый клюв ещё называют «зубцом». Изнутри клюв имеет шершавые бороздки. Им удобно хватать рыбу, которую пингвин глотает целико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TextBox 1"/>
          <p:cNvGrpSpPr/>
          <p:nvPr/>
        </p:nvGrpSpPr>
        <p:grpSpPr>
          <a:xfrm>
            <a:off x="353880" y="4572000"/>
            <a:ext cx="8790120" cy="1457280"/>
            <a:chOff x="353880" y="4572000"/>
            <a:chExt cx="8790120" cy="1457280"/>
          </a:xfrm>
        </p:grpSpPr>
        <p:pic>
          <p:nvPicPr>
            <p:cNvPr id="70" name="TextBox 1" descr=""/>
            <p:cNvPicPr/>
            <p:nvPr/>
          </p:nvPicPr>
          <p:blipFill>
            <a:blip r:embed="rId1"/>
            <a:stretch/>
          </p:blipFill>
          <p:spPr>
            <a:xfrm>
              <a:off x="353880" y="4572000"/>
              <a:ext cx="879012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68280" y="4584600"/>
              <a:ext cx="87631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Во время сильных морозов пингвины собираются в тесный круг мордашками к центру, чтобы согреться и пережить ненастье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Picture 2" descr="http://www.nn.ru/data/forum/images/2011-11/42102008-47.jpg"/>
          <p:cNvPicPr/>
          <p:nvPr/>
        </p:nvPicPr>
        <p:blipFill>
          <a:blip r:embed="rId2"/>
          <a:stretch/>
        </p:blipFill>
        <p:spPr>
          <a:xfrm>
            <a:off x="1676520" y="0"/>
            <a:ext cx="5790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TextBox 1"/>
          <p:cNvGrpSpPr/>
          <p:nvPr/>
        </p:nvGrpSpPr>
        <p:grpSpPr>
          <a:xfrm>
            <a:off x="285840" y="365040"/>
            <a:ext cx="8718480" cy="2281320"/>
            <a:chOff x="285840" y="365040"/>
            <a:chExt cx="8718480" cy="2281320"/>
          </a:xfrm>
        </p:grpSpPr>
        <p:pic>
          <p:nvPicPr>
            <p:cNvPr id="74" name="TextBox 1" descr=""/>
            <p:cNvPicPr/>
            <p:nvPr/>
          </p:nvPicPr>
          <p:blipFill>
            <a:blip r:embed="rId1"/>
            <a:stretch/>
          </p:blipFill>
          <p:spPr>
            <a:xfrm>
              <a:off x="285840" y="365040"/>
              <a:ext cx="8718480" cy="228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304920" y="380880"/>
              <a:ext cx="868680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 u="sng">
                  <a:solidFill>
                    <a:srgbClr val="c00000"/>
                  </a:solidFill>
                  <a:uFillTx/>
                  <a:latin typeface="Calibri"/>
                </a:rPr>
                <a:t>Пингвины соблюдают очеред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Постепенно, будто по очереди, пингвины из внешнего круга перемещаются к центру, где теплее. И наоборот: те, кто согрелся выходят наружу, чтобы слегка освежиться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Picture 2" descr="http://img.mota.ru/upload/wallpapers/2009/07/15/11/02/3724/animals_780-crop.jpg"/>
          <p:cNvPicPr/>
          <p:nvPr/>
        </p:nvPicPr>
        <p:blipFill>
          <a:blip r:embed="rId2"/>
          <a:stretch/>
        </p:blipFill>
        <p:spPr>
          <a:xfrm>
            <a:off x="2266920" y="2803680"/>
            <a:ext cx="506736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TextBox 1"/>
          <p:cNvGrpSpPr/>
          <p:nvPr/>
        </p:nvGrpSpPr>
        <p:grpSpPr>
          <a:xfrm>
            <a:off x="4784760" y="895320"/>
            <a:ext cx="4219560" cy="5664240"/>
            <a:chOff x="4784760" y="895320"/>
            <a:chExt cx="4219560" cy="5664240"/>
          </a:xfrm>
        </p:grpSpPr>
        <p:pic>
          <p:nvPicPr>
            <p:cNvPr id="78" name="TextBox 1" descr=""/>
            <p:cNvPicPr/>
            <p:nvPr/>
          </p:nvPicPr>
          <p:blipFill>
            <a:blip r:embed="rId1"/>
            <a:stretch/>
          </p:blipFill>
          <p:spPr>
            <a:xfrm>
              <a:off x="4784760" y="895320"/>
              <a:ext cx="4219560" cy="56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4800600" y="914400"/>
              <a:ext cx="4191120" cy="55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c00000"/>
                  </a:solidFill>
                  <a:uFillTx/>
                  <a:latin typeface="Calibri"/>
                </a:rPr>
                <a:t>Пингвины учат с учёны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Только учёные живут в Антарктике круглый год. Время от времени птицы буквально окружают людей  и выпрашивают что-нибудь вкусненькое. В 1959 году Антарктика была объявлена землёй мира и науки, поэтому никому не позволено обижать ни одного из 300 000 пар императорских пингвинов, которые населяют этот континент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Picture 2" descr="http://de.rian.ru/images/12488/97/124889795.jpg"/>
          <p:cNvPicPr/>
          <p:nvPr/>
        </p:nvPicPr>
        <p:blipFill>
          <a:blip r:embed="rId2"/>
          <a:stretch/>
        </p:blipFill>
        <p:spPr>
          <a:xfrm>
            <a:off x="152280" y="152280"/>
            <a:ext cx="4457880" cy="644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152280" y="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alibri"/>
                <a:ea typeface="Arial"/>
              </a:rPr>
              <a:t>УХ </a:t>
            </a:r>
            <a:r>
              <a:rPr b="1" lang="ru-RU" sz="7200" spc="-1" strike="noStrike">
                <a:solidFill>
                  <a:srgbClr val="ff0000"/>
                </a:solidFill>
                <a:latin typeface="Arial"/>
                <a:ea typeface="Arial"/>
              </a:rPr>
              <a:t>Т</a:t>
            </a:r>
            <a:r>
              <a:rPr b="1" lang="ru-RU" sz="7200" spc="-1" strike="noStrike">
                <a:solidFill>
                  <a:srgbClr val="ff0000"/>
                </a:solidFill>
                <a:latin typeface="Calibri"/>
                <a:ea typeface="Arial"/>
              </a:rPr>
              <a:t>Ы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http://gif-and-jpeg.ru/d/35670-2/jivotniy_mir1033.jpg"/>
          <p:cNvPicPr/>
          <p:nvPr/>
        </p:nvPicPr>
        <p:blipFill>
          <a:blip r:embed="rId1"/>
          <a:stretch/>
        </p:blipFill>
        <p:spPr>
          <a:xfrm>
            <a:off x="304920" y="1143000"/>
            <a:ext cx="4572000" cy="5175360"/>
          </a:xfrm>
          <a:prstGeom prst="rect">
            <a:avLst/>
          </a:prstGeom>
          <a:ln w="0">
            <a:noFill/>
          </a:ln>
        </p:spPr>
      </p:pic>
      <p:grpSp>
        <p:nvGrpSpPr>
          <p:cNvPr id="83" name="TextBox 3"/>
          <p:cNvGrpSpPr/>
          <p:nvPr/>
        </p:nvGrpSpPr>
        <p:grpSpPr>
          <a:xfrm>
            <a:off x="5230800" y="384120"/>
            <a:ext cx="3913200" cy="4432320"/>
            <a:chOff x="5230800" y="384120"/>
            <a:chExt cx="3913200" cy="4432320"/>
          </a:xfrm>
        </p:grpSpPr>
        <p:pic>
          <p:nvPicPr>
            <p:cNvPr id="84" name="TextBox 3" descr=""/>
            <p:cNvPicPr/>
            <p:nvPr/>
          </p:nvPicPr>
          <p:blipFill>
            <a:blip r:embed="rId2"/>
            <a:stretch/>
          </p:blipFill>
          <p:spPr>
            <a:xfrm>
              <a:off x="5230800" y="384120"/>
              <a:ext cx="391320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5245200" y="401760"/>
              <a:ext cx="3886200" cy="43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alibri"/>
                </a:rPr>
                <a:t>Оказывается, крик императорского пингвина слышно дальше, чем за километр!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152280" y="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alibri"/>
                <a:ea typeface="Arial"/>
              </a:rPr>
              <a:t>УХ ТЫ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TextBox 3"/>
          <p:cNvGrpSpPr/>
          <p:nvPr/>
        </p:nvGrpSpPr>
        <p:grpSpPr>
          <a:xfrm>
            <a:off x="285840" y="2193840"/>
            <a:ext cx="3921120" cy="3816360"/>
            <a:chOff x="285840" y="2193840"/>
            <a:chExt cx="3921120" cy="3816360"/>
          </a:xfrm>
        </p:grpSpPr>
        <p:pic>
          <p:nvPicPr>
            <p:cNvPr id="88" name="TextBox 3" descr=""/>
            <p:cNvPicPr/>
            <p:nvPr/>
          </p:nvPicPr>
          <p:blipFill>
            <a:blip r:embed="rId1"/>
            <a:stretch/>
          </p:blipFill>
          <p:spPr>
            <a:xfrm>
              <a:off x="285840" y="2193840"/>
              <a:ext cx="3921120" cy="38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304920" y="2209680"/>
              <a:ext cx="38862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Calibri"/>
                </a:rPr>
                <a:t>Плотный мягкий пух пингвина спасает его даже в ужасную стужу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Picture 2" descr="http://www.bugaga.ru/uploads/posts/2008-09/1222195456_1204966527_pinguin_450.jpg"/>
          <p:cNvPicPr/>
          <p:nvPr/>
        </p:nvPicPr>
        <p:blipFill>
          <a:blip r:embed="rId2"/>
          <a:stretch/>
        </p:blipFill>
        <p:spPr>
          <a:xfrm>
            <a:off x="4648320" y="380880"/>
            <a:ext cx="403848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152280" y="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alibri"/>
                <a:ea typeface="Arial"/>
              </a:rPr>
              <a:t>УХ ТЫ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TextBox 3"/>
          <p:cNvGrpSpPr/>
          <p:nvPr/>
        </p:nvGrpSpPr>
        <p:grpSpPr>
          <a:xfrm>
            <a:off x="285840" y="2193840"/>
            <a:ext cx="3921120" cy="3816360"/>
            <a:chOff x="285840" y="2193840"/>
            <a:chExt cx="3921120" cy="3816360"/>
          </a:xfrm>
        </p:grpSpPr>
        <p:pic>
          <p:nvPicPr>
            <p:cNvPr id="93" name="TextBox 3" descr=""/>
            <p:cNvPicPr/>
            <p:nvPr/>
          </p:nvPicPr>
          <p:blipFill>
            <a:blip r:embed="rId1"/>
            <a:stretch/>
          </p:blipFill>
          <p:spPr>
            <a:xfrm>
              <a:off x="285840" y="2193840"/>
              <a:ext cx="3921120" cy="38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304920" y="2209680"/>
              <a:ext cx="3886200" cy="37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alibri"/>
                </a:rPr>
                <a:t>Пингвины проходят до 100 км от моря до площадки любовных танцев!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Picture 2" descr="http://img1.liveinternet.ru/images/attach/b/3/8/990/8990435_58917_21.jpg"/>
          <p:cNvPicPr/>
          <p:nvPr/>
        </p:nvPicPr>
        <p:blipFill>
          <a:blip r:embed="rId2"/>
          <a:stretch/>
        </p:blipFill>
        <p:spPr>
          <a:xfrm>
            <a:off x="4648320" y="304920"/>
            <a:ext cx="3962160" cy="62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9T18:56:48Z</dcterms:created>
  <dc:creator>Елена</dc:creator>
  <dc:description/>
  <dc:language>en-US</dc:language>
  <cp:lastModifiedBy>User</cp:lastModifiedBy>
  <dcterms:modified xsi:type="dcterms:W3CDTF">2016-11-21T20:24:53Z</dcterms:modified>
  <cp:revision>55</cp:revision>
  <dc:subject/>
  <dc:title>Слайд 1</dc:title>
</cp:coreProperties>
</file>